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FA3-2291-4FB6-80F1-1B6C284F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3A6-4A43-46F9-9A87-48B2D8DF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508-24C9-42CA-A076-4E2E98EE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DE1-D88D-4B66-8B7D-D5301DAF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B2A8-6F48-4FC9-827D-ADAB18E5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2E17-4BC1-498E-B1D3-6DCAFA06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4ECB-7F0B-4874-A960-8D06062D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A434-2FA2-4E00-987D-C2228BC4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BA52-86C4-4A5F-A45E-F0EA4D29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E6D0-67C6-485C-ABB3-F9BD055E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052E-A9B9-45D3-BC7E-19AE4E5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52A-1E0A-419F-9DFB-9DDA6B29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3EB0-27ED-48F1-ACE0-44F383AE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359F-86F3-42AB-A749-2091C662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DB85-3C45-4B56-B20F-C62B3777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3EB9-5A58-43BE-A5EC-E6486D95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B777-BAF3-4589-AF27-A1FCFC59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3FE-41F4-43CF-9E83-C08D93A0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6B8-93C7-48D1-B802-E53BAAB8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61E-6A8C-41BC-A27C-2A1FFD3F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D7D-D225-4E52-ABE7-FEF9D60D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7DA-F374-4D71-8329-F502B584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B6F-A826-4510-BC09-62898D59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989-0382-442F-B5A8-7A92699A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Rectangle 23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Rectangle 24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Rectangle 25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Rectangle 26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Rectangle 27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Rectangle 28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Rectangle 29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Rectangle 30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Rectangle 31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Rectangle 32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Rectangle 33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Rectangle 34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Rectangle 36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Rectangle 37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Rectangle 38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Rectangle 39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Rectangle 40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Rectangle 41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Rectangle 42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Rectangle 43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Rectangle 44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5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6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47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48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49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50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51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52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54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55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56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57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58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59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60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61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63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7AB9-A9BE-4541-A887-5F7B05694A6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3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C3CF-123F-4676-849D-4877605AC3A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Verdana"/>
              </a:rPr>
              <a:t>The Budget Inter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Leo Isaa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209680" y="4114800"/>
            <a:ext cx="609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following slides provide advice to help you determine the difference between good and not so good interview questions. Click your left mouse button to step through the present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918440" y="15238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sold at the b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Silly ques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941840" y="1523880"/>
            <a:ext cx="53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many competitions have been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lanned for the current seas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752480" y="2971800"/>
            <a:ext cx="611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sn’t it next season you are budgeting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nyway, just ask for next years calendar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752480" y="15238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the ration of male to female participan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will this help your budget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969560" y="152388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the buying cost of trophi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752480" y="29718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You could obtain basic information about the cost of trophies by visiting a web s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012040" y="152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much is the electricity bill per ye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752480" y="29718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y not ask for a copy of previous year’s financial accounts? Then you can get information on many cos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930680" y="1523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much is player registr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752480" y="29718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is information is likely found on the web site or in promotional broch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26"/>
          <p:cNvSpPr/>
          <p:nvPr/>
        </p:nvSpPr>
        <p:spPr>
          <a:xfrm>
            <a:off x="1752480" y="1523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s your organisation a profit or non-profit organisation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27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Question makes you look dumb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001600" y="152388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Does the club have any gaming machin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ook and see for yourself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752480" y="1523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the total cost of club merchandi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752480" y="29718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oo complicated, interviewee unlikely to know the answer. Better to simply ask about types of product s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752480" y="1523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functions do you run through the ye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752480" y="29718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You will need to explain what is a func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995120" y="1523880"/>
            <a:ext cx="56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are the pay rates for employe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is information may be too sensitiv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001600" y="152388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Does the club have any gaming machin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ook and see for yourself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970280" y="1523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Does the organisation have a clubho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752480" y="29718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You will get some strange looks, if you ask this question, especially if you are sitting in one at time of interview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4:02:15Z</dcterms:created>
  <dc:creator>Leo</dc:creator>
  <dc:description/>
  <dc:language>en-US</dc:language>
  <cp:lastModifiedBy>ds0929</cp:lastModifiedBy>
  <dcterms:modified xsi:type="dcterms:W3CDTF">2012-11-04T13:01:54Z</dcterms:modified>
  <cp:revision>3</cp:revision>
  <dc:subject/>
  <dc:title>PowerPoint Presentation</dc:title>
</cp:coreProperties>
</file>