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BCE-D94E-4F94-ABAF-7C426D64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04E-8619-4CE3-871D-53BC2C8E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408-DA2E-4221-8E39-DDB50A1D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57C-FA04-4CA0-A38C-7CB4ADC5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A967-0B10-45E1-A918-132B95C3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DB17-971D-4C8F-B16C-55641D98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C3E7-057E-41F6-8C36-42A8E37B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AB08-6404-44D1-9B28-DF4D620F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B23C-7D0A-453E-B95D-338660F7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DEED-8D47-4C02-9AE6-EA352BCF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2961-0A22-45A7-87BA-D7247543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AEE-4484-48E3-985C-5E07EDF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7547-601A-4043-AF73-1D7D4834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FBFF-895E-4F11-9C65-562C1E1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4EEC-1018-4848-8EEE-6C9278AB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F540-80EB-41FB-842B-3D926656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74F5-6498-4BC7-B824-25A26F34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C80-5DDC-4B11-AD8A-CCE8725E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086-E573-44A8-9784-1746C40C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F15-1ABB-4056-BCDA-81BB769E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E3D-45BD-4BD0-9142-7E8A5A3A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DCE-3AB8-4D2B-AC48-3D15A7A5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C74-2C46-45D6-936C-2BDAF2C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06F-4214-41A2-8497-C64E9F7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5415-51A8-41CF-A44B-13B7EADD3AC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5FAC-E133-42C5-88BC-CF2873336463}" type="slidenum">
              <a:rPr b="0" lang="en-A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resenting Your Budg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y Leo Isaa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Basic Ru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10 minute 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Use overheads rather than palm ca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Describe main features of your budg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e prepared to answer ques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ources of Inco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Describe your main sources of inco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Use a chart to indicate percent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ustify by showing key data upon which this income may depen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Membership numb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Program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Opening hou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Fee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the fee structure for membership and particip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ustify the fee structure by showing the overall profitability of the club, association or busines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Employe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and overview of the number of employees in the organis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ndicate the probable employment costs of individu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the total cost of employment as a percentage of all cos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rogram Expendi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an overview of the main programs and servic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how you have costed the main program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dentify and explain the key data upon which your program costing depend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Overhea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dentify the most significant overheads apart from employment co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a pie chart that gives a breakdown in terms of percentag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Overall Sit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overall profit sit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some key points about overall budg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32:27Z</dcterms:created>
  <dc:creator>Leo</dc:creator>
  <dc:description/>
  <dc:language>en-US</dc:language>
  <cp:lastModifiedBy>ds0929</cp:lastModifiedBy>
  <dcterms:modified xsi:type="dcterms:W3CDTF">2012-11-04T13:03:25Z</dcterms:modified>
  <cp:revision>1</cp:revision>
  <dc:subject/>
  <dc:title>Presenting Your Budget</dc:title>
</cp:coreProperties>
</file>