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F61-F224-4218-912C-D80CEA22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D01-3A52-43CC-B883-5AEE851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D88-EBF6-402C-9C3E-4369CCE4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E37-F3FC-46D7-A5FA-930F9FAB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4742-1BDE-4F1A-9FD6-A266C79C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7093-A605-413A-B536-25AA0395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C84-0DB6-402F-B3AF-0243DC2E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1DAB-993E-4C2A-9EA0-98D2D69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2D08-0735-4883-81C1-318D83C2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6D26-62CE-4DAF-B542-1C08CE8F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5F83-8969-4DBD-A4BA-FCE32A5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0AD-681B-43AA-B533-123C07B0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181-204A-40AF-BE48-7ED7C98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476-2FE0-4D14-9503-8849F27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E192-A521-4258-8BAD-9A434F28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97B1-77C9-4843-AF30-0981E5D1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731-0590-4DD5-B252-41ECE2D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490-B402-4673-A655-19853749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EFF-B91B-4D41-8A52-4E812BD3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1A4-4292-424B-9A73-652A3CA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A61-928F-4410-90E7-EED39F5F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9C1-9708-4FDE-82F5-4EEAD99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640-FB56-4402-B671-561F661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845-9D5E-4117-A6AD-D27229B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1BC9-E358-4259-A331-0DCD08C1F9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C8FA-51CA-433C-BFB3-C667069752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p.com.au/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www.pccomputernotes.com/" TargetMode="External"/><Relationship Id="rId4" Type="http://schemas.openxmlformats.org/officeDocument/2006/relationships/hyperlink" Target="http://www.wikipedia.com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o What am I Presenting to you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Ex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nects different external devices to the rest of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riph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ansion S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\O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ive Conn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Simpler Terms the External Bus allows various devices to be added to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External Bus is also known as the Expansion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Architect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Busses connect different parts of the motherboard to one another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522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6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ront Side Bus Connects the CPU to the Northbridge. (Determines the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ackside Bus connects to the C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emory Bus connects the Northbridge to the 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DE\ATA Bus Connects the Southbridge to the disk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PCI Bus Connects the PCI Slots to the South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CI Express is the more latest BUS and eliminates the AGP BUS by introducing another PCI Express BUS to the graphics c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Travels on the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!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has to be exchanged between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art of the bus is dedicated to moving this data, this is what we call the Dat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found on both the Internal and 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is stored, manipulated and processed in 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omputer has to move information in and out of memory, and it has to keep track of which information has to go 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t has to keep a MAP of the different address locations in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ddress BU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has to transmit and describe the locations of the memory so other components can access and locat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Information used to describe the locations of the memory to the Components travels along the ADDRESS B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ore Memory locations that a processor addresses, the more RAM it use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G3.32: Memor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urrent memory in most of the computers is 256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 Computer 25 has 128 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are 2 168 PIN DIMM slots, however only 1 is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y use 133MHz SDRAM Mod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ximum memory you can put in each slot is 512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d the maximum memory the Motherboard can handle is 512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198864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US on this Motherboard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n Architectu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formatio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aken from the HP Website, using their technical reference manual from </a:t>
            </a: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hp.com.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so searching through the Google website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howstuffwork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pccomputernot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www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314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ank you for staying awake and liste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7086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s Selected by our Teacher Sharon….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 am Doing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attery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PU, has to be able to send out different types of data, information and values to all devices and components through the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f you look underneath your motherboa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'll see a whole network of lines or electronic pathways that join the different components toge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Research I have gathered that the wires are co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Hence, 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electronic pathways are nothing more than tiny wires that carry information, data and different signals throughout the computer to different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is what we call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ypes of B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Computers Bus is divided into 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cts different components inside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l other components on the mother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Internal Bus is also known as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3:53:06Z</dcterms:created>
  <dc:creator>Fotis</dc:creator>
  <dc:description/>
  <dc:language>en-US</dc:language>
  <cp:lastModifiedBy>sgg331-06</cp:lastModifiedBy>
  <dcterms:modified xsi:type="dcterms:W3CDTF">2007-03-08T07:09:06Z</dcterms:modified>
  <cp:revision>4</cp:revision>
  <dc:subject/>
  <dc:title>So What am I Presenting to you???</dc:title>
</cp:coreProperties>
</file>