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91A-F336-4B25-A6B1-5355E2B5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AC1D-C65A-49A0-AB12-D55679F9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147-0E3A-44DA-9403-6D6B80B0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516-AACB-4F40-AD9B-3A66374A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9DF9-B95B-4C96-98B9-2422AA1B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2A3B-4DD4-4D54-94F2-401AB779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A07C-9A1E-4C02-AFFF-CF768A88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B2C5-60D3-403A-8C5C-91C52B7A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964B-D915-4F6C-9552-B269C9D5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0E1D-9C49-4F59-87B8-7A1A5CC0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83CF-3A1A-4818-9899-6FD14429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747-D72A-4F2C-A0B7-396B0DE8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AFC6-2F8F-4CBC-B2A0-6E43322D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1EF2-239A-449D-9201-090C6397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08F0-5E29-4408-AF76-32ECD088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EE39-92F6-4843-A9B0-D6896C7A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DF86-8946-4750-A1BB-B286F127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C7A-78E1-4E5B-B83E-89A83D7A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F90-E1FF-4101-8241-8789CB89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7A9-867C-47E4-819A-D960658E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F65-7C05-4DD7-9486-F9416525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C1C-8B41-428F-97B2-58851110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BF1-B9CC-4CD5-B0E1-AF52050E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F81-535E-4CA5-92EA-CBE70624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50C7-3153-49F4-BB90-AE3A00D9E57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9583-5BC6-40C9-ADA0-14DC8A1D5A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DFE0-82C4-45DA-848B-C2A54FC4A98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5E16-86BD-4E38-844E-D310AD8000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ontrollers </a:t>
            </a: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(hard drive controllers)</a:t>
            </a:r>
            <a:endParaRPr b="0" i="1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0" b="7284"/>
          <a:stretch/>
        </p:blipFill>
        <p:spPr>
          <a:xfrm>
            <a:off x="1800360" y="3608280"/>
            <a:ext cx="5400720" cy="17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1B1E-33D3-4A65-8A2B-483AC6D68E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Controllers used in lab :G3.32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Standard floppy disk controller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Intel Bus Master IDE Controller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Primary IDE Channel [Controller]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Secondary IDE Channel [Controller]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AE5-58D7-4BA7-B2F0-12334FB93F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Summary</a:t>
            </a:r>
            <a:r>
              <a:rPr b="0" lang="en-A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Controller is a hardware device it can be an expansion card or integrated onto the computer motherboar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t enables communication between The computer and another hardware devi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_ARCOIDE" descr=""/>
          <p:cNvPicPr/>
          <p:nvPr/>
        </p:nvPicPr>
        <p:blipFill>
          <a:blip r:embed="rId1"/>
          <a:srcRect l="0" t="15088" r="0" b="0"/>
          <a:stretch/>
        </p:blipFill>
        <p:spPr>
          <a:xfrm>
            <a:off x="1655640" y="4184640"/>
            <a:ext cx="630252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A02C-08D2-4F20-BEE7-EC203D3CA5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hat is a controller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A device that controls the transfer of data from a computer to a peripheral device For example, disk drives, display screens, keyboards, and printers all require controlle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In personal computers, the controllers are often single chips. When you buy a computer, it comes with all the necessary controller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If you attach additional devices you may need to insert new controllers that come on expansion card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54C-5997-4E28-BA19-0090F049B3B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Types of controller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disk contr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graphics controller or video display controll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network contr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keyboard controll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RAID controll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SCSI controller</a:t>
            </a: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274-BC06-4F75-A9F0-6AABD36FB37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" sz="3300" spc="-1" strike="noStrike">
                <a:solidFill>
                  <a:srgbClr val="336666"/>
                </a:solidFill>
                <a:latin typeface="Arial Black"/>
              </a:rPr>
              <a:t>Disk controll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" sz="2600" spc="-1" strike="noStrike">
                <a:solidFill>
                  <a:srgbClr val="000000"/>
                </a:solidFill>
                <a:latin typeface="Arial"/>
              </a:rPr>
              <a:t>disk controller</a:t>
            </a: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 is the circuit which allows the CPU to communicate with a hard disk, floppy disk or other kind of disk dr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Early disk controllers were identified by their storage methods and data encoding. They were typically implemented on a separate controller car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Modern disk controllers are integrated into the disk drive. The interface between the computer and hard disk is called a </a:t>
            </a:r>
            <a:r>
              <a:rPr b="1" lang="en" sz="2600" spc="-1" strike="noStrike">
                <a:solidFill>
                  <a:srgbClr val="000000"/>
                </a:solidFill>
                <a:latin typeface="Arial"/>
              </a:rPr>
              <a:t>host adap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487-ECC4-491C-9EA4-316C63F36D2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Host adapter</a:t>
            </a:r>
            <a:r>
              <a:rPr b="0" lang="en-A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In computer hardware, a host adapter or host bus adapter (HBA) connects a host system (the computer) to other network and storage device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Image:QLA 2200F.jpg"/>
          <p:cNvPicPr/>
          <p:nvPr/>
        </p:nvPicPr>
        <p:blipFill>
          <a:blip r:embed="rId1"/>
          <a:srcRect l="5129" t="10141" r="7689" b="18373"/>
          <a:stretch/>
        </p:blipFill>
        <p:spPr>
          <a:xfrm>
            <a:off x="2087640" y="3608280"/>
            <a:ext cx="525600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614-DD25-45E5-99C2-6230AF8D330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Types of hard disk controller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100" spc="-1" strike="noStrike">
                <a:solidFill>
                  <a:srgbClr val="000000"/>
                </a:solidFill>
                <a:latin typeface="Arial"/>
              </a:rPr>
              <a:t>The most common types in use are IDE, Serial ATA, and SCSI(controller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100" spc="-1" strike="noStrike">
                <a:solidFill>
                  <a:srgbClr val="000000"/>
                </a:solidFill>
                <a:latin typeface="Arial"/>
              </a:rPr>
              <a:t>Most home personal computers use an IDE or Serial ATA interface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100" spc="-1" strike="noStrike">
                <a:solidFill>
                  <a:srgbClr val="000000"/>
                </a:solidFill>
                <a:latin typeface="Arial"/>
              </a:rPr>
              <a:t>network file servers mostly have SCSI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640-3DCD-43B0-A773-1E1CBCF654D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IDE- Integrated Drive Electronics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A type of hardware interface widely used to connect hard disks, and  optical disks to a PC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43280" y="3537000"/>
            <a:ext cx="4284720" cy="21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5D2-D078-46AB-BB2B-E33C136C050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ATA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700" spc="-1" strike="noStrike">
                <a:solidFill>
                  <a:srgbClr val="000000"/>
                </a:solidFill>
                <a:latin typeface="Arial"/>
              </a:rPr>
              <a:t>AT Attachment</a:t>
            </a:r>
            <a:r>
              <a:rPr b="0" lang="en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" sz="2700" spc="-1" strike="noStrike">
                <a:solidFill>
                  <a:srgbClr val="000000"/>
                </a:solidFill>
                <a:latin typeface="Arial"/>
              </a:rPr>
              <a:t>ATA</a:t>
            </a:r>
            <a:r>
              <a:rPr b="0" lang="en" sz="2700" spc="-1" strike="noStrike">
                <a:solidFill>
                  <a:srgbClr val="000000"/>
                </a:solidFill>
                <a:latin typeface="Arial"/>
              </a:rPr>
              <a:t>) is a standard interface for connecting storage devices such as hard disks and CD-ROM drives inside personal compute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700" spc="-1" strike="noStrike">
                <a:solidFill>
                  <a:srgbClr val="000000"/>
                </a:solidFill>
                <a:latin typeface="Arial"/>
              </a:rPr>
              <a:t>Serial ATA</a:t>
            </a:r>
            <a:r>
              <a:rPr b="0" lang="en" sz="2700" spc="-1" strike="noStrike">
                <a:solidFill>
                  <a:srgbClr val="000000"/>
                </a:solidFill>
                <a:latin typeface="Arial"/>
              </a:rPr>
              <a:t> is a computer bus technology designed for transfer of data to and from hard disks and optical driv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72B-344D-4508-B87A-1C60D781F66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900" spc="-1" strike="noStrike">
                <a:solidFill>
                  <a:srgbClr val="336666"/>
                </a:solidFill>
                <a:latin typeface="Arial Black"/>
              </a:rPr>
              <a:t>SCSI</a:t>
            </a:r>
            <a:r>
              <a:rPr b="0" lang="en" sz="2900" spc="-1" strike="noStrike">
                <a:solidFill>
                  <a:srgbClr val="336666"/>
                </a:solidFill>
                <a:latin typeface="Arial Black"/>
              </a:rPr>
              <a:t> (</a:t>
            </a:r>
            <a:r>
              <a:rPr b="1" lang="en" sz="2900" spc="-1" strike="noStrike">
                <a:solidFill>
                  <a:srgbClr val="336666"/>
                </a:solidFill>
                <a:latin typeface="Arial Black"/>
              </a:rPr>
              <a:t>Small Computer System Interface</a:t>
            </a:r>
            <a:r>
              <a:rPr b="0" lang="en" sz="2900" spc="-1" strike="noStrike">
                <a:solidFill>
                  <a:srgbClr val="336666"/>
                </a:solidFill>
                <a:latin typeface="Arial Black"/>
              </a:rPr>
              <a:t>)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is a set of standards for physically connecting and transferring data between computers and peripheral devic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SCSI is most commonly used for hard disks, but it can connect a wide range of other devices, including scanners, printers, and optical drives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5C00-9078-4ADB-8CEC-BA3FFEE3768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GG331-11</cp:lastModifiedBy>
  <dcterms:modified xsi:type="dcterms:W3CDTF">2007-03-08T07:20:1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