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AB996-4D40-499B-AAB5-9D6296170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9F38-525B-4B0C-888D-AE6064573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EF789-6540-48E9-AF53-3665694D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053D3-0D0B-4AFD-9547-3FCBEE873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1EB50-68AC-4348-AE60-AF12D70B3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454AE-CB89-47A3-9ED6-DB96A1862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EB3A4-2038-4CA2-8C77-A950BAC8B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8B266-B4B7-4D91-9D35-B6BBD79B5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A8D4-1291-46E5-A5B5-C5AB7033B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D0F97-E862-4BF5-85E4-2B32E9D0D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B5E52-2F11-45B0-A87F-97D8FC10D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C94A-EBB2-46BB-9042-39A48A55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B12AE-5B15-4320-9578-C0DC86EBB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38D62-E37F-4173-B2DF-4D5C1FB98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B3E6E-D65D-4E85-8569-3C8C7F853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FBF2A-5224-48C8-80EB-398BEBEC7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231C4-BC6A-4764-A624-2E54CC830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7990-85DD-4BCD-BA94-D62D52037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6F5C-BC09-4E3D-A141-A017BA46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E1D3-BA93-491F-B66A-0D35CDB33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E8F8-7702-476A-9145-1D753CCF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6832-1813-4DFE-9DE8-765DA4A0A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C878-6462-42D8-A121-D8706509C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A418-95F6-48CA-93F0-E654EAA76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9492-AD89-45D1-AD21-770B1BFD5DF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72C0-A90F-4B8E-B748-ED2F07D4FD4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49000"/>
            <a:ext cx="82296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Times New Roman"/>
              </a:rPr>
              <a:t>The Ram</a:t>
            </a:r>
            <a:endParaRPr b="0" lang="en-US" sz="7200" spc="-1" strike="noStrike">
              <a:solidFill>
                <a:srgbClr val="ffffff"/>
              </a:solidFill>
              <a:latin typeface="Arial"/>
            </a:endParaRPr>
          </a:p>
        </p:txBody>
      </p:sp>
      <p:pic>
        <p:nvPicPr>
          <p:cNvPr id="163" name="Picture 5" descr="memory_modules"/>
          <p:cNvPicPr/>
          <p:nvPr/>
        </p:nvPicPr>
        <p:blipFill>
          <a:blip r:embed="rId1"/>
          <a:stretch/>
        </p:blipFill>
        <p:spPr>
          <a:xfrm>
            <a:off x="2771640" y="3068640"/>
            <a:ext cx="4249800" cy="316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tability </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room G3.32 the ram in those computers are sdram so if you do want to upgrade you have to use just sdram if you try to use other different types of memory it will not work cause the motherboard does not reconise that thype of mem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orkstation Room G3.32</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256MB OF MEMORY INSTALLED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Has 2 slots on system board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1 HAS 256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0 IS EMTPY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128MB @ 133 MHz SDram</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t sink</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ol your RAM! Today’s video cards push their onbioard memory to the maximum, creating hotspots that can decrease the cards performance. Memory heat sinks from BFG Technologies that can help dissipate the heat and cool the memory, allowing you to push your video card to its full potential. Various sizes included to fit most cards. Uses thermal tape to affix the heat sink to the video card memo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mory Intel 1103 </a:t>
            </a:r>
            <a:r>
              <a:rPr b="0" lang="en-US" sz="1600" spc="-1" strike="noStrike">
                <a:solidFill>
                  <a:srgbClr val="ffffff"/>
                </a:solidFill>
                <a:latin typeface="Arial"/>
              </a:rPr>
              <a:t>Chip</a:t>
            </a:r>
            <a:br>
              <a:rPr sz="1600"/>
            </a:br>
            <a:r>
              <a:rPr b="0" lang="en-US" sz="1600" spc="-1" strike="noStrike">
                <a:solidFill>
                  <a:srgbClr val="ffffff"/>
                </a:solidFill>
                <a:latin typeface="Arial"/>
              </a:rPr>
              <a:t>Mary Bellis</a:t>
            </a:r>
            <a:br>
              <a:rPr sz="1600"/>
            </a:br>
            <a:endParaRPr b="0" lang="en-US" sz="1600" spc="-1" strike="noStrike">
              <a:solidFill>
                <a:srgbClr val="ffffff"/>
              </a:solidFill>
              <a:latin typeface="Arial"/>
            </a:endParaRPr>
          </a:p>
        </p:txBody>
      </p:sp>
      <p:pic>
        <p:nvPicPr>
          <p:cNvPr id="165" name="Picture 2" descr=""/>
          <p:cNvPicPr/>
          <p:nvPr/>
        </p:nvPicPr>
        <p:blipFill>
          <a:blip r:embed="rId1"/>
          <a:stretch/>
        </p:blipFill>
        <p:spPr>
          <a:xfrm>
            <a:off x="1571760" y="208296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hat is memory??</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mory is also referred as Random access memory is the memory or information storage in a computer that is used to store programs while they are running any information the programs need to do their job</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Ram can be read and written quickly in any order. Normally the random access memory is in the form of computer chips. When ever the computer is restarted of switched off the information that was on the memory will be dele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Cache Memor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a small amount of high speed memory usually with a memory cycle time of which is required by the cpu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filled from the main memory data are fetched into the cpu. The main memory will supply more than the cpu requires to fill the cache more rapidly.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mount of information which replaces at one time in the cache is called the line size for the cache. This is normally the width of the data bus between the cache memory and the main memory.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wide line size for the cache means that several instruction are put into the cache at one time giving a kind of instruction.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che Memory is fast memory that serves as a buffer between the processor and main memory. The cache holds data that was recently used by the processor and saves a lot of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Different Types Of Memory</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lot of different types of memory here there is the most common memory that you will us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ffffff"/>
                </a:solidFill>
                <a:uFillTx/>
                <a:latin typeface="Arial"/>
              </a:rPr>
              <a:t> </a:t>
            </a:r>
            <a:r>
              <a:rPr b="0" lang="en-US" sz="6000" spc="-1" strike="noStrike" u="sng">
                <a:solidFill>
                  <a:srgbClr val="ffffff"/>
                </a:solidFill>
                <a:uFillTx/>
                <a:latin typeface="Arial"/>
              </a:rPr>
              <a:t>SDRAM</a:t>
            </a:r>
            <a:r>
              <a:rPr b="0" lang="en-AU" sz="6000" spc="-1" strike="noStrike">
                <a:solidFill>
                  <a:srgbClr val="ffffff"/>
                </a:solidFill>
                <a:latin typeface="Arial"/>
              </a:rPr>
              <a:t> </a:t>
            </a:r>
            <a:br>
              <a:rPr sz="6000"/>
            </a:br>
            <a:endParaRPr b="0" lang="en-US" sz="6000" spc="-1" strike="noStrike">
              <a:solidFill>
                <a:srgbClr val="ffffff"/>
              </a:solidFill>
              <a:latin typeface="Arial"/>
            </a:endParaRPr>
          </a:p>
        </p:txBody>
      </p:sp>
      <p:sp>
        <p:nvSpPr>
          <p:cNvPr id="173" name="PlaceHolder 2"/>
          <p:cNvSpPr>
            <a:spLocks noGrp="1"/>
          </p:cNvSpPr>
          <p:nvPr>
            <p:ph/>
          </p:nvPr>
        </p:nvSpPr>
        <p:spPr>
          <a:xfrm>
            <a:off x="500040" y="1571400"/>
            <a:ext cx="8229600" cy="4530600"/>
          </a:xfrm>
          <a:prstGeom prst="rect">
            <a:avLst/>
          </a:prstGeom>
          <a:noFill/>
          <a:ln w="9360">
            <a:solidFill>
              <a:srgbClr val="3366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means synchronous </a:t>
            </a:r>
            <a:r>
              <a:rPr b="0" lang="en-US" sz="2000" spc="-1" strike="noStrike">
                <a:solidFill>
                  <a:srgbClr val="ffffff"/>
                </a:solidFill>
                <a:latin typeface="Times New Roman"/>
                <a:ea typeface="Times New Roman"/>
              </a:rPr>
              <a:t>dynamic random access memory</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has a synchronous interface, meaning that it waits for a clock signal before responding to its control inputs. It is synchronized with the computer's system bus the processor.</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chips are rated according to their maximum clock rate and their read cycle t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4" descr=""/>
          <p:cNvPicPr/>
          <p:nvPr/>
        </p:nvPicPr>
        <p:blipFill>
          <a:blip r:embed="rId4"/>
          <a:stretch/>
        </p:blipFill>
        <p:spPr>
          <a:xfrm>
            <a:off x="1500120" y="4357800"/>
            <a:ext cx="588636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DR</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R is short for double data rat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hieves more bandwidth than the single data rate SDRAM</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ffectively nearly doubles the transfer rate without increasing the frequency bu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mproves its performance in one way . SDRAM has the capability of transferring data at every rising edge of the clock signal. The transfer of data for DDR components can be performed at both edges of the clock sign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7" name="Picture 5" descr=""/>
          <p:cNvPicPr/>
          <p:nvPr/>
        </p:nvPicPr>
        <p:blipFill>
          <a:blip r:embed="rId5"/>
          <a:stretch/>
        </p:blipFill>
        <p:spPr>
          <a:xfrm>
            <a:off x="1428840" y="4334040"/>
            <a:ext cx="5572080" cy="21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dr2</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all SDRAM implementations, DDR2 stores memory in memory cells that are activated with the use of a clock signal to synchronize their operation with an external data bus.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DDR before it, DDR2 cells transfer data both on the rising and falling edge of the clock. The key difference between DDR and DDR2 is that in DDR2 the bus is clocked at twice the speed of the memory cells, allowing transfers from two different cells to occur in the same memory cell cycl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out speeding up the memory cells themselves DDR2 can effectively operate at twice the bus speed of DDR.</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0" name="Picture 3" descr=""/>
          <p:cNvPicPr/>
          <p:nvPr/>
        </p:nvPicPr>
        <p:blipFill>
          <a:blip r:embed="rId5"/>
          <a:stretch/>
        </p:blipFill>
        <p:spPr>
          <a:xfrm>
            <a:off x="2286000" y="5072040"/>
            <a:ext cx="4452840" cy="8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herboard</a:t>
            </a:r>
            <a:endParaRPr b="0" lang="en-US" sz="4400" spc="-1" strike="noStrike">
              <a:solidFill>
                <a:srgbClr val="ffffff"/>
              </a:solidFill>
              <a:latin typeface="Arial"/>
            </a:endParaRPr>
          </a:p>
        </p:txBody>
      </p:sp>
      <p:pic>
        <p:nvPicPr>
          <p:cNvPr id="182" name="Picture 2" descr=""/>
          <p:cNvPicPr/>
          <p:nvPr/>
        </p:nvPicPr>
        <p:blipFill>
          <a:blip r:embed="rId1"/>
          <a:stretch/>
        </p:blipFill>
        <p:spPr>
          <a:xfrm>
            <a:off x="1928880" y="2071800"/>
            <a:ext cx="4181400" cy="3571920"/>
          </a:xfrm>
          <a:prstGeom prst="rect">
            <a:avLst/>
          </a:prstGeom>
          <a:ln w="0">
            <a:noFill/>
          </a:ln>
        </p:spPr>
      </p:pic>
      <p:cxnSp>
        <p:nvCxnSpPr>
          <p:cNvPr id="183" name="Straight Arrow Connector 5"/>
          <p:cNvCxnSpPr/>
          <p:nvPr/>
        </p:nvCxnSpPr>
        <p:spPr>
          <a:xfrm>
            <a:off x="6000480" y="5000400"/>
            <a:ext cx="1500840" cy="214920"/>
          </a:xfrm>
          <a:prstGeom prst="straightConnector1">
            <a:avLst/>
          </a:prstGeom>
          <a:ln w="9360">
            <a:solidFill>
              <a:srgbClr val="2d61fe"/>
            </a:solidFill>
            <a:miter/>
            <a:tailEnd len="med" type="arrow" w="med"/>
          </a:ln>
        </p:spPr>
      </p:cxnSp>
      <p:cxnSp>
        <p:nvCxnSpPr>
          <p:cNvPr id="184" name="Straight Arrow Connector 7"/>
          <p:cNvCxnSpPr/>
          <p:nvPr/>
        </p:nvCxnSpPr>
        <p:spPr>
          <a:xfrm>
            <a:off x="5929200" y="4643280"/>
            <a:ext cx="1643760" cy="572400"/>
          </a:xfrm>
          <a:prstGeom prst="straightConnector1">
            <a:avLst/>
          </a:prstGeom>
          <a:ln w="9360">
            <a:solidFill>
              <a:srgbClr val="2d61fe"/>
            </a:solidFill>
            <a:miter/>
            <a:tailEnd len="med" type="arrow" w="med"/>
          </a:ln>
        </p:spPr>
      </p:cxnSp>
      <p:sp>
        <p:nvSpPr>
          <p:cNvPr id="185" name="Rectangular Callout 9"/>
          <p:cNvSpPr/>
          <p:nvPr/>
        </p:nvSpPr>
        <p:spPr>
          <a:xfrm>
            <a:off x="7072200" y="4643280"/>
            <a:ext cx="1571760" cy="500400"/>
          </a:xfrm>
          <a:prstGeom prst="wedgeRectCallout">
            <a:avLst>
              <a:gd name="adj1" fmla="val -20833"/>
              <a:gd name="adj2" fmla="val 62500"/>
            </a:avLst>
          </a:prstGeom>
          <a:solidFill>
            <a:srgbClr val="ffffff"/>
          </a:solidFill>
          <a:ln w="25560">
            <a:solidFill>
              <a:srgbClr val="6f3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em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9:13:05Z</dcterms:created>
  <dc:creator>SGG321-13</dc:creator>
  <dc:description/>
  <dc:language>en-US</dc:language>
  <cp:lastModifiedBy>SGG331-10</cp:lastModifiedBy>
  <dcterms:modified xsi:type="dcterms:W3CDTF">2007-03-08T07:45:30Z</dcterms:modified>
  <cp:revision>20</cp:revision>
  <dc:subject/>
  <dc:title>The Ram</dc:title>
</cp:coreProperties>
</file>