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F474-DCA2-43C4-B36B-4CF5DBA24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039C-CB32-44E5-8C06-A47321B48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B6BB-DB8B-47A2-BA4A-0E81AE11C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6783-2E80-4013-961E-F0F91191B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0F8D-4AAA-49FE-9F36-0D4BF5E1C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0459-F297-4A24-AF94-85963FEAE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A3A1-2A43-4A22-BF85-D674BDA69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6646-8DB6-4927-9C16-2FFA59F5F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E9BB-6D0F-4A9D-8421-E1811E408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7D00-E5F6-43D9-BA48-87AEF0816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694B-07D4-419E-8337-C48100D5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54ED-172B-40F1-A211-C7C609D08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99F84-B05A-47F3-B6F8-2B92EC4FE6B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9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4921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9T14:09:03Z</dcterms:created>
  <dc:creator>U Kyaw Naing</dc:creator>
  <dc:description/>
  <dc:language>en-US</dc:language>
  <cp:lastModifiedBy>U Kyaw Naing</cp:lastModifiedBy>
  <dcterms:modified xsi:type="dcterms:W3CDTF">2012-09-20T14:19:04Z</dcterms:modified>
  <cp:revision>2</cp:revision>
  <dc:subject/>
  <dc:title>Slide 1</dc:title>
</cp:coreProperties>
</file>