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7AC-91B5-4400-B718-A46773F5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CFF-A331-45A8-958E-BF7DB75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AF4-2E79-4D3F-B081-714C5E77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341-116F-46E3-8884-3EDB11DD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C05-CC96-47EE-BC44-C860C49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69B-80F5-4829-AF57-80EBB3D4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B66-2510-4F3E-BA8E-0C8E662D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B00-643A-4772-B432-93F93C5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529-BE21-48A3-931E-683A41E8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72B-08E0-4132-9043-DB50AC8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769-A3F9-49FA-A854-80CEE04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E1C-2222-4D54-B19C-A8507C2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7481-5835-4C67-BBB2-F128D3F52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9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1:04Z</dcterms:created>
  <dc:creator>U Kyaw Naing</dc:creator>
  <dc:description/>
  <dc:language>en-US</dc:language>
  <cp:lastModifiedBy>U Kyaw Naing</cp:lastModifiedBy>
  <dcterms:modified xsi:type="dcterms:W3CDTF">2012-09-20T14:20:45Z</dcterms:modified>
  <cp:revision>2</cp:revision>
  <dc:subject/>
  <dc:title>Slide 1</dc:title>
</cp:coreProperties>
</file>