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BCE-2A15-4083-92D0-4061BEBB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0CF-3467-4D4D-9E63-4A049A60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DAA-BDF3-46CB-9F1B-8D1C39A0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F70-A3B2-4D25-AD81-0FC16308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9C6-35EF-4445-B193-5565E27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A22-1F5D-4C89-8684-55F234C5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288-BEDB-4B8B-905A-5B597AE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DB6-F5CF-4F25-83CA-44091C64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AB9-E651-4A40-9986-80F61EE5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A9F-F048-4F76-9265-B78EE6B8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991-07F1-430E-A348-1C61DA4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831-C601-4AF7-A3F0-4C0D8D9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96B1-0E94-40AD-B251-E5B404F110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1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9:51Z</dcterms:created>
  <dc:creator>U Kyaw Naing</dc:creator>
  <dc:description/>
  <dc:language>en-US</dc:language>
  <cp:lastModifiedBy>U Kyaw Naing</cp:lastModifiedBy>
  <dcterms:modified xsi:type="dcterms:W3CDTF">2012-09-20T14:19:37Z</dcterms:modified>
  <cp:revision>2</cp:revision>
  <dc:subject/>
  <dc:title>Slide 1</dc:title>
</cp:coreProperties>
</file>