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DE8-7146-4096-B49F-EFBCD537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8AB-E157-4527-AB3C-3B93A151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B0F-9126-48AB-8837-6F5FEA15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9C2-2F96-4632-B27D-123FEE5E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3AA-D655-474D-89A5-1F400B0C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6E9D-B7BD-4C9A-A990-E0FCC7E2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C98-0D17-4C67-A7DC-FB102F07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74D7-136B-4DAD-9A23-01941F93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FF75-B0ED-482A-827A-455B4CC9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FF8-D337-4B23-885B-B61A1BD3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D5E-1EB2-472A-9CC3-511ED992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4B6-2BAF-4C9A-B08C-EE55C799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E284-42A3-4759-88C5-235B7EC117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12:11Z</dcterms:created>
  <dc:creator>U Kyaw Naing</dc:creator>
  <dc:description/>
  <dc:language>en-US</dc:language>
  <cp:lastModifiedBy>U Kyaw Naing</cp:lastModifiedBy>
  <dcterms:modified xsi:type="dcterms:W3CDTF">2012-09-19T14:12:43Z</dcterms:modified>
  <cp:revision>1</cp:revision>
  <dc:subject/>
  <dc:title>Slide 1</dc:title>
</cp:coreProperties>
</file>