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B4E-6609-40C5-B457-33F5DBA3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1C0-8C19-408D-AEB6-149FCB10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FBF-2D4F-422D-875C-BC492C6B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11C4-9FAF-404E-AC98-14D17C78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7F3-C737-48CB-BB25-68D6DB63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65C-1552-4298-B6E0-D40D4960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FA7-A50E-45FB-B745-EC770BB1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5DA-D482-4EB2-AF1A-3C2480E9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FE1-1565-43CB-951C-F80F1371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992-FF2C-43A8-8A74-DC45B54D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86D-2C33-4C86-826C-2C00872F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E3F-F8A3-420E-9E01-12B68D50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F7DB-710E-41CB-9D88-76475DA193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75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10:29Z</dcterms:created>
  <dc:creator>U Kyaw Naing</dc:creator>
  <dc:description/>
  <dc:language>en-US</dc:language>
  <cp:lastModifiedBy>U Kyaw Naing</cp:lastModifiedBy>
  <dcterms:modified xsi:type="dcterms:W3CDTF">2012-09-20T14:20:08Z</dcterms:modified>
  <cp:revision>2</cp:revision>
  <dc:subject/>
  <dc:title>Slide 1</dc:title>
</cp:coreProperties>
</file>