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dt" idx="1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1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245B6-BC13-4AB7-A9E8-D6D5819C9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Num" idx="1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ABB89C-5563-445E-A543-8D3AE5DF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Num" idx="1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69C04-24CB-4B1F-B70D-1E401494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Num" idx="1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BAAD5-6020-4D7E-925D-45F5574B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Num" idx="1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3C4D6-63B6-4272-B94F-7B676528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Num" idx="1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9477A-EF1C-41C5-A879-71766E43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Num" idx="1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890FB2-1140-4180-B507-9B340826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Num" idx="1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17957-A2D9-4B4F-AFBB-8A693E7F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Num" idx="1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18C88C-5ECC-42EB-9007-C912A858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Num" idx="1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564A5E-8350-4FE7-B1BE-625F1F4B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1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A7B444-63E8-47BB-91DD-7F4CFB2E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Num" idx="1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551EF5-6D08-4ABC-9177-ADB0382E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D75-DF75-4DD9-978A-C18D07869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A59D-1EF5-4FC7-92E9-A903BF474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7D21-25FD-402C-9420-ACC5F7E3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117F-4234-443B-B1C8-C70D0796B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D13D-1C94-4C93-8AF7-3919EC8F6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A2E69-7AAB-4756-AE2D-C332C712C6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5B2A-7376-4A59-8B08-6D09CBF1A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28BFC-E42F-4F31-B4C6-ACBD80AD2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EFC38-90E9-4373-9C0D-5FA6031792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CFA13-7EED-4095-ADC1-2635624EF1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59066-834E-4B95-BBA6-24948A292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CE42-C108-46DD-9B18-31A2CB5AC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EBE13-E200-43C5-B327-32ECDC1B8D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B0E3-E384-45B3-9667-1CAE512EC8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2A76-4D89-4B8E-831C-AFA4BB64B7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12EF3-1175-4769-A226-C5A3CE5CB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6C5EB-84F6-4DFA-9BA0-A950228E2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45D-2D43-41FD-8B4C-0CEE260D98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A29-B0C9-4EEB-BC13-CBCC83F836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240-BC61-44E3-BA95-D803EB2AF2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738B-4AB1-4BEC-AFCF-8045BF1483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2BE6-7F6F-4FE6-B095-3503FC572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50C1-1BE8-48FF-BCB9-C2D1337D1D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6DD-8E17-4148-9221-6C8B00A4BB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B52A-EB25-4121-8CB4-0AC544E39F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E05-8CB0-4297-9EFA-0A5E4AD5E4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B4B-C198-4721-B943-ACD114A6E7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0F4E-8C26-48A7-9F3E-F69E8D1EA3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ABCD-5F2A-4721-9C76-ACCF186B7C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1C1-14E7-4F6C-B673-7321CA4CB1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2D787-EB56-4E05-A2EE-6B695BBD8A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E8ADE-06F0-4FDB-ABCC-E1709B40EC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E63CB-F1F6-4E7C-8F37-4001AFDAC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5D92-DC79-46C7-99B1-A07AFFDFAD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C1158-B06C-450E-B696-F7B2478F5D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4F44C-33FB-49CE-88F0-5253833554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E00D7-4FE0-44CF-BCA4-D49A0C515B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6EFBE-72FA-4DCA-B392-D5AD993253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1A9F0-09A0-4EB0-A329-C8D5986BC1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3FA2D-CBC7-4BB3-90FD-E231B152A5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EC945-53C4-4ED9-9D8E-4EA016B94E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F455A-44CD-4B1A-A880-CBA262132E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46B6E-3556-4620-876E-4421E31D83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89100-80C5-42F0-834C-3AE1259B3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6FB9-3961-4949-8398-E2F33567C3C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EBD2D-C352-465D-A734-2476993D89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FA51A-8CAC-44B7-B8A4-4B8DFF8B08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EB020-4D0F-4B19-9062-A0D9A32A4F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512B8-48D6-48E8-9215-378D41F6A5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DC357-7384-4ACC-8EA9-2B47C1E8DF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8036B-DCD3-42ED-AA49-DB4CF45841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3C643-451B-4060-93F7-1F35F9BA67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74483-AF53-4A08-B6F6-F4CFBF7E21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8F9B2-0017-404E-8CFA-B3719FDF59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E6AEE-5B10-42EF-86CE-21548CA16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260D-1BCB-4BED-9198-DF78A08A0E0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0649D-6084-417A-B1A9-E0841A8CE1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7BD6C-B816-4231-8D3D-4547DB0E0E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C60A7-EA94-447D-8172-1FBBFCFE99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D4AC7-47E1-435B-BB86-47C04F421F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26E6A-899B-401B-B632-FB5E6739E8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22B1D-117D-4D0C-AC82-7F609B7FEE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F2A94-F81B-4855-8DB2-C018086B71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14741-75F2-41CD-9E50-3A0BBCD4D9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CB4EB-7E60-4A87-B6F0-C2C7178C7C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AF2ED-C118-4C2C-A31E-34591A4BC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9FC9-7575-4BA3-8949-60B85DACEE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D4FA2-F539-48E6-9CFE-3E77C3FFC2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F94E2-5D80-445F-8FA4-A93536725B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4A86C-0721-469C-8EE5-3573753CBC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2E418-D249-493E-91D2-19BA5959B56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C1560-49C2-4E40-ABD7-21E35CC0A8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01F6A-CD2D-4338-8FD4-7DE7FFCB97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1494C-95C5-405A-B051-7A20CD947D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74514-9AD6-4C22-A0B6-F9E525A3D1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780DA-0756-4A30-9C88-EB65BFFA3F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EF97E-7659-4F12-BBFD-577170A31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FCCC-E435-4E63-86B6-DD73B17902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4D2AA-258C-4EF9-BC1D-818FDDB953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C9E78-0A6C-4B8E-A0B8-7A8B22524E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5A16D-6A71-43CD-9869-1015FBD7B1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56B3B-ABF1-4065-9607-73F259A6FA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7CCF9C-0A90-4DAF-A095-67133F31A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E3F3-B95C-4A58-9143-0DF219FC4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D85E855-9EFC-475B-9C41-09DA4411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917BD67-8405-43F7-8B21-F0C3E52C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3FA9B37-31F6-4915-971E-A4404E90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09640" y="2214720"/>
            <a:ext cx="7957800" cy="18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809640" y="4230720"/>
            <a:ext cx="7957800" cy="186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3A25433-E2D9-4679-A1CE-E0972484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0703042-07DC-4BD0-BE8F-AB191663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09640" y="2214720"/>
            <a:ext cx="3901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863960" y="2214720"/>
            <a:ext cx="3903480" cy="18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4863960" y="4230720"/>
            <a:ext cx="3903480" cy="186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FC8FE36-5A4E-407F-9232-1E1D54CE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ftr" idx="1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91080" cy="6857640"/>
          </a:xfrm>
          <a:prstGeom prst="rect">
            <a:avLst/>
          </a:prstGeom>
          <a:solidFill>
            <a:srgbClr val="994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" y="0"/>
            <a:ext cx="91080" cy="6857640"/>
          </a:xfrm>
          <a:prstGeom prst="rect">
            <a:avLst/>
          </a:prstGeom>
          <a:solidFill>
            <a:srgbClr val="994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82880" y="0"/>
            <a:ext cx="91080" cy="6857640"/>
          </a:xfrm>
          <a:prstGeom prst="rect">
            <a:avLst/>
          </a:prstGeom>
          <a:solidFill>
            <a:srgbClr val="994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74320" y="0"/>
            <a:ext cx="91080" cy="6857640"/>
          </a:xfrm>
          <a:prstGeom prst="rect">
            <a:avLst/>
          </a:prstGeom>
          <a:solidFill>
            <a:srgbClr val="994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09640" y="2214720"/>
            <a:ext cx="3901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4863960" y="2214720"/>
            <a:ext cx="39034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3283752-A421-48D9-AA53-2E1FCD15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1_U%20Kyaw%20Naing.mp3" TargetMode="External"/><Relationship Id="rId2" Type="http://schemas.microsoft.com/office/2007/relationships/media" Target="file:///C:/Users/ds0929/Documents/Mgt%20505/001_A_001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0_U%20Kyaw%20Naing.mp3" TargetMode="External"/><Relationship Id="rId2" Type="http://schemas.microsoft.com/office/2007/relationships/media" Target="file:///C:/Users/ds0929/Documents/Mgt%20505/001_A_010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C:/Users/ds0929/Documents/Mgt%20505/001_A_011_U%20Kyaw%20Naing.mp3" TargetMode="External"/><Relationship Id="rId3" Type="http://schemas.microsoft.com/office/2007/relationships/media" Target="file:///C:/Users/ds0929/Documents/Mgt%20505/001_A_011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2_U%20Kyaw%20Naing.mp3" TargetMode="External"/><Relationship Id="rId2" Type="http://schemas.microsoft.com/office/2007/relationships/media" Target="file:///C:/Users/ds0929/Documents/Mgt%20505/001_A_01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3_U%20Kyaw%20Naing.mp3" TargetMode="External"/><Relationship Id="rId2" Type="http://schemas.microsoft.com/office/2007/relationships/media" Target="file:///C:/Users/ds0929/Documents/Mgt%20505/001_A_01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4_U%20Kyaw%20Naing.mp3" TargetMode="External"/><Relationship Id="rId2" Type="http://schemas.microsoft.com/office/2007/relationships/media" Target="file:///C:/Users/ds0929/Documents/Mgt%20505/001_A_01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5_U%20Kyaw%20Naing.mp3" TargetMode="External"/><Relationship Id="rId2" Type="http://schemas.microsoft.com/office/2007/relationships/media" Target="file:///C:/Users/ds0929/Documents/Mgt%20505/001_A_01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C:/Users/ds0929/Documents/Mgt%20505/001_A_016_U%20Kyaw%20Naing.mp3" TargetMode="External"/><Relationship Id="rId3" Type="http://schemas.microsoft.com/office/2007/relationships/media" Target="file:///C:/Users/ds0929/Documents/Mgt%20505/001_A_016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17_U%20Kyaw%20Naing.mp3" TargetMode="External"/><Relationship Id="rId2" Type="http://schemas.microsoft.com/office/2007/relationships/media" Target="file:///C:/Users/ds0929/Documents/Mgt%20505/001_A_01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C:/Users/ds0929/Documents/Mgt%20505/001_A_018_U%20Kyaw%20Naing.mp3" TargetMode="External"/><Relationship Id="rId3" Type="http://schemas.microsoft.com/office/2007/relationships/media" Target="file:///C:/Users/ds0929/Documents/Mgt%20505/001_A_018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C:/Users/ds0929/Documents/Mgt%20505/001_A_019_U%20Kyaw%20Naing.mp3" TargetMode="External"/><Relationship Id="rId3" Type="http://schemas.microsoft.com/office/2007/relationships/media" Target="file:///C:/Users/ds0929/Documents/Mgt%20505/001_A_019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2_U%20Kyaw%20Naing.mp3" TargetMode="External"/><Relationship Id="rId2" Type="http://schemas.microsoft.com/office/2007/relationships/media" Target="file:///C:/Users/ds0929/Documents/Mgt%20505/001_A_00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C:/Users/ds0929/Documents/Mgt%20505/001_A_020_U%20Kyaw%20Naing.mp3" TargetMode="External"/><Relationship Id="rId3" Type="http://schemas.microsoft.com/office/2007/relationships/media" Target="file:///C:/Users/ds0929/Documents/Mgt%20505/001_A_020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file:///C:/Users/ds0929/Documents/Mgt%20505/001_A_021_U%20Kyaw%20Naing.mp3" TargetMode="External"/><Relationship Id="rId4" Type="http://schemas.microsoft.com/office/2007/relationships/media" Target="file:///C:/Users/ds0929/Documents/Mgt%20505/001_A_021_U%20Kyaw%20Naing.mp3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C:/Users/ds0929/Documents/Mgt%20505/001_A_022_U%20Kyaw%20Naing.mp3" TargetMode="External"/><Relationship Id="rId3" Type="http://schemas.microsoft.com/office/2007/relationships/media" Target="file:///C:/Users/ds0929/Documents/Mgt%20505/001_A_022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file:///C:/Users/ds0929/Documents/Mgt%20505/001_A_023_U%20Kyaw%20Naing.mp3" TargetMode="External"/><Relationship Id="rId3" Type="http://schemas.microsoft.com/office/2007/relationships/media" Target="file:///C:/Users/ds0929/Documents/Mgt%20505/001_A_023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C:/Users/ds0929/Documents/Mgt%20505/001_A_024_U%20Kyaw%20Naing.mp3" TargetMode="External"/><Relationship Id="rId3" Type="http://schemas.microsoft.com/office/2007/relationships/media" Target="file:///C:/Users/ds0929/Documents/Mgt%20505/001_A_024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file:///C:/Users/ds0929/Documents/Mgt%20505/001_A_025_U%20Kyaw%20Naing.mp3" TargetMode="External"/><Relationship Id="rId3" Type="http://schemas.microsoft.com/office/2007/relationships/media" Target="file:///C:/Users/ds0929/Documents/Mgt%20505/001_A_025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26_U%20Kyaw%20Naing.mp3" TargetMode="External"/><Relationship Id="rId2" Type="http://schemas.microsoft.com/office/2007/relationships/media" Target="file:///C:/Users/ds0929/Documents/Mgt%20505/001_A_02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27_U%20Kyaw%20Naing.mp3" TargetMode="External"/><Relationship Id="rId2" Type="http://schemas.microsoft.com/office/2007/relationships/media" Target="file:///C:/Users/ds0929/Documents/Mgt%20505/001_A_02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28_U%20Kyaw%20Naing.mp3" TargetMode="External"/><Relationship Id="rId2" Type="http://schemas.microsoft.com/office/2007/relationships/media" Target="file:///C:/Users/ds0929/Documents/Mgt%20505/001_A_028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29_U%20Kyaw%20Naing.mp3" TargetMode="External"/><Relationship Id="rId2" Type="http://schemas.microsoft.com/office/2007/relationships/media" Target="file:///C:/Users/ds0929/Documents/Mgt%20505/001_A_029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3_U%20Kyaw%20Naing.mp3" TargetMode="External"/><Relationship Id="rId2" Type="http://schemas.microsoft.com/office/2007/relationships/media" Target="file:///C:/Users/ds0929/Documents/Mgt%20505/001_A_00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0_U%20Kyaw%20Naing.mp3" TargetMode="External"/><Relationship Id="rId2" Type="http://schemas.microsoft.com/office/2007/relationships/media" Target="file:///C:/Users/ds0929/Documents/Mgt%20505/001_A_030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1_U%20Kyaw%20Naing.mp3" TargetMode="External"/><Relationship Id="rId2" Type="http://schemas.microsoft.com/office/2007/relationships/media" Target="file:///C:/Users/ds0929/Documents/Mgt%20505/001_A_031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2_U%20Kyaw%20Naing.mp3" TargetMode="External"/><Relationship Id="rId2" Type="http://schemas.microsoft.com/office/2007/relationships/media" Target="file:///C:/Users/ds0929/Documents/Mgt%20505/001_A_03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3_U%20Kyaw%20Naing.mp3" TargetMode="External"/><Relationship Id="rId2" Type="http://schemas.microsoft.com/office/2007/relationships/media" Target="file:///C:/Users/ds0929/Documents/Mgt%20505/001_A_03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4_U%20Kyaw%20Naing.mp3" TargetMode="External"/><Relationship Id="rId2" Type="http://schemas.microsoft.com/office/2007/relationships/media" Target="file:///C:/Users/ds0929/Documents/Mgt%20505/001_A_03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5_U%20Kyaw%20Naing.mp3" TargetMode="External"/><Relationship Id="rId2" Type="http://schemas.microsoft.com/office/2007/relationships/media" Target="file:///C:/Users/ds0929/Documents/Mgt%20505/001_A_03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6_U%20Kyaw%20Naing.mp3" TargetMode="External"/><Relationship Id="rId2" Type="http://schemas.microsoft.com/office/2007/relationships/media" Target="file:///C:/Users/ds0929/Documents/Mgt%20505/001_A_03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7_U%20Kyaw%20Naing.mp3" TargetMode="External"/><Relationship Id="rId2" Type="http://schemas.microsoft.com/office/2007/relationships/media" Target="file:///C:/Users/ds0929/Documents/Mgt%20505/001_A_03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C:/Users/ds0929/Documents/Mgt%20505/001_A_038_U%20Kyaw%20Naing.mp3" TargetMode="External"/><Relationship Id="rId3" Type="http://schemas.microsoft.com/office/2007/relationships/media" Target="file:///C:/Users/ds0929/Documents/Mgt%20505/001_A_038_U%20Kyaw%20Naing.mp3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39_U%20Kyaw%20Naing.mp3" TargetMode="External"/><Relationship Id="rId2" Type="http://schemas.microsoft.com/office/2007/relationships/media" Target="file:///C:/Users/ds0929/Documents/Mgt%20505/001_A_039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4_U%20Kyaw%20Naing.mp3" TargetMode="External"/><Relationship Id="rId2" Type="http://schemas.microsoft.com/office/2007/relationships/media" Target="file:///C:/Users/ds0929/Documents/Mgt%20505/001_A_00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0_U%20Kyaw%20Naing.mp3" TargetMode="External"/><Relationship Id="rId2" Type="http://schemas.microsoft.com/office/2007/relationships/media" Target="file:///C:/Users/ds0929/Documents/Mgt%20505/001_A_040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1_U%20Kyaw%20Naing.mp3" TargetMode="External"/><Relationship Id="rId2" Type="http://schemas.microsoft.com/office/2007/relationships/media" Target="file:///C:/Users/ds0929/Documents/Mgt%20505/001_A_041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2_U%20Kyaw%20Naing.mp3" TargetMode="External"/><Relationship Id="rId2" Type="http://schemas.microsoft.com/office/2007/relationships/media" Target="file:///C:/Users/ds0929/Documents/Mgt%20505/001_A_04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3_U%20Kyaw%20Naing.mp3" TargetMode="External"/><Relationship Id="rId2" Type="http://schemas.microsoft.com/office/2007/relationships/media" Target="file:///C:/Users/ds0929/Documents/Mgt%20505/001_A_04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4_U%20Kyaw%20Naing.mp3" TargetMode="External"/><Relationship Id="rId2" Type="http://schemas.microsoft.com/office/2007/relationships/media" Target="file:///C:/Users/ds0929/Documents/Mgt%20505/001_A_04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5_U%20Kyaw%20Naing.mp3" TargetMode="External"/><Relationship Id="rId2" Type="http://schemas.microsoft.com/office/2007/relationships/media" Target="file:///C:/Users/ds0929/Documents/Mgt%20505/001_A_04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6_U%20Kyaw%20Naing.mp3" TargetMode="External"/><Relationship Id="rId2" Type="http://schemas.microsoft.com/office/2007/relationships/media" Target="file:///C:/Users/ds0929/Documents/Mgt%20505/001_A_04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7_U%20Kyaw%20Naing.mp3" TargetMode="External"/><Relationship Id="rId2" Type="http://schemas.microsoft.com/office/2007/relationships/media" Target="file:///C:/Users/ds0929/Documents/Mgt%20505/001_A_04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8_U%20Kyaw%20Naing.mp3" TargetMode="External"/><Relationship Id="rId2" Type="http://schemas.microsoft.com/office/2007/relationships/media" Target="file:///C:/Users/ds0929/Documents/Mgt%20505/001_A_048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49_U%20Kyaw%20Naing.mp3" TargetMode="External"/><Relationship Id="rId2" Type="http://schemas.microsoft.com/office/2007/relationships/media" Target="file:///C:/Users/ds0929/Documents/Mgt%20505/001_A_049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5_U%20Kyaw%20Naing.mp3" TargetMode="External"/><Relationship Id="rId2" Type="http://schemas.microsoft.com/office/2007/relationships/media" Target="file:///C:/Users/ds0929/Documents/Mgt%20505/001_A_00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0_U%20Kyaw%20Naing.mp3" TargetMode="External"/><Relationship Id="rId2" Type="http://schemas.microsoft.com/office/2007/relationships/media" Target="file:///C:/Users/ds0929/Documents/Mgt%20505/001_A_050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1_U%20Kyaw%20Naing.mp3" TargetMode="External"/><Relationship Id="rId2" Type="http://schemas.microsoft.com/office/2007/relationships/media" Target="file:///C:/Users/ds0929/Documents/Mgt%20505/001_A_051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2_U%20Kyaw%20Naing.mp3" TargetMode="External"/><Relationship Id="rId2" Type="http://schemas.microsoft.com/office/2007/relationships/media" Target="file:///C:/Users/ds0929/Documents/Mgt%20505/001_A_05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3_U%20Kyaw%20Naing.mp3" TargetMode="External"/><Relationship Id="rId2" Type="http://schemas.microsoft.com/office/2007/relationships/media" Target="file:///C:/Users/ds0929/Documents/Mgt%20505/001_A_05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4_U%20Kyaw%20Naing.mp3" TargetMode="External"/><Relationship Id="rId2" Type="http://schemas.microsoft.com/office/2007/relationships/media" Target="file:///C:/Users/ds0929/Documents/Mgt%20505/001_A_05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5_U%20Kyaw%20Naing.mp3" TargetMode="External"/><Relationship Id="rId2" Type="http://schemas.microsoft.com/office/2007/relationships/media" Target="file:///C:/Users/ds0929/Documents/Mgt%20505/001_A_05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6_U%20Kyaw%20Naing.mp3" TargetMode="External"/><Relationship Id="rId2" Type="http://schemas.microsoft.com/office/2007/relationships/media" Target="file:///C:/Users/ds0929/Documents/Mgt%20505/001_A_05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7_U%20Kyaw%20Naing.mp3" TargetMode="External"/><Relationship Id="rId2" Type="http://schemas.microsoft.com/office/2007/relationships/media" Target="file:///C:/Users/ds0929/Documents/Mgt%20505/001_A_05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58_U%20Kyaw%20Naing.mp3" TargetMode="External"/><Relationship Id="rId2" Type="http://schemas.microsoft.com/office/2007/relationships/media" Target="file:///C:/Users/ds0929/Documents/Mgt%20505/001_A_058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file:///C:/Users/ds0929/Documents/Mgt%20505/001_A_059_U%20Kyaw%20Naing.mp3" TargetMode="External"/><Relationship Id="rId4" Type="http://schemas.microsoft.com/office/2007/relationships/media" Target="file:///C:/Users/ds0929/Documents/Mgt%20505/001_A_059_U%20Kyaw%20Naing.mp3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6_U%20Kyaw%20Naing.mp3" TargetMode="External"/><Relationship Id="rId2" Type="http://schemas.microsoft.com/office/2007/relationships/media" Target="file:///C:/Users/ds0929/Documents/Mgt%20505/001_A_00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file:///C:/Users/ds0929/Documents/Mgt%20505/001_A_060_U%20Kyaw%20Naing.mp3" TargetMode="External"/><Relationship Id="rId4" Type="http://schemas.microsoft.com/office/2007/relationships/media" Target="file:///C:/Users/ds0929/Documents/Mgt%20505/001_A_060_U%20Kyaw%20Naing.mp3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1_U%20Kyaw%20Naing.mp3" TargetMode="External"/><Relationship Id="rId2" Type="http://schemas.microsoft.com/office/2007/relationships/media" Target="file:///C:/Users/ds0929/Documents/Mgt%20505/001_A_061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2_U%20Kyaw%20Naing.mp3" TargetMode="External"/><Relationship Id="rId2" Type="http://schemas.microsoft.com/office/2007/relationships/media" Target="file:///C:/Users/ds0929/Documents/Mgt%20505/001_A_062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3_U%20Kyaw%20Naing.mp3" TargetMode="External"/><Relationship Id="rId2" Type="http://schemas.microsoft.com/office/2007/relationships/media" Target="file:///C:/Users/ds0929/Documents/Mgt%20505/001_A_063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4_U%20Kyaw%20Naing.mp3" TargetMode="External"/><Relationship Id="rId2" Type="http://schemas.microsoft.com/office/2007/relationships/media" Target="file:///C:/Users/ds0929/Documents/Mgt%20505/001_A_064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5_U%20Kyaw%20Naing.mp3" TargetMode="External"/><Relationship Id="rId2" Type="http://schemas.microsoft.com/office/2007/relationships/media" Target="file:///C:/Users/ds0929/Documents/Mgt%20505/001_A_065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6_U%20Kyaw%20Naing.mp3" TargetMode="External"/><Relationship Id="rId2" Type="http://schemas.microsoft.com/office/2007/relationships/media" Target="file:///C:/Users/ds0929/Documents/Mgt%20505/001_A_066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7_U%20Kyaw%20Naing.mp3" TargetMode="External"/><Relationship Id="rId2" Type="http://schemas.microsoft.com/office/2007/relationships/media" Target="file:///C:/Users/ds0929/Documents/Mgt%20505/001_A_06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8_U%20Kyaw%20Naing.mp3" TargetMode="External"/><Relationship Id="rId2" Type="http://schemas.microsoft.com/office/2007/relationships/media" Target="file:///C:/Users/ds0929/Documents/Mgt%20505/001_A_068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69_U%20Kyaw%20Naing.mp3" TargetMode="External"/><Relationship Id="rId2" Type="http://schemas.microsoft.com/office/2007/relationships/media" Target="file:///C:/Users/ds0929/Documents/Mgt%20505/001_A_069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7_U%20Kyaw%20Naing.mp3" TargetMode="External"/><Relationship Id="rId2" Type="http://schemas.microsoft.com/office/2007/relationships/media" Target="file:///C:/Users/ds0929/Documents/Mgt%20505/001_A_007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8_U%20Kyaw%20Naing.mp3" TargetMode="External"/><Relationship Id="rId2" Type="http://schemas.microsoft.com/office/2007/relationships/media" Target="file:///C:/Users/ds0929/Documents/Mgt%20505/001_A_008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C:/Users/ds0929/Documents/Mgt%20505/001_A_009_U%20Kyaw%20Naing.mp3" TargetMode="External"/><Relationship Id="rId2" Type="http://schemas.microsoft.com/office/2007/relationships/media" Target="file:///C:/Users/ds0929/Documents/Mgt%20505/001_A_009_U%20Kyaw%20Naing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0" y="25178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53280" y="64008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26840" y="211680"/>
            <a:ext cx="5866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What Is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roducer’s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78160"/>
            <a:ext cx="795780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of conforma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ure product or service is produced according to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tires do not conform to specifications, they wo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tel room is not clean when a guest checks in, hotel is not functioning according to  specifications of it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3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3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8319C49-4951-4B95-B891-90BC9C48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1200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6000" y="60120"/>
            <a:ext cx="56383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eaning of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07560" cy="44193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3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90E3A38-34DA-415A-9068-A00432D9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661356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2944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00200" y="218160"/>
            <a:ext cx="5866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What Is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A Final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777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ustomer’s and producer’s perspectives depend on each othe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ducer’s perspective: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process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ustomer’s perspective: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or use and P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ustomer’s view must dominat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3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34E6C2D-1346-499F-BE33-5630C0B41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8660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176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95040" y="46440"/>
            <a:ext cx="533376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eming’s 14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3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4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51BA4A9-73D5-4366-9A73-6C08A786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804600" y="1595160"/>
            <a:ext cx="7313400" cy="29714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nstancy of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philosophy of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ase mass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few suppliers based 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ly improve system and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62940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632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1480" y="11232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eming’s 14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12880" y="1600200"/>
            <a:ext cx="7313400" cy="281916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6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e worker train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6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ll leadership among supervisor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6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fear among employe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6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barriers between departmen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6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slogan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4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4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193C15F-BA00-4D90-87B9-CCF47C56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86600" y="5943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960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34440" y="11196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eming’s 14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97400" y="1596600"/>
            <a:ext cx="8076960" cy="310716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11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numerical quota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11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worker prid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11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e vigorous training and education program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AutoNum type="arabicPeriod" startAt="11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mmitment from top management to implement  above 13 poin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4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4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DF93B65-F432-4810-AA95-7DFBE08B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57150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17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4440" y="14580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eming Wheel: PDC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4" descr=""/>
          <p:cNvPicPr/>
          <p:nvPr/>
        </p:nvPicPr>
        <p:blipFill>
          <a:blip r:embed="rId1"/>
          <a:srcRect l="13281" t="1682" r="17538" b="2349"/>
          <a:stretch/>
        </p:blipFill>
        <p:spPr>
          <a:xfrm>
            <a:off x="2087280" y="1219320"/>
            <a:ext cx="4952520" cy="43430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ftr" idx="4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4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95A8AA1-E063-4BFA-9674-222331ED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2400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1280" y="14580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120" y="1208880"/>
            <a:ext cx="3657240" cy="29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cess Flow Char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ause-and-Effect Diagra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heck Shee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reto Analysi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7880" y="1208880"/>
            <a:ext cx="3885840" cy="22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catter Diagra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atistical Proc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ntrol Char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4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4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987CC78-D8DC-4452-AD1C-9CE4A967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162920" y="58672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2224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43200" y="19800"/>
            <a:ext cx="365724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Flow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736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 diagram of the steps in a proc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elps focus on location of problem in a proc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4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5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DAC387F-47B1-40B1-AF4E-02B658E2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35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91520" cy="321948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0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23888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5600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51040" y="106560"/>
            <a:ext cx="737820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ause-and-Effect Diagra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4680" y="1249920"/>
            <a:ext cx="8105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ause-and-effect diagram (“fishbone” diagram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showing different categories of problem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7" descr=""/>
          <p:cNvPicPr/>
          <p:nvPr/>
        </p:nvPicPr>
        <p:blipFill>
          <a:blip r:embed="rId1"/>
          <a:stretch/>
        </p:blipFill>
        <p:spPr>
          <a:xfrm>
            <a:off x="591840" y="2240640"/>
            <a:ext cx="7619760" cy="3782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3"/>
          <p:cNvSpPr>
            <a:spLocks noGrp="1"/>
          </p:cNvSpPr>
          <p:nvPr>
            <p:ph type="sldNum" idx="5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431F89A-3519-4EA8-9742-55DDDDE0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5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63244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84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000" y="10548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What Is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3760" y="1295280"/>
            <a:ext cx="7924320" cy="33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Oxford American Dictionar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r level of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merican Society for Qua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ity of features and characteristics that satisfy needs without de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nsumer’s and producer’s perspectiv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D28EFBA-0B33-417E-9DFE-AB454125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4380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1680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60040" y="87120"/>
            <a:ext cx="737820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ause-and-Effect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7120" y="1260360"/>
            <a:ext cx="795780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ause-and-effect matrix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used to prioritize causes of qualit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848360" cy="33523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3"/>
          <p:cNvSpPr>
            <a:spLocks noGrp="1"/>
          </p:cNvSpPr>
          <p:nvPr>
            <p:ph type="sldNum" idx="5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AD34A56-F9B8-4B3F-9BD7-6317CEA1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5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72200" y="6172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1504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70840" y="97920"/>
            <a:ext cx="7378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heck Sheets and Hist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2080" y="1211040"/>
            <a:ext cx="457164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lly number of defects from a list of caus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requency diagram of data for quality proble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5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56"/>
          </p:nvPr>
        </p:nvSpPr>
        <p:spPr>
          <a:xfrm>
            <a:off x="6642360" y="64296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680999A-D4FC-436C-8AA6-A38690C1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16" descr=""/>
          <p:cNvPicPr/>
          <p:nvPr/>
        </p:nvPicPr>
        <p:blipFill>
          <a:blip r:embed="rId1"/>
          <a:stretch/>
        </p:blipFill>
        <p:spPr>
          <a:xfrm>
            <a:off x="5257800" y="1257120"/>
            <a:ext cx="3352320" cy="178704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25" name="Picture 17" descr=""/>
          <p:cNvPicPr/>
          <p:nvPr/>
        </p:nvPicPr>
        <p:blipFill>
          <a:blip r:embed="rId2"/>
          <a:stretch/>
        </p:blipFill>
        <p:spPr>
          <a:xfrm>
            <a:off x="5257800" y="3497040"/>
            <a:ext cx="3352320" cy="199188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2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181480" y="661356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3552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1640" y="127800"/>
            <a:ext cx="73782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areto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7360"/>
            <a:ext cx="7957800" cy="10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reto analysi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quality problems result from a few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990720" y="2568960"/>
            <a:ext cx="7162560" cy="2962080"/>
          </a:xfrm>
          <a:prstGeom prst="rect">
            <a:avLst/>
          </a:prstGeom>
          <a:ln w="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sp>
        <p:nvSpPr>
          <p:cNvPr id="430" name="PlaceHolder 3"/>
          <p:cNvSpPr>
            <a:spLocks noGrp="1"/>
          </p:cNvSpPr>
          <p:nvPr>
            <p:ph type="sldNum" idx="5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9B47FD2-D073-45D1-849F-9A18A609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5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6172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36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05120" y="10080"/>
            <a:ext cx="5333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areto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5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6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F6C1A48-443D-40E5-9ECC-AC773B21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38" descr=""/>
          <p:cNvPicPr/>
          <p:nvPr/>
        </p:nvPicPr>
        <p:blipFill>
          <a:blip r:embed="rId1"/>
          <a:stretch/>
        </p:blipFill>
        <p:spPr>
          <a:xfrm>
            <a:off x="1411200" y="1143000"/>
            <a:ext cx="6314760" cy="453204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9152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3552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7320" y="76320"/>
            <a:ext cx="7378200" cy="83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catter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8800"/>
            <a:ext cx="83055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 showing relationship between 2 variables in a proc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dentifies pattern that may cause a quality proble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6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6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0F4898B-1E71-4984-A07A-F1C975E6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59" descr=""/>
          <p:cNvPicPr/>
          <p:nvPr/>
        </p:nvPicPr>
        <p:blipFill>
          <a:blip r:embed="rId1"/>
          <a:stretch/>
        </p:blipFill>
        <p:spPr>
          <a:xfrm>
            <a:off x="2699640" y="3048120"/>
            <a:ext cx="3733560" cy="259056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4380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6624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32200" y="96480"/>
            <a:ext cx="6886080" cy="83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ntro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2240" y="120132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 chart with statistical upper and lower limi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f sample statistics remain between these limits we assume the process is in contro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6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6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D04B131-B431-401B-8F6E-45993B40D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72" descr=""/>
          <p:cNvPicPr/>
          <p:nvPr/>
        </p:nvPicPr>
        <p:blipFill>
          <a:blip r:embed="rId1"/>
          <a:srcRect l="0" t="0" r="54630" b="0"/>
          <a:stretch/>
        </p:blipFill>
        <p:spPr>
          <a:xfrm>
            <a:off x="2699640" y="2924640"/>
            <a:ext cx="3733560" cy="2133360"/>
          </a:xfrm>
          <a:prstGeom prst="rect">
            <a:avLst/>
          </a:prstGeom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</p:pic>
      <p:pic>
        <p:nvPicPr>
          <p:cNvPr id="4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238880" y="6172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4576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37320" y="11124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TQM and Q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400" y="1260000"/>
            <a:ext cx="830556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otal Quality Management (TQM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-oriented, leadership, strategic planning, employee responsibility, continuous improvement, cooperation, statistical methods, and training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Management System (QM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o achieve customer satisfaction that complements other compan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6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6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7C1ABEB-5022-4303-835E-AF99D5BE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32448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90112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42000" y="170280"/>
            <a:ext cx="845784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994000"/>
                </a:solidFill>
                <a:latin typeface="Arial"/>
              </a:rPr>
              <a:t>Focus of Quality Management— Cust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2160" y="1602000"/>
            <a:ext cx="8686440" cy="44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QM and QM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to achieve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tisfied customers are less likely to switch to a competito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t costs 5-6 times more to attract new customers as to keep an existing on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94-96% of dissatisfied customers don’t complai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mall increases in customer retention mean large increases in profi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6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6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CE7A775-43C6-4840-9A8F-C025CD7D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98304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16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Management in the 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upply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mpanies need support of their suppliers to satisfy their customer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duce the number of supplier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rtner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lationship between a company and its supplier based on mutual qua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6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7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CDF1058-BF87-4EA8-B347-998866F5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0080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5056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56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easuring Customer Satisf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7280" y="1208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n important component of any QM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e customer surveys to hear “Voice of the Customer”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merican Customer Satisfaction Index (ACSI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7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7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AC15BE4-B365-42D8-B32C-A3BE0669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10080" y="54100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9696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What Is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ustomer’s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itness for use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product or service does what it is suppo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Quality of design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quality characteristics into a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Mercedes and a Ford are equally “fit for use,” but with different design dimensions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1FF1762-3831-4770-B51F-A901BB3B8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661356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0656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Role of Employees in Quality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71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rticipative problem solv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involved in  quality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employee has undergone extensive training to provide quality service to Disney’s g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Kaize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everyone in process of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determining solutions to their ow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7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B849B2F-91FB-429F-B2DB-E704094A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7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05720" y="57913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59392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7320" y="133200"/>
            <a:ext cx="84578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Cir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8880"/>
            <a:ext cx="426672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Voluntary group of workers and supervisors from same area  who address quality problem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7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7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419764F-EA9D-439F-9C13-C9B92CA5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1"/>
          <p:cNvGrpSpPr/>
          <p:nvPr/>
        </p:nvGrpSpPr>
        <p:grpSpPr>
          <a:xfrm>
            <a:off x="4289400" y="1211400"/>
            <a:ext cx="4777920" cy="4960440"/>
            <a:chOff x="4289400" y="1211400"/>
            <a:chExt cx="4777920" cy="4960440"/>
          </a:xfrm>
        </p:grpSpPr>
        <p:sp>
          <p:nvSpPr>
            <p:cNvPr id="480" name="Freeform 42"/>
            <p:cNvSpPr/>
            <p:nvPr/>
          </p:nvSpPr>
          <p:spPr>
            <a:xfrm rot="325200">
              <a:off x="5396040" y="2179800"/>
              <a:ext cx="363960" cy="27396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43"/>
            <p:cNvSpPr/>
            <p:nvPr/>
          </p:nvSpPr>
          <p:spPr>
            <a:xfrm rot="15105000">
              <a:off x="5531400" y="5188320"/>
              <a:ext cx="363960" cy="27396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4"/>
            <p:cNvSpPr/>
            <p:nvPr/>
          </p:nvSpPr>
          <p:spPr>
            <a:xfrm rot="18624000">
              <a:off x="4503600" y="3669840"/>
              <a:ext cx="363960" cy="27396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45"/>
            <p:cNvSpPr/>
            <p:nvPr/>
          </p:nvSpPr>
          <p:spPr>
            <a:xfrm rot="7730400">
              <a:off x="8490600" y="3634200"/>
              <a:ext cx="323280" cy="30816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6"/>
            <p:cNvSpPr/>
            <p:nvPr/>
          </p:nvSpPr>
          <p:spPr>
            <a:xfrm rot="4288800">
              <a:off x="7524360" y="2098440"/>
              <a:ext cx="323280" cy="30816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47"/>
            <p:cNvSpPr/>
            <p:nvPr/>
          </p:nvSpPr>
          <p:spPr>
            <a:xfrm flipH="1" flipV="1" rot="593400">
              <a:off x="7479360" y="5162040"/>
              <a:ext cx="363960" cy="273600"/>
            </a:xfrm>
            <a:custGeom>
              <a:avLst/>
              <a:gdLst>
                <a:gd name="textAreaLeft" fmla="*/ -360 w 363960"/>
                <a:gd name="textAreaRight" fmla="*/ 363960 w 363960"/>
                <a:gd name="textAreaTop" fmla="*/ 360 h 273600"/>
                <a:gd name="textAreaBottom" fmla="*/ 274320 h 273600"/>
              </a:gdLst>
              <a:ahLst/>
              <a:rect l="textAreaLeft" t="textAreaTop" r="textAreaRight" b="textAreaBottom"/>
              <a:pathLst>
                <a:path w="229" h="194">
                  <a:moveTo>
                    <a:pt x="0" y="194"/>
                  </a:moveTo>
                  <a:cubicBezTo>
                    <a:pt x="12" y="179"/>
                    <a:pt x="48" y="129"/>
                    <a:pt x="72" y="104"/>
                  </a:cubicBezTo>
                  <a:cubicBezTo>
                    <a:pt x="96" y="79"/>
                    <a:pt x="120" y="59"/>
                    <a:pt x="146" y="42"/>
                  </a:cubicBezTo>
                  <a:cubicBezTo>
                    <a:pt x="172" y="25"/>
                    <a:pt x="212" y="9"/>
                    <a:pt x="229" y="0"/>
                  </a:cubicBezTo>
                </a:path>
              </a:pathLst>
            </a:custGeom>
            <a:solidFill>
              <a:schemeClr val="folHlink"/>
            </a:solidFill>
            <a:ln w="57150">
              <a:solidFill>
                <a:srgbClr val="80008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48"/>
            <p:cNvGrpSpPr/>
            <p:nvPr/>
          </p:nvGrpSpPr>
          <p:grpSpPr>
            <a:xfrm>
              <a:off x="4289400" y="2277360"/>
              <a:ext cx="1596600" cy="1419120"/>
              <a:chOff x="4289400" y="2277360"/>
              <a:chExt cx="1596600" cy="1419120"/>
            </a:xfrm>
          </p:grpSpPr>
          <p:sp>
            <p:nvSpPr>
              <p:cNvPr id="487" name="Oval 49"/>
              <p:cNvSpPr/>
              <p:nvPr/>
            </p:nvSpPr>
            <p:spPr>
              <a:xfrm>
                <a:off x="4289400" y="2277360"/>
                <a:ext cx="1596600" cy="1419120"/>
              </a:xfrm>
              <a:prstGeom prst="ellipse">
                <a:avLst/>
              </a:prstGeom>
              <a:solidFill>
                <a:srgbClr val="33cccc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50"/>
              <p:cNvSpPr/>
              <p:nvPr/>
            </p:nvSpPr>
            <p:spPr>
              <a:xfrm>
                <a:off x="4473720" y="2652480"/>
                <a:ext cx="1226520" cy="667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sent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emen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51"/>
            <p:cNvGrpSpPr/>
            <p:nvPr/>
          </p:nvGrpSpPr>
          <p:grpSpPr>
            <a:xfrm>
              <a:off x="4290840" y="3915720"/>
              <a:ext cx="1596600" cy="1419120"/>
              <a:chOff x="4290840" y="3915720"/>
              <a:chExt cx="1596600" cy="1419120"/>
            </a:xfrm>
          </p:grpSpPr>
          <p:sp>
            <p:nvSpPr>
              <p:cNvPr id="490" name="Oval 52"/>
              <p:cNvSpPr/>
              <p:nvPr/>
            </p:nvSpPr>
            <p:spPr>
              <a:xfrm>
                <a:off x="4290840" y="3915720"/>
                <a:ext cx="1596600" cy="1419120"/>
              </a:xfrm>
              <a:prstGeom prst="ellipse">
                <a:avLst/>
              </a:prstGeom>
              <a:solidFill>
                <a:srgbClr val="e3cf95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Rectangle 53"/>
              <p:cNvSpPr/>
              <p:nvPr/>
            </p:nvSpPr>
            <p:spPr>
              <a:xfrm>
                <a:off x="4461840" y="4290840"/>
                <a:ext cx="1241640" cy="484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ol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lem resul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54"/>
            <p:cNvGrpSpPr/>
            <p:nvPr/>
          </p:nvGrpSpPr>
          <p:grpSpPr>
            <a:xfrm>
              <a:off x="5871960" y="4752720"/>
              <a:ext cx="1596600" cy="1419120"/>
              <a:chOff x="5871960" y="4752720"/>
              <a:chExt cx="1596600" cy="1419120"/>
            </a:xfrm>
          </p:grpSpPr>
          <p:sp>
            <p:nvSpPr>
              <p:cNvPr id="493" name="Oval 55"/>
              <p:cNvSpPr/>
              <p:nvPr/>
            </p:nvSpPr>
            <p:spPr>
              <a:xfrm>
                <a:off x="5871960" y="4752720"/>
                <a:ext cx="1596600" cy="1419120"/>
              </a:xfrm>
              <a:prstGeom prst="ellipse">
                <a:avLst/>
              </a:prstGeom>
              <a:solidFill>
                <a:srgbClr val="ccccff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Rectangle 56"/>
              <p:cNvSpPr/>
              <p:nvPr/>
            </p:nvSpPr>
            <p:spPr>
              <a:xfrm>
                <a:off x="5958000" y="4926600"/>
                <a:ext cx="1424880" cy="1063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blem Analy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use and effe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llection and ana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7"/>
            <p:cNvGrpSpPr/>
            <p:nvPr/>
          </p:nvGrpSpPr>
          <p:grpSpPr>
            <a:xfrm>
              <a:off x="7470720" y="3917160"/>
              <a:ext cx="1596600" cy="1419120"/>
              <a:chOff x="7470720" y="3917160"/>
              <a:chExt cx="1596600" cy="1419120"/>
            </a:xfrm>
          </p:grpSpPr>
          <p:sp>
            <p:nvSpPr>
              <p:cNvPr id="496" name="Oval 58"/>
              <p:cNvSpPr/>
              <p:nvPr/>
            </p:nvSpPr>
            <p:spPr>
              <a:xfrm>
                <a:off x="7470720" y="3917160"/>
                <a:ext cx="1596600" cy="1419120"/>
              </a:xfrm>
              <a:prstGeom prst="ellipse">
                <a:avLst/>
              </a:prstGeom>
              <a:solidFill>
                <a:srgbClr val="ffcc00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Rectangle 59"/>
              <p:cNvSpPr/>
              <p:nvPr/>
            </p:nvSpPr>
            <p:spPr>
              <a:xfrm>
                <a:off x="7589880" y="4091040"/>
                <a:ext cx="1358280" cy="1063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blem Identif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st alternativ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sensu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rainstor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60"/>
            <p:cNvGrpSpPr/>
            <p:nvPr/>
          </p:nvGrpSpPr>
          <p:grpSpPr>
            <a:xfrm>
              <a:off x="7469280" y="2275920"/>
              <a:ext cx="1596600" cy="1419120"/>
              <a:chOff x="7469280" y="2275920"/>
              <a:chExt cx="1596600" cy="1419120"/>
            </a:xfrm>
          </p:grpSpPr>
          <p:sp>
            <p:nvSpPr>
              <p:cNvPr id="499" name="Oval 61"/>
              <p:cNvSpPr/>
              <p:nvPr/>
            </p:nvSpPr>
            <p:spPr>
              <a:xfrm>
                <a:off x="7469280" y="2275920"/>
                <a:ext cx="1596600" cy="1419120"/>
              </a:xfrm>
              <a:prstGeom prst="ellipse">
                <a:avLst/>
              </a:prstGeom>
              <a:solidFill>
                <a:srgbClr val="ffffcc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2"/>
              <p:cNvSpPr/>
              <p:nvPr/>
            </p:nvSpPr>
            <p:spPr>
              <a:xfrm>
                <a:off x="7547040" y="2506680"/>
                <a:ext cx="1442520" cy="849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up proces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ll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lem ana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63"/>
            <p:cNvGrpSpPr/>
            <p:nvPr/>
          </p:nvGrpSpPr>
          <p:grpSpPr>
            <a:xfrm>
              <a:off x="5756040" y="1211400"/>
              <a:ext cx="1837080" cy="1632600"/>
              <a:chOff x="5756040" y="1211400"/>
              <a:chExt cx="1837080" cy="1632600"/>
            </a:xfrm>
          </p:grpSpPr>
          <p:sp>
            <p:nvSpPr>
              <p:cNvPr id="502" name="Oval 64"/>
              <p:cNvSpPr/>
              <p:nvPr/>
            </p:nvSpPr>
            <p:spPr>
              <a:xfrm>
                <a:off x="5756040" y="1211400"/>
                <a:ext cx="1837080" cy="1632600"/>
              </a:xfrm>
              <a:prstGeom prst="ellipse">
                <a:avLst/>
              </a:prstGeom>
              <a:solidFill>
                <a:srgbClr val="e2cd9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65"/>
              <p:cNvSpPr/>
              <p:nvPr/>
            </p:nvSpPr>
            <p:spPr>
              <a:xfrm>
                <a:off x="5770440" y="1484640"/>
                <a:ext cx="1808280" cy="849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rganiz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-10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ame are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pervisor/modera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Rectangle 66"/>
          <p:cNvSpPr/>
          <p:nvPr/>
        </p:nvSpPr>
        <p:spPr>
          <a:xfrm>
            <a:off x="609480" y="3618000"/>
            <a:ext cx="458640" cy="461520"/>
          </a:xfrm>
          <a:prstGeom prst="rect">
            <a:avLst/>
          </a:prstGeom>
          <a:noFill/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438280" y="54100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92160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37320" y="162360"/>
            <a:ext cx="84578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rocess (Quality) Improvement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42080" y="1219320"/>
            <a:ext cx="77720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cus attention on business processes rather than separate company function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cludes members from the interrelated departments which make up a proc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mportant to understand the process the team is address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cess flowcharts are key tool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7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7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4E4B3D1-4689-4DDE-A721-C760D513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>
            <a:off x="609480" y="3618000"/>
            <a:ext cx="458640" cy="461520"/>
          </a:xfrm>
          <a:prstGeom prst="rect">
            <a:avLst/>
          </a:prstGeom>
          <a:noFill/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324480" y="57913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59392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41680" y="66600"/>
            <a:ext cx="5638320" cy="87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in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7280" y="1254600"/>
            <a:ext cx="8305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rvice defects are not always easy to measure because service output is not usually a tangible ite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rvices tend to be labor intensiv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rvices and manufacturing companies have similar inputs but different processes and outpu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7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8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8780E7F-B502-46A5-9E7F-FCBB6481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181480" y="53341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40960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58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Attributes in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71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inciples of TQM apply equally well to services and manufactur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imeliness is an important dimensio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a service i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enchmark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” level of quality achievement in one company that other companies seek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8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E364EEE-4E69-4286-B23A-97F84C9E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629400" y="57913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0176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42760" y="88200"/>
            <a:ext cx="56383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720" y="1209600"/>
            <a:ext cx="8542080" cy="48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 process for developing and delivering virtually perfect products and servic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 Sigma is a measure of how much a process deviates from perfectio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oal: 3.4 defects per million opportunities (DPMO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8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8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25403A3-4652-4BDE-848D-04FA3138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105520" y="51814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8128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42760" y="88200"/>
            <a:ext cx="56383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ix Sigm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2720" y="1209600"/>
            <a:ext cx="7932600" cy="48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lign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s create balanced score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19"/>
              </a:spcBef>
              <a:buClr>
                <a:srgbClr val="006600"/>
              </a:buClr>
              <a:buFont typeface="Calibri"/>
              <a:buAutoNum type="arabicPeriod"/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Mobilize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teams formed and empowered to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19"/>
              </a:spcBef>
              <a:buClr>
                <a:srgbClr val="006600"/>
              </a:buClr>
              <a:buFont typeface="Calibri"/>
              <a:buAutoNum type="arabicPeriod"/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Accelerate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ck and green belts execut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19"/>
              </a:spcBef>
              <a:buClr>
                <a:srgbClr val="006600"/>
              </a:buClr>
              <a:buFont typeface="Calibri"/>
              <a:buAutoNum type="arabicPeriod"/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overn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review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hampio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ecutive responsible for projec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8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8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4CB9EDF-ABA2-454B-83ED-1B885E5E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924680" y="524196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5734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Breakthrough Strategy: DMA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47120" y="1208880"/>
            <a:ext cx="8229240" cy="49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s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easur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easured, data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nalyz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alysis to find cause of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mprov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olutions to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6600"/>
                </a:solidFill>
                <a:latin typeface="Arial"/>
              </a:rPr>
              <a:t>Control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improvement i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86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8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67725BD-7D33-43E7-83CA-2030895A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4800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71680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680" y="60840"/>
            <a:ext cx="70099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ix Sigm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ftr" idx="8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8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D5599F1-36C4-41BB-8E13-6347FADE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8"/>
          <p:cNvGrpSpPr/>
          <p:nvPr/>
        </p:nvGrpSpPr>
        <p:grpSpPr>
          <a:xfrm>
            <a:off x="477360" y="1320840"/>
            <a:ext cx="8199000" cy="4845960"/>
            <a:chOff x="477360" y="1320840"/>
            <a:chExt cx="8199000" cy="4845960"/>
          </a:xfrm>
        </p:grpSpPr>
        <p:pic>
          <p:nvPicPr>
            <p:cNvPr id="540" name="Picture 23" descr=""/>
            <p:cNvPicPr/>
            <p:nvPr/>
          </p:nvPicPr>
          <p:blipFill>
            <a:blip r:embed="rId1"/>
            <a:stretch/>
          </p:blipFill>
          <p:spPr>
            <a:xfrm>
              <a:off x="690840" y="1900080"/>
              <a:ext cx="7894440" cy="42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5"/>
            <p:cNvSpPr/>
            <p:nvPr/>
          </p:nvSpPr>
          <p:spPr>
            <a:xfrm>
              <a:off x="7396560" y="3804840"/>
              <a:ext cx="1279800" cy="36540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4 DP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062440" y="5329080"/>
              <a:ext cx="2971440" cy="68544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7,000 DP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st = 25% of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477360" y="1320840"/>
              <a:ext cx="1279800" cy="27396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9"/>
            <p:cNvSpPr/>
            <p:nvPr/>
          </p:nvSpPr>
          <p:spPr>
            <a:xfrm>
              <a:off x="766800" y="1594800"/>
              <a:ext cx="609840" cy="1219320"/>
            </a:xfrm>
            <a:prstGeom prst="line">
              <a:avLst/>
            </a:prstGeom>
            <a:ln w="127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1"/>
            <p:cNvSpPr/>
            <p:nvPr/>
          </p:nvSpPr>
          <p:spPr>
            <a:xfrm>
              <a:off x="7099560" y="1320840"/>
              <a:ext cx="1279800" cy="27396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 flipH="1">
              <a:off x="6863040" y="1594800"/>
              <a:ext cx="838080" cy="2210040"/>
            </a:xfrm>
            <a:prstGeom prst="line">
              <a:avLst/>
            </a:prstGeom>
            <a:ln w="127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5339160" y="1320840"/>
              <a:ext cx="1279800" cy="27396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H="1">
              <a:off x="5869080" y="1585440"/>
              <a:ext cx="152280" cy="1167840"/>
            </a:xfrm>
            <a:prstGeom prst="line">
              <a:avLst/>
            </a:prstGeom>
            <a:ln w="127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7"/>
            <p:cNvSpPr/>
            <p:nvPr/>
          </p:nvSpPr>
          <p:spPr>
            <a:xfrm>
              <a:off x="3738960" y="1320840"/>
              <a:ext cx="1279800" cy="27396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8"/>
            <p:cNvSpPr/>
            <p:nvPr/>
          </p:nvSpPr>
          <p:spPr>
            <a:xfrm>
              <a:off x="4161960" y="1594800"/>
              <a:ext cx="719640" cy="2133720"/>
            </a:xfrm>
            <a:prstGeom prst="line">
              <a:avLst/>
            </a:prstGeom>
            <a:ln w="127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2214720" y="1320840"/>
              <a:ext cx="1279800" cy="273960"/>
            </a:xfrm>
            <a:prstGeom prst="rect">
              <a:avLst/>
            </a:prstGeom>
            <a:solidFill>
              <a:schemeClr val="bg2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1"/>
            <p:cNvSpPr/>
            <p:nvPr/>
          </p:nvSpPr>
          <p:spPr>
            <a:xfrm>
              <a:off x="2748240" y="1583640"/>
              <a:ext cx="761760" cy="1238040"/>
            </a:xfrm>
            <a:prstGeom prst="line">
              <a:avLst/>
            </a:prstGeom>
            <a:ln w="127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Straight Arrow Connector 23"/>
            <p:cNvCxnSpPr/>
            <p:nvPr/>
          </p:nvCxnSpPr>
          <p:spPr>
            <a:xfrm flipV="1">
              <a:off x="3738600" y="4897080"/>
              <a:ext cx="228960" cy="442080"/>
            </a:xfrm>
            <a:prstGeom prst="straightConnector1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</p:grpSp>
      <p:pic>
        <p:nvPicPr>
          <p:cNvPr id="5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629400" y="64008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5600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30320" y="45000"/>
            <a:ext cx="7086240" cy="9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Black Belts and Green Be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7360"/>
            <a:ext cx="617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lack Bel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aster Black Bel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acher and mentor for Black B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een Bel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9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8064F84-9BD4-4E4B-B140-3B8CFEFF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9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4572000" y="1295280"/>
            <a:ext cx="685440" cy="1676160"/>
          </a:xfrm>
          <a:prstGeom prst="rect">
            <a:avLst/>
          </a:prstGeom>
          <a:noFill/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5562720" y="3200400"/>
            <a:ext cx="2971440" cy="1523520"/>
          </a:xfrm>
          <a:prstGeom prst="rect">
            <a:avLst/>
          </a:prstGeom>
          <a:noFill/>
          <a:ln w="12700">
            <a:noFill/>
          </a:ln>
          <a:effectLst>
            <a:outerShdw algn="ctr" dir="2700000" dist="53966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10280" y="57150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0480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208800"/>
            <a:ext cx="7162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anufactured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4344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erformance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operating characteristics of a product; how well a car handles or its gas mile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eatures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” items added to basic features, such as a stereo CD or a leather interior in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that a product will operate properly within an expected time frame; that is, a TV will work without repair for about seve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7228720-4E53-4B5C-9FAA-4C688A6B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39152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896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ix Sigma Tools (1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88720"/>
            <a:ext cx="8229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Function Deployment (QFD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the “voice of the custom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ause &amp; Effect Matrix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rioritize causes of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ailure Modes and Affects Analysis (FMEA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potential problems before they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9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9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E45C046-35C9-4CFE-A2EE-A4509618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934320" y="57913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74752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Six Sigma Tools (4-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5800" y="1208160"/>
            <a:ext cx="82292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-Tes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differences betwee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atistical Process Control (SPC) Char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 process over time for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sign of Experiments (DOE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relationships between factors affecting inputs and outputs of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9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9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347A20B-E651-433C-925B-1FCED6BF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934320" y="6172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43008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1200" y="10764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esign for Six Sigma (DF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79160" y="1197360"/>
            <a:ext cx="7957800" cy="42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 systematic approach to designing products and processes that will achieve Six Sigm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es same basic approach as breakthrough strateg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Employs the strategy up front in the design and development phas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 more effective and less expensive way to achieve Six Sigm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96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9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5530A4E-4E8F-478D-9040-24BE061C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162920" y="6172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5017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160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Lean 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grate Six Sigma and “lean systems” (Ch 16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ean seeks to optimize process flow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ean extends earlier efforts in efficienc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ean process improvement step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at creates value fo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“value stre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waste in the valu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rocess responsive to custom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lly repeat attempts to remove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9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9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78A8D57-1266-4F38-A64C-C3F515B3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05720" y="5943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86016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Lean 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 Sigma and Lean seek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value to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y approach the goals in different, complementary way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100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10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C1D685B-E012-4E7B-B785-CEF42024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86600" y="54864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9696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rofi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534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typical criterion for selecting Six Sigma projec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One of the factors distinguishing Six Sigma from TQ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is not only free, it is an honest-to-everything profit maker”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improvements reduce costs of poor qua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0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0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DEC0C02-53E2-4DF3-9D2E-BEE6B4F6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05720" y="56386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45056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st Impact of 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736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edtek Company implements Six Sigma to reduce defects from 10% to 0 %. Then spend $120,000 for more change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ix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Chang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gma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000,000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0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0,0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40,054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xed co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0,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0,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360,000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9,9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946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.3% return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120,000 = 100*(49,946-10,000)/120,000 = 33.3%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ftr" idx="10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sldNum" idx="10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07C9A08-7FD5-4F72-A86D-DE7E648F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6748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8192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26840" y="11880"/>
            <a:ext cx="586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st of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284480"/>
            <a:ext cx="807696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st of Achieving Good Qua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urred during produc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ais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of measuring, testing, and analy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st of Poor Qua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failu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scrap, rework, process failure, downtime, and pric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ilu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complaints, returns, warranty claims, liability, and los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106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10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8AFB7ED-A403-49E3-8CE6-76343638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86600" y="5943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06496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1280" y="152640"/>
            <a:ext cx="84578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Prevention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78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Quality planning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of developing and implementing quality manage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-design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of designing products with quality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expended to make sure productive process conforms to quality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8320" y="12978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raining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of developing and putting on quality training programs for employee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formation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of acquiring and maintaining data related to quality, and development and  analysis of reports on qualit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10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10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9F729F6-F9CD-4853-AA01-602004A9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77120" y="57150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96256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1280" y="11592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Apprais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48920" y="1295280"/>
            <a:ext cx="838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spection and testing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of testing and inspecting materials, parts, and  product at various stages and at end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est equipment cos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of maintaining equipment used in testing  quality characteristics of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Operator cos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of time spent by operators to gather data for testing product quality, to make equipment adjustments to maintain quality, and to stop work to assess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ftr" idx="110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1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C5BFC00-69C8-48C2-BBC9-8E7AE6E7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67480" y="5943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90112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1200" y="314280"/>
            <a:ext cx="84578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anufactured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7120" y="1539360"/>
            <a:ext cx="800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5960" indent="-34596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nformance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to which a product meets pre–establish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product lasts before replacement; with care, L. L. Bean boots may last a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rviceabi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getting repairs, speed of repairs, courtesy and competence of repair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6169C58-3648-458B-A1E0-77E27791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39152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5776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31200" y="12636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nternal Failur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9080" y="1317240"/>
            <a:ext cx="4371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crap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06680" indent="-27180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poor-quality products that must be discarded, including labor, material, and indirect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work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06680" indent="-27180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fixing defective products to conform to quality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 failure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06680" indent="-27180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determining why  production process is producing poor-quality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12680" y="131724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0800" indent="-37080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 downtime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803160" indent="-30888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shutting down  productive process to fix 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ice-downgrading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803160" indent="-30888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discounting poor-quality products—that is, selling products as “second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11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1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D162892-CC09-477C-8FEA-8A12636F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553080" y="51814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00352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External Failur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5200" y="1324440"/>
            <a:ext cx="4876560" cy="48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0800" indent="-37080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ustomer complaint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803160" indent="-3088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investigating and satisfactorily responding to a customer complaint resulting from a poor-quality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return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803160" indent="-3088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handling and replacing poor-quality products returned by custo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arranty claims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803160" indent="-3088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of complying with product warran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18480" y="1324440"/>
            <a:ext cx="38145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liability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14600" indent="-27468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igation costs resulting from product liability and customer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11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ost sales cost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14600" indent="-274680">
              <a:lnSpc>
                <a:spcPct val="11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s incurred because customers are dissatisfied with poor-quality products and do not make additional purc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11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1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6F793D0-6EF9-4D82-9ABF-7672D59F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56386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96256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4720" y="4644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easuring and Reporting Quality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34160"/>
            <a:ext cx="822924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s that measure quality costs against a bas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quality cost to labor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quality cost to manufactu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quality cost to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quality cost to units of fin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116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1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A439798-345C-4E73-A968-726E51A6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56386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82944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2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st of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ftr" idx="11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1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C2741F3-F03A-42D6-801D-F085BA0A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13042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ality Cos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,5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4,6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,3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ais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5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2,5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3,4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7,0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fail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6,4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9,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7,8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9,1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ternal failu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42,0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96,0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3,5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6,0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0,4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29,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9,3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4,4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ounting Meas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36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45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05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190,0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76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81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88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890,000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56386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8192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st of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91280" y="1256400"/>
            <a:ext cx="807696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Quality index = total quality costs/base * 100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006 quality cost per sale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810,400 * 100 / 4,360,000 = 18.58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ftr" idx="120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1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20569B6-C5DC-4F64-91CE-ECEFF65D2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Content Placeholder 2"/>
          <p:cNvSpPr/>
          <p:nvPr/>
        </p:nvSpPr>
        <p:spPr>
          <a:xfrm>
            <a:off x="838080" y="2895480"/>
            <a:ext cx="7543440" cy="281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ea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les Inde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15000" y="62485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192" fill="hold"/>
                                        <p:tgtEl>
                                          <p:spTgt spid="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41280" y="11520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–Cost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5480" y="1219320"/>
            <a:ext cx="80006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st of qual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price of nonconformance and con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oing thing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5% of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oing thing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o 4% of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122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1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9EAF3B5-151C-47EE-8DC3-71B097A3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54100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43008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Effect of Quality Management 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on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6400" y="1522440"/>
            <a:ext cx="75718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ductivity = output / inpu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ality impact on productivit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defects increase output, and quality improvement reduce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Yiel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12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3DF3511-3DAA-43F0-8E76-998713A3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162920" y="56386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4272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2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easuring Product Yield 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and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ldNum" idx="1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43D288F-DF16-4424-BA46-CEE1E28B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609480" y="1600200"/>
            <a:ext cx="8199360" cy="380520"/>
          </a:xfrm>
          <a:prstGeom prst="rect">
            <a:avLst/>
          </a:prstGeom>
          <a:solidFill>
            <a:srgbClr val="ffcc99"/>
          </a:solidFill>
          <a:ln w="12700">
            <a:solidFill>
              <a:srgbClr val="000000"/>
            </a:solidFill>
            <a:miter/>
          </a:ln>
          <a:effectLst>
            <a:outerShdw algn="ctr" rotWithShape="0" sx="1000" sy="100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=(total input)(% good units) + (total input)(1-%good units)(% rework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504520" y="2286000"/>
            <a:ext cx="4114440" cy="114264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  <a:effectLst>
            <a:outerShdw algn="ctr" rotWithShape="0" sx="1000" sy="100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=(I)(%G)+(I)(1-%G)(%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604440" y="3694320"/>
            <a:ext cx="7924320" cy="236196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  <a:effectLst>
            <a:outerShdw algn="ctr" rotWithShape="0" sx="1000" sy="100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initial quantity started in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G = percentage of good units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R = percentage of defective units that are successfully re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126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0" y="661356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32768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mputing Product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5400" y="1209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otor manufacture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arts a batch of 100 motors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80 % are good when produce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0 % of the defective motors can be reworke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131DA5D-DB32-42C3-AC5A-1A4DB053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1219320" y="3429000"/>
            <a:ext cx="615564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34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(I)(%G)+(I)(1-%G)(%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34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100(.80) + 100(1-.80)(.50) =  90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347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34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e quality to 90%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34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100(.90) + 100(1-.90)(.50) =  95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128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86600" y="58672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2288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2040" y="151920"/>
            <a:ext cx="8686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mputing Product Cost per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12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1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A9E1746-B488-467B-8B0C-9E5C7F57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10"/>
          <p:cNvGrpSpPr/>
          <p:nvPr/>
        </p:nvGrpSpPr>
        <p:grpSpPr>
          <a:xfrm>
            <a:off x="1383120" y="1219320"/>
            <a:ext cx="6400440" cy="3809520"/>
            <a:chOff x="1383120" y="1219320"/>
            <a:chExt cx="6400440" cy="3809520"/>
          </a:xfrm>
        </p:grpSpPr>
        <p:sp>
          <p:nvSpPr>
            <p:cNvPr id="667" name="Rectangle 17"/>
            <p:cNvSpPr/>
            <p:nvPr/>
          </p:nvSpPr>
          <p:spPr>
            <a:xfrm>
              <a:off x="2373480" y="2819520"/>
              <a:ext cx="1904760" cy="685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algn="ctr" dir="2700000" dist="53966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0"/>
            <p:cNvSpPr/>
            <p:nvPr/>
          </p:nvSpPr>
          <p:spPr>
            <a:xfrm>
              <a:off x="1383120" y="1219320"/>
              <a:ext cx="6400440" cy="3809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algn="ctr" rotWithShape="0" sx="1000" sy="100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1" lang="en-US" sz="2400" spc="-1" strike="noStrike">
                <a:solidFill>
                  <a:srgbClr val="00001a"/>
                </a:solidFill>
                <a:latin typeface="Arial"/>
              </a:endParaRPr>
            </a:p>
          </p:txBody>
        </p:sp>
        <p:graphicFrame>
          <p:nvGraphicFramePr>
            <p:cNvPr id="669" name="Object 4"/>
            <p:cNvGraphicFramePr/>
            <p:nvPr/>
          </p:nvGraphicFramePr>
          <p:xfrm>
            <a:off x="4121280" y="1473120"/>
            <a:ext cx="2811240" cy="1060200"/>
          </p:xfrm>
          <a:graphic>
            <a:graphicData uri="http://schemas.openxmlformats.org/presentationml/2006/ole">
              <p:oleObj progId="Equation.3" r:id="rId1" spid="">
                <p:embed/>
                <p:pic>
                  <p:nvPicPr>
                    <p:cNvPr id="67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1280" y="1473120"/>
                      <a:ext cx="2811240" cy="106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1" name="Text Box 18"/>
            <p:cNvSpPr/>
            <p:nvPr/>
          </p:nvSpPr>
          <p:spPr>
            <a:xfrm>
              <a:off x="1914480" y="1752480"/>
              <a:ext cx="1942920" cy="455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ct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1989360" y="2565360"/>
              <a:ext cx="5641920" cy="23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he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direct manufacturing cost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inp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rework cost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reworked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yiel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477120" y="59436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54272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720" y="38988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anufactured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2320" y="1554120"/>
            <a:ext cx="81529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esthetic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 product looks, feels, sounds, smells, or t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fety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customer will not suffer injury or harm from a product; an especially important consideration for automob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erception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perceptions based on brand name, adverti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BC46070-54A6-4DC9-B333-85F2D5CF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8168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8368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744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st per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89480" y="1203840"/>
            <a:ext cx="769572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rect cost = $3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work cost = $12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80% good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0% can be reworke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13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13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B9DF6BF-F13D-4E7A-9D60-09FBA196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8" name="Object 4"/>
          <p:cNvGraphicFramePr/>
          <p:nvPr/>
        </p:nvGraphicFramePr>
        <p:xfrm>
          <a:off x="685800" y="2673360"/>
          <a:ext cx="2314080" cy="9838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6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73360"/>
                    <a:ext cx="2314080" cy="98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Group 24"/>
          <p:cNvGrpSpPr/>
          <p:nvPr/>
        </p:nvGrpSpPr>
        <p:grpSpPr>
          <a:xfrm>
            <a:off x="2958840" y="2797200"/>
            <a:ext cx="5430240" cy="821160"/>
            <a:chOff x="2958840" y="2797200"/>
            <a:chExt cx="5430240" cy="821160"/>
          </a:xfrm>
        </p:grpSpPr>
        <p:sp>
          <p:nvSpPr>
            <p:cNvPr id="681" name="Text Box 18"/>
            <p:cNvSpPr/>
            <p:nvPr/>
          </p:nvSpPr>
          <p:spPr>
            <a:xfrm>
              <a:off x="2958840" y="2949840"/>
              <a:ext cx="359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22"/>
            <p:cNvGrpSpPr/>
            <p:nvPr/>
          </p:nvGrpSpPr>
          <p:grpSpPr>
            <a:xfrm>
              <a:off x="3413880" y="2797200"/>
              <a:ext cx="2661120" cy="821160"/>
              <a:chOff x="3413880" y="2797200"/>
              <a:chExt cx="2661120" cy="821160"/>
            </a:xfrm>
          </p:grpSpPr>
          <p:sp>
            <p:nvSpPr>
              <p:cNvPr id="683" name="Text Box 18"/>
              <p:cNvSpPr/>
              <p:nvPr/>
            </p:nvSpPr>
            <p:spPr>
              <a:xfrm>
                <a:off x="3413880" y="2797200"/>
                <a:ext cx="266112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30*100 + $12*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0 moto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4" name="Straight Connector 15"/>
              <p:cNvCxnSpPr/>
              <p:nvPr/>
            </p:nvCxnSpPr>
            <p:spPr>
              <a:xfrm>
                <a:off x="3453840" y="3193200"/>
                <a:ext cx="2590920" cy="360"/>
              </a:xfrm>
              <a:prstGeom prst="straightConnector1">
                <a:avLst/>
              </a:prstGeom>
              <a:ln w="28575">
                <a:solidFill>
                  <a:srgbClr val="000000"/>
                </a:solidFill>
                <a:round/>
              </a:ln>
            </p:spPr>
          </p:cxnSp>
        </p:grpSp>
        <p:sp>
          <p:nvSpPr>
            <p:cNvPr id="685" name="Text Box 18"/>
            <p:cNvSpPr/>
            <p:nvPr/>
          </p:nvSpPr>
          <p:spPr>
            <a:xfrm>
              <a:off x="6130080" y="2944800"/>
              <a:ext cx="359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0"/>
            <p:cNvSpPr/>
            <p:nvPr/>
          </p:nvSpPr>
          <p:spPr>
            <a:xfrm>
              <a:off x="6411240" y="2954520"/>
              <a:ext cx="1977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34.67/mo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Rectangle 25"/>
          <p:cNvSpPr/>
          <p:nvPr/>
        </p:nvSpPr>
        <p:spPr>
          <a:xfrm>
            <a:off x="937800" y="3962520"/>
            <a:ext cx="477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34776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Increase quality to 90%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27"/>
          <p:cNvGrpSpPr/>
          <p:nvPr/>
        </p:nvGrpSpPr>
        <p:grpSpPr>
          <a:xfrm>
            <a:off x="2973960" y="4579200"/>
            <a:ext cx="5430240" cy="821160"/>
            <a:chOff x="2973960" y="4579200"/>
            <a:chExt cx="5430240" cy="821160"/>
          </a:xfrm>
        </p:grpSpPr>
        <p:sp>
          <p:nvSpPr>
            <p:cNvPr id="689" name="Text Box 18"/>
            <p:cNvSpPr/>
            <p:nvPr/>
          </p:nvSpPr>
          <p:spPr>
            <a:xfrm>
              <a:off x="2973960" y="4731480"/>
              <a:ext cx="359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29"/>
            <p:cNvGrpSpPr/>
            <p:nvPr/>
          </p:nvGrpSpPr>
          <p:grpSpPr>
            <a:xfrm>
              <a:off x="3429000" y="4579200"/>
              <a:ext cx="2661120" cy="821160"/>
              <a:chOff x="3429000" y="4579200"/>
              <a:chExt cx="2661120" cy="821160"/>
            </a:xfrm>
          </p:grpSpPr>
          <p:sp>
            <p:nvSpPr>
              <p:cNvPr id="691" name="Text Box 18"/>
              <p:cNvSpPr/>
              <p:nvPr/>
            </p:nvSpPr>
            <p:spPr>
              <a:xfrm>
                <a:off x="3429000" y="4579200"/>
                <a:ext cx="266112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30*100 + $12*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5 moto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92" name="Straight Connector 33"/>
              <p:cNvCxnSpPr/>
              <p:nvPr/>
            </p:nvCxnSpPr>
            <p:spPr>
              <a:xfrm>
                <a:off x="3468960" y="4975200"/>
                <a:ext cx="2591280" cy="360"/>
              </a:xfrm>
              <a:prstGeom prst="straightConnector1">
                <a:avLst/>
              </a:prstGeom>
              <a:ln w="28575">
                <a:solidFill>
                  <a:srgbClr val="000000"/>
                </a:solidFill>
                <a:round/>
              </a:ln>
            </p:spPr>
          </p:cxnSp>
        </p:grpSp>
        <p:sp>
          <p:nvSpPr>
            <p:cNvPr id="693" name="Text Box 18"/>
            <p:cNvSpPr/>
            <p:nvPr/>
          </p:nvSpPr>
          <p:spPr>
            <a:xfrm>
              <a:off x="6145200" y="4726800"/>
              <a:ext cx="359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31"/>
            <p:cNvSpPr/>
            <p:nvPr/>
          </p:nvSpPr>
          <p:spPr>
            <a:xfrm>
              <a:off x="6426360" y="4736520"/>
              <a:ext cx="1977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32.21/mo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629400" y="57913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73728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800" y="96120"/>
            <a:ext cx="899136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Computing Product Yield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for Multistage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ftr" idx="133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Num" idx="13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2FBDDD9-51E5-4B7F-9311-515102D8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"/>
          <p:cNvSpPr/>
          <p:nvPr/>
        </p:nvSpPr>
        <p:spPr>
          <a:xfrm>
            <a:off x="1182600" y="1676520"/>
            <a:ext cx="6781320" cy="2925720"/>
          </a:xfrm>
          <a:prstGeom prst="rect">
            <a:avLst/>
          </a:prstGeom>
          <a:solidFill>
            <a:srgbClr val="ffcc99"/>
          </a:solidFill>
          <a:ln w="12700">
            <a:noFill/>
          </a:ln>
          <a:effectLst>
            <a:outerShdw algn="ctr" rotWithShape="0" sx="1000" sy="100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9"/>
          <p:cNvSpPr/>
          <p:nvPr/>
        </p:nvSpPr>
        <p:spPr>
          <a:xfrm>
            <a:off x="2021040" y="1981080"/>
            <a:ext cx="5187600" cy="575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… 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1487520" y="2895480"/>
            <a:ext cx="6324120" cy="1351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nput of items to the production process that will result in finish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good-quality, work-in-process products at st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81680" y="55627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55296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23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Multistage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387880" y="1143000"/>
            <a:ext cx="4343040" cy="2742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rmAutofit fontScale="96000"/>
          </a:bodyPr>
          <a:p>
            <a:pPr marL="7131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verage Percentage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Stage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Good Quality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0.93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0.95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0.97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0.92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13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13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246DD50-F6E3-447D-8717-805B864A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9"/>
          <p:cNvSpPr/>
          <p:nvPr/>
        </p:nvSpPr>
        <p:spPr>
          <a:xfrm>
            <a:off x="2567160" y="4952880"/>
            <a:ext cx="64508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 * .93 * .95 * .97 * .92 = 78.8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2662920" y="4191120"/>
            <a:ext cx="372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… (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58672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44032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2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nitial Batch Size For 100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20880" y="1371600"/>
            <a:ext cx="1523520" cy="83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3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3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99657D2-1E5E-4DE4-AD27-9626511E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9"/>
          <p:cNvSpPr/>
          <p:nvPr/>
        </p:nvSpPr>
        <p:spPr>
          <a:xfrm>
            <a:off x="838080" y="1180440"/>
            <a:ext cx="5187600" cy="1001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… (%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Straight Connector 7"/>
          <p:cNvCxnSpPr/>
          <p:nvPr/>
        </p:nvCxnSpPr>
        <p:spPr>
          <a:xfrm>
            <a:off x="1752480" y="1676160"/>
            <a:ext cx="365796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grpSp>
        <p:nvGrpSpPr>
          <p:cNvPr id="716" name="Group 12"/>
          <p:cNvGrpSpPr/>
          <p:nvPr/>
        </p:nvGrpSpPr>
        <p:grpSpPr>
          <a:xfrm>
            <a:off x="1371600" y="2819520"/>
            <a:ext cx="4723920" cy="942840"/>
            <a:chOff x="1371600" y="2819520"/>
            <a:chExt cx="4723920" cy="942840"/>
          </a:xfrm>
        </p:grpSpPr>
        <p:sp>
          <p:nvSpPr>
            <p:cNvPr id="717" name="Rectangle 19"/>
            <p:cNvSpPr/>
            <p:nvPr/>
          </p:nvSpPr>
          <p:spPr>
            <a:xfrm>
              <a:off x="1371600" y="2819520"/>
              <a:ext cx="4723920" cy="9428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 * .93 * .95 * .97 * .9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8" name="Straight Connector 9"/>
            <p:cNvCxnSpPr/>
            <p:nvPr/>
          </p:nvCxnSpPr>
          <p:spPr>
            <a:xfrm>
              <a:off x="1752480" y="3276360"/>
              <a:ext cx="403884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</p:grpSp>
      <p:sp>
        <p:nvSpPr>
          <p:cNvPr id="719" name="Content Placeholder 2"/>
          <p:cNvSpPr/>
          <p:nvPr/>
        </p:nvSpPr>
        <p:spPr>
          <a:xfrm>
            <a:off x="1149480" y="3017880"/>
            <a:ext cx="6091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5943600" y="3017880"/>
            <a:ext cx="3123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126.88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14800" y="53341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8672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41280" y="11232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–Productivity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02440" y="1209600"/>
            <a:ext cx="8000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P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index that includes productivity and qualit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13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14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F2998DA-3E5B-44C2-BF1E-A7520669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281520" y="3505320"/>
            <a:ext cx="118548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2796120" y="3276720"/>
            <a:ext cx="387324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ood-quality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815040" y="3733920"/>
            <a:ext cx="798300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put) (processing cost) + (reworked units) (rework c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3"/>
          <p:cNvSpPr/>
          <p:nvPr/>
        </p:nvSpPr>
        <p:spPr>
          <a:xfrm>
            <a:off x="1456920" y="3733560"/>
            <a:ext cx="649980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7924680" y="3505320"/>
            <a:ext cx="837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445680" y="3048120"/>
            <a:ext cx="8305560" cy="144756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3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876920" y="57150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44032" fill="hold"/>
                                        <p:tgtEl>
                                          <p:spTgt spid="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8784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Productivity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ftr" idx="14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14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B89BADD-3D4B-4338-ABC6-ADE58082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71840" y="1256400"/>
            <a:ext cx="7543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st = $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ork cost = $12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can be reworked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batch size = 100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737" name="Group 30"/>
          <p:cNvGrpSpPr/>
          <p:nvPr/>
        </p:nvGrpSpPr>
        <p:grpSpPr>
          <a:xfrm>
            <a:off x="1009080" y="2876400"/>
            <a:ext cx="7753680" cy="2990520"/>
            <a:chOff x="1009080" y="2876400"/>
            <a:chExt cx="7753680" cy="2990520"/>
          </a:xfrm>
        </p:grpSpPr>
        <p:grpSp>
          <p:nvGrpSpPr>
            <p:cNvPr id="738" name="Group 25"/>
            <p:cNvGrpSpPr/>
            <p:nvPr/>
          </p:nvGrpSpPr>
          <p:grpSpPr>
            <a:xfrm>
              <a:off x="1009080" y="3200400"/>
              <a:ext cx="5128200" cy="912240"/>
              <a:chOff x="1009080" y="3200400"/>
              <a:chExt cx="5128200" cy="912240"/>
            </a:xfrm>
          </p:grpSpPr>
          <p:sp>
            <p:nvSpPr>
              <p:cNvPr id="739" name="Text Box 9"/>
              <p:cNvSpPr/>
              <p:nvPr/>
            </p:nvSpPr>
            <p:spPr>
              <a:xfrm>
                <a:off x="1009080" y="3429000"/>
                <a:ext cx="118548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QPR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0"/>
              <p:cNvSpPr/>
              <p:nvPr/>
            </p:nvSpPr>
            <p:spPr>
              <a:xfrm>
                <a:off x="2251440" y="3200400"/>
                <a:ext cx="223272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0 + 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1"/>
              <p:cNvSpPr/>
              <p:nvPr/>
            </p:nvSpPr>
            <p:spPr>
              <a:xfrm>
                <a:off x="1905120" y="3718080"/>
                <a:ext cx="274284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0 * $30 + 10 * $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>
                <a:off x="2151720" y="3657600"/>
                <a:ext cx="223308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5"/>
              <p:cNvSpPr/>
              <p:nvPr/>
            </p:nvSpPr>
            <p:spPr>
              <a:xfrm>
                <a:off x="4461120" y="3429000"/>
                <a:ext cx="167616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100) = 2.8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27"/>
            <p:cNvGrpSpPr/>
            <p:nvPr/>
          </p:nvGrpSpPr>
          <p:grpSpPr>
            <a:xfrm>
              <a:off x="1009080" y="4952880"/>
              <a:ext cx="7753680" cy="912240"/>
              <a:chOff x="1009080" y="4952880"/>
              <a:chExt cx="7753680" cy="912240"/>
            </a:xfrm>
          </p:grpSpPr>
          <p:sp>
            <p:nvSpPr>
              <p:cNvPr id="745" name="Text Box 9"/>
              <p:cNvSpPr/>
              <p:nvPr/>
            </p:nvSpPr>
            <p:spPr>
              <a:xfrm>
                <a:off x="1009080" y="5181480"/>
                <a:ext cx="118548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QPR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0"/>
              <p:cNvSpPr/>
              <p:nvPr/>
            </p:nvSpPr>
            <p:spPr>
              <a:xfrm>
                <a:off x="2251440" y="4952880"/>
                <a:ext cx="223272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0 + 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11"/>
              <p:cNvSpPr/>
              <p:nvPr/>
            </p:nvSpPr>
            <p:spPr>
              <a:xfrm>
                <a:off x="1905120" y="5470560"/>
                <a:ext cx="274284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00 * $30 + 20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* $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13"/>
              <p:cNvSpPr/>
              <p:nvPr/>
            </p:nvSpPr>
            <p:spPr>
              <a:xfrm>
                <a:off x="2151720" y="5410080"/>
                <a:ext cx="223308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Text Box 15"/>
              <p:cNvSpPr/>
              <p:nvPr/>
            </p:nvSpPr>
            <p:spPr>
              <a:xfrm>
                <a:off x="4461120" y="5181480"/>
                <a:ext cx="430164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100) = 2.89 – NO CHAN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Text Box 9"/>
            <p:cNvSpPr/>
            <p:nvPr/>
          </p:nvSpPr>
          <p:spPr>
            <a:xfrm>
              <a:off x="1009080" y="2876400"/>
              <a:ext cx="1980720" cy="3945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 C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9"/>
            <p:cNvSpPr/>
            <p:nvPr/>
          </p:nvSpPr>
          <p:spPr>
            <a:xfrm>
              <a:off x="1009080" y="4552920"/>
              <a:ext cx="3367800" cy="3945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e 1: Increase I to 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8"/>
            <p:cNvSpPr/>
            <p:nvPr/>
          </p:nvSpPr>
          <p:spPr>
            <a:xfrm>
              <a:off x="1043640" y="2883960"/>
              <a:ext cx="4952520" cy="12949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3" name="Rectangle 29"/>
            <p:cNvSpPr/>
            <p:nvPr/>
          </p:nvSpPr>
          <p:spPr>
            <a:xfrm>
              <a:off x="1043640" y="4572000"/>
              <a:ext cx="6857640" cy="12949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7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01992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5360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8784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Quality Productivity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ldNum" idx="14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0BE7299-59A8-45DF-8D15-389DFE16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144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50"/>
          <p:cNvGrpSpPr/>
          <p:nvPr/>
        </p:nvGrpSpPr>
        <p:grpSpPr>
          <a:xfrm>
            <a:off x="752400" y="1305000"/>
            <a:ext cx="6827400" cy="4419360"/>
            <a:chOff x="752400" y="1305000"/>
            <a:chExt cx="6827400" cy="4419360"/>
          </a:xfrm>
        </p:grpSpPr>
        <p:grpSp>
          <p:nvGrpSpPr>
            <p:cNvPr id="759" name="Group 49"/>
            <p:cNvGrpSpPr/>
            <p:nvPr/>
          </p:nvGrpSpPr>
          <p:grpSpPr>
            <a:xfrm>
              <a:off x="762120" y="1305000"/>
              <a:ext cx="6817680" cy="1390320"/>
              <a:chOff x="762120" y="1305000"/>
              <a:chExt cx="6817680" cy="1390320"/>
            </a:xfrm>
          </p:grpSpPr>
          <p:sp>
            <p:nvSpPr>
              <p:cNvPr id="760" name="Text Box 9"/>
              <p:cNvSpPr/>
              <p:nvPr/>
            </p:nvSpPr>
            <p:spPr>
              <a:xfrm>
                <a:off x="798480" y="1305000"/>
                <a:ext cx="678132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se 2: Reduce direct cost to $26 and rework cost to $10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Group 45"/>
              <p:cNvGrpSpPr/>
              <p:nvPr/>
            </p:nvGrpSpPr>
            <p:grpSpPr>
              <a:xfrm>
                <a:off x="762120" y="1324080"/>
                <a:ext cx="6629040" cy="1371240"/>
                <a:chOff x="762120" y="1324080"/>
                <a:chExt cx="6629040" cy="1371240"/>
              </a:xfrm>
            </p:grpSpPr>
            <p:grpSp>
              <p:nvGrpSpPr>
                <p:cNvPr id="762" name="Group 25"/>
                <p:cNvGrpSpPr/>
                <p:nvPr/>
              </p:nvGrpSpPr>
              <p:grpSpPr>
                <a:xfrm>
                  <a:off x="798480" y="1781280"/>
                  <a:ext cx="5128560" cy="912240"/>
                  <a:chOff x="798480" y="1781280"/>
                  <a:chExt cx="5128560" cy="912240"/>
                </a:xfrm>
              </p:grpSpPr>
              <p:sp>
                <p:nvSpPr>
                  <p:cNvPr id="763" name="Text Box 9"/>
                  <p:cNvSpPr/>
                  <p:nvPr/>
                </p:nvSpPr>
                <p:spPr>
                  <a:xfrm>
                    <a:off x="798480" y="2009880"/>
                    <a:ext cx="1185480" cy="394560"/>
                  </a:xfrm>
                  <a:prstGeom prst="rect">
                    <a:avLst/>
                  </a:prstGeom>
                  <a:noFill/>
                  <a:ln w="1270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PR 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Text Box 10"/>
                  <p:cNvSpPr/>
                  <p:nvPr/>
                </p:nvSpPr>
                <p:spPr>
                  <a:xfrm>
                    <a:off x="2040840" y="1781280"/>
                    <a:ext cx="2232720" cy="394560"/>
                  </a:xfrm>
                  <a:prstGeom prst="rect">
                    <a:avLst/>
                  </a:prstGeom>
                  <a:noFill/>
                  <a:ln w="1270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0 + 1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Text Box 11"/>
                  <p:cNvSpPr/>
                  <p:nvPr/>
                </p:nvSpPr>
                <p:spPr>
                  <a:xfrm>
                    <a:off x="1694880" y="2298960"/>
                    <a:ext cx="2742840" cy="394560"/>
                  </a:xfrm>
                  <a:prstGeom prst="rect">
                    <a:avLst/>
                  </a:prstGeom>
                  <a:noFill/>
                  <a:ln w="1270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0 * $26 + 10 * $1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13"/>
                  <p:cNvSpPr/>
                  <p:nvPr/>
                </p:nvSpPr>
                <p:spPr>
                  <a:xfrm>
                    <a:off x="1941480" y="2238480"/>
                    <a:ext cx="2233080" cy="360"/>
                  </a:xfrm>
                  <a:prstGeom prst="line">
                    <a:avLst/>
                  </a:prstGeom>
                  <a:ln w="190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Text Box 15"/>
                  <p:cNvSpPr/>
                  <p:nvPr/>
                </p:nvSpPr>
                <p:spPr>
                  <a:xfrm>
                    <a:off x="4250880" y="2009880"/>
                    <a:ext cx="1676160" cy="394560"/>
                  </a:xfrm>
                  <a:prstGeom prst="rect">
                    <a:avLst/>
                  </a:prstGeom>
                  <a:noFill/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(100) = 3.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8" name="Rectangle 41"/>
                <p:cNvSpPr/>
                <p:nvPr/>
              </p:nvSpPr>
              <p:spPr>
                <a:xfrm>
                  <a:off x="762120" y="1324080"/>
                  <a:ext cx="6629040" cy="1371240"/>
                </a:xfrm>
                <a:prstGeom prst="rect">
                  <a:avLst/>
                </a:prstGeom>
                <a:noFill/>
                <a:ln>
                  <a:solidFill>
                    <a:srgbClr val="0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79"/>
                    </a:spcBef>
                  </a:pPr>
                  <a:endParaRPr b="0" lang="en-US" sz="2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69" name="Group 47"/>
            <p:cNvGrpSpPr/>
            <p:nvPr/>
          </p:nvGrpSpPr>
          <p:grpSpPr>
            <a:xfrm>
              <a:off x="752400" y="2829240"/>
              <a:ext cx="6629040" cy="1371240"/>
              <a:chOff x="752400" y="2829240"/>
              <a:chExt cx="6629040" cy="1371240"/>
            </a:xfrm>
          </p:grpSpPr>
          <p:grpSp>
            <p:nvGrpSpPr>
              <p:cNvPr id="770" name="Group 25"/>
              <p:cNvGrpSpPr/>
              <p:nvPr/>
            </p:nvGrpSpPr>
            <p:grpSpPr>
              <a:xfrm>
                <a:off x="788760" y="3286440"/>
                <a:ext cx="5128560" cy="911880"/>
                <a:chOff x="788760" y="3286440"/>
                <a:chExt cx="5128560" cy="911880"/>
              </a:xfrm>
            </p:grpSpPr>
            <p:sp>
              <p:nvSpPr>
                <p:cNvPr id="771" name="Text Box 9"/>
                <p:cNvSpPr/>
                <p:nvPr/>
              </p:nvSpPr>
              <p:spPr>
                <a:xfrm>
                  <a:off x="788760" y="3515040"/>
                  <a:ext cx="118548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PR 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0"/>
                <p:cNvSpPr/>
                <p:nvPr/>
              </p:nvSpPr>
              <p:spPr>
                <a:xfrm>
                  <a:off x="2031120" y="3286440"/>
                  <a:ext cx="223272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5 + 2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"/>
                <p:cNvSpPr/>
                <p:nvPr/>
              </p:nvSpPr>
              <p:spPr>
                <a:xfrm>
                  <a:off x="1685160" y="3803760"/>
                  <a:ext cx="274284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0 * $30 + 2.5 * $1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"/>
                <p:cNvSpPr/>
                <p:nvPr/>
              </p:nvSpPr>
              <p:spPr>
                <a:xfrm>
                  <a:off x="1931760" y="3743280"/>
                  <a:ext cx="2233080" cy="360"/>
                </a:xfrm>
                <a:prstGeom prst="line">
                  <a:avLst/>
                </a:prstGeom>
                <a:ln w="190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5"/>
                <p:cNvSpPr/>
                <p:nvPr/>
              </p:nvSpPr>
              <p:spPr>
                <a:xfrm>
                  <a:off x="4241160" y="3515040"/>
                  <a:ext cx="1676160" cy="3945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100) = 3.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Text Box 9"/>
              <p:cNvSpPr/>
              <p:nvPr/>
            </p:nvSpPr>
            <p:spPr>
              <a:xfrm>
                <a:off x="788760" y="2829240"/>
                <a:ext cx="601956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se 3: Increase %G to 95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42"/>
              <p:cNvSpPr/>
              <p:nvPr/>
            </p:nvSpPr>
            <p:spPr>
              <a:xfrm>
                <a:off x="752400" y="2829240"/>
                <a:ext cx="6629040" cy="1371240"/>
              </a:xfrm>
              <a:prstGeom prst="rect">
                <a:avLst/>
              </a:prstGeom>
              <a:noFill/>
              <a:ln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8" name="Group 46"/>
            <p:cNvGrpSpPr/>
            <p:nvPr/>
          </p:nvGrpSpPr>
          <p:grpSpPr>
            <a:xfrm>
              <a:off x="752400" y="4353120"/>
              <a:ext cx="6629040" cy="1371240"/>
              <a:chOff x="752400" y="4353120"/>
              <a:chExt cx="6629040" cy="1371240"/>
            </a:xfrm>
          </p:grpSpPr>
          <p:grpSp>
            <p:nvGrpSpPr>
              <p:cNvPr id="779" name="Group 33"/>
              <p:cNvGrpSpPr/>
              <p:nvPr/>
            </p:nvGrpSpPr>
            <p:grpSpPr>
              <a:xfrm>
                <a:off x="788760" y="4810320"/>
                <a:ext cx="5128560" cy="912240"/>
                <a:chOff x="788760" y="4810320"/>
                <a:chExt cx="5128560" cy="912240"/>
              </a:xfrm>
            </p:grpSpPr>
            <p:sp>
              <p:nvSpPr>
                <p:cNvPr id="780" name="Text Box 9"/>
                <p:cNvSpPr/>
                <p:nvPr/>
              </p:nvSpPr>
              <p:spPr>
                <a:xfrm>
                  <a:off x="788760" y="5038920"/>
                  <a:ext cx="118548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PR 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10"/>
                <p:cNvSpPr/>
                <p:nvPr/>
              </p:nvSpPr>
              <p:spPr>
                <a:xfrm>
                  <a:off x="2031120" y="4810320"/>
                  <a:ext cx="223272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5 + 2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11"/>
                <p:cNvSpPr/>
                <p:nvPr/>
              </p:nvSpPr>
              <p:spPr>
                <a:xfrm>
                  <a:off x="1685160" y="5328000"/>
                  <a:ext cx="2742840" cy="394560"/>
                </a:xfrm>
                <a:prstGeom prst="rect">
                  <a:avLst/>
                </a:prstGeom>
                <a:noFill/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0 * $26 + 2.5 * $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3"/>
                <p:cNvSpPr/>
                <p:nvPr/>
              </p:nvSpPr>
              <p:spPr>
                <a:xfrm>
                  <a:off x="1931760" y="5267520"/>
                  <a:ext cx="2233080" cy="360"/>
                </a:xfrm>
                <a:prstGeom prst="line">
                  <a:avLst/>
                </a:prstGeom>
                <a:ln w="190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15"/>
                <p:cNvSpPr/>
                <p:nvPr/>
              </p:nvSpPr>
              <p:spPr>
                <a:xfrm>
                  <a:off x="4241160" y="5038920"/>
                  <a:ext cx="1676160" cy="3945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100) = 3.7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9"/>
              <p:cNvSpPr/>
              <p:nvPr/>
            </p:nvSpPr>
            <p:spPr>
              <a:xfrm>
                <a:off x="788760" y="4353120"/>
                <a:ext cx="6019560" cy="394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se 4: Decrease costs and increase %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43"/>
              <p:cNvSpPr/>
              <p:nvPr/>
            </p:nvSpPr>
            <p:spPr>
              <a:xfrm>
                <a:off x="752400" y="4353120"/>
                <a:ext cx="6629040" cy="1371240"/>
              </a:xfrm>
              <a:prstGeom prst="rect">
                <a:avLst/>
              </a:prstGeom>
              <a:noFill/>
              <a:ln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9"/>
                  </a:spcBef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78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019920" y="58672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9216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304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SO 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195560"/>
            <a:ext cx="8457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20000"/>
              </a:lnSpc>
              <a:spcBef>
                <a:spcPts val="72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Procedures and policies for international quality certification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27240" indent="-327240">
              <a:lnSpc>
                <a:spcPct val="120000"/>
              </a:lnSpc>
              <a:spcBef>
                <a:spcPts val="72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SO 9000:2008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lvl="1" marL="709200" indent="-272520">
              <a:lnSpc>
                <a:spcPct val="120000"/>
              </a:lnSpc>
              <a:spcBef>
                <a:spcPts val="62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Quality Management Systems—Fundamentals and Vocabula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9200" indent="-272520">
              <a:lnSpc>
                <a:spcPct val="120000"/>
              </a:lnSpc>
              <a:spcBef>
                <a:spcPts val="6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s fundamental terms and definitions used in ISO 9000 famil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120000"/>
              </a:lnSpc>
              <a:spcBef>
                <a:spcPts val="720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SO 9001:2008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lvl="1" marL="709200" indent="-272520">
              <a:lnSpc>
                <a:spcPct val="120000"/>
              </a:lnSpc>
              <a:spcBef>
                <a:spcPts val="62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Quality Management Systems—Requirem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9200" indent="-272520">
              <a:lnSpc>
                <a:spcPct val="120000"/>
              </a:lnSpc>
              <a:spcBef>
                <a:spcPts val="6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to assess ability to achieve customer satisfa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ftr" idx="145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sldNum" idx="14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E601E7A-2B36-41D1-A27B-188A1FE8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31520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39936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304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SO 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170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SO 9004:2008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y Management Systems—Guidelines for 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to a company for  continual improvement of its quality-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ftr" idx="14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7B5E89D-34CB-4F3C-96C3-C1521788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019920" y="502920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30720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SO 9000 Certification,</a:t>
            </a:r>
            <a:br>
              <a:rPr sz="3600"/>
            </a:b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Implications, and Registr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O 9001:2008—only standard that carries third-party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ertification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ny overseas companies will not do business with a supplier unless it has ISO 9000 certification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O 9000 accreditation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O registrars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Num" idx="14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AF1D977-71D1-4F9F-9AB5-F520E157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4952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45056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66040" y="-720"/>
            <a:ext cx="6781320" cy="10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9200" y="1199160"/>
            <a:ext cx="723852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ime and timelin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must a customer wait for service, and is it completed on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overnight package delivered over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mpleteness: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verything customer asked for prov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mail order from a catalogue company complete when deli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7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A494938-8BA6-4D46-8748-263EE4A2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601992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5776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2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2160" y="1245600"/>
            <a:ext cx="82292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urtesy: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customers treated by employ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atalogue phone operators nice and are their voices pleas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ame level of service provided to each customer each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newspaper delivered on time every mo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D2AE25D-8299-4124-807C-76398250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0" y="58672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7344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1280" y="109080"/>
            <a:ext cx="8457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994000"/>
                </a:solidFill>
                <a:latin typeface="Arial"/>
              </a:rPr>
              <a:t>Dimensions of Quality: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cessibility and convenie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asy is it to obtain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ervice representative answer you call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rvice performed right every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bank or credit card statement correct every mo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does company react to unusual situ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is a telephone operator able to respond to a customer’s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31"/>
          </p:nvPr>
        </p:nvSpPr>
        <p:spPr>
          <a:xfrm>
            <a:off x="45720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1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3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241"/>
              </a:spcBef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98BF38F-D4F9-49D5-B32A-6F3D4CF0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934320" y="6095880"/>
            <a:ext cx="244080" cy="2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8608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Beige_green_May_2010_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ige_green_May_2010_theme</Template>
  <TotalTime>4277</TotalTime>
  <Application>LibreOffice/7.4.7.2$Linux_X86_64 LibreOffice_project/40$Build-2</Application>
  <AppVersion>15.0000</AppVersion>
  <Words>3235</Words>
  <Paragraphs>6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1:59:10Z</dcterms:created>
  <dc:creator>Lance Matheson</dc:creator>
  <dc:description/>
  <dc:language>en-US</dc:language>
  <cp:lastModifiedBy>ds0929</cp:lastModifiedBy>
  <dcterms:modified xsi:type="dcterms:W3CDTF">2013-08-12T13:18:51Z</dcterms:modified>
  <cp:revision>249</cp:revision>
  <dc:subject/>
  <dc:title>Quality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69</vt:r8>
  </property>
  <property fmtid="{D5CDD505-2E9C-101B-9397-08002B2CF9AE}" pid="3" name="Notes">
    <vt:r8>11</vt:r8>
  </property>
  <property fmtid="{D5CDD505-2E9C-101B-9397-08002B2CF9AE}" pid="4" name="PresentationFormat">
    <vt:lpwstr>On-screen Show (4:3)</vt:lpwstr>
  </property>
  <property fmtid="{D5CDD505-2E9C-101B-9397-08002B2CF9AE}" pid="5" name="Slides">
    <vt:r8>69</vt:r8>
  </property>
  <property fmtid="{D5CDD505-2E9C-101B-9397-08002B2CF9AE}" pid="6" name="_TemplateID">
    <vt:lpwstr>TC011367941033</vt:lpwstr>
  </property>
</Properties>
</file>