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407-B599-4925-9B5F-1F3ACF01B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77B4-711E-4162-9D35-AD449019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A5CC-E292-4C7D-B4D8-7EE870A1C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864-47B5-46C0-B223-A5333B12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23D-98B4-4B08-987F-5B668B33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943-59D9-4E91-9073-4465E439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68E-32C2-4E6A-8D59-E5DF5C42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7B53-8C90-4C94-A37D-2A121462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FF5-1262-420B-B176-64BC7CD7A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B187-410E-4D79-9FCE-A943C9E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7248-AB35-4D8E-BB6F-1E626902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4F8D-07FE-4105-9E48-3DC6B82B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7218-0DFD-4566-A9F9-5601AD2A8E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9:19Z</dcterms:created>
  <dc:creator>U Kyaw Naing</dc:creator>
  <dc:description/>
  <dc:language>en-US</dc:language>
  <cp:lastModifiedBy>U Kyaw Naing</cp:lastModifiedBy>
  <dcterms:modified xsi:type="dcterms:W3CDTF">2012-10-04T16:17:49Z</dcterms:modified>
  <cp:revision>2</cp:revision>
  <dc:subject/>
  <dc:title>Slide 1</dc:title>
</cp:coreProperties>
</file>