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5935-5136-4135-A208-5D8CFB8D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C24-69B7-41B8-90D1-3A1EB46E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E56-0796-4C45-805A-370D96243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19AD-8FDF-4E45-BB5E-0EF49E42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F29-8667-4AB2-9820-9104C69C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4C62-F355-4FF2-A28D-9ED9B702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963-F61F-4922-8F96-58A124BE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328-AA97-48DD-922C-55B0AE0D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71FC-D146-45D2-BF4A-335EBD19E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3441-1925-4450-B526-423F7B1C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EA5-91BA-4E27-8FFE-FE648E5D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1BE-06D5-4332-8CC8-4ECBA27C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06F7-BC1F-4AFD-A6DF-11B8F893DD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1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56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20:09Z</dcterms:created>
  <dc:creator>U Kyaw Naing</dc:creator>
  <dc:description/>
  <dc:language>en-US</dc:language>
  <cp:lastModifiedBy>U Kyaw Naing</cp:lastModifiedBy>
  <dcterms:modified xsi:type="dcterms:W3CDTF">2012-10-04T15:21:33Z</dcterms:modified>
  <cp:revision>1</cp:revision>
  <dc:subject/>
  <dc:title>Slide 1</dc:title>
</cp:coreProperties>
</file>