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DA1-93FA-46C4-83EF-2371A45C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3D4-D984-494E-8E9B-729B09956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122-5AD9-4EBF-ABCC-524EC016C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FE2-66F8-4A0E-89D5-556C6773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86D6-7D50-4E7F-844B-579F0C77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BBD-5BEF-45E9-87EE-33AE37EE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F3C-5E3A-4F88-8015-2B2BDC9A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140-BF6F-40FD-BE78-CB3799B5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6DE5-BA10-4AAB-AA67-9CA01231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03B2-4EFF-492E-8C13-10C18E7C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621-54D4-4EDE-BEDA-EE6D7651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F1F-A24B-42CD-9EEC-2C97953F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2D8F-2A2C-41DA-AB5A-5D0D098FEE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11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92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4T15:18:31Z</dcterms:created>
  <dc:creator>U Kyaw Naing</dc:creator>
  <dc:description/>
  <dc:language>en-US</dc:language>
  <cp:lastModifiedBy>U Kyaw Naing</cp:lastModifiedBy>
  <dcterms:modified xsi:type="dcterms:W3CDTF">2012-10-04T15:19:11Z</dcterms:modified>
  <cp:revision>1</cp:revision>
  <dc:subject/>
  <dc:title>Slide 1</dc:title>
</cp:coreProperties>
</file>