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E082-6F70-4643-8831-4CA42F7D8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A7F0-36B2-463C-9284-E3D554803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DBB8-8313-4C52-822C-52EB684CA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6966-8C35-43EF-8167-C096B0D9A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13BA-91F4-41D8-B721-A60EFD337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E52A-3F52-461C-8B81-0B18C7B41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8422-F647-4035-B7AC-E6C1D4942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BDC0-5DD0-4BE1-9303-591B3F595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4D08-AD3A-43C9-B803-34E235919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578E-1B88-4E60-9DB4-3B142A2F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4082-857E-471B-91A8-99D0C60BF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74E7-7FAD-4A07-94B2-DD883CC29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E03D6-C777-4C2F-8913-B75F386FA49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SUNP002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114 Part 2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1609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4T15:21:41Z</dcterms:created>
  <dc:creator>U Kyaw Naing</dc:creator>
  <dc:description/>
  <dc:language>en-US</dc:language>
  <cp:lastModifiedBy>U Kyaw Naing</cp:lastModifiedBy>
  <dcterms:modified xsi:type="dcterms:W3CDTF">2012-10-04T16:18:26Z</dcterms:modified>
  <cp:revision>2</cp:revision>
  <dc:subject/>
  <dc:title>Slide 1</dc:title>
</cp:coreProperties>
</file>