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F25-2C7B-4FCA-B1D2-D25405D3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B3E-1596-4C41-A175-CBB3362B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B70-3FC6-4371-9EC5-DF29E42C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2CE-61B8-48F5-AF29-B5B9C0C5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5AD-EF8A-48BE-AC65-906AA421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939-41BE-4C49-9C6C-89AFFD22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53F-E879-4915-9202-F0D72061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388-BACD-4F4C-9247-256CA489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904-F330-4265-9A74-EAC08E29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D1F-CC3F-4DE2-BE3E-E21041AF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7FB-2555-45C9-A610-14B9E9E1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524-F9C3-4658-8221-965D0C36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54AC-9D87-43C4-9E04-74E30CB54C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0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92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14:13Z</dcterms:created>
  <dc:creator>U Kyaw Naing</dc:creator>
  <dc:description/>
  <dc:language>en-US</dc:language>
  <cp:lastModifiedBy>U Kyaw Naing</cp:lastModifiedBy>
  <dcterms:modified xsi:type="dcterms:W3CDTF">2012-10-04T15:14:54Z</dcterms:modified>
  <cp:revision>1</cp:revision>
  <dc:subject/>
  <dc:title>Slide 1</dc:title>
</cp:coreProperties>
</file>