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50A-6E94-49D1-B489-F74A2BDB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427-827A-4448-9F18-B6BA1791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D16-3FE3-4180-AFBF-293DB214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E85-71D3-4F6F-9EA8-D34514B5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345-1BF1-4ECC-9CD3-1622956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4E3-D8ED-450B-8FBD-E777E18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1A8-4E3E-4A75-BFCA-EFF4601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2A3-9B2A-4E08-B555-226380D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E4F-A061-4D6F-B95D-24D38290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718-DE35-4903-A412-644D189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5F5-A025-4A99-A722-FB6FB2A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E11-4BA0-4E2F-8E40-4B6F396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DFD4-30FB-4193-9FF6-FB31E4211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6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5:04Z</dcterms:created>
  <dc:creator>U Kyaw Naing</dc:creator>
  <dc:description/>
  <dc:language>en-US</dc:language>
  <cp:lastModifiedBy>U Kyaw Naing</cp:lastModifiedBy>
  <dcterms:modified xsi:type="dcterms:W3CDTF">2012-10-04T15:16:41Z</dcterms:modified>
  <cp:revision>1</cp:revision>
  <dc:subject/>
  <dc:title>Slide 1</dc:title>
</cp:coreProperties>
</file>