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B6D-EEF9-4542-B102-75967048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C95-419F-417E-B1CF-35A480E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A6C-C251-44B0-BA43-3B81AF5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4D9-8CA5-4241-98B0-D2A61C46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20D-69A3-4F5F-856D-E1498F40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BDE-2C24-44FC-BE2D-487722EA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283-DD37-4188-B8C5-7D6EFB7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ED5-8B1D-4BCF-9566-5E60AED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6AD-8B42-4919-8030-23DE829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BF5-9CB1-44B8-997C-DEB70C4B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6CC-8EDF-4D28-B046-803BE1C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49E-6AB5-4E3B-A0F9-F9C7C2F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12A-DB64-40E8-BFC8-7359F93BE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89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0:30Z</dcterms:created>
  <dc:creator>U Kyaw Naing</dc:creator>
  <dc:description/>
  <dc:language>en-US</dc:language>
  <cp:lastModifiedBy>U Kyaw Naing</cp:lastModifiedBy>
  <dcterms:modified xsi:type="dcterms:W3CDTF">2012-10-04T15:13:58Z</dcterms:modified>
  <cp:revision>1</cp:revision>
  <dc:subject/>
  <dc:title>Slide 1</dc:title>
</cp:coreProperties>
</file>