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F1B-8D03-4579-BB86-75AB0401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E30B-EBD6-442D-8ECB-16186F3E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5508-A95C-4DC3-A029-C8FF967C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5085-F33E-4E12-AD70-40493F50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A1B4-5AFF-4B5C-BFD5-09E466F0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E94-7458-41E1-9FD3-A80BC675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0F2-58C0-44B1-A08E-7FEEA662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1938-929F-4DB9-AF2E-1512AD64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E1F-EF72-4FFD-B56B-F63A984B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E00-01FC-45D8-8F33-A93D1A51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9E7-17D0-4763-8977-0F4D8D1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B9B-1955-4AD0-9E76-278B1170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87D6-60B1-4CF4-9C2C-F4C8650812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2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18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6:22:52Z</dcterms:created>
  <dc:creator>U Kyaw Naing</dc:creator>
  <dc:description/>
  <dc:language>en-US</dc:language>
  <cp:lastModifiedBy>U Kyaw Naing</cp:lastModifiedBy>
  <dcterms:modified xsi:type="dcterms:W3CDTF">2012-10-04T16:24:27Z</dcterms:modified>
  <cp:revision>1</cp:revision>
  <dc:subject/>
  <dc:title>Slide 1</dc:title>
</cp:coreProperties>
</file>