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A83-64E1-45A1-A375-66E613DB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0A5-C4E8-4EFD-B827-88DECBD6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F91-AF53-42A7-882B-94E4FD8A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F05-C32E-46F6-9FFF-D756BE1B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E3EA-207B-41AC-AFAF-14632763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0F8-26E7-438E-A74E-59F3F2E9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08A6-D682-4E3E-9FDE-FE16C6F6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3F90-7962-4425-94DF-0428A6AB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F25A-194A-4868-977C-679235B2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5E3-DA84-4FF1-99B7-896AB87D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1C87-72CC-4834-8324-18BAB18E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A71-1437-4DB5-A464-ED4E4843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4EAB-39C7-4691-9889-3C672DCC1C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2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12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04:41Z</dcterms:created>
  <dc:creator>U Kyaw Naing</dc:creator>
  <dc:description/>
  <dc:language>en-US</dc:language>
  <cp:lastModifiedBy>U Kyaw Naing</cp:lastModifiedBy>
  <dcterms:modified xsi:type="dcterms:W3CDTF">2012-10-04T15:05:54Z</dcterms:modified>
  <cp:revision>1</cp:revision>
  <dc:subject/>
  <dc:title>Slide 1</dc:title>
</cp:coreProperties>
</file>