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0362-1EF1-46D4-80BE-7721CA96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576-A925-4908-96C1-521B3F1A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E98-6C8B-46F3-AD0C-231C4003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5243-A322-46E5-B671-705F3626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0D9C-ECC9-47BD-8FDE-BC5DEAA08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AC61-A20A-490C-AE99-12C93846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B6C-6B51-43FF-AAF5-40C2730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653-ABDA-468A-95D8-2BFB7F33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E0BE-5924-4076-AECC-BAFF420B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59E-AFFC-4818-8AF4-0E330FBF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FE5B-4B3D-49AC-9CA5-02C7C107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2C9-8D3F-4687-84E3-55BFBDD9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635B-E429-4CD4-B1E1-BE1B2BE38C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24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06:01Z</dcterms:created>
  <dc:creator>U Kyaw Naing</dc:creator>
  <dc:description/>
  <dc:language>en-US</dc:language>
  <cp:lastModifiedBy>U Kyaw Naing</cp:lastModifiedBy>
  <dcterms:modified xsi:type="dcterms:W3CDTF">2012-10-04T15:07:12Z</dcterms:modified>
  <cp:revision>1</cp:revision>
  <dc:subject/>
  <dc:title>Slide 1</dc:title>
</cp:coreProperties>
</file>