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97C-1FD4-4C03-AB51-91CEFC03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73F7-459A-4E41-8F67-AB718349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8B1-45F0-46FD-9432-1DBF8E2C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1D8-465E-4ABD-B46A-DB72F213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6ED7-5D2B-470F-BD40-8CC72338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411-DAA8-4D90-890A-EEE4DC6C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EB1B-3991-421F-9117-B114861A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A8F-CB99-4AE5-95D2-036F9730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5E8C-9776-4F20-8D7F-8F6D59B1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E410-886B-411C-AEDD-39FCEDBB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7706-FFA6-47AB-8671-5F608D15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4178-3549-4AAC-9689-3B2325DC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589B-AB41-46BB-B65E-A6FC13765C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0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3657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02:58Z</dcterms:created>
  <dc:creator>U Kyaw Naing</dc:creator>
  <dc:description/>
  <dc:language>en-US</dc:language>
  <cp:lastModifiedBy>U Kyaw Naing</cp:lastModifiedBy>
  <dcterms:modified xsi:type="dcterms:W3CDTF">2012-10-04T15:04:19Z</dcterms:modified>
  <cp:revision>1</cp:revision>
  <dc:subject/>
  <dc:title>Slide 1</dc:title>
</cp:coreProperties>
</file>