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B7C-7BEE-466E-8F45-2FA73772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9CA-E12E-4015-B858-7B01D512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412-3CBB-42EA-8668-C22F471E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F91-4F53-4DBA-A040-6BA7483A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A61-4BEE-44A2-BAF1-9025B445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B8F-F5B1-45FB-BDA8-F972490B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B9F-7BEF-4BE0-8683-5AA02022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3C3-BB98-44EF-9173-872511FE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48D-E8DF-45D5-B08E-E1F28A9B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20D-D4AC-47E3-BDBD-C6DB8AC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201-7CBE-426E-BA66-DD2175D2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0F7-5120-4F90-88B0-328C7994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D5E-C7A7-443C-ABB1-99E3D7E766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hapter 2: PowerPoint 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812240" y="262080"/>
            <a:ext cx="5895720" cy="946800"/>
          </a:xfrm>
          <a:prstGeom prst="rect">
            <a:avLst/>
          </a:prstGeom>
          <a:solidFill>
            <a:srgbClr val="8f00f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d7"/>
                </a:solidFill>
                <a:latin typeface="Times New Roman"/>
              </a:rPr>
              <a:t>The “Big Five” Personality F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7"/>
                </a:solidFill>
                <a:latin typeface="Times New Roman"/>
              </a:rPr>
              <a:t>(Figure 2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46240" y="1441440"/>
            <a:ext cx="8672400" cy="4938840"/>
          </a:xfrm>
          <a:prstGeom prst="rect">
            <a:avLst/>
          </a:prstGeom>
          <a:gradFill rotWithShape="0">
            <a:gsLst>
              <a:gs pos="0">
                <a:srgbClr val="ffffd7"/>
              </a:gs>
              <a:gs pos="100000">
                <a:srgbClr val="e3ffff"/>
              </a:gs>
            </a:gsLst>
            <a:lin ang="5400000"/>
          </a:gra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4"/>
          <p:cNvSpPr/>
          <p:nvPr/>
        </p:nvSpPr>
        <p:spPr>
          <a:xfrm>
            <a:off x="380880" y="1940040"/>
            <a:ext cx="8382240" cy="0"/>
          </a:xfrm>
          <a:prstGeom prst="line">
            <a:avLst/>
          </a:prstGeom>
          <a:ln w="255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5"/>
          <p:cNvSpPr/>
          <p:nvPr/>
        </p:nvSpPr>
        <p:spPr>
          <a:xfrm>
            <a:off x="380880" y="2901960"/>
            <a:ext cx="8382240" cy="0"/>
          </a:xfrm>
          <a:prstGeom prst="line">
            <a:avLst/>
          </a:prstGeom>
          <a:ln w="255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80880" y="3959280"/>
            <a:ext cx="8382240" cy="0"/>
          </a:xfrm>
          <a:prstGeom prst="line">
            <a:avLst/>
          </a:prstGeom>
          <a:ln w="255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28480" y="1442880"/>
            <a:ext cx="81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motional St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28480" y="2401920"/>
            <a:ext cx="81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greeabl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28480" y="3462480"/>
            <a:ext cx="81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xtraver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44440" y="1960560"/>
            <a:ext cx="30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Stable, confident, effec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44080" y="292104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Warm, tactful, consider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364360" y="195408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Nervous, self-doubting, mood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142680" y="291456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Independent, cold, ru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240120" y="3984480"/>
            <a:ext cx="434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Gregarious, energetic, self-dramatiz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663160" y="39783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Shy, unassertive, withdraw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380880" y="4975200"/>
            <a:ext cx="8382240" cy="0"/>
          </a:xfrm>
          <a:prstGeom prst="line">
            <a:avLst/>
          </a:prstGeom>
          <a:ln w="255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380880" y="5937120"/>
            <a:ext cx="8382240" cy="0"/>
          </a:xfrm>
          <a:prstGeom prst="line">
            <a:avLst/>
          </a:prstGeom>
          <a:ln w="255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528480" y="4470480"/>
            <a:ext cx="81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nscientious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528480" y="5435640"/>
            <a:ext cx="81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45520" y="499284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Careful, neat, depend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241920" y="596124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Imaginative, curious, origin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5159160" y="4986360"/>
            <a:ext cx="37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Impulsive, careless, irresponsi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4948560" y="5954760"/>
            <a:ext cx="39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Dull, unimaginative, literal-mind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001_A_023_U Kyaw Naing.mp3" descr=""/>
          <p:cNvPicPr/>
          <p:nvPr/>
        </p:nvPicPr>
        <p:blipFill>
          <a:blip r:embed="rId1"/>
          <a:stretch/>
        </p:blipFill>
        <p:spPr>
          <a:xfrm>
            <a:off x="7236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4473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07:39:27Z</dcterms:created>
  <dc:creator>ds0929</dc:creator>
  <dc:description/>
  <dc:language>en-US</dc:language>
  <cp:lastModifiedBy>ds0929</cp:lastModifiedBy>
  <dcterms:modified xsi:type="dcterms:W3CDTF">2013-06-14T07:41:44Z</dcterms:modified>
  <cp:revision>1</cp:revision>
  <dc:subject/>
  <dc:title>Slide 1</dc:title>
</cp:coreProperties>
</file>