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3886200" y="6172200"/>
            <a:ext cx="129528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dividual Differences, Mental Ability, and Personalit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0" name="001_A_001_U Kyaw Naing.mp3" descr=""/>
          <p:cNvPicPr/>
          <p:nvPr/>
        </p:nvPicPr>
        <p:blipFill>
          <a:blip r:embed="rId1"/>
          <a:stretch/>
        </p:blipFill>
        <p:spPr>
          <a:xfrm>
            <a:off x="762012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32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066680" y="921960"/>
            <a:ext cx="685800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Y, also called Millennials, differ from Gen X and baby boomers in many ways, but perhaps most significantly in their media savvy, their need for quick gratification and recognition, and their lack of long-term commitment to a particular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is is a generation that expects a lot from institutions. They expect learning opportunities, creative challenges and proof of their ability to add value," Bruce Tulgan, founder of Rainmaker Thinking, a New Haven, Connecticu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workforce.com/section/06/feature/24/64/42/246444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001_A_010_U Kyaw Naing.mp3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292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85800" y="947520"/>
            <a:ext cx="731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nic, Racial, and Cultural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nic and racial differences in job performance and behavior are usually attributable to culture rather than ethnicity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 ethnic groups take long lunch breaks because of their culture, not the fact of being a particular 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diversity will often give an organization a competitive advantage - similarity to the work group positively influenced the individual’s perception of group productivity and commitment to the work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satisfaction tends to higher for employees when others of similar demographic characteristics are present in the work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01_A_011_U Kyaw Naing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209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ntal ability (Intelligence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telligence is capacity to acquire and apply knowledg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onents of Intelligen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riarchic theory (analytical, creative, and practical intelligence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ltiple Intelligences (8 types or faculties)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" name="001_A_012_U Kyaw Naing.mp3" descr=""/>
          <p:cNvPicPr/>
          <p:nvPr/>
        </p:nvPicPr>
        <p:blipFill>
          <a:blip r:embed="rId1"/>
          <a:stretch/>
        </p:blipFill>
        <p:spPr>
          <a:xfrm>
            <a:off x="8458200" y="5029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24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38080" y="1345680"/>
            <a:ext cx="62485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theory of intelligence explains that intelligence consist of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general) 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pecial) 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ontribute to problem-solving 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 helps explain why some people perform so well in so many different mental tasks (the have the right stuf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001_A_013_U Kyaw Naing.mp3" descr=""/>
          <p:cNvPicPr/>
          <p:nvPr/>
        </p:nvPicPr>
        <p:blipFill>
          <a:blip r:embed="rId1"/>
          <a:stretch/>
        </p:blipFill>
        <p:spPr>
          <a:xfrm>
            <a:off x="8001000" y="5562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9420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pecial Facto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erbal comprehension – the ability to understand the meanings of wor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ord fluency – the ability to use words quickly and easil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umerical – the ability to handle numbers, mathematical analys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" name="001_A_014_U Kyaw Naing.mp3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1161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pecial factor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patial – the ability to visualize forms in space, manipulate objects mentall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mory – The ability to recall for symbols, words, numbers etc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ceptual speed – the ability to perceive visual details, identify similarities and differenc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uctive reasoning – the ability to discover a rule or principle and apply it in problem solv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8" name="001_A_015_U Kyaw Naing.mp3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8739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457200" y="918720"/>
            <a:ext cx="67816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iarchic Theory of Intellig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e on Practic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ory holds that intelligence is composed of three different subtypes: analytical, creative, and practic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 intelligence incorporates the ideas of common sense, wisdom, and street smar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ical intelligence (also called fluid intelligence) may decline from early to late adulth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ability to solve problems of a practical nature (crystallized intelligence) is maintained or increased through late adulthood. So being older makes you wi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001_A_016_U Kyaw Naing.mp3" descr=""/>
          <p:cNvPicPr/>
          <p:nvPr/>
        </p:nvPicPr>
        <p:blipFill>
          <a:blip r:embed="rId1"/>
          <a:stretch/>
        </p:blipFill>
        <p:spPr>
          <a:xfrm>
            <a:off x="8229600" y="4800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6793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762120" y="645120"/>
            <a:ext cx="6705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tellig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know and understand the world in distinctly different ways, or look at it through different len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ight intelligences or faculties are: linguistic, logical-mathematical, musical, spatial, body/kinesthetic, intra­personal, interpersonal, and natura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file of intelligences influences how an individual will best learn, and to which types of jobs he/she is best su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01_A_018_U Kyaw Naing.mp3" descr=""/>
          <p:cNvPicPr/>
          <p:nvPr/>
        </p:nvPicPr>
        <p:blipFill>
          <a:blip r:embed="rId1"/>
          <a:stretch/>
        </p:blipFill>
        <p:spPr>
          <a:xfrm>
            <a:off x="7848720" y="4952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6009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352680" y="2819520"/>
            <a:ext cx="281952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onen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ltiple Intellig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5257800" y="48769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dil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inesthe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motor ski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2743200" y="3049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ngu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5105520" y="3049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gica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hema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990720" y="1523880"/>
            <a:ext cx="19810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tur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external wor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sical (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e sen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6629400" y="3352680"/>
            <a:ext cx="19810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a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brain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762120" y="3124080"/>
            <a:ext cx="19810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pers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knows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2666880" y="4876920"/>
            <a:ext cx="198144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rapers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knows 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001_A_019_U Kyaw Naing.mp3" descr=""/>
          <p:cNvPicPr/>
          <p:nvPr/>
        </p:nvPicPr>
        <p:blipFill>
          <a:blip r:embed="rId1"/>
          <a:stretch/>
        </p:blipFill>
        <p:spPr>
          <a:xfrm>
            <a:off x="815328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2697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sonality Differenc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ersonality characteristics contribute to success in many jobs, and many job failures are caused by personality problems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sonalit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refers to the persistent and enduring behavior patterns of an individual that are expressed in a wide variety of situations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001_A_020_U Kyaw Naing.mp3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083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219320" y="1904040"/>
            <a:ext cx="67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how substant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 differ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variations in how they respond to the same situation based on personal character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447920" y="4648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is a function of person interacting with the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(P x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dividual Differenc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001_A_002_U Kyaw Naing.mp3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57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sonality Difference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91800"/>
            <a:ext cx="41148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ve Factor Mod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sts of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urotic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ravers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nness to experien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greeablen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cientiousn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4760" y="1828440"/>
            <a:ext cx="38098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her Key Trait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elf-monitoring of       behavio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 Risk taking and thrill see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 Optimis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l eight traits can affect job performance and behavi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001_A_021_U Kyaw Naing.mp3" descr=""/>
          <p:cNvPicPr/>
          <p:nvPr/>
        </p:nvPicPr>
        <p:blipFill>
          <a:blip r:embed="rId1"/>
          <a:stretch/>
        </p:blipFill>
        <p:spPr>
          <a:xfrm>
            <a:off x="73915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9318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92120" y="1249200"/>
            <a:ext cx="8194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ht Major Personality Factors and 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ight factors a substantial impact on job behavior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oticism (reflects emotional instability versus emo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ness (well-developed intell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ableness (friendly and cooper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entiousness (dependability and thorough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monitoring of behavior (adjusting how we appear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taking and thrill seeking (craving constant excit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m (a tendency to experience positive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001_A_022_U Kyaw Naing.mp3" descr=""/>
          <p:cNvPicPr/>
          <p:nvPr/>
        </p:nvPicPr>
        <p:blipFill>
          <a:blip r:embed="rId1"/>
          <a:stretch/>
        </p:blipFill>
        <p:spPr>
          <a:xfrm>
            <a:off x="8077320" y="5029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9664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motional Intelligenc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effectively people use their emotions has a major impact on their success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motional intelligence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fers to qualities such as understanding one’s feelings, empathy for others, and the regulation of emotion to enhance living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4" name="001_A_024_U Kyaw Naing.mp3" descr=""/>
          <p:cNvPicPr/>
          <p:nvPr/>
        </p:nvPicPr>
        <p:blipFill>
          <a:blip r:embed="rId1"/>
          <a:stretch/>
        </p:blipFill>
        <p:spPr>
          <a:xfrm>
            <a:off x="76201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0649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motional Intelligence (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als with ability to connect with people and understand their emot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awaren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manag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cial awaren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onship manag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001_A_025_U Kyaw Naing.mp3" descr=""/>
          <p:cNvPicPr/>
          <p:nvPr/>
        </p:nvPicPr>
        <p:blipFill>
          <a:blip r:embed="rId1"/>
          <a:stretch/>
        </p:blipFill>
        <p:spPr>
          <a:xfrm>
            <a:off x="784872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12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90720" y="201024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motional intelligence is associated with the ability to cope with job setba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intelligence underscores the importance of being practical minded and having effective interpersonal skills to succeed in organizatio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motional Intelligence (3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001_A_017_U Kyaw Naing.mp3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2390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523880" y="2081160"/>
            <a:ext cx="65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 is therefore determined by the effects of the individual and the environment on each 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dividual Difference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001_A_003_U Kyaw Naing.mp3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836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ividual Differences (3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eptional managers capitalize on strengths of worker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dividual differences have many consequences including productivity and qualit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" name="001_A_004_U Kyaw Naing.mp3" descr=""/>
          <p:cNvPicPr/>
          <p:nvPr/>
        </p:nvPicPr>
        <p:blipFill>
          <a:blip r:embed="rId1"/>
          <a:stretch/>
        </p:blipFill>
        <p:spPr>
          <a:xfrm>
            <a:off x="7543800" y="5105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763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sequences (1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 consequences of individual differences that have a major impact on managing people are as follow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ople differ in productiv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lity of work varies because people vary in their propensity for achieving high-quality result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mpowerment is effective with some workers, but not with al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given leadership style does not work with all peop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" name="001_A_005_U Kyaw Naing.mp3" descr=""/>
          <p:cNvPicPr/>
          <p:nvPr/>
        </p:nvPicPr>
        <p:blipFill>
          <a:blip r:embed="rId1"/>
          <a:stretch/>
        </p:blipFill>
        <p:spPr>
          <a:xfrm>
            <a:off x="784872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7068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sequence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ople differ in their need for contact with other peop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pany management will find that commitment to the firm varies considerab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orkers vary in their level of self-esteem that in turn influences their productivity and capacity to take on additional responsibility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" name="001_A_006_U Kyaw Naing.mp3" descr=""/>
          <p:cNvPicPr/>
          <p:nvPr/>
        </p:nvPicPr>
        <p:blipFill>
          <a:blip r:embed="rId1"/>
          <a:stretch/>
        </p:blipFill>
        <p:spPr>
          <a:xfrm>
            <a:off x="7467480" y="541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817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mographic Diversit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fers to background factors that shape worker attitudes and behavio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x and gender difference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ation and age-based differences such as Baby Boomers, generation 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thnic, racial, and cultural differences (culture has biggest effect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001_A_007_U Kyaw Naing.mp3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854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80880" y="981720"/>
            <a:ext cx="6858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and Gender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suggests that there are few differences between men and women in such factors as ability and motivation that will affect their job perform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 differences in communication patterns have been noted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n typically communicate to convey information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tablish stat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men are more likely to communicate to establis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pport and solve probl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earcher has noted that men are more likely to value equity, whereas women opt for equa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verinflated claims of gender differences can do harm in the workplace, such denying people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01_A_008_U Kyaw Naing.mp3" descr=""/>
          <p:cNvPicPr/>
          <p:nvPr/>
        </p:nvPicPr>
        <p:blipFill>
          <a:blip r:embed="rId1"/>
          <a:stretch/>
        </p:blipFill>
        <p:spPr>
          <a:xfrm>
            <a:off x="8001000" y="5562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2528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46224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and Age-Base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y behave differently on the job based somewhat on the behaviors and attitudes of many members of their gen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r generations currently in the workforc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ists (1925 – 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by boomers (1946 – 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X (1961 – 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Y (1981 – pres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generation is influenced by major economic, political, and social events of its era, such as the Great Depression, the women’s movement, and advances in informatio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001_A_009_U Kyaw Naing.mp3" descr=""/>
          <p:cNvPicPr/>
          <p:nvPr/>
        </p:nvPicPr>
        <p:blipFill>
          <a:blip r:embed="rId1"/>
          <a:stretch/>
        </p:blipFill>
        <p:spPr>
          <a:xfrm>
            <a:off x="8381880" y="60199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5395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0:06:39Z</dcterms:created>
  <dc:creator>WinXP</dc:creator>
  <dc:description/>
  <dc:language>en-US</dc:language>
  <cp:lastModifiedBy>ds0929</cp:lastModifiedBy>
  <dcterms:modified xsi:type="dcterms:W3CDTF">2013-06-14T07:43:20Z</dcterms:modified>
  <cp:revision>30</cp:revision>
  <dc:subject/>
  <dc:title>Slide 1</dc:title>
</cp:coreProperties>
</file>