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36D-6BDF-4F7B-A2C0-ABD9172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9A7-1D00-4655-B274-825300E8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871-BD29-4782-939B-C6337353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A4E-79E1-4F40-82B3-11CF3E3D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340-D3AE-46B2-848C-6ED3A4D1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CA2-DABA-405F-A6B7-B2D96F3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43C-3974-47AF-AB9C-0699E5B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B75-C382-4CA8-A7D5-A3A37793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7B8-522E-43B6-A43B-46E9984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ABE-5431-45F3-8BF3-04E66E7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D0A-BDDF-44E8-8844-C82BB57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97C-A6EB-467F-A205-5DA4224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A7F-F89E-4B01-AF5E-B6A90784E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2:58Z</dcterms:created>
  <dc:creator>U Kyaw Naing</dc:creator>
  <dc:description/>
  <dc:language>en-US</dc:language>
  <cp:lastModifiedBy>U Kyaw Naing</cp:lastModifiedBy>
  <dcterms:modified xsi:type="dcterms:W3CDTF">2012-10-04T15:04:19Z</dcterms:modified>
  <cp:revision>1</cp:revision>
  <dc:subject/>
  <dc:title>Slide 1</dc:title>
</cp:coreProperties>
</file>