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8FEA-DEE6-466E-8E96-92B931292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5F93-359C-414A-9236-0C5F6BE32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779F-47D9-4CE8-B24B-9D871BB2D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52DA-C9E6-428A-B012-1A0CAF952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2AFF-ED36-42A0-9604-86A167CF6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99C6-D687-41E8-A1D4-8E7846CDD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F042-33D2-4031-94F8-D89A5F5EA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D4AB-B3D1-4EAD-BFDD-D76560B47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E0D4-A862-4D6B-B9D0-F1130EB1E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31E6-977C-4911-9EA7-9FED7B51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F5AC-D772-4E0F-89FC-22F88279D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A8FE-EAB3-48A3-BFE2-5EDCF8E8D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0D2A0-5CB0-4298-964B-07C601DE933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SUNP002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114 Part 2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1609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4T15:21:41Z</dcterms:created>
  <dc:creator>U Kyaw Naing</dc:creator>
  <dc:description/>
  <dc:language>en-US</dc:language>
  <cp:lastModifiedBy>U Kyaw Naing</cp:lastModifiedBy>
  <dcterms:modified xsi:type="dcterms:W3CDTF">2012-10-04T16:18:26Z</dcterms:modified>
  <cp:revision>2</cp:revision>
  <dc:subject/>
  <dc:title>Slide 1</dc:title>
</cp:coreProperties>
</file>