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1E45-8F5A-4276-98FD-7D77185A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2BD2-FA45-4FA1-B43A-FEE284D5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0CF-5304-47E3-836C-55BAD9E8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398-3191-4800-8A3A-B83909C1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8C1-FBAE-4685-9C35-03E4B924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3FB-D76E-4EE3-B407-15E0DEE6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B742-D4A2-4E83-A280-503272CF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326-C7E7-4C17-884E-9EF93B82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71ED-6777-4DAA-B3C1-A84AE8CF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AEDC-70F5-4475-B9F9-D6671604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B83-917F-4844-96CA-2B912FAF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877-9108-47B5-A3F1-7A090A17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6147-B3FF-4ACD-BCF1-B8C419DD8D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1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92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19:19Z</dcterms:created>
  <dc:creator>U Kyaw Naing</dc:creator>
  <dc:description/>
  <dc:language>en-US</dc:language>
  <cp:lastModifiedBy>U Kyaw Naing</cp:lastModifiedBy>
  <dcterms:modified xsi:type="dcterms:W3CDTF">2012-10-04T16:17:49Z</dcterms:modified>
  <cp:revision>2</cp:revision>
  <dc:subject/>
  <dc:title>Slide 1</dc:title>
</cp:coreProperties>
</file>