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462-5DE0-4B0D-BEED-4B4FBC6E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7F1-5F23-437E-8671-832E0F02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907-CC7B-44C2-9FB3-49429264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F94-4A8E-43DD-BDCC-42DADADB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BC2-A085-45BB-94B1-C1929C2D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50E-A14F-4F2C-A33E-36572683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75C-5BC6-41B3-8F2A-7ADFFBC9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9A0-8B6F-4D4C-B354-BCE3FE8A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DB2-92B0-4F03-8E14-9D29924D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9B9-0C11-4196-8874-51DD959B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0DCA-9DFC-4094-8A36-ACDE13E7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27C-D6A9-468D-826C-50CFF2DD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D4D3-0FA2-456B-A232-69BA908560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12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704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07:26Z</dcterms:created>
  <dc:creator>U Kyaw Naing</dc:creator>
  <dc:description/>
  <dc:language>en-US</dc:language>
  <cp:lastModifiedBy>U Kyaw Naing</cp:lastModifiedBy>
  <dcterms:modified xsi:type="dcterms:W3CDTF">2012-10-04T15:10:11Z</dcterms:modified>
  <cp:revision>1</cp:revision>
  <dc:subject/>
  <dc:title>Slide 1</dc:title>
</cp:coreProperties>
</file>