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6A3-4371-4702-8513-5AE00D5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175-349D-45FE-95F8-A964D7F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EB4-7504-43E7-9CA6-5FE6A8B6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FDD-6C0B-41F2-A4F7-6C70BA68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31B-112A-4012-95B6-EB8F20F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507-0ED2-40FE-8DBD-4D37E72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2AB-058F-4B79-A619-4D513EB6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8C9-222F-41CA-B260-AC2796F4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114-90CC-4A55-93DD-F35CAFB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2F3-165F-4409-BF51-E1623AE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640-C57D-4FCD-846C-AB6DD85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6B1-997E-4C9A-B7E4-4DBC2B7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64E1-CBDC-45C5-9A96-FB5D49878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02:17:12Z</dcterms:created>
  <dc:creator>U Kyaw Naing</dc:creator>
  <dc:description/>
  <dc:language>en-US</dc:language>
  <cp:lastModifiedBy>U Kyaw Naing</cp:lastModifiedBy>
  <dcterms:modified xsi:type="dcterms:W3CDTF">2011-04-23T02:18:51Z</dcterms:modified>
  <cp:revision>2</cp:revision>
  <dc:subject/>
  <dc:title>Slide 1</dc:title>
</cp:coreProperties>
</file>