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F27-ED95-4E1D-B6B9-51A98D35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A11-BFE6-4FDB-BFC4-F2F1A437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E77-9E7C-4598-8E5F-167CA159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A80-E7AB-4AAC-978C-EEF3F457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0CE-1130-45B4-A77D-F678C7B3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233-45CC-4D4A-B787-F149FE08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266-341D-422A-9342-AACF6035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D1B-32BA-4A12-BC2C-F84FF838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9B2-F575-4D7E-941D-4BBAFC12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705-DA60-47D1-A086-6D2077C8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A2A-2FAA-4AA2-9FD3-E83CFA27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9F4-2581-494D-855F-A8220E2D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98E0-0F6D-4B78-B527-AFA9844B53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44:47Z</dcterms:created>
  <dc:creator>U Kyaw Naing</dc:creator>
  <dc:description/>
  <dc:language>en-US</dc:language>
  <cp:lastModifiedBy>U Kyaw Naing</cp:lastModifiedBy>
  <dcterms:modified xsi:type="dcterms:W3CDTF">2011-04-12T06:45:36Z</dcterms:modified>
  <cp:revision>1</cp:revision>
  <dc:subject/>
  <dc:title>Slide 1</dc:title>
</cp:coreProperties>
</file>