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EB6-5CBF-4D36-84C1-EAC01262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A4B-5AF0-48A3-BC3C-F567C97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7FE-28DC-46C3-A015-76EC8F44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B02-293D-4203-BA34-B61E6987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52D4-4FF5-42F3-8E92-2D3AE062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102C-C02C-4C3F-9A9B-13313DD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0F0-8C44-44C2-BED2-4C414AD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D89B-63B8-49A7-AA65-96A0AE3B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1182-EB63-4783-B8D5-C78288E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788-6B5D-40BC-8365-E1971C69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F11C-ED22-422E-920F-EC7777A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367-3F4F-4014-84D3-CD0C188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CCBD-99AB-46A1-9A2A-073E67E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9742-71B8-4945-87FF-B4AE93D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C78-61B9-4AD1-ACE4-60B12665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04BD-4F71-4E5A-88A6-ADE6884C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1DBB-FB3B-4F2E-88E4-FF274499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76F-FDED-47E6-BC93-F816D18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404-2476-4445-8FC2-597AA11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FA4-ECC1-465C-9A75-221F59E2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792-CC1D-4A3A-9EDF-3355AA59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604-AF73-41FA-AF2B-8D10B05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C53-C162-4A38-B86B-AB45AC9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F57-3EEE-4E28-B665-D55FFDC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B3E3-2FC3-4737-A737-D5BB0036F4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F91-BB38-48BD-BC71-6B5FB0EE34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p.com.au/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www.pccomputernotes.com/" TargetMode="External"/><Relationship Id="rId4" Type="http://schemas.openxmlformats.org/officeDocument/2006/relationships/hyperlink" Target="http://www.wikipedia.com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o What am I Presenting to you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Ex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nects different external devices to the rest of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riph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ansion S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\O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ive Conn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Simpler Terms the External Bus allows various devices to be added to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External Bus is also known as the Expansion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Architect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Busses connect different parts of the motherboard to one another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522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6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ront Side Bus Connects the CPU to the Northbridge. (Determines the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ackside Bus connects to the C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emory Bus connects the Northbridge to the 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DE\ATA Bus Connects the Southbridge to the disk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PCI Bus Connects the PCI Slots to the South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CI Express is the more latest BUS and eliminates the AGP BUS by introducing another PCI Express BUS to the graphics c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Travels on the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!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has to be exchanged between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art of the bus is dedicated to moving this data, this is what we call the Dat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found on both the Internal and 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is stored, manipulated and processed in 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omputer has to move information in and out of memory, and it has to keep track of which information has to go 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t has to keep a MAP of the different address locations in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ddress BU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has to transmit and describe the locations of the memory so other components can access and locat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Information used to describe the locations of the memory to the Components travels along the ADDRESS B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ore Memory locations that a processor addresses, the more RAM it use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G3.32: Memor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urrent memory in most of the computers is 256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 Computer 25 has 128 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are 2 168 PIN DIMM slots, however only 1 is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y use 133MHz SDRAM Mod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ximum memory you can put in each slot is 512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d the maximum memory the Motherboard can handle is 512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198864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US on this Motherboard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n Architectu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formatio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aken from the HP Website, using their technical reference manual from </a:t>
            </a: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hp.com.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so searching through the Google website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howstuffwork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pccomputernot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www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314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ank you for staying awake and liste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7086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s Selected by our Teacher Sharon….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 am Doing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attery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PU, has to be able to send out different types of data, information and values to all devices and components through the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f you look underneath your motherboa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'll see a whole network of lines or electronic pathways that join the different components toge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Research I have gathered that the wires are co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Hence, 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electronic pathways are nothing more than tiny wires that carry information, data and different signals throughout the computer to different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is what we call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ypes of B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Computers Bus is divided into 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cts different components inside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l other components on the mother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Internal Bus is also known as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3:53:06Z</dcterms:created>
  <dc:creator>Fotis</dc:creator>
  <dc:description/>
  <dc:language>en-US</dc:language>
  <cp:lastModifiedBy>sgg331-06</cp:lastModifiedBy>
  <dcterms:modified xsi:type="dcterms:W3CDTF">2007-03-08T07:09:06Z</dcterms:modified>
  <cp:revision>4</cp:revision>
  <dc:subject/>
  <dc:title>So What am I Presenting to you???</dc:title>
</cp:coreProperties>
</file>