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445-6D37-4C1E-951F-53C48F5E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55F-D5A6-45CA-8676-05053FFF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214-23FA-43AF-A62A-7252B54D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F66-0B59-4CBC-9861-C6191107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8E93-63B0-44FF-B953-6F80C01D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CBCA-4F49-4010-BBF8-9075C9EE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2E89-47FC-4C12-A056-00BA3E37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8413-9691-416B-88A9-BEBC0030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36C5-EB24-41C1-964E-23527C5F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F4F4-38C6-4853-9A1E-A14E432A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9FBB-A506-4EB0-8CF9-A5D131B7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AA3-7A4C-4639-ACC5-A63BCAC8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2F25-1AEE-4BD7-89A3-804F03A7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4C73-54F2-4B3D-A020-00AAEE09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F930-7721-4C97-AC25-6DD632BE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F792-F795-4012-8F2C-B7F86807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4A21-7464-4964-9363-72CDB402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B33-76D2-44E3-98CC-78ED6232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A7A-B5AE-4495-B02A-9EDF2A43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2C8-0B19-4785-988A-C8EFD348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0D0-BD79-4335-A233-28ED4E23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469-073E-4EC4-9D54-BF7A9788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204-338C-4159-AC01-E5D9BBC6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628-D26A-4068-8CCD-47C5A0C5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9283-20F4-41E9-B201-8B0758501E7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FDA2-711C-47DD-B4AB-C719764C6D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06D5-A103-41EE-AECC-D75CCB50898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AD65-9926-4D78-9EC9-C7D8338FA1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ontrollers </a:t>
            </a: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(hard drive controllers)</a:t>
            </a:r>
            <a:endParaRPr b="0" i="1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0" b="7284"/>
          <a:stretch/>
        </p:blipFill>
        <p:spPr>
          <a:xfrm>
            <a:off x="1800360" y="3608280"/>
            <a:ext cx="5400720" cy="17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7DEC-0D05-4993-ABF6-82C1CBA9E6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Controllers used in lab :G3.32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Standard floppy disk controller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Intel Bus Master IDE Controller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Primary IDE Channel [Controller]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Secondary IDE Channel [Controller]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E6A-4EC5-4022-BB4B-E19F87851B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Summary</a:t>
            </a:r>
            <a:r>
              <a:rPr b="0" lang="en-A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ontroller is a hardware device it can be an expansion card or integrated onto the computer motherboar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t enables communication between The computer and another hardware devi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_ARCOIDE" descr=""/>
          <p:cNvPicPr/>
          <p:nvPr/>
        </p:nvPicPr>
        <p:blipFill>
          <a:blip r:embed="rId1"/>
          <a:srcRect l="0" t="15088" r="0" b="0"/>
          <a:stretch/>
        </p:blipFill>
        <p:spPr>
          <a:xfrm>
            <a:off x="1655640" y="4184640"/>
            <a:ext cx="630252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E67-1DE3-494A-8356-22820B1E30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at is a controller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A device that controls the transfer of data from a computer to a peripheral device For example, disk drives, display screens, keyboards, and printers all require controll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In personal computers, the controllers are often single chips. When you buy a computer, it comes with all the necessary controller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If you attach additional devices you may need to insert new controllers that come on expansion card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E88-5FCC-46DE-B9FD-A61BB810A8A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Types of controll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disk cont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graphics controller or video display control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network cont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keyboard control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RAID control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SCSI controller</a:t>
            </a: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F5F-04D3-421F-A06D-06EC6D249F9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" sz="3300" spc="-1" strike="noStrike">
                <a:solidFill>
                  <a:srgbClr val="336666"/>
                </a:solidFill>
                <a:latin typeface="Arial Black"/>
              </a:rPr>
              <a:t>Disk controll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" sz="2600" spc="-1" strike="noStrike">
                <a:solidFill>
                  <a:srgbClr val="000000"/>
                </a:solidFill>
                <a:latin typeface="Arial"/>
              </a:rPr>
              <a:t>disk controller</a:t>
            </a: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is the circuit which allows the CPU to communicate with a hard disk, floppy disk or other kind of disk dr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Early disk controllers were identified by their storage methods and data encoding. They were typically implemented on a separate controller car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Modern disk controllers are integrated into the disk drive. The interface between the computer and hard disk is called a </a:t>
            </a:r>
            <a:r>
              <a:rPr b="1" lang="en" sz="2600" spc="-1" strike="noStrike">
                <a:solidFill>
                  <a:srgbClr val="000000"/>
                </a:solidFill>
                <a:latin typeface="Arial"/>
              </a:rPr>
              <a:t>host adap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437-1C4D-4959-AC2D-63F647FC09A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Host adapter</a:t>
            </a:r>
            <a:r>
              <a:rPr b="0" lang="en-A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In computer hardware, a host adapter or host bus adapter (HBA) connects a host system (the computer) to other network and storage device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Image:QLA 2200F.jpg"/>
          <p:cNvPicPr/>
          <p:nvPr/>
        </p:nvPicPr>
        <p:blipFill>
          <a:blip r:embed="rId1"/>
          <a:srcRect l="5129" t="10141" r="7689" b="18373"/>
          <a:stretch/>
        </p:blipFill>
        <p:spPr>
          <a:xfrm>
            <a:off x="2087640" y="3608280"/>
            <a:ext cx="525600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CA2-5995-4EEF-895E-9F6180043D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Types of hard disk controll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100" spc="-1" strike="noStrike">
                <a:solidFill>
                  <a:srgbClr val="000000"/>
                </a:solidFill>
                <a:latin typeface="Arial"/>
              </a:rPr>
              <a:t>The most common types in use are IDE, Serial ATA, and SCSI(controller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100" spc="-1" strike="noStrike">
                <a:solidFill>
                  <a:srgbClr val="000000"/>
                </a:solidFill>
                <a:latin typeface="Arial"/>
              </a:rPr>
              <a:t>Most home personal computers use an IDE or Serial ATA interface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100" spc="-1" strike="noStrike">
                <a:solidFill>
                  <a:srgbClr val="000000"/>
                </a:solidFill>
                <a:latin typeface="Arial"/>
              </a:rPr>
              <a:t>network file servers mostly have SCSI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678-0C2F-4E10-A0CB-8A1FED6784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IDE- Integrated Drive Electronics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A type of hardware interface widely used to connect hard disks, and  optical disks to a PC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43280" y="3537000"/>
            <a:ext cx="4284720" cy="21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224-9E7C-48DE-8BF3-54492D7E68C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ATA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000000"/>
                </a:solidFill>
                <a:latin typeface="Arial"/>
              </a:rPr>
              <a:t>AT Attachment</a:t>
            </a:r>
            <a:r>
              <a:rPr b="0" lang="en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" sz="27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0" lang="en" sz="2700" spc="-1" strike="noStrike">
                <a:solidFill>
                  <a:srgbClr val="000000"/>
                </a:solidFill>
                <a:latin typeface="Arial"/>
              </a:rPr>
              <a:t>) is a standard interface for connecting storage devices such as hard disks and CD-ROM drives inside personal compute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000000"/>
                </a:solidFill>
                <a:latin typeface="Arial"/>
              </a:rPr>
              <a:t>Serial ATA</a:t>
            </a:r>
            <a:r>
              <a:rPr b="0" lang="en" sz="2700" spc="-1" strike="noStrike">
                <a:solidFill>
                  <a:srgbClr val="000000"/>
                </a:solidFill>
                <a:latin typeface="Arial"/>
              </a:rPr>
              <a:t> is a computer bus technology designed for transfer of data to and from hard disks and optical driv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BA4-67A1-4E8C-8A76-5F6A18A2D83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900" spc="-1" strike="noStrike">
                <a:solidFill>
                  <a:srgbClr val="336666"/>
                </a:solidFill>
                <a:latin typeface="Arial Black"/>
              </a:rPr>
              <a:t>SCSI</a:t>
            </a:r>
            <a:r>
              <a:rPr b="0" lang="en" sz="2900" spc="-1" strike="noStrike">
                <a:solidFill>
                  <a:srgbClr val="336666"/>
                </a:solidFill>
                <a:latin typeface="Arial Black"/>
              </a:rPr>
              <a:t> (</a:t>
            </a:r>
            <a:r>
              <a:rPr b="1" lang="en" sz="2900" spc="-1" strike="noStrike">
                <a:solidFill>
                  <a:srgbClr val="336666"/>
                </a:solidFill>
                <a:latin typeface="Arial Black"/>
              </a:rPr>
              <a:t>Small Computer System Interface</a:t>
            </a:r>
            <a:r>
              <a:rPr b="0" lang="en" sz="2900" spc="-1" strike="noStrike">
                <a:solidFill>
                  <a:srgbClr val="336666"/>
                </a:solidFill>
                <a:latin typeface="Arial Black"/>
              </a:rPr>
              <a:t>)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is a set of standards for physically connecting and transferring data between computers and peripheral devi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SCSI is most commonly used for hard disks, but it can connect a wide range of other devices, including scanners, printers, and optical drive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32C-8C25-456F-A752-33BE50B7E1E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GG331-11</cp:lastModifiedBy>
  <dcterms:modified xsi:type="dcterms:W3CDTF">2007-03-08T07:20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