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8A5-6896-429A-BFF4-935168E8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949-90B6-4D75-B9B3-E4E14B6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A79-3F21-4F1D-95C1-B25A2BC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F86-570B-41D8-B420-8D930AF2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7A3-657A-432B-A8EB-077A4DB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9DF-E6E7-4236-B169-9BDE7C1D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D52-F3A9-4B85-93E6-25F26602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6DE-AF21-4C83-80B5-0FF0BFE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8D5-A6A3-486D-B38F-6DFCB15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1D6-4E45-4E13-888D-24DBA29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04D-A312-4ABA-BC2B-997F277C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01C-205D-4637-8016-3DDFCD9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E9F7-B0ED-49AD-A5EE-812E2CDC5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29718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peed of light (» 3 ´ 10 8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´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s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tropic antenna (idealiz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es power equally in all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ole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-wave dipole antenna (or Hertz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vertical antenna (or Marconi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bolic Reflective Anten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 ´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19520" y="2514600"/>
                <a:ext cx="331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Thomas Fronckowiak</cp:lastModifiedBy>
  <dcterms:modified xsi:type="dcterms:W3CDTF">2001-05-22T06:02:54Z</dcterms:modified>
  <cp:revision>50</cp:revision>
  <dc:subject/>
  <dc:title>Wireless Communications and Networks</dc:title>
</cp:coreProperties>
</file>