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091-0208-4484-92E4-3CAEF2F6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A35-CCD0-43C3-B347-2B4549B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208-1255-4C7D-B200-D8917216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A85-72F3-473B-9B15-BEC687BC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CB7-9B31-476B-AE11-D5852175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722-DC26-40A2-ACD8-3B84DE2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6657-F8E9-4BA5-9E67-43BA184D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A5B9-CC84-4460-8493-A5FFE80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83E7-C80B-4DD3-A9A1-374D2A1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2A0B-C4F8-4F8B-85B8-962A4129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E630-FB3B-416E-B5E4-825C528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7E3-3895-41AB-B7B5-DF2B0C3B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C50-5A87-4E7C-B5D9-20A17FC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3A1-B3CF-4FE2-8D96-A55BEF2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8908-22F8-4975-813C-70325D0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4137-2C9A-4716-B5E4-C2D34F1A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D63-426E-4ED7-8996-6B1F7C7D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CA8-44B6-4FB3-9BFA-6A2547C6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DA3-DD7D-4D8B-A746-B805E89B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093-E08E-4FC9-B3C4-7C635159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7C9-FD67-475B-A61E-AB0B700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4CA-B7E4-4A8D-918C-0577750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AFF-67F6-49F2-B194-E38DDF2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7D2-F38F-433D-9744-9DC02CB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51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51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73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73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00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43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33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A72-B979-4403-B978-4A34789440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3, Dr. Dharma P. Agrawal and Dr. Qing-An Zeng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E286-D6A4-476D-9C60-EF492E3924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2, Dr. Dharma P. Agrawal and Dr. Qing-An Zeng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bile Radio Propag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88C-6C59-4FD0-A415-AE368B30F1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received signal pow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G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receiver antenna gai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propagation loss in the channel, i.e.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 =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65240" y="1800360"/>
                <a:ext cx="1936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V="1">
            <a:off x="22860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0481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432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4AE-F570-4D41-BDA0-7B30070FAE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 of path los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h Loss in Free-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carrier frequ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shows greater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 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ore is the lo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58960" y="1968480"/>
                <a:ext cx="1428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53960" y="3768840"/>
                <a:ext cx="6894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22C-54CB-4464-88EA-9CEDAF55C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Land Propag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plest Formul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and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 propag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distance between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value of 3 ~ 4 in typical 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48-3956-4BE7-B2E4-DF89C774A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of 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19320" y="1447920"/>
          <a:ext cx="69102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910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E63-975A-4947-BE9B-7D10D1B3B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 Loss (Urban, Suburban and Open area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14400" y="1752480"/>
                <a:ext cx="746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H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62120" y="2971800"/>
                <a:ext cx="82724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t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66680" y="4495680"/>
                <a:ext cx="4953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5791320"/>
                <a:ext cx="77742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H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04C-7169-4D5D-A2B6-F425C36443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th loss in decreasing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large cit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medium and small c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856-6EC9-44C5-89A8-341CCDE100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Large C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14400" y="1295280"/>
          <a:ext cx="739152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1B8-B273-4446-89E0-EC35CEE46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Medium and Small Citi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295280"/>
          <a:ext cx="723888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021-12A5-4E71-9A13-B4C8F50C7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Suburba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4400" y="1295280"/>
          <a:ext cx="739152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7DC-2530-4616-8AB4-F32A74625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Ope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95280"/>
          <a:ext cx="739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9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71A-4E8B-4107-BAB6-DA09E3753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ding: Slow Fading / Fast F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Near-Far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gital Wireless Communic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alog and Digital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ulation Techniq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080-6D0F-4E81-A981-C1317DA1DC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30099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43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93760" y="106668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8800" y="2409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8800" y="1600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03480" y="4317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3508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08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54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90880" y="32925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8800" y="297324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8800" y="601668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93760" y="4329000"/>
            <a:ext cx="892440" cy="92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55840" y="4343400"/>
            <a:ext cx="2840040" cy="9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2563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5840" y="53118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3760" y="4672080"/>
            <a:ext cx="0" cy="1334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055960" y="4249080"/>
            <a:ext cx="7724160" cy="13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585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800600"/>
            <a:ext cx="133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w" descr=""/>
          <p:cNvPicPr/>
          <p:nvPr/>
        </p:nvPicPr>
        <p:blipFill>
          <a:blip r:embed="rId1"/>
          <a:stretch/>
        </p:blipFill>
        <p:spPr>
          <a:xfrm>
            <a:off x="2133720" y="3233880"/>
            <a:ext cx="3809880" cy="880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51424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6095880"/>
            <a:ext cx="13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35840" y="5410080"/>
            <a:ext cx="133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32767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low Fading (Long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st Fading  (Short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7000" y="1255680"/>
            <a:ext cx="3922920" cy="878040"/>
          </a:xfrm>
          <a:custGeom>
            <a:avLst/>
            <a:gdLst/>
            <a:ahLst/>
            <a:rect l="l" t="t" r="r" b="b"/>
            <a:pathLst>
              <a:path w="2471" h="553">
                <a:moveTo>
                  <a:pt x="5" y="534"/>
                </a:moveTo>
                <a:cubicBezTo>
                  <a:pt x="24" y="478"/>
                  <a:pt x="0" y="553"/>
                  <a:pt x="17" y="414"/>
                </a:cubicBezTo>
                <a:cubicBezTo>
                  <a:pt x="20" y="385"/>
                  <a:pt x="32" y="352"/>
                  <a:pt x="41" y="324"/>
                </a:cubicBezTo>
                <a:cubicBezTo>
                  <a:pt x="49" y="188"/>
                  <a:pt x="47" y="251"/>
                  <a:pt x="71" y="162"/>
                </a:cubicBezTo>
                <a:cubicBezTo>
                  <a:pt x="86" y="107"/>
                  <a:pt x="67" y="119"/>
                  <a:pt x="101" y="108"/>
                </a:cubicBezTo>
                <a:cubicBezTo>
                  <a:pt x="114" y="148"/>
                  <a:pt x="122" y="207"/>
                  <a:pt x="167" y="222"/>
                </a:cubicBezTo>
                <a:cubicBezTo>
                  <a:pt x="175" y="220"/>
                  <a:pt x="185" y="221"/>
                  <a:pt x="191" y="216"/>
                </a:cubicBezTo>
                <a:cubicBezTo>
                  <a:pt x="202" y="207"/>
                  <a:pt x="192" y="183"/>
                  <a:pt x="203" y="174"/>
                </a:cubicBezTo>
                <a:cubicBezTo>
                  <a:pt x="213" y="166"/>
                  <a:pt x="239" y="162"/>
                  <a:pt x="239" y="162"/>
                </a:cubicBezTo>
                <a:cubicBezTo>
                  <a:pt x="266" y="122"/>
                  <a:pt x="261" y="97"/>
                  <a:pt x="269" y="42"/>
                </a:cubicBezTo>
                <a:cubicBezTo>
                  <a:pt x="275" y="0"/>
                  <a:pt x="264" y="10"/>
                  <a:pt x="293" y="0"/>
                </a:cubicBezTo>
                <a:cubicBezTo>
                  <a:pt x="339" y="31"/>
                  <a:pt x="312" y="94"/>
                  <a:pt x="341" y="138"/>
                </a:cubicBezTo>
                <a:cubicBezTo>
                  <a:pt x="349" y="136"/>
                  <a:pt x="358" y="137"/>
                  <a:pt x="365" y="132"/>
                </a:cubicBezTo>
                <a:cubicBezTo>
                  <a:pt x="393" y="113"/>
                  <a:pt x="359" y="108"/>
                  <a:pt x="395" y="120"/>
                </a:cubicBezTo>
                <a:cubicBezTo>
                  <a:pt x="407" y="157"/>
                  <a:pt x="426" y="136"/>
                  <a:pt x="449" y="120"/>
                </a:cubicBezTo>
                <a:cubicBezTo>
                  <a:pt x="493" y="127"/>
                  <a:pt x="524" y="150"/>
                  <a:pt x="545" y="192"/>
                </a:cubicBezTo>
                <a:cubicBezTo>
                  <a:pt x="565" y="232"/>
                  <a:pt x="556" y="296"/>
                  <a:pt x="605" y="312"/>
                </a:cubicBezTo>
                <a:cubicBezTo>
                  <a:pt x="637" y="301"/>
                  <a:pt x="615" y="293"/>
                  <a:pt x="647" y="282"/>
                </a:cubicBezTo>
                <a:cubicBezTo>
                  <a:pt x="658" y="315"/>
                  <a:pt x="652" y="321"/>
                  <a:pt x="689" y="312"/>
                </a:cubicBezTo>
                <a:cubicBezTo>
                  <a:pt x="696" y="282"/>
                  <a:pt x="706" y="252"/>
                  <a:pt x="713" y="222"/>
                </a:cubicBezTo>
                <a:cubicBezTo>
                  <a:pt x="727" y="160"/>
                  <a:pt x="727" y="90"/>
                  <a:pt x="797" y="72"/>
                </a:cubicBezTo>
                <a:cubicBezTo>
                  <a:pt x="849" y="81"/>
                  <a:pt x="826" y="83"/>
                  <a:pt x="863" y="108"/>
                </a:cubicBezTo>
                <a:cubicBezTo>
                  <a:pt x="874" y="142"/>
                  <a:pt x="894" y="192"/>
                  <a:pt x="929" y="204"/>
                </a:cubicBezTo>
                <a:cubicBezTo>
                  <a:pt x="982" y="186"/>
                  <a:pt x="924" y="138"/>
                  <a:pt x="977" y="120"/>
                </a:cubicBezTo>
                <a:cubicBezTo>
                  <a:pt x="980" y="167"/>
                  <a:pt x="958" y="263"/>
                  <a:pt x="1019" y="222"/>
                </a:cubicBezTo>
                <a:cubicBezTo>
                  <a:pt x="1023" y="210"/>
                  <a:pt x="1032" y="160"/>
                  <a:pt x="1049" y="150"/>
                </a:cubicBezTo>
                <a:cubicBezTo>
                  <a:pt x="1060" y="143"/>
                  <a:pt x="1085" y="138"/>
                  <a:pt x="1085" y="138"/>
                </a:cubicBezTo>
                <a:cubicBezTo>
                  <a:pt x="1103" y="112"/>
                  <a:pt x="1107" y="102"/>
                  <a:pt x="1127" y="132"/>
                </a:cubicBezTo>
                <a:cubicBezTo>
                  <a:pt x="1147" y="125"/>
                  <a:pt x="1167" y="121"/>
                  <a:pt x="1187" y="114"/>
                </a:cubicBezTo>
                <a:cubicBezTo>
                  <a:pt x="1196" y="142"/>
                  <a:pt x="1201" y="162"/>
                  <a:pt x="1217" y="186"/>
                </a:cubicBezTo>
                <a:cubicBezTo>
                  <a:pt x="1264" y="155"/>
                  <a:pt x="1212" y="110"/>
                  <a:pt x="1271" y="90"/>
                </a:cubicBezTo>
                <a:cubicBezTo>
                  <a:pt x="1291" y="95"/>
                  <a:pt x="1301" y="93"/>
                  <a:pt x="1313" y="114"/>
                </a:cubicBezTo>
                <a:cubicBezTo>
                  <a:pt x="1342" y="166"/>
                  <a:pt x="1360" y="266"/>
                  <a:pt x="1367" y="324"/>
                </a:cubicBezTo>
                <a:cubicBezTo>
                  <a:pt x="1372" y="270"/>
                  <a:pt x="1372" y="216"/>
                  <a:pt x="1379" y="162"/>
                </a:cubicBezTo>
                <a:cubicBezTo>
                  <a:pt x="1381" y="149"/>
                  <a:pt x="1391" y="126"/>
                  <a:pt x="1391" y="126"/>
                </a:cubicBezTo>
                <a:cubicBezTo>
                  <a:pt x="1425" y="133"/>
                  <a:pt x="1428" y="136"/>
                  <a:pt x="1439" y="168"/>
                </a:cubicBezTo>
                <a:cubicBezTo>
                  <a:pt x="1443" y="198"/>
                  <a:pt x="1439" y="372"/>
                  <a:pt x="1457" y="264"/>
                </a:cubicBezTo>
                <a:cubicBezTo>
                  <a:pt x="1458" y="245"/>
                  <a:pt x="1455" y="156"/>
                  <a:pt x="1475" y="126"/>
                </a:cubicBezTo>
                <a:cubicBezTo>
                  <a:pt x="1484" y="113"/>
                  <a:pt x="1496" y="103"/>
                  <a:pt x="1505" y="90"/>
                </a:cubicBezTo>
                <a:cubicBezTo>
                  <a:pt x="1513" y="92"/>
                  <a:pt x="1522" y="91"/>
                  <a:pt x="1529" y="96"/>
                </a:cubicBezTo>
                <a:cubicBezTo>
                  <a:pt x="1557" y="115"/>
                  <a:pt x="1523" y="120"/>
                  <a:pt x="1559" y="108"/>
                </a:cubicBezTo>
                <a:cubicBezTo>
                  <a:pt x="1566" y="80"/>
                  <a:pt x="1571" y="70"/>
                  <a:pt x="1595" y="54"/>
                </a:cubicBezTo>
                <a:cubicBezTo>
                  <a:pt x="1619" y="62"/>
                  <a:pt x="1623" y="72"/>
                  <a:pt x="1631" y="96"/>
                </a:cubicBezTo>
                <a:cubicBezTo>
                  <a:pt x="1662" y="86"/>
                  <a:pt x="1663" y="58"/>
                  <a:pt x="1685" y="36"/>
                </a:cubicBezTo>
                <a:cubicBezTo>
                  <a:pt x="1703" y="64"/>
                  <a:pt x="1710" y="88"/>
                  <a:pt x="1727" y="114"/>
                </a:cubicBezTo>
                <a:cubicBezTo>
                  <a:pt x="1765" y="101"/>
                  <a:pt x="1747" y="77"/>
                  <a:pt x="1781" y="66"/>
                </a:cubicBezTo>
                <a:cubicBezTo>
                  <a:pt x="1820" y="76"/>
                  <a:pt x="1822" y="80"/>
                  <a:pt x="1835" y="120"/>
                </a:cubicBezTo>
                <a:cubicBezTo>
                  <a:pt x="1839" y="132"/>
                  <a:pt x="1847" y="156"/>
                  <a:pt x="1847" y="156"/>
                </a:cubicBezTo>
                <a:cubicBezTo>
                  <a:pt x="1849" y="178"/>
                  <a:pt x="1848" y="201"/>
                  <a:pt x="1853" y="222"/>
                </a:cubicBezTo>
                <a:cubicBezTo>
                  <a:pt x="1855" y="228"/>
                  <a:pt x="1857" y="210"/>
                  <a:pt x="1859" y="204"/>
                </a:cubicBezTo>
                <a:cubicBezTo>
                  <a:pt x="1863" y="191"/>
                  <a:pt x="1866" y="151"/>
                  <a:pt x="1883" y="138"/>
                </a:cubicBezTo>
                <a:cubicBezTo>
                  <a:pt x="1888" y="134"/>
                  <a:pt x="1895" y="134"/>
                  <a:pt x="1901" y="132"/>
                </a:cubicBezTo>
                <a:cubicBezTo>
                  <a:pt x="1907" y="134"/>
                  <a:pt x="1915" y="133"/>
                  <a:pt x="1919" y="138"/>
                </a:cubicBezTo>
                <a:cubicBezTo>
                  <a:pt x="1937" y="163"/>
                  <a:pt x="1944" y="216"/>
                  <a:pt x="1949" y="246"/>
                </a:cubicBezTo>
                <a:cubicBezTo>
                  <a:pt x="1951" y="272"/>
                  <a:pt x="1953" y="298"/>
                  <a:pt x="1955" y="324"/>
                </a:cubicBezTo>
                <a:cubicBezTo>
                  <a:pt x="1957" y="340"/>
                  <a:pt x="1945" y="372"/>
                  <a:pt x="1961" y="372"/>
                </a:cubicBezTo>
                <a:cubicBezTo>
                  <a:pt x="1983" y="372"/>
                  <a:pt x="1968" y="328"/>
                  <a:pt x="1973" y="306"/>
                </a:cubicBezTo>
                <a:cubicBezTo>
                  <a:pt x="1985" y="258"/>
                  <a:pt x="1990" y="120"/>
                  <a:pt x="2045" y="102"/>
                </a:cubicBezTo>
                <a:cubicBezTo>
                  <a:pt x="2108" y="111"/>
                  <a:pt x="2101" y="115"/>
                  <a:pt x="2117" y="168"/>
                </a:cubicBezTo>
                <a:cubicBezTo>
                  <a:pt x="2121" y="180"/>
                  <a:pt x="2125" y="192"/>
                  <a:pt x="2129" y="204"/>
                </a:cubicBezTo>
                <a:cubicBezTo>
                  <a:pt x="2131" y="210"/>
                  <a:pt x="2135" y="222"/>
                  <a:pt x="2135" y="222"/>
                </a:cubicBezTo>
                <a:cubicBezTo>
                  <a:pt x="2139" y="254"/>
                  <a:pt x="2145" y="350"/>
                  <a:pt x="2147" y="318"/>
                </a:cubicBezTo>
                <a:cubicBezTo>
                  <a:pt x="2147" y="314"/>
                  <a:pt x="2150" y="199"/>
                  <a:pt x="2159" y="168"/>
                </a:cubicBezTo>
                <a:cubicBezTo>
                  <a:pt x="2161" y="159"/>
                  <a:pt x="2164" y="149"/>
                  <a:pt x="2171" y="144"/>
                </a:cubicBezTo>
                <a:cubicBezTo>
                  <a:pt x="2181" y="136"/>
                  <a:pt x="2207" y="132"/>
                  <a:pt x="2207" y="132"/>
                </a:cubicBezTo>
                <a:cubicBezTo>
                  <a:pt x="2234" y="150"/>
                  <a:pt x="2236" y="175"/>
                  <a:pt x="2261" y="192"/>
                </a:cubicBezTo>
                <a:cubicBezTo>
                  <a:pt x="2320" y="172"/>
                  <a:pt x="2318" y="275"/>
                  <a:pt x="2321" y="312"/>
                </a:cubicBezTo>
                <a:cubicBezTo>
                  <a:pt x="2323" y="342"/>
                  <a:pt x="2324" y="372"/>
                  <a:pt x="2327" y="402"/>
                </a:cubicBezTo>
                <a:cubicBezTo>
                  <a:pt x="2330" y="428"/>
                  <a:pt x="2335" y="454"/>
                  <a:pt x="2339" y="480"/>
                </a:cubicBezTo>
                <a:cubicBezTo>
                  <a:pt x="2349" y="451"/>
                  <a:pt x="2349" y="420"/>
                  <a:pt x="2357" y="390"/>
                </a:cubicBezTo>
                <a:cubicBezTo>
                  <a:pt x="2363" y="329"/>
                  <a:pt x="2375" y="270"/>
                  <a:pt x="2387" y="210"/>
                </a:cubicBezTo>
                <a:cubicBezTo>
                  <a:pt x="2391" y="190"/>
                  <a:pt x="2417" y="156"/>
                  <a:pt x="2417" y="156"/>
                </a:cubicBezTo>
                <a:cubicBezTo>
                  <a:pt x="2429" y="158"/>
                  <a:pt x="2442" y="157"/>
                  <a:pt x="2453" y="162"/>
                </a:cubicBezTo>
                <a:cubicBezTo>
                  <a:pt x="2459" y="165"/>
                  <a:pt x="2459" y="176"/>
                  <a:pt x="2465" y="180"/>
                </a:cubicBezTo>
                <a:cubicBezTo>
                  <a:pt x="2467" y="182"/>
                  <a:pt x="2469" y="176"/>
                  <a:pt x="2471" y="17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11B-A8A4-4FB9-99E9-C767E7C05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long-term variation in the mean level is known as slow fading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hadow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-normal fad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 This fading caused by shadow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g-normal distribu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d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the received signal level is given in decibels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ue received signal leve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decibels, i.e., 10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area average signal level, i.e., the mea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standard deviation in deci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57320" y="2819520"/>
                <a:ext cx="2995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905120" y="46483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EB3-10AD-4E12-A5EF-1EB7E353B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-normal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638680" cy="3573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1523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20968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5486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received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879-4D5A-4A95-86EC-C4D726946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69840" y="380880"/>
            <a:ext cx="779328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gnal from the transmitter may be reflected from objects such as hills, buildings, or vehi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ayleig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stribution. The pdf i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ddle valu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envelope signal within sample range to be satisfi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1.777</a:t>
            </a:r>
            <a:r>
              <a:rPr b="0" lang="en-US" sz="2000" spc="-1" strike="noStrike">
                <a:solidFill>
                  <a:srgbClr val="3333cc"/>
                </a:solidFill>
                <a:latin typeface="Math1"/>
                <a:ea typeface="Math1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676520" y="2670120"/>
                <a:ext cx="38862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52480" y="525780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E08-6E11-45AD-A1E3-6DF68D3B12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yleigh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066680"/>
            <a:ext cx="7086600" cy="4878360"/>
            <a:chOff x="1219320" y="1066680"/>
            <a:chExt cx="7086600" cy="4878360"/>
          </a:xfrm>
        </p:grpSpPr>
        <p:grpSp>
          <p:nvGrpSpPr>
            <p:cNvPr id="370" name=""/>
            <p:cNvGrpSpPr/>
            <p:nvPr/>
          </p:nvGrpSpPr>
          <p:grpSpPr>
            <a:xfrm>
              <a:off x="1219320" y="1066680"/>
              <a:ext cx="7086600" cy="4878360"/>
              <a:chOff x="1219320" y="1066680"/>
              <a:chExt cx="7086600" cy="4878360"/>
            </a:xfrm>
          </p:grpSpPr>
          <p:graphicFrame>
            <p:nvGraphicFramePr>
              <p:cNvPr id="371" name=""/>
              <p:cNvGraphicFramePr/>
              <p:nvPr/>
            </p:nvGraphicFramePr>
            <p:xfrm>
              <a:off x="1295280" y="1254240"/>
              <a:ext cx="7010640" cy="465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1254240"/>
                        <a:ext cx="7010640" cy="465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3" name=""/>
              <p:cNvSpPr/>
              <p:nvPr/>
            </p:nvSpPr>
            <p:spPr>
              <a:xfrm>
                <a:off x="2057400" y="1600200"/>
                <a:ext cx="55627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67480" y="1752480"/>
                <a:ext cx="2286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48320" y="5638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24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1480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57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448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91520" y="5562720"/>
                <a:ext cx="457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0200" y="1066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76520" y="5410080"/>
                <a:ext cx="304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7920" y="45100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7920" y="3809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7920" y="304812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228600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47920" y="1523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9320" y="34290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2743200" y="28195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2590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505320" y="3962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480" y="3718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76920" y="45720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343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8AE-B596-4703-9B10-899D04E45B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Fading (Continue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cia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istribution. The pdf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standard devi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x) is the zero-order Bessel function of the first kin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amplitude of the direc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2209680"/>
                <a:ext cx="5068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α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00C-50F0-46AE-9305-42535F476E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ian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848720" y="5310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76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 p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782040" cy="4519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724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yle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24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124080" y="14479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00400" y="19051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80988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8BC-5ADD-4BBF-8075-6C4A1FD3FA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istics of Instantaneous Amplitu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evel Cross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number of times per second that the signal envelope crosses the level in positive going di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mber of times signal envelope crosses middle value in positive going direction per unit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pth of Fad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o of mean square value and minimum value of fading sig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Dur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me for which signal is below given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A03-D032-44E1-97D7-2A06B9A401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Effe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 When a wave source and a receiver are moving towards each other, the frequency of the received signal will not be the same as the sour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moving toward each other, the frequency of the received signal is higher than the sour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opposing each other, the frequency decrea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the frequency of the received signal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frequency of source carri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Doppler frequ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Shif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frequen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moving spee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wavelength of carri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00200" y="4826160"/>
                <a:ext cx="1676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76520" y="3200400"/>
                <a:ext cx="164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5867280" y="4419720"/>
            <a:ext cx="533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45080" y="4570560"/>
            <a:ext cx="111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611680" y="4754520"/>
            <a:ext cx="41616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5486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48560" y="426708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ving speed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02640" y="4102920"/>
            <a:ext cx="1573920" cy="9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99360" y="4876920"/>
            <a:ext cx="2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Math1"/>
                <a:ea typeface="Math1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0B7-0180-4176-8BC5-01F8F9FE42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a signal propagates from a transmitter to a receiver, signal suffers one or more refl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forces signal to follow different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path has different path length, so the time of arrival for each path is diffe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effect which spreads out the signal is called “Delay Spread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4E6-632D-427E-A067-671599BDFB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49400"/>
          <a:ext cx="7772400" cy="3283200"/>
        </p:xfrm>
        <a:graphic>
          <a:graphicData uri="http://schemas.openxmlformats.org/drawingml/2006/table">
            <a:tbl>
              <a:tblPr/>
              <a:tblGrid>
                <a:gridCol w="2551320"/>
                <a:gridCol w="263052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ave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 cu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,00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M 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5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 band satell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 G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violet 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14400" y="14479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ght speed = Wavelength x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3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/s = 300,000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6ED-F15F-44A9-BA33-6BAEB7CDE3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ving Speed Effec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5791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90512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752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24200" y="2209680"/>
            <a:ext cx="1414440" cy="738360"/>
          </a:xfrm>
          <a:custGeom>
            <a:avLst/>
            <a:gdLst/>
            <a:ahLst/>
            <a:rect l="l" t="t" r="r" b="b"/>
            <a:pathLst>
              <a:path w="891" h="465">
                <a:moveTo>
                  <a:pt x="0" y="87"/>
                </a:moveTo>
                <a:cubicBezTo>
                  <a:pt x="20" y="80"/>
                  <a:pt x="21" y="54"/>
                  <a:pt x="27" y="36"/>
                </a:cubicBezTo>
                <a:cubicBezTo>
                  <a:pt x="33" y="19"/>
                  <a:pt x="43" y="15"/>
                  <a:pt x="57" y="6"/>
                </a:cubicBezTo>
                <a:cubicBezTo>
                  <a:pt x="60" y="4"/>
                  <a:pt x="66" y="0"/>
                  <a:pt x="66" y="0"/>
                </a:cubicBezTo>
                <a:cubicBezTo>
                  <a:pt x="74" y="1"/>
                  <a:pt x="83" y="0"/>
                  <a:pt x="90" y="3"/>
                </a:cubicBezTo>
                <a:cubicBezTo>
                  <a:pt x="96" y="6"/>
                  <a:pt x="96" y="15"/>
                  <a:pt x="99" y="21"/>
                </a:cubicBezTo>
                <a:cubicBezTo>
                  <a:pt x="108" y="42"/>
                  <a:pt x="108" y="85"/>
                  <a:pt x="132" y="93"/>
                </a:cubicBezTo>
                <a:cubicBezTo>
                  <a:pt x="141" y="84"/>
                  <a:pt x="147" y="79"/>
                  <a:pt x="159" y="75"/>
                </a:cubicBezTo>
                <a:cubicBezTo>
                  <a:pt x="188" y="80"/>
                  <a:pt x="183" y="96"/>
                  <a:pt x="210" y="105"/>
                </a:cubicBezTo>
                <a:cubicBezTo>
                  <a:pt x="228" y="99"/>
                  <a:pt x="234" y="99"/>
                  <a:pt x="255" y="102"/>
                </a:cubicBezTo>
                <a:cubicBezTo>
                  <a:pt x="283" y="121"/>
                  <a:pt x="302" y="151"/>
                  <a:pt x="318" y="180"/>
                </a:cubicBezTo>
                <a:cubicBezTo>
                  <a:pt x="337" y="215"/>
                  <a:pt x="324" y="181"/>
                  <a:pt x="336" y="216"/>
                </a:cubicBezTo>
                <a:cubicBezTo>
                  <a:pt x="338" y="222"/>
                  <a:pt x="342" y="234"/>
                  <a:pt x="342" y="234"/>
                </a:cubicBezTo>
                <a:cubicBezTo>
                  <a:pt x="346" y="264"/>
                  <a:pt x="345" y="276"/>
                  <a:pt x="375" y="282"/>
                </a:cubicBezTo>
                <a:cubicBezTo>
                  <a:pt x="394" y="294"/>
                  <a:pt x="385" y="319"/>
                  <a:pt x="408" y="327"/>
                </a:cubicBezTo>
                <a:cubicBezTo>
                  <a:pt x="424" y="324"/>
                  <a:pt x="428" y="319"/>
                  <a:pt x="438" y="306"/>
                </a:cubicBezTo>
                <a:cubicBezTo>
                  <a:pt x="442" y="300"/>
                  <a:pt x="443" y="290"/>
                  <a:pt x="450" y="288"/>
                </a:cubicBezTo>
                <a:cubicBezTo>
                  <a:pt x="456" y="286"/>
                  <a:pt x="468" y="282"/>
                  <a:pt x="468" y="282"/>
                </a:cubicBezTo>
                <a:cubicBezTo>
                  <a:pt x="501" y="290"/>
                  <a:pt x="489" y="332"/>
                  <a:pt x="519" y="342"/>
                </a:cubicBezTo>
                <a:cubicBezTo>
                  <a:pt x="545" y="338"/>
                  <a:pt x="551" y="328"/>
                  <a:pt x="579" y="324"/>
                </a:cubicBezTo>
                <a:cubicBezTo>
                  <a:pt x="602" y="316"/>
                  <a:pt x="591" y="317"/>
                  <a:pt x="612" y="321"/>
                </a:cubicBezTo>
                <a:cubicBezTo>
                  <a:pt x="633" y="364"/>
                  <a:pt x="640" y="378"/>
                  <a:pt x="690" y="384"/>
                </a:cubicBezTo>
                <a:cubicBezTo>
                  <a:pt x="697" y="384"/>
                  <a:pt x="743" y="376"/>
                  <a:pt x="759" y="381"/>
                </a:cubicBezTo>
                <a:cubicBezTo>
                  <a:pt x="767" y="406"/>
                  <a:pt x="787" y="412"/>
                  <a:pt x="810" y="420"/>
                </a:cubicBezTo>
                <a:cubicBezTo>
                  <a:pt x="816" y="426"/>
                  <a:pt x="823" y="429"/>
                  <a:pt x="828" y="435"/>
                </a:cubicBezTo>
                <a:cubicBezTo>
                  <a:pt x="840" y="450"/>
                  <a:pt x="820" y="438"/>
                  <a:pt x="837" y="453"/>
                </a:cubicBezTo>
                <a:cubicBezTo>
                  <a:pt x="842" y="458"/>
                  <a:pt x="855" y="465"/>
                  <a:pt x="855" y="465"/>
                </a:cubicBezTo>
                <a:cubicBezTo>
                  <a:pt x="865" y="462"/>
                  <a:pt x="872" y="456"/>
                  <a:pt x="882" y="453"/>
                </a:cubicBezTo>
                <a:cubicBezTo>
                  <a:pt x="889" y="463"/>
                  <a:pt x="884" y="462"/>
                  <a:pt x="891" y="4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33600" y="2895480"/>
            <a:ext cx="1157400" cy="1676520"/>
          </a:xfrm>
          <a:custGeom>
            <a:avLst/>
            <a:gdLst/>
            <a:ahLst/>
            <a:rect l="l" t="t" r="r" b="b"/>
            <a:pathLst>
              <a:path w="729" h="486">
                <a:moveTo>
                  <a:pt x="0" y="0"/>
                </a:moveTo>
                <a:cubicBezTo>
                  <a:pt x="11" y="5"/>
                  <a:pt x="13" y="4"/>
                  <a:pt x="18" y="15"/>
                </a:cubicBezTo>
                <a:cubicBezTo>
                  <a:pt x="21" y="21"/>
                  <a:pt x="22" y="27"/>
                  <a:pt x="24" y="33"/>
                </a:cubicBezTo>
                <a:cubicBezTo>
                  <a:pt x="25" y="36"/>
                  <a:pt x="27" y="42"/>
                  <a:pt x="27" y="42"/>
                </a:cubicBezTo>
                <a:cubicBezTo>
                  <a:pt x="26" y="97"/>
                  <a:pt x="26" y="152"/>
                  <a:pt x="24" y="207"/>
                </a:cubicBezTo>
                <a:cubicBezTo>
                  <a:pt x="24" y="210"/>
                  <a:pt x="20" y="219"/>
                  <a:pt x="21" y="216"/>
                </a:cubicBezTo>
                <a:cubicBezTo>
                  <a:pt x="22" y="213"/>
                  <a:pt x="23" y="210"/>
                  <a:pt x="24" y="207"/>
                </a:cubicBezTo>
                <a:cubicBezTo>
                  <a:pt x="32" y="153"/>
                  <a:pt x="2" y="79"/>
                  <a:pt x="42" y="39"/>
                </a:cubicBezTo>
                <a:cubicBezTo>
                  <a:pt x="48" y="40"/>
                  <a:pt x="55" y="39"/>
                  <a:pt x="60" y="42"/>
                </a:cubicBezTo>
                <a:cubicBezTo>
                  <a:pt x="75" y="50"/>
                  <a:pt x="80" y="104"/>
                  <a:pt x="81" y="117"/>
                </a:cubicBezTo>
                <a:cubicBezTo>
                  <a:pt x="82" y="127"/>
                  <a:pt x="83" y="137"/>
                  <a:pt x="84" y="147"/>
                </a:cubicBezTo>
                <a:cubicBezTo>
                  <a:pt x="88" y="121"/>
                  <a:pt x="91" y="99"/>
                  <a:pt x="99" y="75"/>
                </a:cubicBezTo>
                <a:cubicBezTo>
                  <a:pt x="114" y="119"/>
                  <a:pt x="106" y="145"/>
                  <a:pt x="108" y="204"/>
                </a:cubicBezTo>
                <a:cubicBezTo>
                  <a:pt x="111" y="172"/>
                  <a:pt x="105" y="132"/>
                  <a:pt x="123" y="105"/>
                </a:cubicBezTo>
                <a:cubicBezTo>
                  <a:pt x="130" y="120"/>
                  <a:pt x="135" y="153"/>
                  <a:pt x="135" y="153"/>
                </a:cubicBezTo>
                <a:cubicBezTo>
                  <a:pt x="136" y="190"/>
                  <a:pt x="126" y="229"/>
                  <a:pt x="138" y="264"/>
                </a:cubicBezTo>
                <a:cubicBezTo>
                  <a:pt x="148" y="293"/>
                  <a:pt x="140" y="202"/>
                  <a:pt x="141" y="171"/>
                </a:cubicBezTo>
                <a:cubicBezTo>
                  <a:pt x="141" y="166"/>
                  <a:pt x="145" y="109"/>
                  <a:pt x="147" y="99"/>
                </a:cubicBezTo>
                <a:cubicBezTo>
                  <a:pt x="148" y="93"/>
                  <a:pt x="153" y="81"/>
                  <a:pt x="153" y="81"/>
                </a:cubicBezTo>
                <a:cubicBezTo>
                  <a:pt x="169" y="97"/>
                  <a:pt x="166" y="119"/>
                  <a:pt x="168" y="141"/>
                </a:cubicBezTo>
                <a:cubicBezTo>
                  <a:pt x="169" y="178"/>
                  <a:pt x="168" y="215"/>
                  <a:pt x="171" y="252"/>
                </a:cubicBezTo>
                <a:cubicBezTo>
                  <a:pt x="172" y="260"/>
                  <a:pt x="173" y="236"/>
                  <a:pt x="174" y="228"/>
                </a:cubicBezTo>
                <a:cubicBezTo>
                  <a:pt x="175" y="216"/>
                  <a:pt x="176" y="204"/>
                  <a:pt x="177" y="192"/>
                </a:cubicBezTo>
                <a:cubicBezTo>
                  <a:pt x="181" y="152"/>
                  <a:pt x="177" y="75"/>
                  <a:pt x="207" y="45"/>
                </a:cubicBezTo>
                <a:cubicBezTo>
                  <a:pt x="210" y="46"/>
                  <a:pt x="214" y="45"/>
                  <a:pt x="216" y="48"/>
                </a:cubicBezTo>
                <a:cubicBezTo>
                  <a:pt x="220" y="55"/>
                  <a:pt x="222" y="72"/>
                  <a:pt x="222" y="72"/>
                </a:cubicBezTo>
                <a:cubicBezTo>
                  <a:pt x="231" y="201"/>
                  <a:pt x="230" y="330"/>
                  <a:pt x="222" y="459"/>
                </a:cubicBezTo>
                <a:cubicBezTo>
                  <a:pt x="223" y="389"/>
                  <a:pt x="215" y="200"/>
                  <a:pt x="243" y="117"/>
                </a:cubicBezTo>
                <a:cubicBezTo>
                  <a:pt x="260" y="151"/>
                  <a:pt x="244" y="240"/>
                  <a:pt x="255" y="159"/>
                </a:cubicBezTo>
                <a:cubicBezTo>
                  <a:pt x="256" y="155"/>
                  <a:pt x="257" y="151"/>
                  <a:pt x="258" y="147"/>
                </a:cubicBezTo>
                <a:cubicBezTo>
                  <a:pt x="261" y="148"/>
                  <a:pt x="265" y="147"/>
                  <a:pt x="267" y="150"/>
                </a:cubicBezTo>
                <a:cubicBezTo>
                  <a:pt x="270" y="155"/>
                  <a:pt x="264" y="168"/>
                  <a:pt x="270" y="168"/>
                </a:cubicBezTo>
                <a:cubicBezTo>
                  <a:pt x="276" y="168"/>
                  <a:pt x="273" y="156"/>
                  <a:pt x="276" y="150"/>
                </a:cubicBezTo>
                <a:cubicBezTo>
                  <a:pt x="280" y="141"/>
                  <a:pt x="283" y="140"/>
                  <a:pt x="291" y="135"/>
                </a:cubicBezTo>
                <a:cubicBezTo>
                  <a:pt x="325" y="149"/>
                  <a:pt x="316" y="200"/>
                  <a:pt x="324" y="231"/>
                </a:cubicBezTo>
                <a:cubicBezTo>
                  <a:pt x="325" y="242"/>
                  <a:pt x="324" y="275"/>
                  <a:pt x="327" y="264"/>
                </a:cubicBezTo>
                <a:cubicBezTo>
                  <a:pt x="338" y="220"/>
                  <a:pt x="321" y="120"/>
                  <a:pt x="357" y="84"/>
                </a:cubicBezTo>
                <a:cubicBezTo>
                  <a:pt x="391" y="95"/>
                  <a:pt x="386" y="153"/>
                  <a:pt x="390" y="180"/>
                </a:cubicBezTo>
                <a:cubicBezTo>
                  <a:pt x="392" y="213"/>
                  <a:pt x="396" y="246"/>
                  <a:pt x="399" y="279"/>
                </a:cubicBezTo>
                <a:cubicBezTo>
                  <a:pt x="400" y="304"/>
                  <a:pt x="400" y="329"/>
                  <a:pt x="402" y="354"/>
                </a:cubicBezTo>
                <a:cubicBezTo>
                  <a:pt x="402" y="358"/>
                  <a:pt x="405" y="346"/>
                  <a:pt x="405" y="342"/>
                </a:cubicBezTo>
                <a:cubicBezTo>
                  <a:pt x="408" y="314"/>
                  <a:pt x="409" y="286"/>
                  <a:pt x="411" y="258"/>
                </a:cubicBezTo>
                <a:cubicBezTo>
                  <a:pt x="415" y="205"/>
                  <a:pt x="409" y="226"/>
                  <a:pt x="417" y="201"/>
                </a:cubicBezTo>
                <a:cubicBezTo>
                  <a:pt x="441" y="211"/>
                  <a:pt x="438" y="232"/>
                  <a:pt x="441" y="255"/>
                </a:cubicBezTo>
                <a:cubicBezTo>
                  <a:pt x="442" y="282"/>
                  <a:pt x="434" y="311"/>
                  <a:pt x="444" y="336"/>
                </a:cubicBezTo>
                <a:cubicBezTo>
                  <a:pt x="455" y="363"/>
                  <a:pt x="446" y="278"/>
                  <a:pt x="450" y="249"/>
                </a:cubicBezTo>
                <a:cubicBezTo>
                  <a:pt x="464" y="267"/>
                  <a:pt x="457" y="285"/>
                  <a:pt x="468" y="258"/>
                </a:cubicBezTo>
                <a:cubicBezTo>
                  <a:pt x="470" y="239"/>
                  <a:pt x="467" y="219"/>
                  <a:pt x="489" y="225"/>
                </a:cubicBezTo>
                <a:cubicBezTo>
                  <a:pt x="492" y="235"/>
                  <a:pt x="495" y="245"/>
                  <a:pt x="498" y="255"/>
                </a:cubicBezTo>
                <a:cubicBezTo>
                  <a:pt x="499" y="268"/>
                  <a:pt x="492" y="303"/>
                  <a:pt x="501" y="294"/>
                </a:cubicBezTo>
                <a:cubicBezTo>
                  <a:pt x="505" y="290"/>
                  <a:pt x="510" y="203"/>
                  <a:pt x="510" y="198"/>
                </a:cubicBezTo>
                <a:cubicBezTo>
                  <a:pt x="511" y="188"/>
                  <a:pt x="512" y="178"/>
                  <a:pt x="513" y="168"/>
                </a:cubicBezTo>
                <a:cubicBezTo>
                  <a:pt x="526" y="172"/>
                  <a:pt x="532" y="182"/>
                  <a:pt x="537" y="195"/>
                </a:cubicBezTo>
                <a:cubicBezTo>
                  <a:pt x="539" y="201"/>
                  <a:pt x="543" y="213"/>
                  <a:pt x="543" y="213"/>
                </a:cubicBezTo>
                <a:cubicBezTo>
                  <a:pt x="544" y="265"/>
                  <a:pt x="534" y="413"/>
                  <a:pt x="558" y="486"/>
                </a:cubicBezTo>
                <a:cubicBezTo>
                  <a:pt x="559" y="432"/>
                  <a:pt x="559" y="378"/>
                  <a:pt x="561" y="324"/>
                </a:cubicBezTo>
                <a:cubicBezTo>
                  <a:pt x="562" y="298"/>
                  <a:pt x="563" y="240"/>
                  <a:pt x="591" y="231"/>
                </a:cubicBezTo>
                <a:cubicBezTo>
                  <a:pt x="600" y="267"/>
                  <a:pt x="600" y="261"/>
                  <a:pt x="603" y="315"/>
                </a:cubicBezTo>
                <a:cubicBezTo>
                  <a:pt x="605" y="296"/>
                  <a:pt x="606" y="277"/>
                  <a:pt x="612" y="258"/>
                </a:cubicBezTo>
                <a:cubicBezTo>
                  <a:pt x="619" y="283"/>
                  <a:pt x="627" y="333"/>
                  <a:pt x="627" y="333"/>
                </a:cubicBezTo>
                <a:cubicBezTo>
                  <a:pt x="635" y="299"/>
                  <a:pt x="635" y="276"/>
                  <a:pt x="666" y="255"/>
                </a:cubicBezTo>
                <a:cubicBezTo>
                  <a:pt x="671" y="295"/>
                  <a:pt x="662" y="335"/>
                  <a:pt x="669" y="375"/>
                </a:cubicBezTo>
                <a:cubicBezTo>
                  <a:pt x="672" y="355"/>
                  <a:pt x="675" y="340"/>
                  <a:pt x="681" y="321"/>
                </a:cubicBezTo>
                <a:cubicBezTo>
                  <a:pt x="683" y="314"/>
                  <a:pt x="693" y="303"/>
                  <a:pt x="693" y="303"/>
                </a:cubicBezTo>
                <a:cubicBezTo>
                  <a:pt x="716" y="309"/>
                  <a:pt x="709" y="343"/>
                  <a:pt x="711" y="363"/>
                </a:cubicBezTo>
                <a:cubicBezTo>
                  <a:pt x="717" y="354"/>
                  <a:pt x="718" y="339"/>
                  <a:pt x="729" y="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114800"/>
            <a:ext cx="1138320" cy="557280"/>
          </a:xfrm>
          <a:custGeom>
            <a:avLst/>
            <a:gdLst/>
            <a:ahLst/>
            <a:rect l="l" t="t" r="r" b="b"/>
            <a:pathLst>
              <a:path w="717" h="351">
                <a:moveTo>
                  <a:pt x="0" y="0"/>
                </a:moveTo>
                <a:cubicBezTo>
                  <a:pt x="39" y="4"/>
                  <a:pt x="34" y="6"/>
                  <a:pt x="54" y="33"/>
                </a:cubicBezTo>
                <a:cubicBezTo>
                  <a:pt x="63" y="60"/>
                  <a:pt x="77" y="87"/>
                  <a:pt x="105" y="96"/>
                </a:cubicBezTo>
                <a:cubicBezTo>
                  <a:pt x="124" y="92"/>
                  <a:pt x="122" y="89"/>
                  <a:pt x="135" y="78"/>
                </a:cubicBezTo>
                <a:cubicBezTo>
                  <a:pt x="140" y="73"/>
                  <a:pt x="153" y="66"/>
                  <a:pt x="153" y="66"/>
                </a:cubicBezTo>
                <a:cubicBezTo>
                  <a:pt x="164" y="67"/>
                  <a:pt x="176" y="64"/>
                  <a:pt x="186" y="69"/>
                </a:cubicBezTo>
                <a:cubicBezTo>
                  <a:pt x="194" y="73"/>
                  <a:pt x="202" y="97"/>
                  <a:pt x="204" y="105"/>
                </a:cubicBezTo>
                <a:cubicBezTo>
                  <a:pt x="211" y="134"/>
                  <a:pt x="215" y="150"/>
                  <a:pt x="231" y="174"/>
                </a:cubicBezTo>
                <a:cubicBezTo>
                  <a:pt x="241" y="167"/>
                  <a:pt x="249" y="161"/>
                  <a:pt x="255" y="150"/>
                </a:cubicBezTo>
                <a:cubicBezTo>
                  <a:pt x="259" y="142"/>
                  <a:pt x="260" y="131"/>
                  <a:pt x="267" y="126"/>
                </a:cubicBezTo>
                <a:cubicBezTo>
                  <a:pt x="273" y="122"/>
                  <a:pt x="285" y="114"/>
                  <a:pt x="285" y="114"/>
                </a:cubicBezTo>
                <a:cubicBezTo>
                  <a:pt x="296" y="115"/>
                  <a:pt x="309" y="113"/>
                  <a:pt x="318" y="120"/>
                </a:cubicBezTo>
                <a:cubicBezTo>
                  <a:pt x="331" y="130"/>
                  <a:pt x="330" y="157"/>
                  <a:pt x="342" y="165"/>
                </a:cubicBezTo>
                <a:cubicBezTo>
                  <a:pt x="355" y="174"/>
                  <a:pt x="366" y="184"/>
                  <a:pt x="381" y="189"/>
                </a:cubicBezTo>
                <a:cubicBezTo>
                  <a:pt x="399" y="183"/>
                  <a:pt x="399" y="162"/>
                  <a:pt x="417" y="156"/>
                </a:cubicBezTo>
                <a:cubicBezTo>
                  <a:pt x="433" y="158"/>
                  <a:pt x="445" y="153"/>
                  <a:pt x="453" y="168"/>
                </a:cubicBezTo>
                <a:cubicBezTo>
                  <a:pt x="458" y="176"/>
                  <a:pt x="459" y="186"/>
                  <a:pt x="462" y="195"/>
                </a:cubicBezTo>
                <a:cubicBezTo>
                  <a:pt x="464" y="201"/>
                  <a:pt x="468" y="213"/>
                  <a:pt x="468" y="213"/>
                </a:cubicBezTo>
                <a:cubicBezTo>
                  <a:pt x="472" y="241"/>
                  <a:pt x="471" y="273"/>
                  <a:pt x="480" y="300"/>
                </a:cubicBezTo>
                <a:cubicBezTo>
                  <a:pt x="507" y="232"/>
                  <a:pt x="455" y="208"/>
                  <a:pt x="531" y="189"/>
                </a:cubicBezTo>
                <a:cubicBezTo>
                  <a:pt x="537" y="190"/>
                  <a:pt x="544" y="189"/>
                  <a:pt x="549" y="192"/>
                </a:cubicBezTo>
                <a:cubicBezTo>
                  <a:pt x="562" y="198"/>
                  <a:pt x="558" y="224"/>
                  <a:pt x="570" y="234"/>
                </a:cubicBezTo>
                <a:cubicBezTo>
                  <a:pt x="577" y="240"/>
                  <a:pt x="594" y="242"/>
                  <a:pt x="603" y="246"/>
                </a:cubicBezTo>
                <a:cubicBezTo>
                  <a:pt x="608" y="253"/>
                  <a:pt x="612" y="261"/>
                  <a:pt x="618" y="267"/>
                </a:cubicBezTo>
                <a:cubicBezTo>
                  <a:pt x="623" y="272"/>
                  <a:pt x="636" y="279"/>
                  <a:pt x="636" y="279"/>
                </a:cubicBezTo>
                <a:cubicBezTo>
                  <a:pt x="655" y="308"/>
                  <a:pt x="659" y="283"/>
                  <a:pt x="675" y="267"/>
                </a:cubicBezTo>
                <a:cubicBezTo>
                  <a:pt x="691" y="270"/>
                  <a:pt x="698" y="276"/>
                  <a:pt x="705" y="291"/>
                </a:cubicBezTo>
                <a:cubicBezTo>
                  <a:pt x="709" y="300"/>
                  <a:pt x="714" y="318"/>
                  <a:pt x="714" y="318"/>
                </a:cubicBezTo>
                <a:cubicBezTo>
                  <a:pt x="715" y="329"/>
                  <a:pt x="717" y="351"/>
                  <a:pt x="717" y="35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4000" y="4411800"/>
            <a:ext cx="1755720" cy="922320"/>
          </a:xfrm>
          <a:custGeom>
            <a:avLst/>
            <a:gdLst/>
            <a:ahLst/>
            <a:rect l="l" t="t" r="r" b="b"/>
            <a:pathLst>
              <a:path w="1106" h="581">
                <a:moveTo>
                  <a:pt x="0" y="107"/>
                </a:moveTo>
                <a:cubicBezTo>
                  <a:pt x="2" y="117"/>
                  <a:pt x="7" y="143"/>
                  <a:pt x="9" y="155"/>
                </a:cubicBezTo>
                <a:cubicBezTo>
                  <a:pt x="11" y="173"/>
                  <a:pt x="15" y="209"/>
                  <a:pt x="15" y="209"/>
                </a:cubicBezTo>
                <a:cubicBezTo>
                  <a:pt x="17" y="171"/>
                  <a:pt x="4" y="105"/>
                  <a:pt x="42" y="80"/>
                </a:cubicBezTo>
                <a:cubicBezTo>
                  <a:pt x="46" y="81"/>
                  <a:pt x="51" y="80"/>
                  <a:pt x="54" y="83"/>
                </a:cubicBezTo>
                <a:cubicBezTo>
                  <a:pt x="66" y="97"/>
                  <a:pt x="70" y="138"/>
                  <a:pt x="72" y="155"/>
                </a:cubicBezTo>
                <a:cubicBezTo>
                  <a:pt x="78" y="136"/>
                  <a:pt x="79" y="105"/>
                  <a:pt x="99" y="98"/>
                </a:cubicBezTo>
                <a:cubicBezTo>
                  <a:pt x="106" y="112"/>
                  <a:pt x="108" y="124"/>
                  <a:pt x="111" y="140"/>
                </a:cubicBezTo>
                <a:cubicBezTo>
                  <a:pt x="110" y="225"/>
                  <a:pt x="108" y="310"/>
                  <a:pt x="108" y="395"/>
                </a:cubicBezTo>
                <a:cubicBezTo>
                  <a:pt x="108" y="407"/>
                  <a:pt x="110" y="371"/>
                  <a:pt x="111" y="359"/>
                </a:cubicBezTo>
                <a:cubicBezTo>
                  <a:pt x="112" y="340"/>
                  <a:pt x="113" y="321"/>
                  <a:pt x="114" y="302"/>
                </a:cubicBezTo>
                <a:cubicBezTo>
                  <a:pt x="116" y="268"/>
                  <a:pt x="115" y="231"/>
                  <a:pt x="123" y="197"/>
                </a:cubicBezTo>
                <a:cubicBezTo>
                  <a:pt x="126" y="164"/>
                  <a:pt x="114" y="141"/>
                  <a:pt x="147" y="146"/>
                </a:cubicBezTo>
                <a:cubicBezTo>
                  <a:pt x="153" y="164"/>
                  <a:pt x="158" y="182"/>
                  <a:pt x="162" y="200"/>
                </a:cubicBezTo>
                <a:cubicBezTo>
                  <a:pt x="164" y="181"/>
                  <a:pt x="163" y="159"/>
                  <a:pt x="174" y="143"/>
                </a:cubicBezTo>
                <a:cubicBezTo>
                  <a:pt x="185" y="165"/>
                  <a:pt x="184" y="179"/>
                  <a:pt x="186" y="206"/>
                </a:cubicBezTo>
                <a:cubicBezTo>
                  <a:pt x="192" y="162"/>
                  <a:pt x="195" y="118"/>
                  <a:pt x="204" y="74"/>
                </a:cubicBezTo>
                <a:cubicBezTo>
                  <a:pt x="208" y="57"/>
                  <a:pt x="206" y="31"/>
                  <a:pt x="222" y="20"/>
                </a:cubicBezTo>
                <a:cubicBezTo>
                  <a:pt x="235" y="11"/>
                  <a:pt x="246" y="10"/>
                  <a:pt x="261" y="8"/>
                </a:cubicBezTo>
                <a:cubicBezTo>
                  <a:pt x="264" y="9"/>
                  <a:pt x="269" y="8"/>
                  <a:pt x="270" y="11"/>
                </a:cubicBezTo>
                <a:cubicBezTo>
                  <a:pt x="281" y="47"/>
                  <a:pt x="280" y="94"/>
                  <a:pt x="285" y="131"/>
                </a:cubicBezTo>
                <a:cubicBezTo>
                  <a:pt x="292" y="271"/>
                  <a:pt x="289" y="132"/>
                  <a:pt x="294" y="89"/>
                </a:cubicBezTo>
                <a:cubicBezTo>
                  <a:pt x="401" y="116"/>
                  <a:pt x="306" y="309"/>
                  <a:pt x="306" y="419"/>
                </a:cubicBezTo>
                <a:cubicBezTo>
                  <a:pt x="306" y="464"/>
                  <a:pt x="308" y="329"/>
                  <a:pt x="309" y="284"/>
                </a:cubicBezTo>
                <a:cubicBezTo>
                  <a:pt x="310" y="263"/>
                  <a:pt x="305" y="209"/>
                  <a:pt x="321" y="185"/>
                </a:cubicBezTo>
                <a:cubicBezTo>
                  <a:pt x="322" y="193"/>
                  <a:pt x="323" y="201"/>
                  <a:pt x="324" y="209"/>
                </a:cubicBezTo>
                <a:cubicBezTo>
                  <a:pt x="330" y="240"/>
                  <a:pt x="336" y="182"/>
                  <a:pt x="336" y="179"/>
                </a:cubicBezTo>
                <a:cubicBezTo>
                  <a:pt x="348" y="215"/>
                  <a:pt x="344" y="263"/>
                  <a:pt x="345" y="296"/>
                </a:cubicBezTo>
                <a:cubicBezTo>
                  <a:pt x="354" y="187"/>
                  <a:pt x="357" y="120"/>
                  <a:pt x="426" y="29"/>
                </a:cubicBezTo>
                <a:cubicBezTo>
                  <a:pt x="431" y="13"/>
                  <a:pt x="433" y="0"/>
                  <a:pt x="450" y="11"/>
                </a:cubicBezTo>
                <a:cubicBezTo>
                  <a:pt x="470" y="170"/>
                  <a:pt x="463" y="332"/>
                  <a:pt x="447" y="491"/>
                </a:cubicBezTo>
                <a:cubicBezTo>
                  <a:pt x="450" y="370"/>
                  <a:pt x="438" y="231"/>
                  <a:pt x="477" y="113"/>
                </a:cubicBezTo>
                <a:cubicBezTo>
                  <a:pt x="498" y="154"/>
                  <a:pt x="475" y="105"/>
                  <a:pt x="486" y="215"/>
                </a:cubicBezTo>
                <a:cubicBezTo>
                  <a:pt x="487" y="225"/>
                  <a:pt x="488" y="195"/>
                  <a:pt x="489" y="185"/>
                </a:cubicBezTo>
                <a:cubicBezTo>
                  <a:pt x="492" y="162"/>
                  <a:pt x="492" y="163"/>
                  <a:pt x="495" y="143"/>
                </a:cubicBezTo>
                <a:cubicBezTo>
                  <a:pt x="501" y="196"/>
                  <a:pt x="502" y="235"/>
                  <a:pt x="504" y="293"/>
                </a:cubicBezTo>
                <a:cubicBezTo>
                  <a:pt x="509" y="237"/>
                  <a:pt x="510" y="180"/>
                  <a:pt x="519" y="125"/>
                </a:cubicBezTo>
                <a:cubicBezTo>
                  <a:pt x="552" y="225"/>
                  <a:pt x="514" y="107"/>
                  <a:pt x="525" y="419"/>
                </a:cubicBezTo>
                <a:cubicBezTo>
                  <a:pt x="526" y="457"/>
                  <a:pt x="527" y="343"/>
                  <a:pt x="528" y="305"/>
                </a:cubicBezTo>
                <a:cubicBezTo>
                  <a:pt x="529" y="289"/>
                  <a:pt x="530" y="273"/>
                  <a:pt x="531" y="257"/>
                </a:cubicBezTo>
                <a:cubicBezTo>
                  <a:pt x="533" y="238"/>
                  <a:pt x="534" y="143"/>
                  <a:pt x="561" y="134"/>
                </a:cubicBezTo>
                <a:cubicBezTo>
                  <a:pt x="570" y="147"/>
                  <a:pt x="569" y="162"/>
                  <a:pt x="576" y="176"/>
                </a:cubicBezTo>
                <a:cubicBezTo>
                  <a:pt x="580" y="254"/>
                  <a:pt x="574" y="333"/>
                  <a:pt x="588" y="410"/>
                </a:cubicBezTo>
                <a:cubicBezTo>
                  <a:pt x="596" y="362"/>
                  <a:pt x="596" y="314"/>
                  <a:pt x="603" y="266"/>
                </a:cubicBezTo>
                <a:cubicBezTo>
                  <a:pt x="605" y="250"/>
                  <a:pt x="603" y="232"/>
                  <a:pt x="612" y="218"/>
                </a:cubicBezTo>
                <a:cubicBezTo>
                  <a:pt x="616" y="211"/>
                  <a:pt x="626" y="210"/>
                  <a:pt x="633" y="206"/>
                </a:cubicBezTo>
                <a:cubicBezTo>
                  <a:pt x="651" y="218"/>
                  <a:pt x="649" y="261"/>
                  <a:pt x="651" y="281"/>
                </a:cubicBezTo>
                <a:cubicBezTo>
                  <a:pt x="657" y="243"/>
                  <a:pt x="664" y="205"/>
                  <a:pt x="669" y="167"/>
                </a:cubicBezTo>
                <a:cubicBezTo>
                  <a:pt x="684" y="227"/>
                  <a:pt x="679" y="298"/>
                  <a:pt x="681" y="359"/>
                </a:cubicBezTo>
                <a:cubicBezTo>
                  <a:pt x="684" y="309"/>
                  <a:pt x="691" y="259"/>
                  <a:pt x="696" y="209"/>
                </a:cubicBezTo>
                <a:cubicBezTo>
                  <a:pt x="699" y="183"/>
                  <a:pt x="697" y="130"/>
                  <a:pt x="711" y="101"/>
                </a:cubicBezTo>
                <a:cubicBezTo>
                  <a:pt x="726" y="106"/>
                  <a:pt x="743" y="182"/>
                  <a:pt x="747" y="200"/>
                </a:cubicBezTo>
                <a:cubicBezTo>
                  <a:pt x="749" y="212"/>
                  <a:pt x="753" y="236"/>
                  <a:pt x="753" y="236"/>
                </a:cubicBezTo>
                <a:cubicBezTo>
                  <a:pt x="754" y="256"/>
                  <a:pt x="755" y="276"/>
                  <a:pt x="756" y="296"/>
                </a:cubicBezTo>
                <a:cubicBezTo>
                  <a:pt x="757" y="350"/>
                  <a:pt x="755" y="404"/>
                  <a:pt x="759" y="458"/>
                </a:cubicBezTo>
                <a:cubicBezTo>
                  <a:pt x="761" y="482"/>
                  <a:pt x="761" y="410"/>
                  <a:pt x="762" y="386"/>
                </a:cubicBezTo>
                <a:cubicBezTo>
                  <a:pt x="763" y="372"/>
                  <a:pt x="764" y="358"/>
                  <a:pt x="765" y="344"/>
                </a:cubicBezTo>
                <a:cubicBezTo>
                  <a:pt x="768" y="278"/>
                  <a:pt x="770" y="211"/>
                  <a:pt x="786" y="146"/>
                </a:cubicBezTo>
                <a:cubicBezTo>
                  <a:pt x="838" y="224"/>
                  <a:pt x="798" y="349"/>
                  <a:pt x="789" y="443"/>
                </a:cubicBezTo>
                <a:cubicBezTo>
                  <a:pt x="791" y="389"/>
                  <a:pt x="783" y="363"/>
                  <a:pt x="813" y="323"/>
                </a:cubicBezTo>
                <a:cubicBezTo>
                  <a:pt x="818" y="307"/>
                  <a:pt x="817" y="290"/>
                  <a:pt x="831" y="281"/>
                </a:cubicBezTo>
                <a:cubicBezTo>
                  <a:pt x="838" y="324"/>
                  <a:pt x="835" y="305"/>
                  <a:pt x="840" y="338"/>
                </a:cubicBezTo>
                <a:cubicBezTo>
                  <a:pt x="855" y="307"/>
                  <a:pt x="870" y="278"/>
                  <a:pt x="894" y="254"/>
                </a:cubicBezTo>
                <a:cubicBezTo>
                  <a:pt x="908" y="263"/>
                  <a:pt x="905" y="275"/>
                  <a:pt x="909" y="290"/>
                </a:cubicBezTo>
                <a:cubicBezTo>
                  <a:pt x="910" y="364"/>
                  <a:pt x="909" y="438"/>
                  <a:pt x="912" y="512"/>
                </a:cubicBezTo>
                <a:cubicBezTo>
                  <a:pt x="913" y="530"/>
                  <a:pt x="914" y="476"/>
                  <a:pt x="915" y="458"/>
                </a:cubicBezTo>
                <a:cubicBezTo>
                  <a:pt x="918" y="414"/>
                  <a:pt x="922" y="370"/>
                  <a:pt x="927" y="326"/>
                </a:cubicBezTo>
                <a:cubicBezTo>
                  <a:pt x="929" y="309"/>
                  <a:pt x="935" y="251"/>
                  <a:pt x="954" y="245"/>
                </a:cubicBezTo>
                <a:cubicBezTo>
                  <a:pt x="957" y="247"/>
                  <a:pt x="961" y="248"/>
                  <a:pt x="963" y="251"/>
                </a:cubicBezTo>
                <a:cubicBezTo>
                  <a:pt x="967" y="258"/>
                  <a:pt x="969" y="275"/>
                  <a:pt x="969" y="275"/>
                </a:cubicBezTo>
                <a:cubicBezTo>
                  <a:pt x="970" y="341"/>
                  <a:pt x="969" y="407"/>
                  <a:pt x="972" y="473"/>
                </a:cubicBezTo>
                <a:cubicBezTo>
                  <a:pt x="973" y="487"/>
                  <a:pt x="973" y="445"/>
                  <a:pt x="975" y="431"/>
                </a:cubicBezTo>
                <a:cubicBezTo>
                  <a:pt x="981" y="389"/>
                  <a:pt x="991" y="347"/>
                  <a:pt x="996" y="305"/>
                </a:cubicBezTo>
                <a:cubicBezTo>
                  <a:pt x="1004" y="342"/>
                  <a:pt x="990" y="384"/>
                  <a:pt x="1005" y="419"/>
                </a:cubicBezTo>
                <a:cubicBezTo>
                  <a:pt x="1010" y="431"/>
                  <a:pt x="1016" y="395"/>
                  <a:pt x="1023" y="383"/>
                </a:cubicBezTo>
                <a:cubicBezTo>
                  <a:pt x="1036" y="361"/>
                  <a:pt x="1050" y="343"/>
                  <a:pt x="1065" y="323"/>
                </a:cubicBezTo>
                <a:cubicBezTo>
                  <a:pt x="1106" y="404"/>
                  <a:pt x="1080" y="475"/>
                  <a:pt x="1080" y="58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80320" y="345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15998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95680" y="1599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638680" y="15998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9051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52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495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638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905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90A-1009-4209-885E-22F2B32916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546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09680" y="1889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622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885240" y="351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540160" y="2193840"/>
            <a:ext cx="3993480" cy="3362040"/>
            <a:chOff x="2540160" y="2193840"/>
            <a:chExt cx="3993480" cy="3362040"/>
          </a:xfrm>
        </p:grpSpPr>
        <p:sp>
          <p:nvSpPr>
            <p:cNvPr id="459" name=""/>
            <p:cNvSpPr/>
            <p:nvPr/>
          </p:nvSpPr>
          <p:spPr>
            <a:xfrm>
              <a:off x="2540160" y="2193840"/>
              <a:ext cx="1955520" cy="3362040"/>
            </a:xfrm>
            <a:custGeom>
              <a:avLst/>
              <a:gdLst/>
              <a:ahLst/>
              <a:rect l="l" t="t" r="r" b="b"/>
              <a:pathLst>
                <a:path w="1658" h="1441">
                  <a:moveTo>
                    <a:pt x="0" y="1441"/>
                  </a:moveTo>
                  <a:cubicBezTo>
                    <a:pt x="4" y="1373"/>
                    <a:pt x="10" y="1305"/>
                    <a:pt x="18" y="1237"/>
                  </a:cubicBezTo>
                  <a:cubicBezTo>
                    <a:pt x="21" y="1216"/>
                    <a:pt x="36" y="1177"/>
                    <a:pt x="36" y="1177"/>
                  </a:cubicBezTo>
                  <a:cubicBezTo>
                    <a:pt x="38" y="1135"/>
                    <a:pt x="39" y="1093"/>
                    <a:pt x="42" y="1051"/>
                  </a:cubicBezTo>
                  <a:cubicBezTo>
                    <a:pt x="43" y="1037"/>
                    <a:pt x="45" y="1023"/>
                    <a:pt x="48" y="1009"/>
                  </a:cubicBezTo>
                  <a:cubicBezTo>
                    <a:pt x="51" y="997"/>
                    <a:pt x="60" y="973"/>
                    <a:pt x="60" y="973"/>
                  </a:cubicBezTo>
                  <a:cubicBezTo>
                    <a:pt x="67" y="876"/>
                    <a:pt x="91" y="787"/>
                    <a:pt x="102" y="691"/>
                  </a:cubicBezTo>
                  <a:cubicBezTo>
                    <a:pt x="105" y="664"/>
                    <a:pt x="107" y="634"/>
                    <a:pt x="114" y="607"/>
                  </a:cubicBezTo>
                  <a:cubicBezTo>
                    <a:pt x="117" y="595"/>
                    <a:pt x="122" y="583"/>
                    <a:pt x="126" y="571"/>
                  </a:cubicBezTo>
                  <a:cubicBezTo>
                    <a:pt x="128" y="565"/>
                    <a:pt x="132" y="553"/>
                    <a:pt x="132" y="553"/>
                  </a:cubicBezTo>
                  <a:cubicBezTo>
                    <a:pt x="136" y="521"/>
                    <a:pt x="136" y="488"/>
                    <a:pt x="144" y="457"/>
                  </a:cubicBezTo>
                  <a:cubicBezTo>
                    <a:pt x="153" y="423"/>
                    <a:pt x="167" y="390"/>
                    <a:pt x="174" y="355"/>
                  </a:cubicBezTo>
                  <a:cubicBezTo>
                    <a:pt x="180" y="323"/>
                    <a:pt x="178" y="323"/>
                    <a:pt x="186" y="295"/>
                  </a:cubicBezTo>
                  <a:cubicBezTo>
                    <a:pt x="190" y="283"/>
                    <a:pt x="198" y="259"/>
                    <a:pt x="198" y="259"/>
                  </a:cubicBezTo>
                  <a:cubicBezTo>
                    <a:pt x="204" y="168"/>
                    <a:pt x="203" y="113"/>
                    <a:pt x="258" y="43"/>
                  </a:cubicBezTo>
                  <a:cubicBezTo>
                    <a:pt x="292" y="0"/>
                    <a:pt x="266" y="12"/>
                    <a:pt x="300" y="1"/>
                  </a:cubicBezTo>
                  <a:cubicBezTo>
                    <a:pt x="308" y="3"/>
                    <a:pt x="317" y="2"/>
                    <a:pt x="324" y="7"/>
                  </a:cubicBezTo>
                  <a:cubicBezTo>
                    <a:pt x="333" y="13"/>
                    <a:pt x="339" y="33"/>
                    <a:pt x="342" y="43"/>
                  </a:cubicBezTo>
                  <a:cubicBezTo>
                    <a:pt x="353" y="85"/>
                    <a:pt x="362" y="127"/>
                    <a:pt x="372" y="169"/>
                  </a:cubicBezTo>
                  <a:cubicBezTo>
                    <a:pt x="374" y="189"/>
                    <a:pt x="377" y="209"/>
                    <a:pt x="378" y="229"/>
                  </a:cubicBezTo>
                  <a:cubicBezTo>
                    <a:pt x="381" y="299"/>
                    <a:pt x="376" y="369"/>
                    <a:pt x="384" y="439"/>
                  </a:cubicBezTo>
                  <a:cubicBezTo>
                    <a:pt x="388" y="475"/>
                    <a:pt x="388" y="367"/>
                    <a:pt x="390" y="331"/>
                  </a:cubicBezTo>
                  <a:cubicBezTo>
                    <a:pt x="393" y="280"/>
                    <a:pt x="398" y="235"/>
                    <a:pt x="414" y="187"/>
                  </a:cubicBezTo>
                  <a:cubicBezTo>
                    <a:pt x="450" y="259"/>
                    <a:pt x="442" y="336"/>
                    <a:pt x="450" y="415"/>
                  </a:cubicBezTo>
                  <a:cubicBezTo>
                    <a:pt x="452" y="509"/>
                    <a:pt x="439" y="604"/>
                    <a:pt x="456" y="697"/>
                  </a:cubicBezTo>
                  <a:cubicBezTo>
                    <a:pt x="469" y="768"/>
                    <a:pt x="459" y="553"/>
                    <a:pt x="462" y="481"/>
                  </a:cubicBezTo>
                  <a:cubicBezTo>
                    <a:pt x="464" y="436"/>
                    <a:pt x="485" y="401"/>
                    <a:pt x="498" y="361"/>
                  </a:cubicBezTo>
                  <a:cubicBezTo>
                    <a:pt x="501" y="440"/>
                    <a:pt x="498" y="499"/>
                    <a:pt x="516" y="571"/>
                  </a:cubicBezTo>
                  <a:cubicBezTo>
                    <a:pt x="521" y="689"/>
                    <a:pt x="520" y="807"/>
                    <a:pt x="528" y="925"/>
                  </a:cubicBezTo>
                  <a:cubicBezTo>
                    <a:pt x="529" y="933"/>
                    <a:pt x="533" y="909"/>
                    <a:pt x="534" y="901"/>
                  </a:cubicBezTo>
                  <a:cubicBezTo>
                    <a:pt x="537" y="887"/>
                    <a:pt x="538" y="873"/>
                    <a:pt x="540" y="859"/>
                  </a:cubicBezTo>
                  <a:cubicBezTo>
                    <a:pt x="541" y="852"/>
                    <a:pt x="550" y="767"/>
                    <a:pt x="552" y="757"/>
                  </a:cubicBezTo>
                  <a:cubicBezTo>
                    <a:pt x="556" y="738"/>
                    <a:pt x="570" y="703"/>
                    <a:pt x="570" y="703"/>
                  </a:cubicBezTo>
                  <a:cubicBezTo>
                    <a:pt x="592" y="736"/>
                    <a:pt x="592" y="772"/>
                    <a:pt x="600" y="811"/>
                  </a:cubicBezTo>
                  <a:cubicBezTo>
                    <a:pt x="602" y="801"/>
                    <a:pt x="596" y="781"/>
                    <a:pt x="606" y="781"/>
                  </a:cubicBezTo>
                  <a:cubicBezTo>
                    <a:pt x="617" y="781"/>
                    <a:pt x="617" y="800"/>
                    <a:pt x="618" y="811"/>
                  </a:cubicBezTo>
                  <a:cubicBezTo>
                    <a:pt x="623" y="859"/>
                    <a:pt x="622" y="907"/>
                    <a:pt x="624" y="955"/>
                  </a:cubicBezTo>
                  <a:cubicBezTo>
                    <a:pt x="629" y="919"/>
                    <a:pt x="630" y="882"/>
                    <a:pt x="642" y="847"/>
                  </a:cubicBezTo>
                  <a:cubicBezTo>
                    <a:pt x="648" y="886"/>
                    <a:pt x="655" y="922"/>
                    <a:pt x="660" y="961"/>
                  </a:cubicBezTo>
                  <a:cubicBezTo>
                    <a:pt x="662" y="1051"/>
                    <a:pt x="659" y="1141"/>
                    <a:pt x="666" y="1231"/>
                  </a:cubicBezTo>
                  <a:cubicBezTo>
                    <a:pt x="667" y="1246"/>
                    <a:pt x="675" y="1203"/>
                    <a:pt x="678" y="1189"/>
                  </a:cubicBezTo>
                  <a:cubicBezTo>
                    <a:pt x="682" y="1172"/>
                    <a:pt x="689" y="1119"/>
                    <a:pt x="690" y="1105"/>
                  </a:cubicBezTo>
                  <a:cubicBezTo>
                    <a:pt x="692" y="1084"/>
                    <a:pt x="699" y="901"/>
                    <a:pt x="726" y="865"/>
                  </a:cubicBezTo>
                  <a:cubicBezTo>
                    <a:pt x="742" y="843"/>
                    <a:pt x="780" y="805"/>
                    <a:pt x="780" y="805"/>
                  </a:cubicBezTo>
                  <a:cubicBezTo>
                    <a:pt x="796" y="836"/>
                    <a:pt x="796" y="868"/>
                    <a:pt x="804" y="901"/>
                  </a:cubicBezTo>
                  <a:cubicBezTo>
                    <a:pt x="818" y="1037"/>
                    <a:pt x="806" y="982"/>
                    <a:pt x="828" y="1069"/>
                  </a:cubicBezTo>
                  <a:cubicBezTo>
                    <a:pt x="841" y="990"/>
                    <a:pt x="827" y="1017"/>
                    <a:pt x="852" y="979"/>
                  </a:cubicBezTo>
                  <a:cubicBezTo>
                    <a:pt x="856" y="991"/>
                    <a:pt x="862" y="1002"/>
                    <a:pt x="864" y="1015"/>
                  </a:cubicBezTo>
                  <a:cubicBezTo>
                    <a:pt x="881" y="1140"/>
                    <a:pt x="857" y="1137"/>
                    <a:pt x="882" y="1051"/>
                  </a:cubicBezTo>
                  <a:cubicBezTo>
                    <a:pt x="884" y="1042"/>
                    <a:pt x="888" y="1034"/>
                    <a:pt x="894" y="1027"/>
                  </a:cubicBezTo>
                  <a:cubicBezTo>
                    <a:pt x="899" y="1021"/>
                    <a:pt x="906" y="1019"/>
                    <a:pt x="912" y="1015"/>
                  </a:cubicBezTo>
                  <a:cubicBezTo>
                    <a:pt x="952" y="1055"/>
                    <a:pt x="941" y="1140"/>
                    <a:pt x="948" y="1195"/>
                  </a:cubicBezTo>
                  <a:cubicBezTo>
                    <a:pt x="975" y="1149"/>
                    <a:pt x="968" y="1093"/>
                    <a:pt x="996" y="1051"/>
                  </a:cubicBezTo>
                  <a:cubicBezTo>
                    <a:pt x="1049" y="1069"/>
                    <a:pt x="1051" y="1168"/>
                    <a:pt x="1062" y="1213"/>
                  </a:cubicBezTo>
                  <a:cubicBezTo>
                    <a:pt x="1066" y="1207"/>
                    <a:pt x="1072" y="1202"/>
                    <a:pt x="1074" y="1195"/>
                  </a:cubicBezTo>
                  <a:cubicBezTo>
                    <a:pt x="1078" y="1177"/>
                    <a:pt x="1064" y="1150"/>
                    <a:pt x="1080" y="1141"/>
                  </a:cubicBezTo>
                  <a:cubicBezTo>
                    <a:pt x="1092" y="1134"/>
                    <a:pt x="1104" y="1177"/>
                    <a:pt x="1104" y="1177"/>
                  </a:cubicBezTo>
                  <a:cubicBezTo>
                    <a:pt x="1114" y="1236"/>
                    <a:pt x="1123" y="1290"/>
                    <a:pt x="1128" y="1351"/>
                  </a:cubicBezTo>
                  <a:cubicBezTo>
                    <a:pt x="1133" y="1300"/>
                    <a:pt x="1132" y="1210"/>
                    <a:pt x="1158" y="1159"/>
                  </a:cubicBezTo>
                  <a:cubicBezTo>
                    <a:pt x="1172" y="1073"/>
                    <a:pt x="1157" y="972"/>
                    <a:pt x="1188" y="895"/>
                  </a:cubicBezTo>
                  <a:cubicBezTo>
                    <a:pt x="1195" y="877"/>
                    <a:pt x="1210" y="864"/>
                    <a:pt x="1218" y="847"/>
                  </a:cubicBezTo>
                  <a:cubicBezTo>
                    <a:pt x="1231" y="867"/>
                    <a:pt x="1235" y="885"/>
                    <a:pt x="1242" y="907"/>
                  </a:cubicBezTo>
                  <a:cubicBezTo>
                    <a:pt x="1244" y="965"/>
                    <a:pt x="1239" y="1024"/>
                    <a:pt x="1248" y="1081"/>
                  </a:cubicBezTo>
                  <a:cubicBezTo>
                    <a:pt x="1253" y="1113"/>
                    <a:pt x="1251" y="1017"/>
                    <a:pt x="1254" y="985"/>
                  </a:cubicBezTo>
                  <a:cubicBezTo>
                    <a:pt x="1257" y="953"/>
                    <a:pt x="1266" y="889"/>
                    <a:pt x="1266" y="889"/>
                  </a:cubicBezTo>
                  <a:cubicBezTo>
                    <a:pt x="1268" y="1017"/>
                    <a:pt x="1267" y="1145"/>
                    <a:pt x="1272" y="1273"/>
                  </a:cubicBezTo>
                  <a:cubicBezTo>
                    <a:pt x="1273" y="1305"/>
                    <a:pt x="1276" y="1209"/>
                    <a:pt x="1278" y="1177"/>
                  </a:cubicBezTo>
                  <a:cubicBezTo>
                    <a:pt x="1280" y="1153"/>
                    <a:pt x="1281" y="1129"/>
                    <a:pt x="1284" y="1105"/>
                  </a:cubicBezTo>
                  <a:cubicBezTo>
                    <a:pt x="1287" y="1073"/>
                    <a:pt x="1296" y="1009"/>
                    <a:pt x="1296" y="1009"/>
                  </a:cubicBezTo>
                  <a:cubicBezTo>
                    <a:pt x="1318" y="1076"/>
                    <a:pt x="1272" y="933"/>
                    <a:pt x="1308" y="1129"/>
                  </a:cubicBezTo>
                  <a:cubicBezTo>
                    <a:pt x="1310" y="1141"/>
                    <a:pt x="1312" y="1105"/>
                    <a:pt x="1314" y="1093"/>
                  </a:cubicBezTo>
                  <a:cubicBezTo>
                    <a:pt x="1316" y="1077"/>
                    <a:pt x="1318" y="1061"/>
                    <a:pt x="1320" y="1045"/>
                  </a:cubicBezTo>
                  <a:cubicBezTo>
                    <a:pt x="1322" y="1059"/>
                    <a:pt x="1325" y="1073"/>
                    <a:pt x="1326" y="1087"/>
                  </a:cubicBezTo>
                  <a:cubicBezTo>
                    <a:pt x="1329" y="1161"/>
                    <a:pt x="1328" y="1235"/>
                    <a:pt x="1332" y="1309"/>
                  </a:cubicBezTo>
                  <a:cubicBezTo>
                    <a:pt x="1332" y="1315"/>
                    <a:pt x="1337" y="1297"/>
                    <a:pt x="1338" y="1291"/>
                  </a:cubicBezTo>
                  <a:cubicBezTo>
                    <a:pt x="1341" y="1279"/>
                    <a:pt x="1342" y="1267"/>
                    <a:pt x="1344" y="1255"/>
                  </a:cubicBezTo>
                  <a:cubicBezTo>
                    <a:pt x="1359" y="1147"/>
                    <a:pt x="1345" y="1191"/>
                    <a:pt x="1362" y="1141"/>
                  </a:cubicBezTo>
                  <a:cubicBezTo>
                    <a:pt x="1381" y="1346"/>
                    <a:pt x="1367" y="1296"/>
                    <a:pt x="1380" y="1225"/>
                  </a:cubicBezTo>
                  <a:cubicBezTo>
                    <a:pt x="1387" y="1190"/>
                    <a:pt x="1399" y="1167"/>
                    <a:pt x="1410" y="1135"/>
                  </a:cubicBezTo>
                  <a:cubicBezTo>
                    <a:pt x="1431" y="1199"/>
                    <a:pt x="1410" y="1128"/>
                    <a:pt x="1410" y="1291"/>
                  </a:cubicBezTo>
                  <a:cubicBezTo>
                    <a:pt x="1410" y="1309"/>
                    <a:pt x="1414" y="1255"/>
                    <a:pt x="1416" y="1237"/>
                  </a:cubicBezTo>
                  <a:cubicBezTo>
                    <a:pt x="1424" y="1154"/>
                    <a:pt x="1411" y="1187"/>
                    <a:pt x="1434" y="1141"/>
                  </a:cubicBezTo>
                  <a:cubicBezTo>
                    <a:pt x="1436" y="1185"/>
                    <a:pt x="1429" y="1230"/>
                    <a:pt x="1440" y="1273"/>
                  </a:cubicBezTo>
                  <a:cubicBezTo>
                    <a:pt x="1445" y="1293"/>
                    <a:pt x="1444" y="1232"/>
                    <a:pt x="1452" y="1213"/>
                  </a:cubicBezTo>
                  <a:cubicBezTo>
                    <a:pt x="1463" y="1188"/>
                    <a:pt x="1487" y="1166"/>
                    <a:pt x="1506" y="1147"/>
                  </a:cubicBezTo>
                  <a:cubicBezTo>
                    <a:pt x="1571" y="1160"/>
                    <a:pt x="1519" y="1140"/>
                    <a:pt x="1542" y="1243"/>
                  </a:cubicBezTo>
                  <a:cubicBezTo>
                    <a:pt x="1545" y="1255"/>
                    <a:pt x="1546" y="1219"/>
                    <a:pt x="1548" y="1207"/>
                  </a:cubicBezTo>
                  <a:cubicBezTo>
                    <a:pt x="1555" y="1168"/>
                    <a:pt x="1555" y="1122"/>
                    <a:pt x="1590" y="1099"/>
                  </a:cubicBezTo>
                  <a:cubicBezTo>
                    <a:pt x="1592" y="1167"/>
                    <a:pt x="1588" y="1235"/>
                    <a:pt x="1596" y="1303"/>
                  </a:cubicBezTo>
                  <a:cubicBezTo>
                    <a:pt x="1597" y="1309"/>
                    <a:pt x="1611" y="1303"/>
                    <a:pt x="1614" y="1297"/>
                  </a:cubicBezTo>
                  <a:cubicBezTo>
                    <a:pt x="1621" y="1282"/>
                    <a:pt x="1614" y="1264"/>
                    <a:pt x="1620" y="1249"/>
                  </a:cubicBezTo>
                  <a:cubicBezTo>
                    <a:pt x="1625" y="1234"/>
                    <a:pt x="1641" y="1226"/>
                    <a:pt x="1650" y="1213"/>
                  </a:cubicBezTo>
                  <a:cubicBezTo>
                    <a:pt x="1658" y="1269"/>
                    <a:pt x="1656" y="1241"/>
                    <a:pt x="1656" y="1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95680" y="5119920"/>
              <a:ext cx="1263240" cy="421920"/>
            </a:xfrm>
            <a:custGeom>
              <a:avLst/>
              <a:gdLst/>
              <a:ahLst/>
              <a:rect l="l" t="t" r="r" b="b"/>
              <a:pathLst>
                <a:path w="1132" h="421">
                  <a:moveTo>
                    <a:pt x="0" y="1"/>
                  </a:moveTo>
                  <a:cubicBezTo>
                    <a:pt x="5" y="2"/>
                    <a:pt x="11" y="0"/>
                    <a:pt x="15" y="4"/>
                  </a:cubicBezTo>
                  <a:cubicBezTo>
                    <a:pt x="22" y="11"/>
                    <a:pt x="28" y="40"/>
                    <a:pt x="30" y="52"/>
                  </a:cubicBezTo>
                  <a:cubicBezTo>
                    <a:pt x="32" y="62"/>
                    <a:pt x="36" y="82"/>
                    <a:pt x="36" y="82"/>
                  </a:cubicBezTo>
                  <a:cubicBezTo>
                    <a:pt x="40" y="146"/>
                    <a:pt x="33" y="229"/>
                    <a:pt x="48" y="289"/>
                  </a:cubicBezTo>
                  <a:cubicBezTo>
                    <a:pt x="49" y="302"/>
                    <a:pt x="52" y="315"/>
                    <a:pt x="51" y="328"/>
                  </a:cubicBezTo>
                  <a:cubicBezTo>
                    <a:pt x="51" y="332"/>
                    <a:pt x="45" y="323"/>
                    <a:pt x="45" y="319"/>
                  </a:cubicBezTo>
                  <a:cubicBezTo>
                    <a:pt x="45" y="277"/>
                    <a:pt x="43" y="201"/>
                    <a:pt x="60" y="151"/>
                  </a:cubicBezTo>
                  <a:cubicBezTo>
                    <a:pt x="64" y="119"/>
                    <a:pt x="61" y="61"/>
                    <a:pt x="93" y="40"/>
                  </a:cubicBezTo>
                  <a:cubicBezTo>
                    <a:pt x="112" y="46"/>
                    <a:pt x="115" y="72"/>
                    <a:pt x="123" y="88"/>
                  </a:cubicBezTo>
                  <a:cubicBezTo>
                    <a:pt x="157" y="155"/>
                    <a:pt x="142" y="234"/>
                    <a:pt x="165" y="304"/>
                  </a:cubicBezTo>
                  <a:cubicBezTo>
                    <a:pt x="167" y="253"/>
                    <a:pt x="163" y="147"/>
                    <a:pt x="177" y="97"/>
                  </a:cubicBezTo>
                  <a:cubicBezTo>
                    <a:pt x="183" y="74"/>
                    <a:pt x="185" y="45"/>
                    <a:pt x="210" y="37"/>
                  </a:cubicBezTo>
                  <a:cubicBezTo>
                    <a:pt x="222" y="98"/>
                    <a:pt x="222" y="163"/>
                    <a:pt x="237" y="223"/>
                  </a:cubicBezTo>
                  <a:cubicBezTo>
                    <a:pt x="242" y="186"/>
                    <a:pt x="247" y="149"/>
                    <a:pt x="255" y="112"/>
                  </a:cubicBezTo>
                  <a:cubicBezTo>
                    <a:pt x="259" y="96"/>
                    <a:pt x="259" y="82"/>
                    <a:pt x="276" y="76"/>
                  </a:cubicBezTo>
                  <a:cubicBezTo>
                    <a:pt x="289" y="80"/>
                    <a:pt x="288" y="87"/>
                    <a:pt x="291" y="100"/>
                  </a:cubicBezTo>
                  <a:cubicBezTo>
                    <a:pt x="297" y="150"/>
                    <a:pt x="298" y="199"/>
                    <a:pt x="300" y="250"/>
                  </a:cubicBezTo>
                  <a:cubicBezTo>
                    <a:pt x="299" y="287"/>
                    <a:pt x="299" y="324"/>
                    <a:pt x="297" y="361"/>
                  </a:cubicBezTo>
                  <a:cubicBezTo>
                    <a:pt x="297" y="369"/>
                    <a:pt x="294" y="393"/>
                    <a:pt x="294" y="385"/>
                  </a:cubicBezTo>
                  <a:cubicBezTo>
                    <a:pt x="294" y="370"/>
                    <a:pt x="295" y="355"/>
                    <a:pt x="297" y="340"/>
                  </a:cubicBezTo>
                  <a:cubicBezTo>
                    <a:pt x="298" y="332"/>
                    <a:pt x="303" y="316"/>
                    <a:pt x="303" y="316"/>
                  </a:cubicBezTo>
                  <a:cubicBezTo>
                    <a:pt x="310" y="242"/>
                    <a:pt x="311" y="168"/>
                    <a:pt x="318" y="94"/>
                  </a:cubicBezTo>
                  <a:cubicBezTo>
                    <a:pt x="320" y="73"/>
                    <a:pt x="325" y="33"/>
                    <a:pt x="348" y="25"/>
                  </a:cubicBezTo>
                  <a:cubicBezTo>
                    <a:pt x="371" y="37"/>
                    <a:pt x="364" y="74"/>
                    <a:pt x="366" y="97"/>
                  </a:cubicBezTo>
                  <a:cubicBezTo>
                    <a:pt x="379" y="246"/>
                    <a:pt x="367" y="88"/>
                    <a:pt x="375" y="196"/>
                  </a:cubicBezTo>
                  <a:cubicBezTo>
                    <a:pt x="389" y="155"/>
                    <a:pt x="386" y="98"/>
                    <a:pt x="408" y="64"/>
                  </a:cubicBezTo>
                  <a:cubicBezTo>
                    <a:pt x="423" y="69"/>
                    <a:pt x="420" y="78"/>
                    <a:pt x="423" y="94"/>
                  </a:cubicBezTo>
                  <a:cubicBezTo>
                    <a:pt x="424" y="114"/>
                    <a:pt x="425" y="134"/>
                    <a:pt x="426" y="154"/>
                  </a:cubicBezTo>
                  <a:cubicBezTo>
                    <a:pt x="427" y="166"/>
                    <a:pt x="426" y="178"/>
                    <a:pt x="429" y="190"/>
                  </a:cubicBezTo>
                  <a:cubicBezTo>
                    <a:pt x="430" y="195"/>
                    <a:pt x="431" y="180"/>
                    <a:pt x="432" y="175"/>
                  </a:cubicBezTo>
                  <a:cubicBezTo>
                    <a:pt x="435" y="158"/>
                    <a:pt x="437" y="148"/>
                    <a:pt x="438" y="130"/>
                  </a:cubicBezTo>
                  <a:cubicBezTo>
                    <a:pt x="440" y="101"/>
                    <a:pt x="438" y="33"/>
                    <a:pt x="468" y="13"/>
                  </a:cubicBezTo>
                  <a:cubicBezTo>
                    <a:pt x="501" y="20"/>
                    <a:pt x="495" y="58"/>
                    <a:pt x="504" y="85"/>
                  </a:cubicBezTo>
                  <a:cubicBezTo>
                    <a:pt x="509" y="123"/>
                    <a:pt x="516" y="161"/>
                    <a:pt x="519" y="199"/>
                  </a:cubicBezTo>
                  <a:cubicBezTo>
                    <a:pt x="522" y="175"/>
                    <a:pt x="528" y="108"/>
                    <a:pt x="549" y="94"/>
                  </a:cubicBezTo>
                  <a:cubicBezTo>
                    <a:pt x="559" y="79"/>
                    <a:pt x="572" y="88"/>
                    <a:pt x="582" y="73"/>
                  </a:cubicBezTo>
                  <a:cubicBezTo>
                    <a:pt x="588" y="48"/>
                    <a:pt x="570" y="14"/>
                    <a:pt x="600" y="7"/>
                  </a:cubicBezTo>
                  <a:cubicBezTo>
                    <a:pt x="626" y="12"/>
                    <a:pt x="625" y="25"/>
                    <a:pt x="633" y="49"/>
                  </a:cubicBezTo>
                  <a:cubicBezTo>
                    <a:pt x="635" y="55"/>
                    <a:pt x="639" y="67"/>
                    <a:pt x="639" y="67"/>
                  </a:cubicBezTo>
                  <a:cubicBezTo>
                    <a:pt x="649" y="146"/>
                    <a:pt x="644" y="99"/>
                    <a:pt x="648" y="208"/>
                  </a:cubicBezTo>
                  <a:cubicBezTo>
                    <a:pt x="647" y="263"/>
                    <a:pt x="647" y="318"/>
                    <a:pt x="645" y="373"/>
                  </a:cubicBezTo>
                  <a:cubicBezTo>
                    <a:pt x="645" y="385"/>
                    <a:pt x="642" y="421"/>
                    <a:pt x="642" y="409"/>
                  </a:cubicBezTo>
                  <a:cubicBezTo>
                    <a:pt x="642" y="357"/>
                    <a:pt x="647" y="307"/>
                    <a:pt x="660" y="256"/>
                  </a:cubicBezTo>
                  <a:cubicBezTo>
                    <a:pt x="662" y="231"/>
                    <a:pt x="659" y="171"/>
                    <a:pt x="684" y="154"/>
                  </a:cubicBezTo>
                  <a:cubicBezTo>
                    <a:pt x="708" y="162"/>
                    <a:pt x="698" y="216"/>
                    <a:pt x="699" y="229"/>
                  </a:cubicBezTo>
                  <a:cubicBezTo>
                    <a:pt x="705" y="210"/>
                    <a:pt x="713" y="192"/>
                    <a:pt x="717" y="172"/>
                  </a:cubicBezTo>
                  <a:cubicBezTo>
                    <a:pt x="717" y="168"/>
                    <a:pt x="713" y="31"/>
                    <a:pt x="735" y="16"/>
                  </a:cubicBezTo>
                  <a:cubicBezTo>
                    <a:pt x="742" y="17"/>
                    <a:pt x="750" y="16"/>
                    <a:pt x="756" y="19"/>
                  </a:cubicBezTo>
                  <a:cubicBezTo>
                    <a:pt x="762" y="22"/>
                    <a:pt x="764" y="36"/>
                    <a:pt x="765" y="40"/>
                  </a:cubicBezTo>
                  <a:cubicBezTo>
                    <a:pt x="770" y="59"/>
                    <a:pt x="777" y="78"/>
                    <a:pt x="780" y="97"/>
                  </a:cubicBezTo>
                  <a:cubicBezTo>
                    <a:pt x="782" y="109"/>
                    <a:pt x="786" y="133"/>
                    <a:pt x="786" y="133"/>
                  </a:cubicBezTo>
                  <a:cubicBezTo>
                    <a:pt x="788" y="114"/>
                    <a:pt x="782" y="94"/>
                    <a:pt x="801" y="88"/>
                  </a:cubicBezTo>
                  <a:cubicBezTo>
                    <a:pt x="806" y="89"/>
                    <a:pt x="812" y="87"/>
                    <a:pt x="816" y="91"/>
                  </a:cubicBezTo>
                  <a:cubicBezTo>
                    <a:pt x="818" y="93"/>
                    <a:pt x="830" y="123"/>
                    <a:pt x="831" y="127"/>
                  </a:cubicBezTo>
                  <a:cubicBezTo>
                    <a:pt x="838" y="105"/>
                    <a:pt x="844" y="91"/>
                    <a:pt x="849" y="67"/>
                  </a:cubicBezTo>
                  <a:cubicBezTo>
                    <a:pt x="851" y="58"/>
                    <a:pt x="873" y="52"/>
                    <a:pt x="873" y="52"/>
                  </a:cubicBezTo>
                  <a:cubicBezTo>
                    <a:pt x="887" y="61"/>
                    <a:pt x="889" y="81"/>
                    <a:pt x="891" y="97"/>
                  </a:cubicBezTo>
                  <a:cubicBezTo>
                    <a:pt x="895" y="127"/>
                    <a:pt x="897" y="156"/>
                    <a:pt x="906" y="184"/>
                  </a:cubicBezTo>
                  <a:cubicBezTo>
                    <a:pt x="915" y="170"/>
                    <a:pt x="915" y="164"/>
                    <a:pt x="912" y="148"/>
                  </a:cubicBezTo>
                  <a:cubicBezTo>
                    <a:pt x="912" y="142"/>
                    <a:pt x="894" y="57"/>
                    <a:pt x="927" y="46"/>
                  </a:cubicBezTo>
                  <a:cubicBezTo>
                    <a:pt x="946" y="53"/>
                    <a:pt x="943" y="55"/>
                    <a:pt x="948" y="73"/>
                  </a:cubicBezTo>
                  <a:cubicBezTo>
                    <a:pt x="953" y="114"/>
                    <a:pt x="955" y="155"/>
                    <a:pt x="957" y="196"/>
                  </a:cubicBezTo>
                  <a:cubicBezTo>
                    <a:pt x="968" y="162"/>
                    <a:pt x="955" y="117"/>
                    <a:pt x="990" y="94"/>
                  </a:cubicBezTo>
                  <a:cubicBezTo>
                    <a:pt x="991" y="85"/>
                    <a:pt x="987" y="73"/>
                    <a:pt x="993" y="67"/>
                  </a:cubicBezTo>
                  <a:cubicBezTo>
                    <a:pt x="998" y="62"/>
                    <a:pt x="1012" y="63"/>
                    <a:pt x="1014" y="70"/>
                  </a:cubicBezTo>
                  <a:cubicBezTo>
                    <a:pt x="1021" y="92"/>
                    <a:pt x="1016" y="116"/>
                    <a:pt x="1017" y="139"/>
                  </a:cubicBezTo>
                  <a:cubicBezTo>
                    <a:pt x="1019" y="111"/>
                    <a:pt x="1015" y="61"/>
                    <a:pt x="1041" y="43"/>
                  </a:cubicBezTo>
                  <a:cubicBezTo>
                    <a:pt x="1065" y="48"/>
                    <a:pt x="1059" y="58"/>
                    <a:pt x="1062" y="82"/>
                  </a:cubicBezTo>
                  <a:cubicBezTo>
                    <a:pt x="1065" y="151"/>
                    <a:pt x="1069" y="216"/>
                    <a:pt x="1071" y="286"/>
                  </a:cubicBezTo>
                  <a:cubicBezTo>
                    <a:pt x="1073" y="258"/>
                    <a:pt x="1075" y="230"/>
                    <a:pt x="1077" y="202"/>
                  </a:cubicBezTo>
                  <a:cubicBezTo>
                    <a:pt x="1080" y="160"/>
                    <a:pt x="1068" y="63"/>
                    <a:pt x="1107" y="37"/>
                  </a:cubicBezTo>
                  <a:cubicBezTo>
                    <a:pt x="1132" y="45"/>
                    <a:pt x="1124" y="110"/>
                    <a:pt x="1125" y="127"/>
                  </a:cubicBezTo>
                  <a:cubicBezTo>
                    <a:pt x="1124" y="201"/>
                    <a:pt x="1122" y="349"/>
                    <a:pt x="1122" y="3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38400" y="4687920"/>
              <a:ext cx="795240" cy="804600"/>
            </a:xfrm>
            <a:custGeom>
              <a:avLst/>
              <a:gdLst/>
              <a:ahLst/>
              <a:rect l="l" t="t" r="r" b="b"/>
              <a:pathLst>
                <a:path w="501" h="345">
                  <a:moveTo>
                    <a:pt x="3" y="324"/>
                  </a:moveTo>
                  <a:cubicBezTo>
                    <a:pt x="23" y="226"/>
                    <a:pt x="0" y="345"/>
                    <a:pt x="15" y="108"/>
                  </a:cubicBezTo>
                  <a:cubicBezTo>
                    <a:pt x="17" y="72"/>
                    <a:pt x="27" y="0"/>
                    <a:pt x="27" y="0"/>
                  </a:cubicBezTo>
                  <a:cubicBezTo>
                    <a:pt x="29" y="6"/>
                    <a:pt x="27" y="18"/>
                    <a:pt x="33" y="18"/>
                  </a:cubicBezTo>
                  <a:cubicBezTo>
                    <a:pt x="39" y="18"/>
                    <a:pt x="33" y="0"/>
                    <a:pt x="39" y="0"/>
                  </a:cubicBezTo>
                  <a:cubicBezTo>
                    <a:pt x="46" y="0"/>
                    <a:pt x="47" y="12"/>
                    <a:pt x="51" y="18"/>
                  </a:cubicBezTo>
                  <a:cubicBezTo>
                    <a:pt x="56" y="66"/>
                    <a:pt x="58" y="152"/>
                    <a:pt x="75" y="204"/>
                  </a:cubicBezTo>
                  <a:cubicBezTo>
                    <a:pt x="77" y="178"/>
                    <a:pt x="72" y="151"/>
                    <a:pt x="81" y="126"/>
                  </a:cubicBezTo>
                  <a:cubicBezTo>
                    <a:pt x="83" y="119"/>
                    <a:pt x="97" y="131"/>
                    <a:pt x="99" y="138"/>
                  </a:cubicBezTo>
                  <a:cubicBezTo>
                    <a:pt x="107" y="161"/>
                    <a:pt x="111" y="210"/>
                    <a:pt x="111" y="210"/>
                  </a:cubicBezTo>
                  <a:cubicBezTo>
                    <a:pt x="115" y="204"/>
                    <a:pt x="116" y="192"/>
                    <a:pt x="123" y="192"/>
                  </a:cubicBezTo>
                  <a:cubicBezTo>
                    <a:pt x="133" y="192"/>
                    <a:pt x="125" y="240"/>
                    <a:pt x="135" y="192"/>
                  </a:cubicBezTo>
                  <a:cubicBezTo>
                    <a:pt x="140" y="168"/>
                    <a:pt x="141" y="144"/>
                    <a:pt x="147" y="120"/>
                  </a:cubicBezTo>
                  <a:cubicBezTo>
                    <a:pt x="151" y="104"/>
                    <a:pt x="159" y="72"/>
                    <a:pt x="159" y="72"/>
                  </a:cubicBezTo>
                  <a:cubicBezTo>
                    <a:pt x="161" y="138"/>
                    <a:pt x="158" y="204"/>
                    <a:pt x="165" y="270"/>
                  </a:cubicBezTo>
                  <a:cubicBezTo>
                    <a:pt x="166" y="279"/>
                    <a:pt x="176" y="237"/>
                    <a:pt x="177" y="246"/>
                  </a:cubicBezTo>
                  <a:cubicBezTo>
                    <a:pt x="180" y="266"/>
                    <a:pt x="171" y="326"/>
                    <a:pt x="171" y="306"/>
                  </a:cubicBezTo>
                  <a:cubicBezTo>
                    <a:pt x="171" y="278"/>
                    <a:pt x="172" y="250"/>
                    <a:pt x="177" y="222"/>
                  </a:cubicBezTo>
                  <a:cubicBezTo>
                    <a:pt x="180" y="203"/>
                    <a:pt x="195" y="168"/>
                    <a:pt x="195" y="168"/>
                  </a:cubicBezTo>
                  <a:cubicBezTo>
                    <a:pt x="197" y="182"/>
                    <a:pt x="193" y="199"/>
                    <a:pt x="201" y="210"/>
                  </a:cubicBezTo>
                  <a:cubicBezTo>
                    <a:pt x="205" y="216"/>
                    <a:pt x="207" y="188"/>
                    <a:pt x="213" y="192"/>
                  </a:cubicBezTo>
                  <a:cubicBezTo>
                    <a:pt x="221" y="198"/>
                    <a:pt x="217" y="212"/>
                    <a:pt x="219" y="222"/>
                  </a:cubicBezTo>
                  <a:cubicBezTo>
                    <a:pt x="217" y="246"/>
                    <a:pt x="213" y="270"/>
                    <a:pt x="213" y="294"/>
                  </a:cubicBezTo>
                  <a:cubicBezTo>
                    <a:pt x="213" y="304"/>
                    <a:pt x="211" y="270"/>
                    <a:pt x="219" y="264"/>
                  </a:cubicBezTo>
                  <a:cubicBezTo>
                    <a:pt x="225" y="260"/>
                    <a:pt x="237" y="299"/>
                    <a:pt x="237" y="300"/>
                  </a:cubicBezTo>
                  <a:cubicBezTo>
                    <a:pt x="241" y="292"/>
                    <a:pt x="242" y="281"/>
                    <a:pt x="249" y="276"/>
                  </a:cubicBezTo>
                  <a:cubicBezTo>
                    <a:pt x="259" y="268"/>
                    <a:pt x="277" y="274"/>
                    <a:pt x="285" y="264"/>
                  </a:cubicBezTo>
                  <a:cubicBezTo>
                    <a:pt x="293" y="255"/>
                    <a:pt x="289" y="240"/>
                    <a:pt x="291" y="228"/>
                  </a:cubicBezTo>
                  <a:cubicBezTo>
                    <a:pt x="297" y="240"/>
                    <a:pt x="296" y="267"/>
                    <a:pt x="309" y="264"/>
                  </a:cubicBezTo>
                  <a:cubicBezTo>
                    <a:pt x="338" y="257"/>
                    <a:pt x="295" y="182"/>
                    <a:pt x="327" y="246"/>
                  </a:cubicBezTo>
                  <a:cubicBezTo>
                    <a:pt x="338" y="322"/>
                    <a:pt x="323" y="273"/>
                    <a:pt x="369" y="258"/>
                  </a:cubicBezTo>
                  <a:cubicBezTo>
                    <a:pt x="371" y="268"/>
                    <a:pt x="371" y="297"/>
                    <a:pt x="375" y="288"/>
                  </a:cubicBezTo>
                  <a:cubicBezTo>
                    <a:pt x="385" y="266"/>
                    <a:pt x="387" y="216"/>
                    <a:pt x="387" y="216"/>
                  </a:cubicBezTo>
                  <a:cubicBezTo>
                    <a:pt x="391" y="232"/>
                    <a:pt x="400" y="274"/>
                    <a:pt x="411" y="282"/>
                  </a:cubicBezTo>
                  <a:cubicBezTo>
                    <a:pt x="415" y="285"/>
                    <a:pt x="451" y="273"/>
                    <a:pt x="459" y="270"/>
                  </a:cubicBezTo>
                  <a:cubicBezTo>
                    <a:pt x="461" y="276"/>
                    <a:pt x="461" y="284"/>
                    <a:pt x="465" y="288"/>
                  </a:cubicBezTo>
                  <a:cubicBezTo>
                    <a:pt x="473" y="296"/>
                    <a:pt x="501" y="298"/>
                    <a:pt x="501" y="28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62320" y="1905120"/>
            <a:ext cx="1523880" cy="3352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3920" y="3962520"/>
            <a:ext cx="1143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572000"/>
            <a:ext cx="68580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close b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81280" y="1981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3016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intermediate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32004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3886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far awa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240" y="4191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412-EADA-4F37-B40D-18DD3782E1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used by time delayed multipath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impact on burst error rate of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multipath is delayed and is received during next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low bit-error-rate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(digital transmission rate) limited by delay spread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28800" y="3429000"/>
                <a:ext cx="1030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7AC-78B2-49A8-B784-B08B3B16B4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19051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514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660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76600" y="3657600"/>
            <a:ext cx="494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55627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81480" y="296244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7440" y="29718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62360" y="485784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38680" y="48672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760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05120"/>
            <a:ext cx="38124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69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34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96080" y="5348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1066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nsmission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short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long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4267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pag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438280" y="41144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352680"/>
            <a:ext cx="5335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5257800"/>
            <a:ext cx="5335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layed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352680" y="3733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724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BD1-709F-419E-854B-3BA48AF2CE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herence Bandwid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herence bandwidth B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esents correlation between 2 fading signal envelopes at frequencies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a function of delay sp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frequencies that are larger than coherence bandwidth fade independ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ept useful in diversity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ultiple copies of same message are sent using different frequ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149-7E45-4816-B382-F3C51F7C92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channel Inter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s having the same frequency interfere with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terfering un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protection ratio for whi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so that the signals interfere the l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probability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channel probabilit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o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C35-CB22-481A-9FD4-F541634FCA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811160"/>
            <a:ext cx="6629400" cy="19814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54160"/>
            <a:ext cx="6629400" cy="15242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79260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63068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720" y="5500800"/>
            <a:ext cx="7239240" cy="175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" y="10562"/>
                </a:moveTo>
                <a:arcTo wR="10800" hR="10800" stAng="-10724229" swAng="10812364"/>
                <a:lnTo>
                  <a:pt x="10800" y="10800"/>
                </a:lnTo>
                <a:close/>
              </a:path>
              <a:path fill="none" w="21600" h="21600">
                <a:moveTo>
                  <a:pt x="3" y="10562"/>
                </a:moveTo>
                <a:arcTo wR="10800" hR="10800" stAng="-10724229" swAng="10812364"/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625000">
            <a:off x="151200" y="544356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880200">
            <a:off x="5792040" y="5443560"/>
            <a:ext cx="1371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92596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564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564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02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6049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60496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92800"/>
            <a:ext cx="4038480" cy="152280"/>
          </a:xfrm>
          <a:custGeom>
            <a:avLst/>
            <a:gdLst/>
            <a:ahLst/>
            <a:rect l="l" t="t" r="r" b="b"/>
            <a:pathLst>
              <a:path w="2538" h="72">
                <a:moveTo>
                  <a:pt x="0" y="54"/>
                </a:moveTo>
                <a:cubicBezTo>
                  <a:pt x="140" y="19"/>
                  <a:pt x="305" y="32"/>
                  <a:pt x="441" y="27"/>
                </a:cubicBezTo>
                <a:cubicBezTo>
                  <a:pt x="696" y="18"/>
                  <a:pt x="951" y="6"/>
                  <a:pt x="1206" y="0"/>
                </a:cubicBezTo>
                <a:cubicBezTo>
                  <a:pt x="1568" y="7"/>
                  <a:pt x="1923" y="29"/>
                  <a:pt x="2286" y="36"/>
                </a:cubicBezTo>
                <a:cubicBezTo>
                  <a:pt x="2353" y="44"/>
                  <a:pt x="2417" y="55"/>
                  <a:pt x="2484" y="63"/>
                </a:cubicBezTo>
                <a:cubicBezTo>
                  <a:pt x="2502" y="65"/>
                  <a:pt x="2538" y="72"/>
                  <a:pt x="2538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087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335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ky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630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072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nd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85800" y="1658880"/>
            <a:ext cx="10666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658880"/>
            <a:ext cx="4495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14400" y="776160"/>
            <a:ext cx="1600200" cy="111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914400" y="2649600"/>
            <a:ext cx="1447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649600"/>
            <a:ext cx="3657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52401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528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612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392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op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 - 12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440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5543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rat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 - 5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6399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s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- 8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7860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on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80 - 72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CE6-07E4-4C33-B81B-E332C74AB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28840"/>
          <a:ext cx="7707600" cy="4743360"/>
        </p:xfrm>
        <a:graphic>
          <a:graphicData uri="http://schemas.openxmlformats.org/drawingml/2006/table">
            <a:tbl>
              <a:tblPr/>
              <a:tblGrid>
                <a:gridCol w="2176560"/>
                <a:gridCol w="990720"/>
                <a:gridCol w="2514600"/>
                <a:gridCol w="202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fica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it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&lt; 3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fra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Hz -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kHz - 3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kHz - 3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kHz - 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/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Hz - 3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MHz - 30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pace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MHz - 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er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GHz - 3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GHz - 3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remendous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GHz - 30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8E8-23CB-4A7E-BFC0-2574652A40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wave impinges on an object which is large as compared to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, the surface of the Earth, buildings, wall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ath between transmitter and receive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obstructed by surface with sharp irregular 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aves bend around the obstacle, even when LOS (line of sight)  does no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t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s smaller than the wavelength of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propagation w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 foliage, street signs, lamp p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01F-C226-440D-BE9A-6CA2A34C1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93704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6483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428940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6553080" y="409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666880"/>
            <a:ext cx="388620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7847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708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93704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71600" y="2955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2955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175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09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09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5640" y="2454120"/>
            <a:ext cx="381240" cy="1812960"/>
            <a:chOff x="2285640" y="2454120"/>
            <a:chExt cx="381240" cy="1812960"/>
          </a:xfrm>
        </p:grpSpPr>
        <p:sp>
          <p:nvSpPr>
            <p:cNvPr id="162" name=""/>
            <p:cNvSpPr/>
            <p:nvPr/>
          </p:nvSpPr>
          <p:spPr>
            <a:xfrm flipH="1">
              <a:off x="2285640" y="28954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28954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86000" y="38098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362320" y="38098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62320" y="35046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361960" y="35046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36232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36196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38280" y="24541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666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410080" y="2057400"/>
            <a:ext cx="914400" cy="137160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4878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64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9450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36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878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7164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9450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1736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878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7164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50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36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4878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164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450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1736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267080"/>
            <a:ext cx="533520" cy="381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4878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7164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9450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172200" y="30474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3657600"/>
            <a:ext cx="533520" cy="9907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7339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038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41911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7432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ffra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590920"/>
            <a:ext cx="312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505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fle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4878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7164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9450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172200" y="32760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B98-8F2F-4DFC-9B80-4AFEBA1C0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eceived signal power at 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ransmitting pow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effective area,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ansmitting antenna gain. Assuming that the radiated power is uniformly distributed over the surface of the sph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32100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3032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72200" y="267336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V="1">
            <a:off x="6553080" y="280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355760"/>
            <a:ext cx="3886200" cy="11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3063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200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35268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371600" y="133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24224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1339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2666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6668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5640" y="1219320"/>
            <a:ext cx="381240" cy="1812960"/>
            <a:chOff x="2285640" y="1219320"/>
            <a:chExt cx="381240" cy="1812960"/>
          </a:xfrm>
        </p:grpSpPr>
        <p:sp>
          <p:nvSpPr>
            <p:cNvPr id="258" name=""/>
            <p:cNvSpPr/>
            <p:nvPr/>
          </p:nvSpPr>
          <p:spPr>
            <a:xfrm flipH="1">
              <a:off x="2285640" y="16606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16606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86000" y="2575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362320" y="25750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62320" y="22698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361960" y="22698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6232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36196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8280" y="12193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1432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460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72428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325600" y="4386240"/>
                <a:ext cx="1560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  <m:r>
                          <m:t xml:space="preserve">G</m:t>
                        </m:r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C19-54F3-4365-8E15-0C11CA504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enna Ga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 a circular reflector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 net efficiency (depends on the electric field distribution over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antenna aperture, losses, ohmic heating , typically 0.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f /c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speed of l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tenna with diameter = 2 m, frequency   = 6 GHz, wavelength  = 0.0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39.4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quency = 14 GHz, same diameter, wavelength = 0.021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46.9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 Higher the frequency, higher the gain for the same size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7F1-B159-4822-A094-387F8C029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8:43:44Z</dcterms:created>
  <dc:creator>A satisfied Microsoft Office User</dc:creator>
  <dc:description/>
  <dc:language>en-US</dc:language>
  <cp:lastModifiedBy>dpa</cp:lastModifiedBy>
  <dcterms:modified xsi:type="dcterms:W3CDTF">2004-01-13T17:56:57Z</dcterms:modified>
  <cp:revision>208</cp:revision>
  <dc:subject/>
  <dc:title>Radio Propagation</dc:title>
</cp:coreProperties>
</file>