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7625-2324-4511-AB1F-FCC5AFCD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5FF5-C318-46A5-8EF1-EECD4AD3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569C-3644-4345-B827-90D49BCC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8B7F-9249-46E6-8E79-6BA21C10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F082-1278-4EFA-9340-96417E810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7E5B-90DD-4B78-910C-DFE533D8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4717-73AE-4BA8-843E-260EB949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1D3C-C581-4EB1-8A05-9E10787B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D786-FCD5-466A-939D-CE38BA4C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B4D3-E111-475C-BCA1-954CAA7D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BB3D-2693-4495-821D-92E1D87E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F439-5713-4F5A-9AD7-494992D6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029F-B577-438E-80B7-4C474335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223D-BEE5-445F-9DB1-28A7218D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C053-021D-4389-906E-19B74D9A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74EF-DA30-48AC-836C-B99B13C3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D4B9-098B-420C-86FA-D18B82E2F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B380-E767-4255-8FE5-5C1C7619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644E-9F5F-4D67-88E8-A8E91A61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E9F3-DC3E-4B4D-9274-EA9ECE32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A65D-A58A-48AE-B913-49DA2901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6BCC-DA19-47A6-B5FD-F2653DFA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8013-9FE1-43FE-BA3E-FE449CBE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8E22-229A-469F-A665-85C97F3D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351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35100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773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773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7002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24300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033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B0A9-65E3-49CC-B307-B27D771D3F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6320" y="6477120"/>
            <a:ext cx="69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Copyright © 2003, Dr. Dharma P. Agrawal and Dr. Qing-An Zeng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35000" y="304920"/>
            <a:ext cx="9009000" cy="1052280"/>
            <a:chOff x="135000" y="304920"/>
            <a:chExt cx="9009000" cy="1052280"/>
          </a:xfrm>
        </p:grpSpPr>
        <p:grpSp>
          <p:nvGrpSpPr>
            <p:cNvPr id="50" name=""/>
            <p:cNvGrpSpPr/>
            <p:nvPr/>
          </p:nvGrpSpPr>
          <p:grpSpPr>
            <a:xfrm>
              <a:off x="425520" y="412560"/>
              <a:ext cx="711360" cy="474480"/>
              <a:chOff x="425520" y="412560"/>
              <a:chExt cx="711360" cy="474480"/>
            </a:xfrm>
          </p:grpSpPr>
          <p:sp>
            <p:nvSpPr>
              <p:cNvPr id="51" name=""/>
              <p:cNvSpPr/>
              <p:nvPr/>
            </p:nvSpPr>
            <p:spPr>
              <a:xfrm>
                <a:off x="425520" y="41256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08560" y="4125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549360" y="834840"/>
              <a:ext cx="737640" cy="474480"/>
              <a:chOff x="549360" y="834840"/>
              <a:chExt cx="737640" cy="474480"/>
            </a:xfrm>
          </p:grpSpPr>
          <p:sp>
            <p:nvSpPr>
              <p:cNvPr id="54" name=""/>
              <p:cNvSpPr/>
              <p:nvPr/>
            </p:nvSpPr>
            <p:spPr>
              <a:xfrm>
                <a:off x="549360" y="83484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918000" y="8348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35000" y="7617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70040" y="3049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51080" y="11260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43ED-0606-4CD2-984D-512547C75C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6477120"/>
            <a:ext cx="69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Copyright © 2002, Dr. Dharma P. Agrawal and Dr. Qing-An Zeng.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759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hapter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3123720"/>
            <a:ext cx="777240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obile Radio Propaga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937E-D544-4EE0-93D3-AF56CA4482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and Propag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received signal power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G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is the receiver antenna gai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is the propagation loss in the channel, i.e.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L = L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ahoma"/>
              </a:rPr>
              <a:t>P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 L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 L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965240" y="1800360"/>
                <a:ext cx="19368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 flipV="1">
            <a:off x="2286000" y="4419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04812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4800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81280" y="4572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ast f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743200" y="4419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581280" y="5029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low f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43200" y="5257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81280" y="548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th 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0" y="5715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793D-5231-4E63-A04F-3025491D9A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ath Loss (Free-spac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ition of path loss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L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ahoma"/>
              </a:rPr>
              <a:t>P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ath Loss in Free-sp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f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is the carrier frequenc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is shows greater the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f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ahoma"/>
              </a:rPr>
              <a:t>c ,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more is the lo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1758960" y="1968480"/>
                <a:ext cx="14288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353960" y="3768840"/>
                <a:ext cx="68947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Hz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m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30E9-87A9-47BE-B66D-2DC181100E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ath Loss (Land Propagation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mplest Formula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and </a:t>
            </a:r>
            <a:r>
              <a:rPr b="0" lang="el-G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 propag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: distance between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: value of 3 ~ 4 in typical urban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BE95-5E95-4A49-9179-27DE501006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xample of Path Loss (Free-spac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219320" y="1447920"/>
          <a:ext cx="691020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69102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90DE-FB9E-4379-8CB2-D0BFED8418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ath Loss (Urban, Suburban and Open areas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rban ar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uburban ar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pen ar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914400" y="1752480"/>
                <a:ext cx="74628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U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Hz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762120" y="2971800"/>
                <a:ext cx="827244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g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Hz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7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6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g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Hz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or</m:t>
                            </m:r>
                            <m:r>
                              <m:t xml:space="preserve"> 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ity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1066680" y="4495680"/>
                <a:ext cx="49532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  <m:f>
                              <m:num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Hz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066680" y="5791320"/>
                <a:ext cx="77742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Hz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Hz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0A04-E83F-4B12-B849-EB792CE419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ath Lo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ath loss in decreasing ord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rban area (large city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rban area (medium and small c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uburban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pen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4E71-337B-4068-9923-4A6853DA4D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ample of Path Loss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rban Area: Large City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914400" y="1295280"/>
          <a:ext cx="7391520" cy="494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7391520" cy="49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57A7-CF2D-4E2D-BBF7-D93464CB2A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ample of Path Loss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rban Area: Medium and Small Cities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914400" y="1295280"/>
          <a:ext cx="7238880" cy="508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723888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9D7C-1D7F-48AB-B23C-FB258E4386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ample of Path Loss (Suburban Area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4400" y="1295280"/>
          <a:ext cx="7391520" cy="500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739152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7BA6-C8DB-42C5-86AE-8F92699C64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ample of Path Loss (Open Area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990720" y="1295280"/>
          <a:ext cx="7391160" cy="497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95280"/>
                    <a:ext cx="7391160" cy="49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C8DE-1EDE-4555-A6F4-AB8E06A8E9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2640" y="106632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peed, Wavelength, Frequ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ypes of Wa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Radio Frequency B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pagation Mechanis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Radio Propagation Eff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ee-Space Propag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and Propag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ath Lo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ading: Slow Fading / Fast Fa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elay Spr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oppler Shif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-Channel Interfer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 Near-Far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igital Wireless Communication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nalog and Digital Sign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odulation Techniqu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6A6D-D0A9-4DE1-B44D-44991651C1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ad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300996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2436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93760" y="1066680"/>
            <a:ext cx="0" cy="1335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098800" y="2409840"/>
            <a:ext cx="41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98800" y="1600200"/>
            <a:ext cx="401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03480" y="4317840"/>
            <a:ext cx="41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03480" y="3508200"/>
            <a:ext cx="401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990880" y="321948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435480" y="321948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90880" y="3292560"/>
            <a:ext cx="44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098800" y="2973240"/>
            <a:ext cx="0" cy="1335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98800" y="6016680"/>
            <a:ext cx="41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093760" y="4329000"/>
            <a:ext cx="892440" cy="92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255840" y="4343400"/>
            <a:ext cx="2840040" cy="96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86200" y="525636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5840" y="531180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93760" y="4672080"/>
            <a:ext cx="0" cy="1334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2055960" y="4249080"/>
            <a:ext cx="7724160" cy="132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8585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85854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4800600"/>
            <a:ext cx="133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ignal Str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(d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low" descr=""/>
          <p:cNvPicPr/>
          <p:nvPr/>
        </p:nvPicPr>
        <p:blipFill>
          <a:blip r:embed="rId1"/>
          <a:stretch/>
        </p:blipFill>
        <p:spPr>
          <a:xfrm>
            <a:off x="2133720" y="3233880"/>
            <a:ext cx="3809880" cy="8809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133720" y="35053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581280" y="2514240"/>
            <a:ext cx="243864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133720" y="2438280"/>
            <a:ext cx="114300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767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5812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40000" y="6095880"/>
            <a:ext cx="1332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35840" y="5410080"/>
            <a:ext cx="133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ath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72200" y="3276720"/>
            <a:ext cx="2209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low Fading (Long-term fad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72200" y="1295280"/>
            <a:ext cx="2209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ast Fading  (Short-term fad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3720" y="16002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97000" y="1255680"/>
            <a:ext cx="3922920" cy="878040"/>
          </a:xfrm>
          <a:custGeom>
            <a:avLst/>
            <a:gdLst/>
            <a:ahLst/>
            <a:rect l="l" t="t" r="r" b="b"/>
            <a:pathLst>
              <a:path w="2471" h="553">
                <a:moveTo>
                  <a:pt x="5" y="534"/>
                </a:moveTo>
                <a:cubicBezTo>
                  <a:pt x="24" y="478"/>
                  <a:pt x="0" y="553"/>
                  <a:pt x="17" y="414"/>
                </a:cubicBezTo>
                <a:cubicBezTo>
                  <a:pt x="20" y="385"/>
                  <a:pt x="32" y="352"/>
                  <a:pt x="41" y="324"/>
                </a:cubicBezTo>
                <a:cubicBezTo>
                  <a:pt x="49" y="188"/>
                  <a:pt x="47" y="251"/>
                  <a:pt x="71" y="162"/>
                </a:cubicBezTo>
                <a:cubicBezTo>
                  <a:pt x="86" y="107"/>
                  <a:pt x="67" y="119"/>
                  <a:pt x="101" y="108"/>
                </a:cubicBezTo>
                <a:cubicBezTo>
                  <a:pt x="114" y="148"/>
                  <a:pt x="122" y="207"/>
                  <a:pt x="167" y="222"/>
                </a:cubicBezTo>
                <a:cubicBezTo>
                  <a:pt x="175" y="220"/>
                  <a:pt x="185" y="221"/>
                  <a:pt x="191" y="216"/>
                </a:cubicBezTo>
                <a:cubicBezTo>
                  <a:pt x="202" y="207"/>
                  <a:pt x="192" y="183"/>
                  <a:pt x="203" y="174"/>
                </a:cubicBezTo>
                <a:cubicBezTo>
                  <a:pt x="213" y="166"/>
                  <a:pt x="239" y="162"/>
                  <a:pt x="239" y="162"/>
                </a:cubicBezTo>
                <a:cubicBezTo>
                  <a:pt x="266" y="122"/>
                  <a:pt x="261" y="97"/>
                  <a:pt x="269" y="42"/>
                </a:cubicBezTo>
                <a:cubicBezTo>
                  <a:pt x="275" y="0"/>
                  <a:pt x="264" y="10"/>
                  <a:pt x="293" y="0"/>
                </a:cubicBezTo>
                <a:cubicBezTo>
                  <a:pt x="339" y="31"/>
                  <a:pt x="312" y="94"/>
                  <a:pt x="341" y="138"/>
                </a:cubicBezTo>
                <a:cubicBezTo>
                  <a:pt x="349" y="136"/>
                  <a:pt x="358" y="137"/>
                  <a:pt x="365" y="132"/>
                </a:cubicBezTo>
                <a:cubicBezTo>
                  <a:pt x="393" y="113"/>
                  <a:pt x="359" y="108"/>
                  <a:pt x="395" y="120"/>
                </a:cubicBezTo>
                <a:cubicBezTo>
                  <a:pt x="407" y="157"/>
                  <a:pt x="426" y="136"/>
                  <a:pt x="449" y="120"/>
                </a:cubicBezTo>
                <a:cubicBezTo>
                  <a:pt x="493" y="127"/>
                  <a:pt x="524" y="150"/>
                  <a:pt x="545" y="192"/>
                </a:cubicBezTo>
                <a:cubicBezTo>
                  <a:pt x="565" y="232"/>
                  <a:pt x="556" y="296"/>
                  <a:pt x="605" y="312"/>
                </a:cubicBezTo>
                <a:cubicBezTo>
                  <a:pt x="637" y="301"/>
                  <a:pt x="615" y="293"/>
                  <a:pt x="647" y="282"/>
                </a:cubicBezTo>
                <a:cubicBezTo>
                  <a:pt x="658" y="315"/>
                  <a:pt x="652" y="321"/>
                  <a:pt x="689" y="312"/>
                </a:cubicBezTo>
                <a:cubicBezTo>
                  <a:pt x="696" y="282"/>
                  <a:pt x="706" y="252"/>
                  <a:pt x="713" y="222"/>
                </a:cubicBezTo>
                <a:cubicBezTo>
                  <a:pt x="727" y="160"/>
                  <a:pt x="727" y="90"/>
                  <a:pt x="797" y="72"/>
                </a:cubicBezTo>
                <a:cubicBezTo>
                  <a:pt x="849" y="81"/>
                  <a:pt x="826" y="83"/>
                  <a:pt x="863" y="108"/>
                </a:cubicBezTo>
                <a:cubicBezTo>
                  <a:pt x="874" y="142"/>
                  <a:pt x="894" y="192"/>
                  <a:pt x="929" y="204"/>
                </a:cubicBezTo>
                <a:cubicBezTo>
                  <a:pt x="982" y="186"/>
                  <a:pt x="924" y="138"/>
                  <a:pt x="977" y="120"/>
                </a:cubicBezTo>
                <a:cubicBezTo>
                  <a:pt x="980" y="167"/>
                  <a:pt x="958" y="263"/>
                  <a:pt x="1019" y="222"/>
                </a:cubicBezTo>
                <a:cubicBezTo>
                  <a:pt x="1023" y="210"/>
                  <a:pt x="1032" y="160"/>
                  <a:pt x="1049" y="150"/>
                </a:cubicBezTo>
                <a:cubicBezTo>
                  <a:pt x="1060" y="143"/>
                  <a:pt x="1085" y="138"/>
                  <a:pt x="1085" y="138"/>
                </a:cubicBezTo>
                <a:cubicBezTo>
                  <a:pt x="1103" y="112"/>
                  <a:pt x="1107" y="102"/>
                  <a:pt x="1127" y="132"/>
                </a:cubicBezTo>
                <a:cubicBezTo>
                  <a:pt x="1147" y="125"/>
                  <a:pt x="1167" y="121"/>
                  <a:pt x="1187" y="114"/>
                </a:cubicBezTo>
                <a:cubicBezTo>
                  <a:pt x="1196" y="142"/>
                  <a:pt x="1201" y="162"/>
                  <a:pt x="1217" y="186"/>
                </a:cubicBezTo>
                <a:cubicBezTo>
                  <a:pt x="1264" y="155"/>
                  <a:pt x="1212" y="110"/>
                  <a:pt x="1271" y="90"/>
                </a:cubicBezTo>
                <a:cubicBezTo>
                  <a:pt x="1291" y="95"/>
                  <a:pt x="1301" y="93"/>
                  <a:pt x="1313" y="114"/>
                </a:cubicBezTo>
                <a:cubicBezTo>
                  <a:pt x="1342" y="166"/>
                  <a:pt x="1360" y="266"/>
                  <a:pt x="1367" y="324"/>
                </a:cubicBezTo>
                <a:cubicBezTo>
                  <a:pt x="1372" y="270"/>
                  <a:pt x="1372" y="216"/>
                  <a:pt x="1379" y="162"/>
                </a:cubicBezTo>
                <a:cubicBezTo>
                  <a:pt x="1381" y="149"/>
                  <a:pt x="1391" y="126"/>
                  <a:pt x="1391" y="126"/>
                </a:cubicBezTo>
                <a:cubicBezTo>
                  <a:pt x="1425" y="133"/>
                  <a:pt x="1428" y="136"/>
                  <a:pt x="1439" y="168"/>
                </a:cubicBezTo>
                <a:cubicBezTo>
                  <a:pt x="1443" y="198"/>
                  <a:pt x="1439" y="372"/>
                  <a:pt x="1457" y="264"/>
                </a:cubicBezTo>
                <a:cubicBezTo>
                  <a:pt x="1458" y="245"/>
                  <a:pt x="1455" y="156"/>
                  <a:pt x="1475" y="126"/>
                </a:cubicBezTo>
                <a:cubicBezTo>
                  <a:pt x="1484" y="113"/>
                  <a:pt x="1496" y="103"/>
                  <a:pt x="1505" y="90"/>
                </a:cubicBezTo>
                <a:cubicBezTo>
                  <a:pt x="1513" y="92"/>
                  <a:pt x="1522" y="91"/>
                  <a:pt x="1529" y="96"/>
                </a:cubicBezTo>
                <a:cubicBezTo>
                  <a:pt x="1557" y="115"/>
                  <a:pt x="1523" y="120"/>
                  <a:pt x="1559" y="108"/>
                </a:cubicBezTo>
                <a:cubicBezTo>
                  <a:pt x="1566" y="80"/>
                  <a:pt x="1571" y="70"/>
                  <a:pt x="1595" y="54"/>
                </a:cubicBezTo>
                <a:cubicBezTo>
                  <a:pt x="1619" y="62"/>
                  <a:pt x="1623" y="72"/>
                  <a:pt x="1631" y="96"/>
                </a:cubicBezTo>
                <a:cubicBezTo>
                  <a:pt x="1662" y="86"/>
                  <a:pt x="1663" y="58"/>
                  <a:pt x="1685" y="36"/>
                </a:cubicBezTo>
                <a:cubicBezTo>
                  <a:pt x="1703" y="64"/>
                  <a:pt x="1710" y="88"/>
                  <a:pt x="1727" y="114"/>
                </a:cubicBezTo>
                <a:cubicBezTo>
                  <a:pt x="1765" y="101"/>
                  <a:pt x="1747" y="77"/>
                  <a:pt x="1781" y="66"/>
                </a:cubicBezTo>
                <a:cubicBezTo>
                  <a:pt x="1820" y="76"/>
                  <a:pt x="1822" y="80"/>
                  <a:pt x="1835" y="120"/>
                </a:cubicBezTo>
                <a:cubicBezTo>
                  <a:pt x="1839" y="132"/>
                  <a:pt x="1847" y="156"/>
                  <a:pt x="1847" y="156"/>
                </a:cubicBezTo>
                <a:cubicBezTo>
                  <a:pt x="1849" y="178"/>
                  <a:pt x="1848" y="201"/>
                  <a:pt x="1853" y="222"/>
                </a:cubicBezTo>
                <a:cubicBezTo>
                  <a:pt x="1855" y="228"/>
                  <a:pt x="1857" y="210"/>
                  <a:pt x="1859" y="204"/>
                </a:cubicBezTo>
                <a:cubicBezTo>
                  <a:pt x="1863" y="191"/>
                  <a:pt x="1866" y="151"/>
                  <a:pt x="1883" y="138"/>
                </a:cubicBezTo>
                <a:cubicBezTo>
                  <a:pt x="1888" y="134"/>
                  <a:pt x="1895" y="134"/>
                  <a:pt x="1901" y="132"/>
                </a:cubicBezTo>
                <a:cubicBezTo>
                  <a:pt x="1907" y="134"/>
                  <a:pt x="1915" y="133"/>
                  <a:pt x="1919" y="138"/>
                </a:cubicBezTo>
                <a:cubicBezTo>
                  <a:pt x="1937" y="163"/>
                  <a:pt x="1944" y="216"/>
                  <a:pt x="1949" y="246"/>
                </a:cubicBezTo>
                <a:cubicBezTo>
                  <a:pt x="1951" y="272"/>
                  <a:pt x="1953" y="298"/>
                  <a:pt x="1955" y="324"/>
                </a:cubicBezTo>
                <a:cubicBezTo>
                  <a:pt x="1957" y="340"/>
                  <a:pt x="1945" y="372"/>
                  <a:pt x="1961" y="372"/>
                </a:cubicBezTo>
                <a:cubicBezTo>
                  <a:pt x="1983" y="372"/>
                  <a:pt x="1968" y="328"/>
                  <a:pt x="1973" y="306"/>
                </a:cubicBezTo>
                <a:cubicBezTo>
                  <a:pt x="1985" y="258"/>
                  <a:pt x="1990" y="120"/>
                  <a:pt x="2045" y="102"/>
                </a:cubicBezTo>
                <a:cubicBezTo>
                  <a:pt x="2108" y="111"/>
                  <a:pt x="2101" y="115"/>
                  <a:pt x="2117" y="168"/>
                </a:cubicBezTo>
                <a:cubicBezTo>
                  <a:pt x="2121" y="180"/>
                  <a:pt x="2125" y="192"/>
                  <a:pt x="2129" y="204"/>
                </a:cubicBezTo>
                <a:cubicBezTo>
                  <a:pt x="2131" y="210"/>
                  <a:pt x="2135" y="222"/>
                  <a:pt x="2135" y="222"/>
                </a:cubicBezTo>
                <a:cubicBezTo>
                  <a:pt x="2139" y="254"/>
                  <a:pt x="2145" y="350"/>
                  <a:pt x="2147" y="318"/>
                </a:cubicBezTo>
                <a:cubicBezTo>
                  <a:pt x="2147" y="314"/>
                  <a:pt x="2150" y="199"/>
                  <a:pt x="2159" y="168"/>
                </a:cubicBezTo>
                <a:cubicBezTo>
                  <a:pt x="2161" y="159"/>
                  <a:pt x="2164" y="149"/>
                  <a:pt x="2171" y="144"/>
                </a:cubicBezTo>
                <a:cubicBezTo>
                  <a:pt x="2181" y="136"/>
                  <a:pt x="2207" y="132"/>
                  <a:pt x="2207" y="132"/>
                </a:cubicBezTo>
                <a:cubicBezTo>
                  <a:pt x="2234" y="150"/>
                  <a:pt x="2236" y="175"/>
                  <a:pt x="2261" y="192"/>
                </a:cubicBezTo>
                <a:cubicBezTo>
                  <a:pt x="2320" y="172"/>
                  <a:pt x="2318" y="275"/>
                  <a:pt x="2321" y="312"/>
                </a:cubicBezTo>
                <a:cubicBezTo>
                  <a:pt x="2323" y="342"/>
                  <a:pt x="2324" y="372"/>
                  <a:pt x="2327" y="402"/>
                </a:cubicBezTo>
                <a:cubicBezTo>
                  <a:pt x="2330" y="428"/>
                  <a:pt x="2335" y="454"/>
                  <a:pt x="2339" y="480"/>
                </a:cubicBezTo>
                <a:cubicBezTo>
                  <a:pt x="2349" y="451"/>
                  <a:pt x="2349" y="420"/>
                  <a:pt x="2357" y="390"/>
                </a:cubicBezTo>
                <a:cubicBezTo>
                  <a:pt x="2363" y="329"/>
                  <a:pt x="2375" y="270"/>
                  <a:pt x="2387" y="210"/>
                </a:cubicBezTo>
                <a:cubicBezTo>
                  <a:pt x="2391" y="190"/>
                  <a:pt x="2417" y="156"/>
                  <a:pt x="2417" y="156"/>
                </a:cubicBezTo>
                <a:cubicBezTo>
                  <a:pt x="2429" y="158"/>
                  <a:pt x="2442" y="157"/>
                  <a:pt x="2453" y="162"/>
                </a:cubicBezTo>
                <a:cubicBezTo>
                  <a:pt x="2459" y="165"/>
                  <a:pt x="2459" y="176"/>
                  <a:pt x="2465" y="180"/>
                </a:cubicBezTo>
                <a:cubicBezTo>
                  <a:pt x="2467" y="182"/>
                  <a:pt x="2469" y="176"/>
                  <a:pt x="2471" y="17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8098-1D2F-4DEC-9030-DD089E9021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low Fad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 long-term variation in the mean level is known as slow fading 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shadowing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or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log-normal fading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. This fading caused by shadow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g-normal distribut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 The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pdf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of the received signal level is given in decibels 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s the true received signal level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n decibels, i.e., 10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10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s the area average signal level, i.e., the mean o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s the standard deviation in decib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957320" y="2819520"/>
                <a:ext cx="29955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M</m:t>
                                    </m:r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1905120" y="464832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81DE-2088-4114-9D4E-F03E3ED2B0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og-normal Distribu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5638680" cy="35733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1828800" y="48006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1028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43400" y="152388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114800" y="4876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33920" y="2438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2209680"/>
            <a:ext cx="533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67080" y="495288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10080" y="3200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(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19320" y="54864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pdf of the received sign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99B3-435D-496F-91E7-A9AA7D7AC6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69840" y="380880"/>
            <a:ext cx="779328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ast Fad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signal from the transmitter may be reflected from objects such as hills, buildings, or vehic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n MS far from BS, the envelope distribution of received signal is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Rayleigh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distribution. The pdf i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s the standard devi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iddle value r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of envelope signal within sample range to be satisfied b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e have r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1.777</a:t>
            </a:r>
            <a:r>
              <a:rPr b="0" lang="en-US" sz="2000" spc="-1" strike="noStrike">
                <a:solidFill>
                  <a:srgbClr val="3333cc"/>
                </a:solidFill>
                <a:latin typeface="Math1"/>
                <a:ea typeface="Math1"/>
              </a:rPr>
              <a:t>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1676520" y="2670120"/>
                <a:ext cx="388620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752480" y="5257800"/>
                <a:ext cx="22860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≤</m:t>
                    </m:r>
                    <m:r>
                      <m:t xml:space="preserve">r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EE1A-9BA5-4A41-B768-5088421A62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ayleigh Distribu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"/>
          <p:cNvSpPr/>
          <p:nvPr/>
        </p:nvSpPr>
        <p:spPr>
          <a:xfrm>
            <a:off x="1600200" y="6019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pdf of the envelope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219320" y="1066680"/>
            <a:ext cx="7086600" cy="4878360"/>
            <a:chOff x="1219320" y="1066680"/>
            <a:chExt cx="7086600" cy="4878360"/>
          </a:xfrm>
        </p:grpSpPr>
        <p:grpSp>
          <p:nvGrpSpPr>
            <p:cNvPr id="370" name=""/>
            <p:cNvGrpSpPr/>
            <p:nvPr/>
          </p:nvGrpSpPr>
          <p:grpSpPr>
            <a:xfrm>
              <a:off x="1219320" y="1066680"/>
              <a:ext cx="7086600" cy="4878360"/>
              <a:chOff x="1219320" y="1066680"/>
              <a:chExt cx="7086600" cy="4878360"/>
            </a:xfrm>
          </p:grpSpPr>
          <p:graphicFrame>
            <p:nvGraphicFramePr>
              <p:cNvPr id="371" name=""/>
              <p:cNvGraphicFramePr/>
              <p:nvPr/>
            </p:nvGraphicFramePr>
            <p:xfrm>
              <a:off x="1295280" y="1254240"/>
              <a:ext cx="7010640" cy="4653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7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295280" y="1254240"/>
                        <a:ext cx="7010640" cy="4653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73" name=""/>
              <p:cNvSpPr/>
              <p:nvPr/>
            </p:nvSpPr>
            <p:spPr>
              <a:xfrm>
                <a:off x="2057400" y="1600200"/>
                <a:ext cx="55627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467480" y="1752480"/>
                <a:ext cx="228600" cy="358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648320" y="5638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772400" y="51814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71800" y="5562720"/>
                <a:ext cx="3049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114800" y="5576760"/>
                <a:ext cx="3049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257800" y="5562720"/>
                <a:ext cx="3049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324480" y="5576760"/>
                <a:ext cx="3049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391520" y="5562720"/>
                <a:ext cx="4572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600200" y="106668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r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676520" y="5410080"/>
                <a:ext cx="3045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447920" y="4510080"/>
                <a:ext cx="5331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0.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447920" y="3809880"/>
                <a:ext cx="5331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0.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447920" y="3048120"/>
                <a:ext cx="5331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0.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447920" y="2286000"/>
                <a:ext cx="5331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0.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447920" y="1523880"/>
                <a:ext cx="5331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.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219320" y="3429000"/>
                <a:ext cx="685800" cy="38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 flipH="1">
              <a:off x="2743200" y="281952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52680" y="259092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3505320" y="3962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038480" y="37180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4876920" y="45720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81480" y="43434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258A-7465-4417-B506-4418919AF78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ast Fading (Continued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n MS far from BS, the envelope distribution of received signal is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Ricia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distribution. The pdf i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s the standard deviation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x) is the zero-order Bessel function of the first kind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s the amplitude of the direct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905120" y="2209680"/>
                <a:ext cx="506880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rα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AEB7-47D6-4FD3-ADAE-B79C7D98FEB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ician Distribu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7848720" y="5310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16200000">
            <a:off x="877680" y="3365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df p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1523880" y="1500120"/>
            <a:ext cx="6782040" cy="45198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4724280" y="19810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1600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724280" y="1219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 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aylei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19920" y="3505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724280" y="2438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3124080" y="144792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200400" y="190512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3809880" y="228600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4419720" y="27432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600200" y="58672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pdf of the envelope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FA41-C67E-4FC5-AA7B-AE12DAD066E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haracteristics of Instantaneous Amplitud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467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Level Crossing Rate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verage number of times per second that the signal envelope crosses the level in positive going dir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Fading Rate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umber of times signal envelope crosses middle value in positive going direction per unit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Depth of Fading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atio of mean square value and minimum value of fading sig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Fading Duration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ime for which signal is below given thresho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B61D-8855-4FE5-B3F1-A53CAA8FF43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oppler Shif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Doppler Effect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: When a wave source and a receiver are moving towards each other, the frequency of the received signal will not be the same as the sour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n they are moving toward each other, the frequency of the received signal is higher than the sour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n they are opposing each other, the frequency decreas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us, the frequency of the received signal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s the frequency of source carrier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s the Doppler frequenc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Doppler Shift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n frequenc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s the moving speed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s the wavelength of carri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600200" y="4826160"/>
                <a:ext cx="167652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1676520" y="3200400"/>
                <a:ext cx="16491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5867280" y="4419720"/>
            <a:ext cx="533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445080" y="4570560"/>
            <a:ext cx="1111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611680" y="4754520"/>
            <a:ext cx="416160" cy="72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257800" y="5486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48560" y="4267080"/>
            <a:ext cx="13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oving speed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102640" y="4102920"/>
            <a:ext cx="1573920" cy="97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399360" y="4876920"/>
            <a:ext cx="2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Math1"/>
                <a:ea typeface="Math1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C0B1-3712-4657-9201-4DBA27D431C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elay Sprea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n a signal propagates from a transmitter to a receiver, signal suffers one or more reflec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is forces signal to follow different path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ach path has different path length, so the time of arrival for each path is differ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is effect which spreads out the signal is called “Delay Spread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1D0F-8136-4A78-9638-156EFBD77A9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peed, Wavelength, Frequenc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2849400"/>
          <a:ext cx="7772400" cy="3283200"/>
        </p:xfrm>
        <a:graphic>
          <a:graphicData uri="http://schemas.openxmlformats.org/drawingml/2006/table">
            <a:tbl>
              <a:tblPr/>
              <a:tblGrid>
                <a:gridCol w="2551320"/>
                <a:gridCol w="2630520"/>
                <a:gridCol w="2590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y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requ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Waveleng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 curr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0 H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,000 k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M rad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0 MH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 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ell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800 MH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7.5 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a band satell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0 GH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5 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ltraviolet l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3333cc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H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3333cc"/>
                          </a:solidFill>
                          <a:latin typeface="Times New Roman"/>
                        </a:rPr>
                        <a:t>-7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914400" y="144792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ight speed = Wavelength x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 3 x 1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/s = 300,000 k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516E-45FA-4161-91C6-075FD095C9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oving Speed Effec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9" name=""/>
          <p:cNvSpPr/>
          <p:nvPr/>
        </p:nvSpPr>
        <p:spPr>
          <a:xfrm>
            <a:off x="1905120" y="579132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1905120" y="1523880"/>
            <a:ext cx="0" cy="426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67080" y="58672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362320" y="1752480"/>
            <a:ext cx="53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175248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00600" y="175248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175248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24200" y="2209680"/>
            <a:ext cx="1414440" cy="738360"/>
          </a:xfrm>
          <a:custGeom>
            <a:avLst/>
            <a:gdLst/>
            <a:ahLst/>
            <a:rect l="l" t="t" r="r" b="b"/>
            <a:pathLst>
              <a:path w="891" h="465">
                <a:moveTo>
                  <a:pt x="0" y="87"/>
                </a:moveTo>
                <a:cubicBezTo>
                  <a:pt x="20" y="80"/>
                  <a:pt x="21" y="54"/>
                  <a:pt x="27" y="36"/>
                </a:cubicBezTo>
                <a:cubicBezTo>
                  <a:pt x="33" y="19"/>
                  <a:pt x="43" y="15"/>
                  <a:pt x="57" y="6"/>
                </a:cubicBezTo>
                <a:cubicBezTo>
                  <a:pt x="60" y="4"/>
                  <a:pt x="66" y="0"/>
                  <a:pt x="66" y="0"/>
                </a:cubicBezTo>
                <a:cubicBezTo>
                  <a:pt x="74" y="1"/>
                  <a:pt x="83" y="0"/>
                  <a:pt x="90" y="3"/>
                </a:cubicBezTo>
                <a:cubicBezTo>
                  <a:pt x="96" y="6"/>
                  <a:pt x="96" y="15"/>
                  <a:pt x="99" y="21"/>
                </a:cubicBezTo>
                <a:cubicBezTo>
                  <a:pt x="108" y="42"/>
                  <a:pt x="108" y="85"/>
                  <a:pt x="132" y="93"/>
                </a:cubicBezTo>
                <a:cubicBezTo>
                  <a:pt x="141" y="84"/>
                  <a:pt x="147" y="79"/>
                  <a:pt x="159" y="75"/>
                </a:cubicBezTo>
                <a:cubicBezTo>
                  <a:pt x="188" y="80"/>
                  <a:pt x="183" y="96"/>
                  <a:pt x="210" y="105"/>
                </a:cubicBezTo>
                <a:cubicBezTo>
                  <a:pt x="228" y="99"/>
                  <a:pt x="234" y="99"/>
                  <a:pt x="255" y="102"/>
                </a:cubicBezTo>
                <a:cubicBezTo>
                  <a:pt x="283" y="121"/>
                  <a:pt x="302" y="151"/>
                  <a:pt x="318" y="180"/>
                </a:cubicBezTo>
                <a:cubicBezTo>
                  <a:pt x="337" y="215"/>
                  <a:pt x="324" y="181"/>
                  <a:pt x="336" y="216"/>
                </a:cubicBezTo>
                <a:cubicBezTo>
                  <a:pt x="338" y="222"/>
                  <a:pt x="342" y="234"/>
                  <a:pt x="342" y="234"/>
                </a:cubicBezTo>
                <a:cubicBezTo>
                  <a:pt x="346" y="264"/>
                  <a:pt x="345" y="276"/>
                  <a:pt x="375" y="282"/>
                </a:cubicBezTo>
                <a:cubicBezTo>
                  <a:pt x="394" y="294"/>
                  <a:pt x="385" y="319"/>
                  <a:pt x="408" y="327"/>
                </a:cubicBezTo>
                <a:cubicBezTo>
                  <a:pt x="424" y="324"/>
                  <a:pt x="428" y="319"/>
                  <a:pt x="438" y="306"/>
                </a:cubicBezTo>
                <a:cubicBezTo>
                  <a:pt x="442" y="300"/>
                  <a:pt x="443" y="290"/>
                  <a:pt x="450" y="288"/>
                </a:cubicBezTo>
                <a:cubicBezTo>
                  <a:pt x="456" y="286"/>
                  <a:pt x="468" y="282"/>
                  <a:pt x="468" y="282"/>
                </a:cubicBezTo>
                <a:cubicBezTo>
                  <a:pt x="501" y="290"/>
                  <a:pt x="489" y="332"/>
                  <a:pt x="519" y="342"/>
                </a:cubicBezTo>
                <a:cubicBezTo>
                  <a:pt x="545" y="338"/>
                  <a:pt x="551" y="328"/>
                  <a:pt x="579" y="324"/>
                </a:cubicBezTo>
                <a:cubicBezTo>
                  <a:pt x="602" y="316"/>
                  <a:pt x="591" y="317"/>
                  <a:pt x="612" y="321"/>
                </a:cubicBezTo>
                <a:cubicBezTo>
                  <a:pt x="633" y="364"/>
                  <a:pt x="640" y="378"/>
                  <a:pt x="690" y="384"/>
                </a:cubicBezTo>
                <a:cubicBezTo>
                  <a:pt x="697" y="384"/>
                  <a:pt x="743" y="376"/>
                  <a:pt x="759" y="381"/>
                </a:cubicBezTo>
                <a:cubicBezTo>
                  <a:pt x="767" y="406"/>
                  <a:pt x="787" y="412"/>
                  <a:pt x="810" y="420"/>
                </a:cubicBezTo>
                <a:cubicBezTo>
                  <a:pt x="816" y="426"/>
                  <a:pt x="823" y="429"/>
                  <a:pt x="828" y="435"/>
                </a:cubicBezTo>
                <a:cubicBezTo>
                  <a:pt x="840" y="450"/>
                  <a:pt x="820" y="438"/>
                  <a:pt x="837" y="453"/>
                </a:cubicBezTo>
                <a:cubicBezTo>
                  <a:pt x="842" y="458"/>
                  <a:pt x="855" y="465"/>
                  <a:pt x="855" y="465"/>
                </a:cubicBezTo>
                <a:cubicBezTo>
                  <a:pt x="865" y="462"/>
                  <a:pt x="872" y="456"/>
                  <a:pt x="882" y="453"/>
                </a:cubicBezTo>
                <a:cubicBezTo>
                  <a:pt x="889" y="463"/>
                  <a:pt x="884" y="462"/>
                  <a:pt x="891" y="46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333600" y="2895480"/>
            <a:ext cx="1157400" cy="1676520"/>
          </a:xfrm>
          <a:custGeom>
            <a:avLst/>
            <a:gdLst/>
            <a:ahLst/>
            <a:rect l="l" t="t" r="r" b="b"/>
            <a:pathLst>
              <a:path w="729" h="486">
                <a:moveTo>
                  <a:pt x="0" y="0"/>
                </a:moveTo>
                <a:cubicBezTo>
                  <a:pt x="11" y="5"/>
                  <a:pt x="13" y="4"/>
                  <a:pt x="18" y="15"/>
                </a:cubicBezTo>
                <a:cubicBezTo>
                  <a:pt x="21" y="21"/>
                  <a:pt x="22" y="27"/>
                  <a:pt x="24" y="33"/>
                </a:cubicBezTo>
                <a:cubicBezTo>
                  <a:pt x="25" y="36"/>
                  <a:pt x="27" y="42"/>
                  <a:pt x="27" y="42"/>
                </a:cubicBezTo>
                <a:cubicBezTo>
                  <a:pt x="26" y="97"/>
                  <a:pt x="26" y="152"/>
                  <a:pt x="24" y="207"/>
                </a:cubicBezTo>
                <a:cubicBezTo>
                  <a:pt x="24" y="210"/>
                  <a:pt x="20" y="219"/>
                  <a:pt x="21" y="216"/>
                </a:cubicBezTo>
                <a:cubicBezTo>
                  <a:pt x="22" y="213"/>
                  <a:pt x="23" y="210"/>
                  <a:pt x="24" y="207"/>
                </a:cubicBezTo>
                <a:cubicBezTo>
                  <a:pt x="32" y="153"/>
                  <a:pt x="2" y="79"/>
                  <a:pt x="42" y="39"/>
                </a:cubicBezTo>
                <a:cubicBezTo>
                  <a:pt x="48" y="40"/>
                  <a:pt x="55" y="39"/>
                  <a:pt x="60" y="42"/>
                </a:cubicBezTo>
                <a:cubicBezTo>
                  <a:pt x="75" y="50"/>
                  <a:pt x="80" y="104"/>
                  <a:pt x="81" y="117"/>
                </a:cubicBezTo>
                <a:cubicBezTo>
                  <a:pt x="82" y="127"/>
                  <a:pt x="83" y="137"/>
                  <a:pt x="84" y="147"/>
                </a:cubicBezTo>
                <a:cubicBezTo>
                  <a:pt x="88" y="121"/>
                  <a:pt x="91" y="99"/>
                  <a:pt x="99" y="75"/>
                </a:cubicBezTo>
                <a:cubicBezTo>
                  <a:pt x="114" y="119"/>
                  <a:pt x="106" y="145"/>
                  <a:pt x="108" y="204"/>
                </a:cubicBezTo>
                <a:cubicBezTo>
                  <a:pt x="111" y="172"/>
                  <a:pt x="105" y="132"/>
                  <a:pt x="123" y="105"/>
                </a:cubicBezTo>
                <a:cubicBezTo>
                  <a:pt x="130" y="120"/>
                  <a:pt x="135" y="153"/>
                  <a:pt x="135" y="153"/>
                </a:cubicBezTo>
                <a:cubicBezTo>
                  <a:pt x="136" y="190"/>
                  <a:pt x="126" y="229"/>
                  <a:pt x="138" y="264"/>
                </a:cubicBezTo>
                <a:cubicBezTo>
                  <a:pt x="148" y="293"/>
                  <a:pt x="140" y="202"/>
                  <a:pt x="141" y="171"/>
                </a:cubicBezTo>
                <a:cubicBezTo>
                  <a:pt x="141" y="166"/>
                  <a:pt x="145" y="109"/>
                  <a:pt x="147" y="99"/>
                </a:cubicBezTo>
                <a:cubicBezTo>
                  <a:pt x="148" y="93"/>
                  <a:pt x="153" y="81"/>
                  <a:pt x="153" y="81"/>
                </a:cubicBezTo>
                <a:cubicBezTo>
                  <a:pt x="169" y="97"/>
                  <a:pt x="166" y="119"/>
                  <a:pt x="168" y="141"/>
                </a:cubicBezTo>
                <a:cubicBezTo>
                  <a:pt x="169" y="178"/>
                  <a:pt x="168" y="215"/>
                  <a:pt x="171" y="252"/>
                </a:cubicBezTo>
                <a:cubicBezTo>
                  <a:pt x="172" y="260"/>
                  <a:pt x="173" y="236"/>
                  <a:pt x="174" y="228"/>
                </a:cubicBezTo>
                <a:cubicBezTo>
                  <a:pt x="175" y="216"/>
                  <a:pt x="176" y="204"/>
                  <a:pt x="177" y="192"/>
                </a:cubicBezTo>
                <a:cubicBezTo>
                  <a:pt x="181" y="152"/>
                  <a:pt x="177" y="75"/>
                  <a:pt x="207" y="45"/>
                </a:cubicBezTo>
                <a:cubicBezTo>
                  <a:pt x="210" y="46"/>
                  <a:pt x="214" y="45"/>
                  <a:pt x="216" y="48"/>
                </a:cubicBezTo>
                <a:cubicBezTo>
                  <a:pt x="220" y="55"/>
                  <a:pt x="222" y="72"/>
                  <a:pt x="222" y="72"/>
                </a:cubicBezTo>
                <a:cubicBezTo>
                  <a:pt x="231" y="201"/>
                  <a:pt x="230" y="330"/>
                  <a:pt x="222" y="459"/>
                </a:cubicBezTo>
                <a:cubicBezTo>
                  <a:pt x="223" y="389"/>
                  <a:pt x="215" y="200"/>
                  <a:pt x="243" y="117"/>
                </a:cubicBezTo>
                <a:cubicBezTo>
                  <a:pt x="260" y="151"/>
                  <a:pt x="244" y="240"/>
                  <a:pt x="255" y="159"/>
                </a:cubicBezTo>
                <a:cubicBezTo>
                  <a:pt x="256" y="155"/>
                  <a:pt x="257" y="151"/>
                  <a:pt x="258" y="147"/>
                </a:cubicBezTo>
                <a:cubicBezTo>
                  <a:pt x="261" y="148"/>
                  <a:pt x="265" y="147"/>
                  <a:pt x="267" y="150"/>
                </a:cubicBezTo>
                <a:cubicBezTo>
                  <a:pt x="270" y="155"/>
                  <a:pt x="264" y="168"/>
                  <a:pt x="270" y="168"/>
                </a:cubicBezTo>
                <a:cubicBezTo>
                  <a:pt x="276" y="168"/>
                  <a:pt x="273" y="156"/>
                  <a:pt x="276" y="150"/>
                </a:cubicBezTo>
                <a:cubicBezTo>
                  <a:pt x="280" y="141"/>
                  <a:pt x="283" y="140"/>
                  <a:pt x="291" y="135"/>
                </a:cubicBezTo>
                <a:cubicBezTo>
                  <a:pt x="325" y="149"/>
                  <a:pt x="316" y="200"/>
                  <a:pt x="324" y="231"/>
                </a:cubicBezTo>
                <a:cubicBezTo>
                  <a:pt x="325" y="242"/>
                  <a:pt x="324" y="275"/>
                  <a:pt x="327" y="264"/>
                </a:cubicBezTo>
                <a:cubicBezTo>
                  <a:pt x="338" y="220"/>
                  <a:pt x="321" y="120"/>
                  <a:pt x="357" y="84"/>
                </a:cubicBezTo>
                <a:cubicBezTo>
                  <a:pt x="391" y="95"/>
                  <a:pt x="386" y="153"/>
                  <a:pt x="390" y="180"/>
                </a:cubicBezTo>
                <a:cubicBezTo>
                  <a:pt x="392" y="213"/>
                  <a:pt x="396" y="246"/>
                  <a:pt x="399" y="279"/>
                </a:cubicBezTo>
                <a:cubicBezTo>
                  <a:pt x="400" y="304"/>
                  <a:pt x="400" y="329"/>
                  <a:pt x="402" y="354"/>
                </a:cubicBezTo>
                <a:cubicBezTo>
                  <a:pt x="402" y="358"/>
                  <a:pt x="405" y="346"/>
                  <a:pt x="405" y="342"/>
                </a:cubicBezTo>
                <a:cubicBezTo>
                  <a:pt x="408" y="314"/>
                  <a:pt x="409" y="286"/>
                  <a:pt x="411" y="258"/>
                </a:cubicBezTo>
                <a:cubicBezTo>
                  <a:pt x="415" y="205"/>
                  <a:pt x="409" y="226"/>
                  <a:pt x="417" y="201"/>
                </a:cubicBezTo>
                <a:cubicBezTo>
                  <a:pt x="441" y="211"/>
                  <a:pt x="438" y="232"/>
                  <a:pt x="441" y="255"/>
                </a:cubicBezTo>
                <a:cubicBezTo>
                  <a:pt x="442" y="282"/>
                  <a:pt x="434" y="311"/>
                  <a:pt x="444" y="336"/>
                </a:cubicBezTo>
                <a:cubicBezTo>
                  <a:pt x="455" y="363"/>
                  <a:pt x="446" y="278"/>
                  <a:pt x="450" y="249"/>
                </a:cubicBezTo>
                <a:cubicBezTo>
                  <a:pt x="464" y="267"/>
                  <a:pt x="457" y="285"/>
                  <a:pt x="468" y="258"/>
                </a:cubicBezTo>
                <a:cubicBezTo>
                  <a:pt x="470" y="239"/>
                  <a:pt x="467" y="219"/>
                  <a:pt x="489" y="225"/>
                </a:cubicBezTo>
                <a:cubicBezTo>
                  <a:pt x="492" y="235"/>
                  <a:pt x="495" y="245"/>
                  <a:pt x="498" y="255"/>
                </a:cubicBezTo>
                <a:cubicBezTo>
                  <a:pt x="499" y="268"/>
                  <a:pt x="492" y="303"/>
                  <a:pt x="501" y="294"/>
                </a:cubicBezTo>
                <a:cubicBezTo>
                  <a:pt x="505" y="290"/>
                  <a:pt x="510" y="203"/>
                  <a:pt x="510" y="198"/>
                </a:cubicBezTo>
                <a:cubicBezTo>
                  <a:pt x="511" y="188"/>
                  <a:pt x="512" y="178"/>
                  <a:pt x="513" y="168"/>
                </a:cubicBezTo>
                <a:cubicBezTo>
                  <a:pt x="526" y="172"/>
                  <a:pt x="532" y="182"/>
                  <a:pt x="537" y="195"/>
                </a:cubicBezTo>
                <a:cubicBezTo>
                  <a:pt x="539" y="201"/>
                  <a:pt x="543" y="213"/>
                  <a:pt x="543" y="213"/>
                </a:cubicBezTo>
                <a:cubicBezTo>
                  <a:pt x="544" y="265"/>
                  <a:pt x="534" y="413"/>
                  <a:pt x="558" y="486"/>
                </a:cubicBezTo>
                <a:cubicBezTo>
                  <a:pt x="559" y="432"/>
                  <a:pt x="559" y="378"/>
                  <a:pt x="561" y="324"/>
                </a:cubicBezTo>
                <a:cubicBezTo>
                  <a:pt x="562" y="298"/>
                  <a:pt x="563" y="240"/>
                  <a:pt x="591" y="231"/>
                </a:cubicBezTo>
                <a:cubicBezTo>
                  <a:pt x="600" y="267"/>
                  <a:pt x="600" y="261"/>
                  <a:pt x="603" y="315"/>
                </a:cubicBezTo>
                <a:cubicBezTo>
                  <a:pt x="605" y="296"/>
                  <a:pt x="606" y="277"/>
                  <a:pt x="612" y="258"/>
                </a:cubicBezTo>
                <a:cubicBezTo>
                  <a:pt x="619" y="283"/>
                  <a:pt x="627" y="333"/>
                  <a:pt x="627" y="333"/>
                </a:cubicBezTo>
                <a:cubicBezTo>
                  <a:pt x="635" y="299"/>
                  <a:pt x="635" y="276"/>
                  <a:pt x="666" y="255"/>
                </a:cubicBezTo>
                <a:cubicBezTo>
                  <a:pt x="671" y="295"/>
                  <a:pt x="662" y="335"/>
                  <a:pt x="669" y="375"/>
                </a:cubicBezTo>
                <a:cubicBezTo>
                  <a:pt x="672" y="355"/>
                  <a:pt x="675" y="340"/>
                  <a:pt x="681" y="321"/>
                </a:cubicBezTo>
                <a:cubicBezTo>
                  <a:pt x="683" y="314"/>
                  <a:pt x="693" y="303"/>
                  <a:pt x="693" y="303"/>
                </a:cubicBezTo>
                <a:cubicBezTo>
                  <a:pt x="716" y="309"/>
                  <a:pt x="709" y="343"/>
                  <a:pt x="711" y="363"/>
                </a:cubicBezTo>
                <a:cubicBezTo>
                  <a:pt x="717" y="354"/>
                  <a:pt x="718" y="339"/>
                  <a:pt x="729" y="34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95680" y="4114800"/>
            <a:ext cx="1138320" cy="557280"/>
          </a:xfrm>
          <a:custGeom>
            <a:avLst/>
            <a:gdLst/>
            <a:ahLst/>
            <a:rect l="l" t="t" r="r" b="b"/>
            <a:pathLst>
              <a:path w="717" h="351">
                <a:moveTo>
                  <a:pt x="0" y="0"/>
                </a:moveTo>
                <a:cubicBezTo>
                  <a:pt x="39" y="4"/>
                  <a:pt x="34" y="6"/>
                  <a:pt x="54" y="33"/>
                </a:cubicBezTo>
                <a:cubicBezTo>
                  <a:pt x="63" y="60"/>
                  <a:pt x="77" y="87"/>
                  <a:pt x="105" y="96"/>
                </a:cubicBezTo>
                <a:cubicBezTo>
                  <a:pt x="124" y="92"/>
                  <a:pt x="122" y="89"/>
                  <a:pt x="135" y="78"/>
                </a:cubicBezTo>
                <a:cubicBezTo>
                  <a:pt x="140" y="73"/>
                  <a:pt x="153" y="66"/>
                  <a:pt x="153" y="66"/>
                </a:cubicBezTo>
                <a:cubicBezTo>
                  <a:pt x="164" y="67"/>
                  <a:pt x="176" y="64"/>
                  <a:pt x="186" y="69"/>
                </a:cubicBezTo>
                <a:cubicBezTo>
                  <a:pt x="194" y="73"/>
                  <a:pt x="202" y="97"/>
                  <a:pt x="204" y="105"/>
                </a:cubicBezTo>
                <a:cubicBezTo>
                  <a:pt x="211" y="134"/>
                  <a:pt x="215" y="150"/>
                  <a:pt x="231" y="174"/>
                </a:cubicBezTo>
                <a:cubicBezTo>
                  <a:pt x="241" y="167"/>
                  <a:pt x="249" y="161"/>
                  <a:pt x="255" y="150"/>
                </a:cubicBezTo>
                <a:cubicBezTo>
                  <a:pt x="259" y="142"/>
                  <a:pt x="260" y="131"/>
                  <a:pt x="267" y="126"/>
                </a:cubicBezTo>
                <a:cubicBezTo>
                  <a:pt x="273" y="122"/>
                  <a:pt x="285" y="114"/>
                  <a:pt x="285" y="114"/>
                </a:cubicBezTo>
                <a:cubicBezTo>
                  <a:pt x="296" y="115"/>
                  <a:pt x="309" y="113"/>
                  <a:pt x="318" y="120"/>
                </a:cubicBezTo>
                <a:cubicBezTo>
                  <a:pt x="331" y="130"/>
                  <a:pt x="330" y="157"/>
                  <a:pt x="342" y="165"/>
                </a:cubicBezTo>
                <a:cubicBezTo>
                  <a:pt x="355" y="174"/>
                  <a:pt x="366" y="184"/>
                  <a:pt x="381" y="189"/>
                </a:cubicBezTo>
                <a:cubicBezTo>
                  <a:pt x="399" y="183"/>
                  <a:pt x="399" y="162"/>
                  <a:pt x="417" y="156"/>
                </a:cubicBezTo>
                <a:cubicBezTo>
                  <a:pt x="433" y="158"/>
                  <a:pt x="445" y="153"/>
                  <a:pt x="453" y="168"/>
                </a:cubicBezTo>
                <a:cubicBezTo>
                  <a:pt x="458" y="176"/>
                  <a:pt x="459" y="186"/>
                  <a:pt x="462" y="195"/>
                </a:cubicBezTo>
                <a:cubicBezTo>
                  <a:pt x="464" y="201"/>
                  <a:pt x="468" y="213"/>
                  <a:pt x="468" y="213"/>
                </a:cubicBezTo>
                <a:cubicBezTo>
                  <a:pt x="472" y="241"/>
                  <a:pt x="471" y="273"/>
                  <a:pt x="480" y="300"/>
                </a:cubicBezTo>
                <a:cubicBezTo>
                  <a:pt x="507" y="232"/>
                  <a:pt x="455" y="208"/>
                  <a:pt x="531" y="189"/>
                </a:cubicBezTo>
                <a:cubicBezTo>
                  <a:pt x="537" y="190"/>
                  <a:pt x="544" y="189"/>
                  <a:pt x="549" y="192"/>
                </a:cubicBezTo>
                <a:cubicBezTo>
                  <a:pt x="562" y="198"/>
                  <a:pt x="558" y="224"/>
                  <a:pt x="570" y="234"/>
                </a:cubicBezTo>
                <a:cubicBezTo>
                  <a:pt x="577" y="240"/>
                  <a:pt x="594" y="242"/>
                  <a:pt x="603" y="246"/>
                </a:cubicBezTo>
                <a:cubicBezTo>
                  <a:pt x="608" y="253"/>
                  <a:pt x="612" y="261"/>
                  <a:pt x="618" y="267"/>
                </a:cubicBezTo>
                <a:cubicBezTo>
                  <a:pt x="623" y="272"/>
                  <a:pt x="636" y="279"/>
                  <a:pt x="636" y="279"/>
                </a:cubicBezTo>
                <a:cubicBezTo>
                  <a:pt x="655" y="308"/>
                  <a:pt x="659" y="283"/>
                  <a:pt x="675" y="267"/>
                </a:cubicBezTo>
                <a:cubicBezTo>
                  <a:pt x="691" y="270"/>
                  <a:pt x="698" y="276"/>
                  <a:pt x="705" y="291"/>
                </a:cubicBezTo>
                <a:cubicBezTo>
                  <a:pt x="709" y="300"/>
                  <a:pt x="714" y="318"/>
                  <a:pt x="714" y="318"/>
                </a:cubicBezTo>
                <a:cubicBezTo>
                  <a:pt x="715" y="329"/>
                  <a:pt x="717" y="351"/>
                  <a:pt x="717" y="351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634000" y="4411800"/>
            <a:ext cx="1755720" cy="922320"/>
          </a:xfrm>
          <a:custGeom>
            <a:avLst/>
            <a:gdLst/>
            <a:ahLst/>
            <a:rect l="l" t="t" r="r" b="b"/>
            <a:pathLst>
              <a:path w="1106" h="581">
                <a:moveTo>
                  <a:pt x="0" y="107"/>
                </a:moveTo>
                <a:cubicBezTo>
                  <a:pt x="2" y="117"/>
                  <a:pt x="7" y="143"/>
                  <a:pt x="9" y="155"/>
                </a:cubicBezTo>
                <a:cubicBezTo>
                  <a:pt x="11" y="173"/>
                  <a:pt x="15" y="209"/>
                  <a:pt x="15" y="209"/>
                </a:cubicBezTo>
                <a:cubicBezTo>
                  <a:pt x="17" y="171"/>
                  <a:pt x="4" y="105"/>
                  <a:pt x="42" y="80"/>
                </a:cubicBezTo>
                <a:cubicBezTo>
                  <a:pt x="46" y="81"/>
                  <a:pt x="51" y="80"/>
                  <a:pt x="54" y="83"/>
                </a:cubicBezTo>
                <a:cubicBezTo>
                  <a:pt x="66" y="97"/>
                  <a:pt x="70" y="138"/>
                  <a:pt x="72" y="155"/>
                </a:cubicBezTo>
                <a:cubicBezTo>
                  <a:pt x="78" y="136"/>
                  <a:pt x="79" y="105"/>
                  <a:pt x="99" y="98"/>
                </a:cubicBezTo>
                <a:cubicBezTo>
                  <a:pt x="106" y="112"/>
                  <a:pt x="108" y="124"/>
                  <a:pt x="111" y="140"/>
                </a:cubicBezTo>
                <a:cubicBezTo>
                  <a:pt x="110" y="225"/>
                  <a:pt x="108" y="310"/>
                  <a:pt x="108" y="395"/>
                </a:cubicBezTo>
                <a:cubicBezTo>
                  <a:pt x="108" y="407"/>
                  <a:pt x="110" y="371"/>
                  <a:pt x="111" y="359"/>
                </a:cubicBezTo>
                <a:cubicBezTo>
                  <a:pt x="112" y="340"/>
                  <a:pt x="113" y="321"/>
                  <a:pt x="114" y="302"/>
                </a:cubicBezTo>
                <a:cubicBezTo>
                  <a:pt x="116" y="268"/>
                  <a:pt x="115" y="231"/>
                  <a:pt x="123" y="197"/>
                </a:cubicBezTo>
                <a:cubicBezTo>
                  <a:pt x="126" y="164"/>
                  <a:pt x="114" y="141"/>
                  <a:pt x="147" y="146"/>
                </a:cubicBezTo>
                <a:cubicBezTo>
                  <a:pt x="153" y="164"/>
                  <a:pt x="158" y="182"/>
                  <a:pt x="162" y="200"/>
                </a:cubicBezTo>
                <a:cubicBezTo>
                  <a:pt x="164" y="181"/>
                  <a:pt x="163" y="159"/>
                  <a:pt x="174" y="143"/>
                </a:cubicBezTo>
                <a:cubicBezTo>
                  <a:pt x="185" y="165"/>
                  <a:pt x="184" y="179"/>
                  <a:pt x="186" y="206"/>
                </a:cubicBezTo>
                <a:cubicBezTo>
                  <a:pt x="192" y="162"/>
                  <a:pt x="195" y="118"/>
                  <a:pt x="204" y="74"/>
                </a:cubicBezTo>
                <a:cubicBezTo>
                  <a:pt x="208" y="57"/>
                  <a:pt x="206" y="31"/>
                  <a:pt x="222" y="20"/>
                </a:cubicBezTo>
                <a:cubicBezTo>
                  <a:pt x="235" y="11"/>
                  <a:pt x="246" y="10"/>
                  <a:pt x="261" y="8"/>
                </a:cubicBezTo>
                <a:cubicBezTo>
                  <a:pt x="264" y="9"/>
                  <a:pt x="269" y="8"/>
                  <a:pt x="270" y="11"/>
                </a:cubicBezTo>
                <a:cubicBezTo>
                  <a:pt x="281" y="47"/>
                  <a:pt x="280" y="94"/>
                  <a:pt x="285" y="131"/>
                </a:cubicBezTo>
                <a:cubicBezTo>
                  <a:pt x="292" y="271"/>
                  <a:pt x="289" y="132"/>
                  <a:pt x="294" y="89"/>
                </a:cubicBezTo>
                <a:cubicBezTo>
                  <a:pt x="401" y="116"/>
                  <a:pt x="306" y="309"/>
                  <a:pt x="306" y="419"/>
                </a:cubicBezTo>
                <a:cubicBezTo>
                  <a:pt x="306" y="464"/>
                  <a:pt x="308" y="329"/>
                  <a:pt x="309" y="284"/>
                </a:cubicBezTo>
                <a:cubicBezTo>
                  <a:pt x="310" y="263"/>
                  <a:pt x="305" y="209"/>
                  <a:pt x="321" y="185"/>
                </a:cubicBezTo>
                <a:cubicBezTo>
                  <a:pt x="322" y="193"/>
                  <a:pt x="323" y="201"/>
                  <a:pt x="324" y="209"/>
                </a:cubicBezTo>
                <a:cubicBezTo>
                  <a:pt x="330" y="240"/>
                  <a:pt x="336" y="182"/>
                  <a:pt x="336" y="179"/>
                </a:cubicBezTo>
                <a:cubicBezTo>
                  <a:pt x="348" y="215"/>
                  <a:pt x="344" y="263"/>
                  <a:pt x="345" y="296"/>
                </a:cubicBezTo>
                <a:cubicBezTo>
                  <a:pt x="354" y="187"/>
                  <a:pt x="357" y="120"/>
                  <a:pt x="426" y="29"/>
                </a:cubicBezTo>
                <a:cubicBezTo>
                  <a:pt x="431" y="13"/>
                  <a:pt x="433" y="0"/>
                  <a:pt x="450" y="11"/>
                </a:cubicBezTo>
                <a:cubicBezTo>
                  <a:pt x="470" y="170"/>
                  <a:pt x="463" y="332"/>
                  <a:pt x="447" y="491"/>
                </a:cubicBezTo>
                <a:cubicBezTo>
                  <a:pt x="450" y="370"/>
                  <a:pt x="438" y="231"/>
                  <a:pt x="477" y="113"/>
                </a:cubicBezTo>
                <a:cubicBezTo>
                  <a:pt x="498" y="154"/>
                  <a:pt x="475" y="105"/>
                  <a:pt x="486" y="215"/>
                </a:cubicBezTo>
                <a:cubicBezTo>
                  <a:pt x="487" y="225"/>
                  <a:pt x="488" y="195"/>
                  <a:pt x="489" y="185"/>
                </a:cubicBezTo>
                <a:cubicBezTo>
                  <a:pt x="492" y="162"/>
                  <a:pt x="492" y="163"/>
                  <a:pt x="495" y="143"/>
                </a:cubicBezTo>
                <a:cubicBezTo>
                  <a:pt x="501" y="196"/>
                  <a:pt x="502" y="235"/>
                  <a:pt x="504" y="293"/>
                </a:cubicBezTo>
                <a:cubicBezTo>
                  <a:pt x="509" y="237"/>
                  <a:pt x="510" y="180"/>
                  <a:pt x="519" y="125"/>
                </a:cubicBezTo>
                <a:cubicBezTo>
                  <a:pt x="552" y="225"/>
                  <a:pt x="514" y="107"/>
                  <a:pt x="525" y="419"/>
                </a:cubicBezTo>
                <a:cubicBezTo>
                  <a:pt x="526" y="457"/>
                  <a:pt x="527" y="343"/>
                  <a:pt x="528" y="305"/>
                </a:cubicBezTo>
                <a:cubicBezTo>
                  <a:pt x="529" y="289"/>
                  <a:pt x="530" y="273"/>
                  <a:pt x="531" y="257"/>
                </a:cubicBezTo>
                <a:cubicBezTo>
                  <a:pt x="533" y="238"/>
                  <a:pt x="534" y="143"/>
                  <a:pt x="561" y="134"/>
                </a:cubicBezTo>
                <a:cubicBezTo>
                  <a:pt x="570" y="147"/>
                  <a:pt x="569" y="162"/>
                  <a:pt x="576" y="176"/>
                </a:cubicBezTo>
                <a:cubicBezTo>
                  <a:pt x="580" y="254"/>
                  <a:pt x="574" y="333"/>
                  <a:pt x="588" y="410"/>
                </a:cubicBezTo>
                <a:cubicBezTo>
                  <a:pt x="596" y="362"/>
                  <a:pt x="596" y="314"/>
                  <a:pt x="603" y="266"/>
                </a:cubicBezTo>
                <a:cubicBezTo>
                  <a:pt x="605" y="250"/>
                  <a:pt x="603" y="232"/>
                  <a:pt x="612" y="218"/>
                </a:cubicBezTo>
                <a:cubicBezTo>
                  <a:pt x="616" y="211"/>
                  <a:pt x="626" y="210"/>
                  <a:pt x="633" y="206"/>
                </a:cubicBezTo>
                <a:cubicBezTo>
                  <a:pt x="651" y="218"/>
                  <a:pt x="649" y="261"/>
                  <a:pt x="651" y="281"/>
                </a:cubicBezTo>
                <a:cubicBezTo>
                  <a:pt x="657" y="243"/>
                  <a:pt x="664" y="205"/>
                  <a:pt x="669" y="167"/>
                </a:cubicBezTo>
                <a:cubicBezTo>
                  <a:pt x="684" y="227"/>
                  <a:pt x="679" y="298"/>
                  <a:pt x="681" y="359"/>
                </a:cubicBezTo>
                <a:cubicBezTo>
                  <a:pt x="684" y="309"/>
                  <a:pt x="691" y="259"/>
                  <a:pt x="696" y="209"/>
                </a:cubicBezTo>
                <a:cubicBezTo>
                  <a:pt x="699" y="183"/>
                  <a:pt x="697" y="130"/>
                  <a:pt x="711" y="101"/>
                </a:cubicBezTo>
                <a:cubicBezTo>
                  <a:pt x="726" y="106"/>
                  <a:pt x="743" y="182"/>
                  <a:pt x="747" y="200"/>
                </a:cubicBezTo>
                <a:cubicBezTo>
                  <a:pt x="749" y="212"/>
                  <a:pt x="753" y="236"/>
                  <a:pt x="753" y="236"/>
                </a:cubicBezTo>
                <a:cubicBezTo>
                  <a:pt x="754" y="256"/>
                  <a:pt x="755" y="276"/>
                  <a:pt x="756" y="296"/>
                </a:cubicBezTo>
                <a:cubicBezTo>
                  <a:pt x="757" y="350"/>
                  <a:pt x="755" y="404"/>
                  <a:pt x="759" y="458"/>
                </a:cubicBezTo>
                <a:cubicBezTo>
                  <a:pt x="761" y="482"/>
                  <a:pt x="761" y="410"/>
                  <a:pt x="762" y="386"/>
                </a:cubicBezTo>
                <a:cubicBezTo>
                  <a:pt x="763" y="372"/>
                  <a:pt x="764" y="358"/>
                  <a:pt x="765" y="344"/>
                </a:cubicBezTo>
                <a:cubicBezTo>
                  <a:pt x="768" y="278"/>
                  <a:pt x="770" y="211"/>
                  <a:pt x="786" y="146"/>
                </a:cubicBezTo>
                <a:cubicBezTo>
                  <a:pt x="838" y="224"/>
                  <a:pt x="798" y="349"/>
                  <a:pt x="789" y="443"/>
                </a:cubicBezTo>
                <a:cubicBezTo>
                  <a:pt x="791" y="389"/>
                  <a:pt x="783" y="363"/>
                  <a:pt x="813" y="323"/>
                </a:cubicBezTo>
                <a:cubicBezTo>
                  <a:pt x="818" y="307"/>
                  <a:pt x="817" y="290"/>
                  <a:pt x="831" y="281"/>
                </a:cubicBezTo>
                <a:cubicBezTo>
                  <a:pt x="838" y="324"/>
                  <a:pt x="835" y="305"/>
                  <a:pt x="840" y="338"/>
                </a:cubicBezTo>
                <a:cubicBezTo>
                  <a:pt x="855" y="307"/>
                  <a:pt x="870" y="278"/>
                  <a:pt x="894" y="254"/>
                </a:cubicBezTo>
                <a:cubicBezTo>
                  <a:pt x="908" y="263"/>
                  <a:pt x="905" y="275"/>
                  <a:pt x="909" y="290"/>
                </a:cubicBezTo>
                <a:cubicBezTo>
                  <a:pt x="910" y="364"/>
                  <a:pt x="909" y="438"/>
                  <a:pt x="912" y="512"/>
                </a:cubicBezTo>
                <a:cubicBezTo>
                  <a:pt x="913" y="530"/>
                  <a:pt x="914" y="476"/>
                  <a:pt x="915" y="458"/>
                </a:cubicBezTo>
                <a:cubicBezTo>
                  <a:pt x="918" y="414"/>
                  <a:pt x="922" y="370"/>
                  <a:pt x="927" y="326"/>
                </a:cubicBezTo>
                <a:cubicBezTo>
                  <a:pt x="929" y="309"/>
                  <a:pt x="935" y="251"/>
                  <a:pt x="954" y="245"/>
                </a:cubicBezTo>
                <a:cubicBezTo>
                  <a:pt x="957" y="247"/>
                  <a:pt x="961" y="248"/>
                  <a:pt x="963" y="251"/>
                </a:cubicBezTo>
                <a:cubicBezTo>
                  <a:pt x="967" y="258"/>
                  <a:pt x="969" y="275"/>
                  <a:pt x="969" y="275"/>
                </a:cubicBezTo>
                <a:cubicBezTo>
                  <a:pt x="970" y="341"/>
                  <a:pt x="969" y="407"/>
                  <a:pt x="972" y="473"/>
                </a:cubicBezTo>
                <a:cubicBezTo>
                  <a:pt x="973" y="487"/>
                  <a:pt x="973" y="445"/>
                  <a:pt x="975" y="431"/>
                </a:cubicBezTo>
                <a:cubicBezTo>
                  <a:pt x="981" y="389"/>
                  <a:pt x="991" y="347"/>
                  <a:pt x="996" y="305"/>
                </a:cubicBezTo>
                <a:cubicBezTo>
                  <a:pt x="1004" y="342"/>
                  <a:pt x="990" y="384"/>
                  <a:pt x="1005" y="419"/>
                </a:cubicBezTo>
                <a:cubicBezTo>
                  <a:pt x="1010" y="431"/>
                  <a:pt x="1016" y="395"/>
                  <a:pt x="1023" y="383"/>
                </a:cubicBezTo>
                <a:cubicBezTo>
                  <a:pt x="1036" y="361"/>
                  <a:pt x="1050" y="343"/>
                  <a:pt x="1065" y="323"/>
                </a:cubicBezTo>
                <a:cubicBezTo>
                  <a:pt x="1106" y="404"/>
                  <a:pt x="1080" y="475"/>
                  <a:pt x="1080" y="581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16200000">
            <a:off x="580320" y="34581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ignal str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7391520" y="15998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352680" y="1600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4495680" y="1599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5638680" y="159984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190512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3352320" y="1905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4495320" y="1905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563868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743200" y="1905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03848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148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553080" y="19051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80E9-359D-40A8-BB80-01C3236CAD6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elay Sprea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2209680" y="55468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209680" y="18892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5622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el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rot="16200000">
            <a:off x="885240" y="35186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ignal Str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540160" y="2193840"/>
            <a:ext cx="3993480" cy="3362040"/>
            <a:chOff x="2540160" y="2193840"/>
            <a:chExt cx="3993480" cy="3362040"/>
          </a:xfrm>
        </p:grpSpPr>
        <p:sp>
          <p:nvSpPr>
            <p:cNvPr id="459" name=""/>
            <p:cNvSpPr/>
            <p:nvPr/>
          </p:nvSpPr>
          <p:spPr>
            <a:xfrm>
              <a:off x="2540160" y="2193840"/>
              <a:ext cx="1955520" cy="3362040"/>
            </a:xfrm>
            <a:custGeom>
              <a:avLst/>
              <a:gdLst/>
              <a:ahLst/>
              <a:rect l="l" t="t" r="r" b="b"/>
              <a:pathLst>
                <a:path w="1658" h="1441">
                  <a:moveTo>
                    <a:pt x="0" y="1441"/>
                  </a:moveTo>
                  <a:cubicBezTo>
                    <a:pt x="4" y="1373"/>
                    <a:pt x="10" y="1305"/>
                    <a:pt x="18" y="1237"/>
                  </a:cubicBezTo>
                  <a:cubicBezTo>
                    <a:pt x="21" y="1216"/>
                    <a:pt x="36" y="1177"/>
                    <a:pt x="36" y="1177"/>
                  </a:cubicBezTo>
                  <a:cubicBezTo>
                    <a:pt x="38" y="1135"/>
                    <a:pt x="39" y="1093"/>
                    <a:pt x="42" y="1051"/>
                  </a:cubicBezTo>
                  <a:cubicBezTo>
                    <a:pt x="43" y="1037"/>
                    <a:pt x="45" y="1023"/>
                    <a:pt x="48" y="1009"/>
                  </a:cubicBezTo>
                  <a:cubicBezTo>
                    <a:pt x="51" y="997"/>
                    <a:pt x="60" y="973"/>
                    <a:pt x="60" y="973"/>
                  </a:cubicBezTo>
                  <a:cubicBezTo>
                    <a:pt x="67" y="876"/>
                    <a:pt x="91" y="787"/>
                    <a:pt x="102" y="691"/>
                  </a:cubicBezTo>
                  <a:cubicBezTo>
                    <a:pt x="105" y="664"/>
                    <a:pt x="107" y="634"/>
                    <a:pt x="114" y="607"/>
                  </a:cubicBezTo>
                  <a:cubicBezTo>
                    <a:pt x="117" y="595"/>
                    <a:pt x="122" y="583"/>
                    <a:pt x="126" y="571"/>
                  </a:cubicBezTo>
                  <a:cubicBezTo>
                    <a:pt x="128" y="565"/>
                    <a:pt x="132" y="553"/>
                    <a:pt x="132" y="553"/>
                  </a:cubicBezTo>
                  <a:cubicBezTo>
                    <a:pt x="136" y="521"/>
                    <a:pt x="136" y="488"/>
                    <a:pt x="144" y="457"/>
                  </a:cubicBezTo>
                  <a:cubicBezTo>
                    <a:pt x="153" y="423"/>
                    <a:pt x="167" y="390"/>
                    <a:pt x="174" y="355"/>
                  </a:cubicBezTo>
                  <a:cubicBezTo>
                    <a:pt x="180" y="323"/>
                    <a:pt x="178" y="323"/>
                    <a:pt x="186" y="295"/>
                  </a:cubicBezTo>
                  <a:cubicBezTo>
                    <a:pt x="190" y="283"/>
                    <a:pt x="198" y="259"/>
                    <a:pt x="198" y="259"/>
                  </a:cubicBezTo>
                  <a:cubicBezTo>
                    <a:pt x="204" y="168"/>
                    <a:pt x="203" y="113"/>
                    <a:pt x="258" y="43"/>
                  </a:cubicBezTo>
                  <a:cubicBezTo>
                    <a:pt x="292" y="0"/>
                    <a:pt x="266" y="12"/>
                    <a:pt x="300" y="1"/>
                  </a:cubicBezTo>
                  <a:cubicBezTo>
                    <a:pt x="308" y="3"/>
                    <a:pt x="317" y="2"/>
                    <a:pt x="324" y="7"/>
                  </a:cubicBezTo>
                  <a:cubicBezTo>
                    <a:pt x="333" y="13"/>
                    <a:pt x="339" y="33"/>
                    <a:pt x="342" y="43"/>
                  </a:cubicBezTo>
                  <a:cubicBezTo>
                    <a:pt x="353" y="85"/>
                    <a:pt x="362" y="127"/>
                    <a:pt x="372" y="169"/>
                  </a:cubicBezTo>
                  <a:cubicBezTo>
                    <a:pt x="374" y="189"/>
                    <a:pt x="377" y="209"/>
                    <a:pt x="378" y="229"/>
                  </a:cubicBezTo>
                  <a:cubicBezTo>
                    <a:pt x="381" y="299"/>
                    <a:pt x="376" y="369"/>
                    <a:pt x="384" y="439"/>
                  </a:cubicBezTo>
                  <a:cubicBezTo>
                    <a:pt x="388" y="475"/>
                    <a:pt x="388" y="367"/>
                    <a:pt x="390" y="331"/>
                  </a:cubicBezTo>
                  <a:cubicBezTo>
                    <a:pt x="393" y="280"/>
                    <a:pt x="398" y="235"/>
                    <a:pt x="414" y="187"/>
                  </a:cubicBezTo>
                  <a:cubicBezTo>
                    <a:pt x="450" y="259"/>
                    <a:pt x="442" y="336"/>
                    <a:pt x="450" y="415"/>
                  </a:cubicBezTo>
                  <a:cubicBezTo>
                    <a:pt x="452" y="509"/>
                    <a:pt x="439" y="604"/>
                    <a:pt x="456" y="697"/>
                  </a:cubicBezTo>
                  <a:cubicBezTo>
                    <a:pt x="469" y="768"/>
                    <a:pt x="459" y="553"/>
                    <a:pt x="462" y="481"/>
                  </a:cubicBezTo>
                  <a:cubicBezTo>
                    <a:pt x="464" y="436"/>
                    <a:pt x="485" y="401"/>
                    <a:pt x="498" y="361"/>
                  </a:cubicBezTo>
                  <a:cubicBezTo>
                    <a:pt x="501" y="440"/>
                    <a:pt x="498" y="499"/>
                    <a:pt x="516" y="571"/>
                  </a:cubicBezTo>
                  <a:cubicBezTo>
                    <a:pt x="521" y="689"/>
                    <a:pt x="520" y="807"/>
                    <a:pt x="528" y="925"/>
                  </a:cubicBezTo>
                  <a:cubicBezTo>
                    <a:pt x="529" y="933"/>
                    <a:pt x="533" y="909"/>
                    <a:pt x="534" y="901"/>
                  </a:cubicBezTo>
                  <a:cubicBezTo>
                    <a:pt x="537" y="887"/>
                    <a:pt x="538" y="873"/>
                    <a:pt x="540" y="859"/>
                  </a:cubicBezTo>
                  <a:cubicBezTo>
                    <a:pt x="541" y="852"/>
                    <a:pt x="550" y="767"/>
                    <a:pt x="552" y="757"/>
                  </a:cubicBezTo>
                  <a:cubicBezTo>
                    <a:pt x="556" y="738"/>
                    <a:pt x="570" y="703"/>
                    <a:pt x="570" y="703"/>
                  </a:cubicBezTo>
                  <a:cubicBezTo>
                    <a:pt x="592" y="736"/>
                    <a:pt x="592" y="772"/>
                    <a:pt x="600" y="811"/>
                  </a:cubicBezTo>
                  <a:cubicBezTo>
                    <a:pt x="602" y="801"/>
                    <a:pt x="596" y="781"/>
                    <a:pt x="606" y="781"/>
                  </a:cubicBezTo>
                  <a:cubicBezTo>
                    <a:pt x="617" y="781"/>
                    <a:pt x="617" y="800"/>
                    <a:pt x="618" y="811"/>
                  </a:cubicBezTo>
                  <a:cubicBezTo>
                    <a:pt x="623" y="859"/>
                    <a:pt x="622" y="907"/>
                    <a:pt x="624" y="955"/>
                  </a:cubicBezTo>
                  <a:cubicBezTo>
                    <a:pt x="629" y="919"/>
                    <a:pt x="630" y="882"/>
                    <a:pt x="642" y="847"/>
                  </a:cubicBezTo>
                  <a:cubicBezTo>
                    <a:pt x="648" y="886"/>
                    <a:pt x="655" y="922"/>
                    <a:pt x="660" y="961"/>
                  </a:cubicBezTo>
                  <a:cubicBezTo>
                    <a:pt x="662" y="1051"/>
                    <a:pt x="659" y="1141"/>
                    <a:pt x="666" y="1231"/>
                  </a:cubicBezTo>
                  <a:cubicBezTo>
                    <a:pt x="667" y="1246"/>
                    <a:pt x="675" y="1203"/>
                    <a:pt x="678" y="1189"/>
                  </a:cubicBezTo>
                  <a:cubicBezTo>
                    <a:pt x="682" y="1172"/>
                    <a:pt x="689" y="1119"/>
                    <a:pt x="690" y="1105"/>
                  </a:cubicBezTo>
                  <a:cubicBezTo>
                    <a:pt x="692" y="1084"/>
                    <a:pt x="699" y="901"/>
                    <a:pt x="726" y="865"/>
                  </a:cubicBezTo>
                  <a:cubicBezTo>
                    <a:pt x="742" y="843"/>
                    <a:pt x="780" y="805"/>
                    <a:pt x="780" y="805"/>
                  </a:cubicBezTo>
                  <a:cubicBezTo>
                    <a:pt x="796" y="836"/>
                    <a:pt x="796" y="868"/>
                    <a:pt x="804" y="901"/>
                  </a:cubicBezTo>
                  <a:cubicBezTo>
                    <a:pt x="818" y="1037"/>
                    <a:pt x="806" y="982"/>
                    <a:pt x="828" y="1069"/>
                  </a:cubicBezTo>
                  <a:cubicBezTo>
                    <a:pt x="841" y="990"/>
                    <a:pt x="827" y="1017"/>
                    <a:pt x="852" y="979"/>
                  </a:cubicBezTo>
                  <a:cubicBezTo>
                    <a:pt x="856" y="991"/>
                    <a:pt x="862" y="1002"/>
                    <a:pt x="864" y="1015"/>
                  </a:cubicBezTo>
                  <a:cubicBezTo>
                    <a:pt x="881" y="1140"/>
                    <a:pt x="857" y="1137"/>
                    <a:pt x="882" y="1051"/>
                  </a:cubicBezTo>
                  <a:cubicBezTo>
                    <a:pt x="884" y="1042"/>
                    <a:pt x="888" y="1034"/>
                    <a:pt x="894" y="1027"/>
                  </a:cubicBezTo>
                  <a:cubicBezTo>
                    <a:pt x="899" y="1021"/>
                    <a:pt x="906" y="1019"/>
                    <a:pt x="912" y="1015"/>
                  </a:cubicBezTo>
                  <a:cubicBezTo>
                    <a:pt x="952" y="1055"/>
                    <a:pt x="941" y="1140"/>
                    <a:pt x="948" y="1195"/>
                  </a:cubicBezTo>
                  <a:cubicBezTo>
                    <a:pt x="975" y="1149"/>
                    <a:pt x="968" y="1093"/>
                    <a:pt x="996" y="1051"/>
                  </a:cubicBezTo>
                  <a:cubicBezTo>
                    <a:pt x="1049" y="1069"/>
                    <a:pt x="1051" y="1168"/>
                    <a:pt x="1062" y="1213"/>
                  </a:cubicBezTo>
                  <a:cubicBezTo>
                    <a:pt x="1066" y="1207"/>
                    <a:pt x="1072" y="1202"/>
                    <a:pt x="1074" y="1195"/>
                  </a:cubicBezTo>
                  <a:cubicBezTo>
                    <a:pt x="1078" y="1177"/>
                    <a:pt x="1064" y="1150"/>
                    <a:pt x="1080" y="1141"/>
                  </a:cubicBezTo>
                  <a:cubicBezTo>
                    <a:pt x="1092" y="1134"/>
                    <a:pt x="1104" y="1177"/>
                    <a:pt x="1104" y="1177"/>
                  </a:cubicBezTo>
                  <a:cubicBezTo>
                    <a:pt x="1114" y="1236"/>
                    <a:pt x="1123" y="1290"/>
                    <a:pt x="1128" y="1351"/>
                  </a:cubicBezTo>
                  <a:cubicBezTo>
                    <a:pt x="1133" y="1300"/>
                    <a:pt x="1132" y="1210"/>
                    <a:pt x="1158" y="1159"/>
                  </a:cubicBezTo>
                  <a:cubicBezTo>
                    <a:pt x="1172" y="1073"/>
                    <a:pt x="1157" y="972"/>
                    <a:pt x="1188" y="895"/>
                  </a:cubicBezTo>
                  <a:cubicBezTo>
                    <a:pt x="1195" y="877"/>
                    <a:pt x="1210" y="864"/>
                    <a:pt x="1218" y="847"/>
                  </a:cubicBezTo>
                  <a:cubicBezTo>
                    <a:pt x="1231" y="867"/>
                    <a:pt x="1235" y="885"/>
                    <a:pt x="1242" y="907"/>
                  </a:cubicBezTo>
                  <a:cubicBezTo>
                    <a:pt x="1244" y="965"/>
                    <a:pt x="1239" y="1024"/>
                    <a:pt x="1248" y="1081"/>
                  </a:cubicBezTo>
                  <a:cubicBezTo>
                    <a:pt x="1253" y="1113"/>
                    <a:pt x="1251" y="1017"/>
                    <a:pt x="1254" y="985"/>
                  </a:cubicBezTo>
                  <a:cubicBezTo>
                    <a:pt x="1257" y="953"/>
                    <a:pt x="1266" y="889"/>
                    <a:pt x="1266" y="889"/>
                  </a:cubicBezTo>
                  <a:cubicBezTo>
                    <a:pt x="1268" y="1017"/>
                    <a:pt x="1267" y="1145"/>
                    <a:pt x="1272" y="1273"/>
                  </a:cubicBezTo>
                  <a:cubicBezTo>
                    <a:pt x="1273" y="1305"/>
                    <a:pt x="1276" y="1209"/>
                    <a:pt x="1278" y="1177"/>
                  </a:cubicBezTo>
                  <a:cubicBezTo>
                    <a:pt x="1280" y="1153"/>
                    <a:pt x="1281" y="1129"/>
                    <a:pt x="1284" y="1105"/>
                  </a:cubicBezTo>
                  <a:cubicBezTo>
                    <a:pt x="1287" y="1073"/>
                    <a:pt x="1296" y="1009"/>
                    <a:pt x="1296" y="1009"/>
                  </a:cubicBezTo>
                  <a:cubicBezTo>
                    <a:pt x="1318" y="1076"/>
                    <a:pt x="1272" y="933"/>
                    <a:pt x="1308" y="1129"/>
                  </a:cubicBezTo>
                  <a:cubicBezTo>
                    <a:pt x="1310" y="1141"/>
                    <a:pt x="1312" y="1105"/>
                    <a:pt x="1314" y="1093"/>
                  </a:cubicBezTo>
                  <a:cubicBezTo>
                    <a:pt x="1316" y="1077"/>
                    <a:pt x="1318" y="1061"/>
                    <a:pt x="1320" y="1045"/>
                  </a:cubicBezTo>
                  <a:cubicBezTo>
                    <a:pt x="1322" y="1059"/>
                    <a:pt x="1325" y="1073"/>
                    <a:pt x="1326" y="1087"/>
                  </a:cubicBezTo>
                  <a:cubicBezTo>
                    <a:pt x="1329" y="1161"/>
                    <a:pt x="1328" y="1235"/>
                    <a:pt x="1332" y="1309"/>
                  </a:cubicBezTo>
                  <a:cubicBezTo>
                    <a:pt x="1332" y="1315"/>
                    <a:pt x="1337" y="1297"/>
                    <a:pt x="1338" y="1291"/>
                  </a:cubicBezTo>
                  <a:cubicBezTo>
                    <a:pt x="1341" y="1279"/>
                    <a:pt x="1342" y="1267"/>
                    <a:pt x="1344" y="1255"/>
                  </a:cubicBezTo>
                  <a:cubicBezTo>
                    <a:pt x="1359" y="1147"/>
                    <a:pt x="1345" y="1191"/>
                    <a:pt x="1362" y="1141"/>
                  </a:cubicBezTo>
                  <a:cubicBezTo>
                    <a:pt x="1381" y="1346"/>
                    <a:pt x="1367" y="1296"/>
                    <a:pt x="1380" y="1225"/>
                  </a:cubicBezTo>
                  <a:cubicBezTo>
                    <a:pt x="1387" y="1190"/>
                    <a:pt x="1399" y="1167"/>
                    <a:pt x="1410" y="1135"/>
                  </a:cubicBezTo>
                  <a:cubicBezTo>
                    <a:pt x="1431" y="1199"/>
                    <a:pt x="1410" y="1128"/>
                    <a:pt x="1410" y="1291"/>
                  </a:cubicBezTo>
                  <a:cubicBezTo>
                    <a:pt x="1410" y="1309"/>
                    <a:pt x="1414" y="1255"/>
                    <a:pt x="1416" y="1237"/>
                  </a:cubicBezTo>
                  <a:cubicBezTo>
                    <a:pt x="1424" y="1154"/>
                    <a:pt x="1411" y="1187"/>
                    <a:pt x="1434" y="1141"/>
                  </a:cubicBezTo>
                  <a:cubicBezTo>
                    <a:pt x="1436" y="1185"/>
                    <a:pt x="1429" y="1230"/>
                    <a:pt x="1440" y="1273"/>
                  </a:cubicBezTo>
                  <a:cubicBezTo>
                    <a:pt x="1445" y="1293"/>
                    <a:pt x="1444" y="1232"/>
                    <a:pt x="1452" y="1213"/>
                  </a:cubicBezTo>
                  <a:cubicBezTo>
                    <a:pt x="1463" y="1188"/>
                    <a:pt x="1487" y="1166"/>
                    <a:pt x="1506" y="1147"/>
                  </a:cubicBezTo>
                  <a:cubicBezTo>
                    <a:pt x="1571" y="1160"/>
                    <a:pt x="1519" y="1140"/>
                    <a:pt x="1542" y="1243"/>
                  </a:cubicBezTo>
                  <a:cubicBezTo>
                    <a:pt x="1545" y="1255"/>
                    <a:pt x="1546" y="1219"/>
                    <a:pt x="1548" y="1207"/>
                  </a:cubicBezTo>
                  <a:cubicBezTo>
                    <a:pt x="1555" y="1168"/>
                    <a:pt x="1555" y="1122"/>
                    <a:pt x="1590" y="1099"/>
                  </a:cubicBezTo>
                  <a:cubicBezTo>
                    <a:pt x="1592" y="1167"/>
                    <a:pt x="1588" y="1235"/>
                    <a:pt x="1596" y="1303"/>
                  </a:cubicBezTo>
                  <a:cubicBezTo>
                    <a:pt x="1597" y="1309"/>
                    <a:pt x="1611" y="1303"/>
                    <a:pt x="1614" y="1297"/>
                  </a:cubicBezTo>
                  <a:cubicBezTo>
                    <a:pt x="1621" y="1282"/>
                    <a:pt x="1614" y="1264"/>
                    <a:pt x="1620" y="1249"/>
                  </a:cubicBezTo>
                  <a:cubicBezTo>
                    <a:pt x="1625" y="1234"/>
                    <a:pt x="1641" y="1226"/>
                    <a:pt x="1650" y="1213"/>
                  </a:cubicBezTo>
                  <a:cubicBezTo>
                    <a:pt x="1658" y="1269"/>
                    <a:pt x="1656" y="1241"/>
                    <a:pt x="1656" y="129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495680" y="5119920"/>
              <a:ext cx="1263240" cy="421920"/>
            </a:xfrm>
            <a:custGeom>
              <a:avLst/>
              <a:gdLst/>
              <a:ahLst/>
              <a:rect l="l" t="t" r="r" b="b"/>
              <a:pathLst>
                <a:path w="1132" h="421">
                  <a:moveTo>
                    <a:pt x="0" y="1"/>
                  </a:moveTo>
                  <a:cubicBezTo>
                    <a:pt x="5" y="2"/>
                    <a:pt x="11" y="0"/>
                    <a:pt x="15" y="4"/>
                  </a:cubicBezTo>
                  <a:cubicBezTo>
                    <a:pt x="22" y="11"/>
                    <a:pt x="28" y="40"/>
                    <a:pt x="30" y="52"/>
                  </a:cubicBezTo>
                  <a:cubicBezTo>
                    <a:pt x="32" y="62"/>
                    <a:pt x="36" y="82"/>
                    <a:pt x="36" y="82"/>
                  </a:cubicBezTo>
                  <a:cubicBezTo>
                    <a:pt x="40" y="146"/>
                    <a:pt x="33" y="229"/>
                    <a:pt x="48" y="289"/>
                  </a:cubicBezTo>
                  <a:cubicBezTo>
                    <a:pt x="49" y="302"/>
                    <a:pt x="52" y="315"/>
                    <a:pt x="51" y="328"/>
                  </a:cubicBezTo>
                  <a:cubicBezTo>
                    <a:pt x="51" y="332"/>
                    <a:pt x="45" y="323"/>
                    <a:pt x="45" y="319"/>
                  </a:cubicBezTo>
                  <a:cubicBezTo>
                    <a:pt x="45" y="277"/>
                    <a:pt x="43" y="201"/>
                    <a:pt x="60" y="151"/>
                  </a:cubicBezTo>
                  <a:cubicBezTo>
                    <a:pt x="64" y="119"/>
                    <a:pt x="61" y="61"/>
                    <a:pt x="93" y="40"/>
                  </a:cubicBezTo>
                  <a:cubicBezTo>
                    <a:pt x="112" y="46"/>
                    <a:pt x="115" y="72"/>
                    <a:pt x="123" y="88"/>
                  </a:cubicBezTo>
                  <a:cubicBezTo>
                    <a:pt x="157" y="155"/>
                    <a:pt x="142" y="234"/>
                    <a:pt x="165" y="304"/>
                  </a:cubicBezTo>
                  <a:cubicBezTo>
                    <a:pt x="167" y="253"/>
                    <a:pt x="163" y="147"/>
                    <a:pt x="177" y="97"/>
                  </a:cubicBezTo>
                  <a:cubicBezTo>
                    <a:pt x="183" y="74"/>
                    <a:pt x="185" y="45"/>
                    <a:pt x="210" y="37"/>
                  </a:cubicBezTo>
                  <a:cubicBezTo>
                    <a:pt x="222" y="98"/>
                    <a:pt x="222" y="163"/>
                    <a:pt x="237" y="223"/>
                  </a:cubicBezTo>
                  <a:cubicBezTo>
                    <a:pt x="242" y="186"/>
                    <a:pt x="247" y="149"/>
                    <a:pt x="255" y="112"/>
                  </a:cubicBezTo>
                  <a:cubicBezTo>
                    <a:pt x="259" y="96"/>
                    <a:pt x="259" y="82"/>
                    <a:pt x="276" y="76"/>
                  </a:cubicBezTo>
                  <a:cubicBezTo>
                    <a:pt x="289" y="80"/>
                    <a:pt x="288" y="87"/>
                    <a:pt x="291" y="100"/>
                  </a:cubicBezTo>
                  <a:cubicBezTo>
                    <a:pt x="297" y="150"/>
                    <a:pt x="298" y="199"/>
                    <a:pt x="300" y="250"/>
                  </a:cubicBezTo>
                  <a:cubicBezTo>
                    <a:pt x="299" y="287"/>
                    <a:pt x="299" y="324"/>
                    <a:pt x="297" y="361"/>
                  </a:cubicBezTo>
                  <a:cubicBezTo>
                    <a:pt x="297" y="369"/>
                    <a:pt x="294" y="393"/>
                    <a:pt x="294" y="385"/>
                  </a:cubicBezTo>
                  <a:cubicBezTo>
                    <a:pt x="294" y="370"/>
                    <a:pt x="295" y="355"/>
                    <a:pt x="297" y="340"/>
                  </a:cubicBezTo>
                  <a:cubicBezTo>
                    <a:pt x="298" y="332"/>
                    <a:pt x="303" y="316"/>
                    <a:pt x="303" y="316"/>
                  </a:cubicBezTo>
                  <a:cubicBezTo>
                    <a:pt x="310" y="242"/>
                    <a:pt x="311" y="168"/>
                    <a:pt x="318" y="94"/>
                  </a:cubicBezTo>
                  <a:cubicBezTo>
                    <a:pt x="320" y="73"/>
                    <a:pt x="325" y="33"/>
                    <a:pt x="348" y="25"/>
                  </a:cubicBezTo>
                  <a:cubicBezTo>
                    <a:pt x="371" y="37"/>
                    <a:pt x="364" y="74"/>
                    <a:pt x="366" y="97"/>
                  </a:cubicBezTo>
                  <a:cubicBezTo>
                    <a:pt x="379" y="246"/>
                    <a:pt x="367" y="88"/>
                    <a:pt x="375" y="196"/>
                  </a:cubicBezTo>
                  <a:cubicBezTo>
                    <a:pt x="389" y="155"/>
                    <a:pt x="386" y="98"/>
                    <a:pt x="408" y="64"/>
                  </a:cubicBezTo>
                  <a:cubicBezTo>
                    <a:pt x="423" y="69"/>
                    <a:pt x="420" y="78"/>
                    <a:pt x="423" y="94"/>
                  </a:cubicBezTo>
                  <a:cubicBezTo>
                    <a:pt x="424" y="114"/>
                    <a:pt x="425" y="134"/>
                    <a:pt x="426" y="154"/>
                  </a:cubicBezTo>
                  <a:cubicBezTo>
                    <a:pt x="427" y="166"/>
                    <a:pt x="426" y="178"/>
                    <a:pt x="429" y="190"/>
                  </a:cubicBezTo>
                  <a:cubicBezTo>
                    <a:pt x="430" y="195"/>
                    <a:pt x="431" y="180"/>
                    <a:pt x="432" y="175"/>
                  </a:cubicBezTo>
                  <a:cubicBezTo>
                    <a:pt x="435" y="158"/>
                    <a:pt x="437" y="148"/>
                    <a:pt x="438" y="130"/>
                  </a:cubicBezTo>
                  <a:cubicBezTo>
                    <a:pt x="440" y="101"/>
                    <a:pt x="438" y="33"/>
                    <a:pt x="468" y="13"/>
                  </a:cubicBezTo>
                  <a:cubicBezTo>
                    <a:pt x="501" y="20"/>
                    <a:pt x="495" y="58"/>
                    <a:pt x="504" y="85"/>
                  </a:cubicBezTo>
                  <a:cubicBezTo>
                    <a:pt x="509" y="123"/>
                    <a:pt x="516" y="161"/>
                    <a:pt x="519" y="199"/>
                  </a:cubicBezTo>
                  <a:cubicBezTo>
                    <a:pt x="522" y="175"/>
                    <a:pt x="528" y="108"/>
                    <a:pt x="549" y="94"/>
                  </a:cubicBezTo>
                  <a:cubicBezTo>
                    <a:pt x="559" y="79"/>
                    <a:pt x="572" y="88"/>
                    <a:pt x="582" y="73"/>
                  </a:cubicBezTo>
                  <a:cubicBezTo>
                    <a:pt x="588" y="48"/>
                    <a:pt x="570" y="14"/>
                    <a:pt x="600" y="7"/>
                  </a:cubicBezTo>
                  <a:cubicBezTo>
                    <a:pt x="626" y="12"/>
                    <a:pt x="625" y="25"/>
                    <a:pt x="633" y="49"/>
                  </a:cubicBezTo>
                  <a:cubicBezTo>
                    <a:pt x="635" y="55"/>
                    <a:pt x="639" y="67"/>
                    <a:pt x="639" y="67"/>
                  </a:cubicBezTo>
                  <a:cubicBezTo>
                    <a:pt x="649" y="146"/>
                    <a:pt x="644" y="99"/>
                    <a:pt x="648" y="208"/>
                  </a:cubicBezTo>
                  <a:cubicBezTo>
                    <a:pt x="647" y="263"/>
                    <a:pt x="647" y="318"/>
                    <a:pt x="645" y="373"/>
                  </a:cubicBezTo>
                  <a:cubicBezTo>
                    <a:pt x="645" y="385"/>
                    <a:pt x="642" y="421"/>
                    <a:pt x="642" y="409"/>
                  </a:cubicBezTo>
                  <a:cubicBezTo>
                    <a:pt x="642" y="357"/>
                    <a:pt x="647" y="307"/>
                    <a:pt x="660" y="256"/>
                  </a:cubicBezTo>
                  <a:cubicBezTo>
                    <a:pt x="662" y="231"/>
                    <a:pt x="659" y="171"/>
                    <a:pt x="684" y="154"/>
                  </a:cubicBezTo>
                  <a:cubicBezTo>
                    <a:pt x="708" y="162"/>
                    <a:pt x="698" y="216"/>
                    <a:pt x="699" y="229"/>
                  </a:cubicBezTo>
                  <a:cubicBezTo>
                    <a:pt x="705" y="210"/>
                    <a:pt x="713" y="192"/>
                    <a:pt x="717" y="172"/>
                  </a:cubicBezTo>
                  <a:cubicBezTo>
                    <a:pt x="717" y="168"/>
                    <a:pt x="713" y="31"/>
                    <a:pt x="735" y="16"/>
                  </a:cubicBezTo>
                  <a:cubicBezTo>
                    <a:pt x="742" y="17"/>
                    <a:pt x="750" y="16"/>
                    <a:pt x="756" y="19"/>
                  </a:cubicBezTo>
                  <a:cubicBezTo>
                    <a:pt x="762" y="22"/>
                    <a:pt x="764" y="36"/>
                    <a:pt x="765" y="40"/>
                  </a:cubicBezTo>
                  <a:cubicBezTo>
                    <a:pt x="770" y="59"/>
                    <a:pt x="777" y="78"/>
                    <a:pt x="780" y="97"/>
                  </a:cubicBezTo>
                  <a:cubicBezTo>
                    <a:pt x="782" y="109"/>
                    <a:pt x="786" y="133"/>
                    <a:pt x="786" y="133"/>
                  </a:cubicBezTo>
                  <a:cubicBezTo>
                    <a:pt x="788" y="114"/>
                    <a:pt x="782" y="94"/>
                    <a:pt x="801" y="88"/>
                  </a:cubicBezTo>
                  <a:cubicBezTo>
                    <a:pt x="806" y="89"/>
                    <a:pt x="812" y="87"/>
                    <a:pt x="816" y="91"/>
                  </a:cubicBezTo>
                  <a:cubicBezTo>
                    <a:pt x="818" y="93"/>
                    <a:pt x="830" y="123"/>
                    <a:pt x="831" y="127"/>
                  </a:cubicBezTo>
                  <a:cubicBezTo>
                    <a:pt x="838" y="105"/>
                    <a:pt x="844" y="91"/>
                    <a:pt x="849" y="67"/>
                  </a:cubicBezTo>
                  <a:cubicBezTo>
                    <a:pt x="851" y="58"/>
                    <a:pt x="873" y="52"/>
                    <a:pt x="873" y="52"/>
                  </a:cubicBezTo>
                  <a:cubicBezTo>
                    <a:pt x="887" y="61"/>
                    <a:pt x="889" y="81"/>
                    <a:pt x="891" y="97"/>
                  </a:cubicBezTo>
                  <a:cubicBezTo>
                    <a:pt x="895" y="127"/>
                    <a:pt x="897" y="156"/>
                    <a:pt x="906" y="184"/>
                  </a:cubicBezTo>
                  <a:cubicBezTo>
                    <a:pt x="915" y="170"/>
                    <a:pt x="915" y="164"/>
                    <a:pt x="912" y="148"/>
                  </a:cubicBezTo>
                  <a:cubicBezTo>
                    <a:pt x="912" y="142"/>
                    <a:pt x="894" y="57"/>
                    <a:pt x="927" y="46"/>
                  </a:cubicBezTo>
                  <a:cubicBezTo>
                    <a:pt x="946" y="53"/>
                    <a:pt x="943" y="55"/>
                    <a:pt x="948" y="73"/>
                  </a:cubicBezTo>
                  <a:cubicBezTo>
                    <a:pt x="953" y="114"/>
                    <a:pt x="955" y="155"/>
                    <a:pt x="957" y="196"/>
                  </a:cubicBezTo>
                  <a:cubicBezTo>
                    <a:pt x="968" y="162"/>
                    <a:pt x="955" y="117"/>
                    <a:pt x="990" y="94"/>
                  </a:cubicBezTo>
                  <a:cubicBezTo>
                    <a:pt x="991" y="85"/>
                    <a:pt x="987" y="73"/>
                    <a:pt x="993" y="67"/>
                  </a:cubicBezTo>
                  <a:cubicBezTo>
                    <a:pt x="998" y="62"/>
                    <a:pt x="1012" y="63"/>
                    <a:pt x="1014" y="70"/>
                  </a:cubicBezTo>
                  <a:cubicBezTo>
                    <a:pt x="1021" y="92"/>
                    <a:pt x="1016" y="116"/>
                    <a:pt x="1017" y="139"/>
                  </a:cubicBezTo>
                  <a:cubicBezTo>
                    <a:pt x="1019" y="111"/>
                    <a:pt x="1015" y="61"/>
                    <a:pt x="1041" y="43"/>
                  </a:cubicBezTo>
                  <a:cubicBezTo>
                    <a:pt x="1065" y="48"/>
                    <a:pt x="1059" y="58"/>
                    <a:pt x="1062" y="82"/>
                  </a:cubicBezTo>
                  <a:cubicBezTo>
                    <a:pt x="1065" y="151"/>
                    <a:pt x="1069" y="216"/>
                    <a:pt x="1071" y="286"/>
                  </a:cubicBezTo>
                  <a:cubicBezTo>
                    <a:pt x="1073" y="258"/>
                    <a:pt x="1075" y="230"/>
                    <a:pt x="1077" y="202"/>
                  </a:cubicBezTo>
                  <a:cubicBezTo>
                    <a:pt x="1080" y="160"/>
                    <a:pt x="1068" y="63"/>
                    <a:pt x="1107" y="37"/>
                  </a:cubicBezTo>
                  <a:cubicBezTo>
                    <a:pt x="1132" y="45"/>
                    <a:pt x="1124" y="110"/>
                    <a:pt x="1125" y="127"/>
                  </a:cubicBezTo>
                  <a:cubicBezTo>
                    <a:pt x="1124" y="201"/>
                    <a:pt x="1122" y="349"/>
                    <a:pt x="1122" y="3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738400" y="4687920"/>
              <a:ext cx="795240" cy="804600"/>
            </a:xfrm>
            <a:custGeom>
              <a:avLst/>
              <a:gdLst/>
              <a:ahLst/>
              <a:rect l="l" t="t" r="r" b="b"/>
              <a:pathLst>
                <a:path w="501" h="345">
                  <a:moveTo>
                    <a:pt x="3" y="324"/>
                  </a:moveTo>
                  <a:cubicBezTo>
                    <a:pt x="23" y="226"/>
                    <a:pt x="0" y="345"/>
                    <a:pt x="15" y="108"/>
                  </a:cubicBezTo>
                  <a:cubicBezTo>
                    <a:pt x="17" y="72"/>
                    <a:pt x="27" y="0"/>
                    <a:pt x="27" y="0"/>
                  </a:cubicBezTo>
                  <a:cubicBezTo>
                    <a:pt x="29" y="6"/>
                    <a:pt x="27" y="18"/>
                    <a:pt x="33" y="18"/>
                  </a:cubicBezTo>
                  <a:cubicBezTo>
                    <a:pt x="39" y="18"/>
                    <a:pt x="33" y="0"/>
                    <a:pt x="39" y="0"/>
                  </a:cubicBezTo>
                  <a:cubicBezTo>
                    <a:pt x="46" y="0"/>
                    <a:pt x="47" y="12"/>
                    <a:pt x="51" y="18"/>
                  </a:cubicBezTo>
                  <a:cubicBezTo>
                    <a:pt x="56" y="66"/>
                    <a:pt x="58" y="152"/>
                    <a:pt x="75" y="204"/>
                  </a:cubicBezTo>
                  <a:cubicBezTo>
                    <a:pt x="77" y="178"/>
                    <a:pt x="72" y="151"/>
                    <a:pt x="81" y="126"/>
                  </a:cubicBezTo>
                  <a:cubicBezTo>
                    <a:pt x="83" y="119"/>
                    <a:pt x="97" y="131"/>
                    <a:pt x="99" y="138"/>
                  </a:cubicBezTo>
                  <a:cubicBezTo>
                    <a:pt x="107" y="161"/>
                    <a:pt x="111" y="210"/>
                    <a:pt x="111" y="210"/>
                  </a:cubicBezTo>
                  <a:cubicBezTo>
                    <a:pt x="115" y="204"/>
                    <a:pt x="116" y="192"/>
                    <a:pt x="123" y="192"/>
                  </a:cubicBezTo>
                  <a:cubicBezTo>
                    <a:pt x="133" y="192"/>
                    <a:pt x="125" y="240"/>
                    <a:pt x="135" y="192"/>
                  </a:cubicBezTo>
                  <a:cubicBezTo>
                    <a:pt x="140" y="168"/>
                    <a:pt x="141" y="144"/>
                    <a:pt x="147" y="120"/>
                  </a:cubicBezTo>
                  <a:cubicBezTo>
                    <a:pt x="151" y="104"/>
                    <a:pt x="159" y="72"/>
                    <a:pt x="159" y="72"/>
                  </a:cubicBezTo>
                  <a:cubicBezTo>
                    <a:pt x="161" y="138"/>
                    <a:pt x="158" y="204"/>
                    <a:pt x="165" y="270"/>
                  </a:cubicBezTo>
                  <a:cubicBezTo>
                    <a:pt x="166" y="279"/>
                    <a:pt x="176" y="237"/>
                    <a:pt x="177" y="246"/>
                  </a:cubicBezTo>
                  <a:cubicBezTo>
                    <a:pt x="180" y="266"/>
                    <a:pt x="171" y="326"/>
                    <a:pt x="171" y="306"/>
                  </a:cubicBezTo>
                  <a:cubicBezTo>
                    <a:pt x="171" y="278"/>
                    <a:pt x="172" y="250"/>
                    <a:pt x="177" y="222"/>
                  </a:cubicBezTo>
                  <a:cubicBezTo>
                    <a:pt x="180" y="203"/>
                    <a:pt x="195" y="168"/>
                    <a:pt x="195" y="168"/>
                  </a:cubicBezTo>
                  <a:cubicBezTo>
                    <a:pt x="197" y="182"/>
                    <a:pt x="193" y="199"/>
                    <a:pt x="201" y="210"/>
                  </a:cubicBezTo>
                  <a:cubicBezTo>
                    <a:pt x="205" y="216"/>
                    <a:pt x="207" y="188"/>
                    <a:pt x="213" y="192"/>
                  </a:cubicBezTo>
                  <a:cubicBezTo>
                    <a:pt x="221" y="198"/>
                    <a:pt x="217" y="212"/>
                    <a:pt x="219" y="222"/>
                  </a:cubicBezTo>
                  <a:cubicBezTo>
                    <a:pt x="217" y="246"/>
                    <a:pt x="213" y="270"/>
                    <a:pt x="213" y="294"/>
                  </a:cubicBezTo>
                  <a:cubicBezTo>
                    <a:pt x="213" y="304"/>
                    <a:pt x="211" y="270"/>
                    <a:pt x="219" y="264"/>
                  </a:cubicBezTo>
                  <a:cubicBezTo>
                    <a:pt x="225" y="260"/>
                    <a:pt x="237" y="299"/>
                    <a:pt x="237" y="300"/>
                  </a:cubicBezTo>
                  <a:cubicBezTo>
                    <a:pt x="241" y="292"/>
                    <a:pt x="242" y="281"/>
                    <a:pt x="249" y="276"/>
                  </a:cubicBezTo>
                  <a:cubicBezTo>
                    <a:pt x="259" y="268"/>
                    <a:pt x="277" y="274"/>
                    <a:pt x="285" y="264"/>
                  </a:cubicBezTo>
                  <a:cubicBezTo>
                    <a:pt x="293" y="255"/>
                    <a:pt x="289" y="240"/>
                    <a:pt x="291" y="228"/>
                  </a:cubicBezTo>
                  <a:cubicBezTo>
                    <a:pt x="297" y="240"/>
                    <a:pt x="296" y="267"/>
                    <a:pt x="309" y="264"/>
                  </a:cubicBezTo>
                  <a:cubicBezTo>
                    <a:pt x="338" y="257"/>
                    <a:pt x="295" y="182"/>
                    <a:pt x="327" y="246"/>
                  </a:cubicBezTo>
                  <a:cubicBezTo>
                    <a:pt x="338" y="322"/>
                    <a:pt x="323" y="273"/>
                    <a:pt x="369" y="258"/>
                  </a:cubicBezTo>
                  <a:cubicBezTo>
                    <a:pt x="371" y="268"/>
                    <a:pt x="371" y="297"/>
                    <a:pt x="375" y="288"/>
                  </a:cubicBezTo>
                  <a:cubicBezTo>
                    <a:pt x="385" y="266"/>
                    <a:pt x="387" y="216"/>
                    <a:pt x="387" y="216"/>
                  </a:cubicBezTo>
                  <a:cubicBezTo>
                    <a:pt x="391" y="232"/>
                    <a:pt x="400" y="274"/>
                    <a:pt x="411" y="282"/>
                  </a:cubicBezTo>
                  <a:cubicBezTo>
                    <a:pt x="415" y="285"/>
                    <a:pt x="451" y="273"/>
                    <a:pt x="459" y="270"/>
                  </a:cubicBezTo>
                  <a:cubicBezTo>
                    <a:pt x="461" y="276"/>
                    <a:pt x="461" y="284"/>
                    <a:pt x="465" y="288"/>
                  </a:cubicBezTo>
                  <a:cubicBezTo>
                    <a:pt x="473" y="296"/>
                    <a:pt x="501" y="298"/>
                    <a:pt x="501" y="28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362320" y="1905120"/>
            <a:ext cx="1523880" cy="3352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733920" y="3962520"/>
            <a:ext cx="1143000" cy="15238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562720" y="4572000"/>
            <a:ext cx="685800" cy="9144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1752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he signals from  close by refl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3581280" y="19810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952880" y="30160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he signals from  intermediate refl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4419360" y="320040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172200" y="3886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he signals from far away refl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5943240" y="41911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5DF6-65CA-4C7F-9743-4DEF48D525B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tersymbol Interference (ISI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aused by time delayed multipath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s impact on burst error rate of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econd multipath is delayed and is received during next symb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or low bit-error-rate (B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(digital transmission rate) limited by delay spread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1828800" y="3429000"/>
                <a:ext cx="10303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τ</m:t>
                        </m:r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2D5C-8D86-487B-A044-C5C2768F00B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tersymbol Interference (ISI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2666880" y="1066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666880" y="190512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129528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09880" y="251460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09880" y="1295280"/>
            <a:ext cx="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952880" y="1295280"/>
            <a:ext cx="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952880" y="129528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67660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676600" y="3657600"/>
            <a:ext cx="494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666880" y="47242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666880" y="556272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381480" y="2962440"/>
            <a:ext cx="3400200" cy="1457280"/>
          </a:xfrm>
          <a:custGeom>
            <a:avLst/>
            <a:gdLst/>
            <a:ahLst/>
            <a:rect l="l" t="t" r="r" b="b"/>
            <a:pathLst>
              <a:path w="2142" h="918">
                <a:moveTo>
                  <a:pt x="0" y="441"/>
                </a:moveTo>
                <a:cubicBezTo>
                  <a:pt x="18" y="300"/>
                  <a:pt x="28" y="157"/>
                  <a:pt x="63" y="18"/>
                </a:cubicBezTo>
                <a:cubicBezTo>
                  <a:pt x="66" y="36"/>
                  <a:pt x="62" y="57"/>
                  <a:pt x="72" y="72"/>
                </a:cubicBezTo>
                <a:cubicBezTo>
                  <a:pt x="77" y="80"/>
                  <a:pt x="72" y="45"/>
                  <a:pt x="81" y="45"/>
                </a:cubicBezTo>
                <a:cubicBezTo>
                  <a:pt x="90" y="45"/>
                  <a:pt x="87" y="63"/>
                  <a:pt x="90" y="72"/>
                </a:cubicBezTo>
                <a:cubicBezTo>
                  <a:pt x="96" y="63"/>
                  <a:pt x="97" y="45"/>
                  <a:pt x="108" y="45"/>
                </a:cubicBezTo>
                <a:cubicBezTo>
                  <a:pt x="117" y="45"/>
                  <a:pt x="108" y="74"/>
                  <a:pt x="117" y="72"/>
                </a:cubicBezTo>
                <a:cubicBezTo>
                  <a:pt x="132" y="68"/>
                  <a:pt x="135" y="48"/>
                  <a:pt x="144" y="36"/>
                </a:cubicBezTo>
                <a:cubicBezTo>
                  <a:pt x="147" y="27"/>
                  <a:pt x="149" y="0"/>
                  <a:pt x="153" y="9"/>
                </a:cubicBezTo>
                <a:cubicBezTo>
                  <a:pt x="173" y="60"/>
                  <a:pt x="150" y="116"/>
                  <a:pt x="171" y="54"/>
                </a:cubicBezTo>
                <a:cubicBezTo>
                  <a:pt x="174" y="69"/>
                  <a:pt x="166" y="92"/>
                  <a:pt x="180" y="99"/>
                </a:cubicBezTo>
                <a:cubicBezTo>
                  <a:pt x="199" y="109"/>
                  <a:pt x="214" y="52"/>
                  <a:pt x="216" y="45"/>
                </a:cubicBezTo>
                <a:cubicBezTo>
                  <a:pt x="257" y="72"/>
                  <a:pt x="258" y="62"/>
                  <a:pt x="297" y="36"/>
                </a:cubicBezTo>
                <a:cubicBezTo>
                  <a:pt x="300" y="57"/>
                  <a:pt x="293" y="82"/>
                  <a:pt x="306" y="99"/>
                </a:cubicBezTo>
                <a:cubicBezTo>
                  <a:pt x="312" y="108"/>
                  <a:pt x="319" y="82"/>
                  <a:pt x="324" y="72"/>
                </a:cubicBezTo>
                <a:cubicBezTo>
                  <a:pt x="328" y="64"/>
                  <a:pt x="330" y="54"/>
                  <a:pt x="333" y="45"/>
                </a:cubicBezTo>
                <a:cubicBezTo>
                  <a:pt x="336" y="54"/>
                  <a:pt x="333" y="72"/>
                  <a:pt x="342" y="72"/>
                </a:cubicBezTo>
                <a:cubicBezTo>
                  <a:pt x="364" y="72"/>
                  <a:pt x="373" y="32"/>
                  <a:pt x="378" y="18"/>
                </a:cubicBezTo>
                <a:cubicBezTo>
                  <a:pt x="381" y="45"/>
                  <a:pt x="375" y="75"/>
                  <a:pt x="387" y="99"/>
                </a:cubicBezTo>
                <a:cubicBezTo>
                  <a:pt x="392" y="109"/>
                  <a:pt x="400" y="82"/>
                  <a:pt x="405" y="72"/>
                </a:cubicBezTo>
                <a:cubicBezTo>
                  <a:pt x="409" y="64"/>
                  <a:pt x="411" y="54"/>
                  <a:pt x="414" y="45"/>
                </a:cubicBezTo>
                <a:cubicBezTo>
                  <a:pt x="439" y="143"/>
                  <a:pt x="400" y="18"/>
                  <a:pt x="450" y="18"/>
                </a:cubicBezTo>
                <a:cubicBezTo>
                  <a:pt x="471" y="18"/>
                  <a:pt x="456" y="60"/>
                  <a:pt x="459" y="81"/>
                </a:cubicBezTo>
                <a:cubicBezTo>
                  <a:pt x="498" y="2"/>
                  <a:pt x="465" y="55"/>
                  <a:pt x="486" y="162"/>
                </a:cubicBezTo>
                <a:cubicBezTo>
                  <a:pt x="488" y="171"/>
                  <a:pt x="493" y="144"/>
                  <a:pt x="495" y="135"/>
                </a:cubicBezTo>
                <a:cubicBezTo>
                  <a:pt x="517" y="48"/>
                  <a:pt x="492" y="125"/>
                  <a:pt x="513" y="63"/>
                </a:cubicBezTo>
                <a:cubicBezTo>
                  <a:pt x="556" y="91"/>
                  <a:pt x="569" y="84"/>
                  <a:pt x="585" y="36"/>
                </a:cubicBezTo>
                <a:cubicBezTo>
                  <a:pt x="588" y="45"/>
                  <a:pt x="585" y="63"/>
                  <a:pt x="594" y="63"/>
                </a:cubicBezTo>
                <a:cubicBezTo>
                  <a:pt x="603" y="63"/>
                  <a:pt x="598" y="28"/>
                  <a:pt x="603" y="36"/>
                </a:cubicBezTo>
                <a:cubicBezTo>
                  <a:pt x="613" y="51"/>
                  <a:pt x="609" y="72"/>
                  <a:pt x="612" y="90"/>
                </a:cubicBezTo>
                <a:cubicBezTo>
                  <a:pt x="642" y="1"/>
                  <a:pt x="594" y="130"/>
                  <a:pt x="630" y="108"/>
                </a:cubicBezTo>
                <a:cubicBezTo>
                  <a:pt x="653" y="94"/>
                  <a:pt x="654" y="60"/>
                  <a:pt x="666" y="36"/>
                </a:cubicBezTo>
                <a:cubicBezTo>
                  <a:pt x="669" y="48"/>
                  <a:pt x="673" y="60"/>
                  <a:pt x="675" y="72"/>
                </a:cubicBezTo>
                <a:cubicBezTo>
                  <a:pt x="687" y="134"/>
                  <a:pt x="673" y="143"/>
                  <a:pt x="702" y="99"/>
                </a:cubicBezTo>
                <a:cubicBezTo>
                  <a:pt x="709" y="374"/>
                  <a:pt x="740" y="643"/>
                  <a:pt x="756" y="918"/>
                </a:cubicBezTo>
                <a:cubicBezTo>
                  <a:pt x="759" y="903"/>
                  <a:pt x="762" y="888"/>
                  <a:pt x="765" y="873"/>
                </a:cubicBezTo>
                <a:cubicBezTo>
                  <a:pt x="771" y="849"/>
                  <a:pt x="783" y="801"/>
                  <a:pt x="783" y="801"/>
                </a:cubicBezTo>
                <a:cubicBezTo>
                  <a:pt x="816" y="899"/>
                  <a:pt x="791" y="849"/>
                  <a:pt x="810" y="765"/>
                </a:cubicBezTo>
                <a:cubicBezTo>
                  <a:pt x="812" y="754"/>
                  <a:pt x="822" y="747"/>
                  <a:pt x="828" y="738"/>
                </a:cubicBezTo>
                <a:cubicBezTo>
                  <a:pt x="831" y="762"/>
                  <a:pt x="814" y="802"/>
                  <a:pt x="837" y="810"/>
                </a:cubicBezTo>
                <a:cubicBezTo>
                  <a:pt x="858" y="817"/>
                  <a:pt x="844" y="728"/>
                  <a:pt x="855" y="747"/>
                </a:cubicBezTo>
                <a:cubicBezTo>
                  <a:pt x="874" y="778"/>
                  <a:pt x="861" y="819"/>
                  <a:pt x="864" y="855"/>
                </a:cubicBezTo>
                <a:cubicBezTo>
                  <a:pt x="885" y="770"/>
                  <a:pt x="860" y="849"/>
                  <a:pt x="882" y="864"/>
                </a:cubicBezTo>
                <a:cubicBezTo>
                  <a:pt x="891" y="870"/>
                  <a:pt x="894" y="846"/>
                  <a:pt x="900" y="837"/>
                </a:cubicBezTo>
                <a:cubicBezTo>
                  <a:pt x="903" y="822"/>
                  <a:pt x="898" y="781"/>
                  <a:pt x="909" y="792"/>
                </a:cubicBezTo>
                <a:cubicBezTo>
                  <a:pt x="926" y="809"/>
                  <a:pt x="927" y="864"/>
                  <a:pt x="927" y="864"/>
                </a:cubicBezTo>
                <a:cubicBezTo>
                  <a:pt x="948" y="800"/>
                  <a:pt x="934" y="794"/>
                  <a:pt x="963" y="837"/>
                </a:cubicBezTo>
                <a:cubicBezTo>
                  <a:pt x="975" y="819"/>
                  <a:pt x="989" y="802"/>
                  <a:pt x="999" y="783"/>
                </a:cubicBezTo>
                <a:cubicBezTo>
                  <a:pt x="1007" y="766"/>
                  <a:pt x="1001" y="740"/>
                  <a:pt x="1017" y="729"/>
                </a:cubicBezTo>
                <a:cubicBezTo>
                  <a:pt x="1027" y="722"/>
                  <a:pt x="1022" y="753"/>
                  <a:pt x="1026" y="765"/>
                </a:cubicBezTo>
                <a:cubicBezTo>
                  <a:pt x="1056" y="854"/>
                  <a:pt x="1035" y="766"/>
                  <a:pt x="1053" y="855"/>
                </a:cubicBezTo>
                <a:cubicBezTo>
                  <a:pt x="1074" y="793"/>
                  <a:pt x="1049" y="851"/>
                  <a:pt x="1071" y="873"/>
                </a:cubicBezTo>
                <a:cubicBezTo>
                  <a:pt x="1078" y="880"/>
                  <a:pt x="1073" y="853"/>
                  <a:pt x="1080" y="846"/>
                </a:cubicBezTo>
                <a:cubicBezTo>
                  <a:pt x="1087" y="839"/>
                  <a:pt x="1098" y="840"/>
                  <a:pt x="1107" y="837"/>
                </a:cubicBezTo>
                <a:cubicBezTo>
                  <a:pt x="1116" y="822"/>
                  <a:pt x="1117" y="792"/>
                  <a:pt x="1134" y="792"/>
                </a:cubicBezTo>
                <a:cubicBezTo>
                  <a:pt x="1149" y="792"/>
                  <a:pt x="1132" y="848"/>
                  <a:pt x="1143" y="837"/>
                </a:cubicBezTo>
                <a:cubicBezTo>
                  <a:pt x="1160" y="820"/>
                  <a:pt x="1155" y="789"/>
                  <a:pt x="1161" y="765"/>
                </a:cubicBezTo>
                <a:cubicBezTo>
                  <a:pt x="1164" y="786"/>
                  <a:pt x="1166" y="807"/>
                  <a:pt x="1170" y="828"/>
                </a:cubicBezTo>
                <a:cubicBezTo>
                  <a:pt x="1172" y="837"/>
                  <a:pt x="1171" y="851"/>
                  <a:pt x="1179" y="855"/>
                </a:cubicBezTo>
                <a:cubicBezTo>
                  <a:pt x="1187" y="859"/>
                  <a:pt x="1197" y="849"/>
                  <a:pt x="1206" y="846"/>
                </a:cubicBezTo>
                <a:cubicBezTo>
                  <a:pt x="1215" y="834"/>
                  <a:pt x="1218" y="814"/>
                  <a:pt x="1233" y="810"/>
                </a:cubicBezTo>
                <a:cubicBezTo>
                  <a:pt x="1242" y="808"/>
                  <a:pt x="1240" y="828"/>
                  <a:pt x="1242" y="837"/>
                </a:cubicBezTo>
                <a:cubicBezTo>
                  <a:pt x="1246" y="855"/>
                  <a:pt x="1248" y="873"/>
                  <a:pt x="1251" y="891"/>
                </a:cubicBezTo>
                <a:cubicBezTo>
                  <a:pt x="1270" y="862"/>
                  <a:pt x="1280" y="832"/>
                  <a:pt x="1296" y="801"/>
                </a:cubicBezTo>
                <a:cubicBezTo>
                  <a:pt x="1318" y="867"/>
                  <a:pt x="1301" y="868"/>
                  <a:pt x="1341" y="828"/>
                </a:cubicBezTo>
                <a:cubicBezTo>
                  <a:pt x="1344" y="810"/>
                  <a:pt x="1340" y="789"/>
                  <a:pt x="1350" y="774"/>
                </a:cubicBezTo>
                <a:cubicBezTo>
                  <a:pt x="1355" y="766"/>
                  <a:pt x="1351" y="797"/>
                  <a:pt x="1359" y="801"/>
                </a:cubicBezTo>
                <a:cubicBezTo>
                  <a:pt x="1367" y="805"/>
                  <a:pt x="1377" y="795"/>
                  <a:pt x="1386" y="792"/>
                </a:cubicBezTo>
                <a:cubicBezTo>
                  <a:pt x="1389" y="813"/>
                  <a:pt x="1383" y="837"/>
                  <a:pt x="1395" y="855"/>
                </a:cubicBezTo>
                <a:cubicBezTo>
                  <a:pt x="1400" y="863"/>
                  <a:pt x="1418" y="855"/>
                  <a:pt x="1422" y="846"/>
                </a:cubicBezTo>
                <a:cubicBezTo>
                  <a:pt x="1438" y="812"/>
                  <a:pt x="1449" y="738"/>
                  <a:pt x="1449" y="738"/>
                </a:cubicBezTo>
                <a:cubicBezTo>
                  <a:pt x="1455" y="639"/>
                  <a:pt x="1462" y="555"/>
                  <a:pt x="1476" y="459"/>
                </a:cubicBezTo>
                <a:cubicBezTo>
                  <a:pt x="1479" y="396"/>
                  <a:pt x="1480" y="333"/>
                  <a:pt x="1485" y="270"/>
                </a:cubicBezTo>
                <a:cubicBezTo>
                  <a:pt x="1486" y="252"/>
                  <a:pt x="1509" y="190"/>
                  <a:pt x="1512" y="180"/>
                </a:cubicBezTo>
                <a:cubicBezTo>
                  <a:pt x="1515" y="171"/>
                  <a:pt x="1521" y="153"/>
                  <a:pt x="1521" y="153"/>
                </a:cubicBezTo>
                <a:cubicBezTo>
                  <a:pt x="1524" y="114"/>
                  <a:pt x="1515" y="72"/>
                  <a:pt x="1530" y="36"/>
                </a:cubicBezTo>
                <a:cubicBezTo>
                  <a:pt x="1541" y="10"/>
                  <a:pt x="1557" y="117"/>
                  <a:pt x="1557" y="117"/>
                </a:cubicBezTo>
                <a:cubicBezTo>
                  <a:pt x="1561" y="111"/>
                  <a:pt x="1600" y="52"/>
                  <a:pt x="1602" y="54"/>
                </a:cubicBezTo>
                <a:cubicBezTo>
                  <a:pt x="1619" y="71"/>
                  <a:pt x="1608" y="102"/>
                  <a:pt x="1611" y="126"/>
                </a:cubicBezTo>
                <a:cubicBezTo>
                  <a:pt x="1620" y="117"/>
                  <a:pt x="1631" y="109"/>
                  <a:pt x="1638" y="99"/>
                </a:cubicBezTo>
                <a:cubicBezTo>
                  <a:pt x="1663" y="64"/>
                  <a:pt x="1650" y="44"/>
                  <a:pt x="1665" y="90"/>
                </a:cubicBezTo>
                <a:cubicBezTo>
                  <a:pt x="1668" y="81"/>
                  <a:pt x="1666" y="69"/>
                  <a:pt x="1674" y="63"/>
                </a:cubicBezTo>
                <a:cubicBezTo>
                  <a:pt x="1689" y="52"/>
                  <a:pt x="1728" y="45"/>
                  <a:pt x="1728" y="45"/>
                </a:cubicBezTo>
                <a:cubicBezTo>
                  <a:pt x="1741" y="85"/>
                  <a:pt x="1735" y="106"/>
                  <a:pt x="1782" y="90"/>
                </a:cubicBezTo>
                <a:cubicBezTo>
                  <a:pt x="1807" y="16"/>
                  <a:pt x="1769" y="115"/>
                  <a:pt x="1800" y="135"/>
                </a:cubicBezTo>
                <a:cubicBezTo>
                  <a:pt x="1816" y="146"/>
                  <a:pt x="1809" y="98"/>
                  <a:pt x="1818" y="81"/>
                </a:cubicBezTo>
                <a:cubicBezTo>
                  <a:pt x="1824" y="70"/>
                  <a:pt x="1836" y="63"/>
                  <a:pt x="1845" y="54"/>
                </a:cubicBezTo>
                <a:cubicBezTo>
                  <a:pt x="1862" y="159"/>
                  <a:pt x="1845" y="104"/>
                  <a:pt x="1863" y="81"/>
                </a:cubicBezTo>
                <a:cubicBezTo>
                  <a:pt x="1870" y="73"/>
                  <a:pt x="1881" y="69"/>
                  <a:pt x="1890" y="63"/>
                </a:cubicBezTo>
                <a:cubicBezTo>
                  <a:pt x="1893" y="81"/>
                  <a:pt x="1895" y="99"/>
                  <a:pt x="1899" y="117"/>
                </a:cubicBezTo>
                <a:cubicBezTo>
                  <a:pt x="1901" y="126"/>
                  <a:pt x="1899" y="144"/>
                  <a:pt x="1908" y="144"/>
                </a:cubicBezTo>
                <a:cubicBezTo>
                  <a:pt x="1919" y="144"/>
                  <a:pt x="1922" y="127"/>
                  <a:pt x="1926" y="117"/>
                </a:cubicBezTo>
                <a:cubicBezTo>
                  <a:pt x="1939" y="89"/>
                  <a:pt x="1946" y="57"/>
                  <a:pt x="1953" y="27"/>
                </a:cubicBezTo>
                <a:cubicBezTo>
                  <a:pt x="1956" y="51"/>
                  <a:pt x="1947" y="80"/>
                  <a:pt x="1962" y="99"/>
                </a:cubicBezTo>
                <a:cubicBezTo>
                  <a:pt x="1970" y="109"/>
                  <a:pt x="1982" y="83"/>
                  <a:pt x="1989" y="72"/>
                </a:cubicBezTo>
                <a:cubicBezTo>
                  <a:pt x="1994" y="64"/>
                  <a:pt x="1995" y="54"/>
                  <a:pt x="1998" y="45"/>
                </a:cubicBezTo>
                <a:cubicBezTo>
                  <a:pt x="2001" y="54"/>
                  <a:pt x="2005" y="63"/>
                  <a:pt x="2007" y="72"/>
                </a:cubicBezTo>
                <a:cubicBezTo>
                  <a:pt x="2011" y="96"/>
                  <a:pt x="1992" y="144"/>
                  <a:pt x="2016" y="144"/>
                </a:cubicBezTo>
                <a:cubicBezTo>
                  <a:pt x="2046" y="144"/>
                  <a:pt x="2070" y="72"/>
                  <a:pt x="2070" y="72"/>
                </a:cubicBezTo>
                <a:cubicBezTo>
                  <a:pt x="2078" y="96"/>
                  <a:pt x="2074" y="108"/>
                  <a:pt x="2106" y="108"/>
                </a:cubicBezTo>
                <a:cubicBezTo>
                  <a:pt x="2118" y="108"/>
                  <a:pt x="2142" y="99"/>
                  <a:pt x="2142" y="99"/>
                </a:cubicBez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457440" y="2971800"/>
            <a:ext cx="3400560" cy="1457280"/>
          </a:xfrm>
          <a:custGeom>
            <a:avLst/>
            <a:gdLst/>
            <a:ahLst/>
            <a:rect l="l" t="t" r="r" b="b"/>
            <a:pathLst>
              <a:path w="2142" h="918">
                <a:moveTo>
                  <a:pt x="0" y="441"/>
                </a:moveTo>
                <a:cubicBezTo>
                  <a:pt x="18" y="300"/>
                  <a:pt x="28" y="157"/>
                  <a:pt x="63" y="18"/>
                </a:cubicBezTo>
                <a:cubicBezTo>
                  <a:pt x="66" y="36"/>
                  <a:pt x="62" y="57"/>
                  <a:pt x="72" y="72"/>
                </a:cubicBezTo>
                <a:cubicBezTo>
                  <a:pt x="77" y="80"/>
                  <a:pt x="72" y="45"/>
                  <a:pt x="81" y="45"/>
                </a:cubicBezTo>
                <a:cubicBezTo>
                  <a:pt x="90" y="45"/>
                  <a:pt x="87" y="63"/>
                  <a:pt x="90" y="72"/>
                </a:cubicBezTo>
                <a:cubicBezTo>
                  <a:pt x="96" y="63"/>
                  <a:pt x="97" y="45"/>
                  <a:pt x="108" y="45"/>
                </a:cubicBezTo>
                <a:cubicBezTo>
                  <a:pt x="117" y="45"/>
                  <a:pt x="108" y="74"/>
                  <a:pt x="117" y="72"/>
                </a:cubicBezTo>
                <a:cubicBezTo>
                  <a:pt x="132" y="68"/>
                  <a:pt x="135" y="48"/>
                  <a:pt x="144" y="36"/>
                </a:cubicBezTo>
                <a:cubicBezTo>
                  <a:pt x="147" y="27"/>
                  <a:pt x="149" y="0"/>
                  <a:pt x="153" y="9"/>
                </a:cubicBezTo>
                <a:cubicBezTo>
                  <a:pt x="173" y="60"/>
                  <a:pt x="150" y="116"/>
                  <a:pt x="171" y="54"/>
                </a:cubicBezTo>
                <a:cubicBezTo>
                  <a:pt x="174" y="69"/>
                  <a:pt x="166" y="92"/>
                  <a:pt x="180" y="99"/>
                </a:cubicBezTo>
                <a:cubicBezTo>
                  <a:pt x="199" y="109"/>
                  <a:pt x="214" y="52"/>
                  <a:pt x="216" y="45"/>
                </a:cubicBezTo>
                <a:cubicBezTo>
                  <a:pt x="257" y="72"/>
                  <a:pt x="258" y="62"/>
                  <a:pt x="297" y="36"/>
                </a:cubicBezTo>
                <a:cubicBezTo>
                  <a:pt x="300" y="57"/>
                  <a:pt x="293" y="82"/>
                  <a:pt x="306" y="99"/>
                </a:cubicBezTo>
                <a:cubicBezTo>
                  <a:pt x="312" y="108"/>
                  <a:pt x="319" y="82"/>
                  <a:pt x="324" y="72"/>
                </a:cubicBezTo>
                <a:cubicBezTo>
                  <a:pt x="328" y="64"/>
                  <a:pt x="330" y="54"/>
                  <a:pt x="333" y="45"/>
                </a:cubicBezTo>
                <a:cubicBezTo>
                  <a:pt x="336" y="54"/>
                  <a:pt x="333" y="72"/>
                  <a:pt x="342" y="72"/>
                </a:cubicBezTo>
                <a:cubicBezTo>
                  <a:pt x="364" y="72"/>
                  <a:pt x="373" y="32"/>
                  <a:pt x="378" y="18"/>
                </a:cubicBezTo>
                <a:cubicBezTo>
                  <a:pt x="381" y="45"/>
                  <a:pt x="375" y="75"/>
                  <a:pt x="387" y="99"/>
                </a:cubicBezTo>
                <a:cubicBezTo>
                  <a:pt x="392" y="109"/>
                  <a:pt x="400" y="82"/>
                  <a:pt x="405" y="72"/>
                </a:cubicBezTo>
                <a:cubicBezTo>
                  <a:pt x="409" y="64"/>
                  <a:pt x="411" y="54"/>
                  <a:pt x="414" y="45"/>
                </a:cubicBezTo>
                <a:cubicBezTo>
                  <a:pt x="439" y="143"/>
                  <a:pt x="400" y="18"/>
                  <a:pt x="450" y="18"/>
                </a:cubicBezTo>
                <a:cubicBezTo>
                  <a:pt x="471" y="18"/>
                  <a:pt x="456" y="60"/>
                  <a:pt x="459" y="81"/>
                </a:cubicBezTo>
                <a:cubicBezTo>
                  <a:pt x="498" y="2"/>
                  <a:pt x="465" y="55"/>
                  <a:pt x="486" y="162"/>
                </a:cubicBezTo>
                <a:cubicBezTo>
                  <a:pt x="488" y="171"/>
                  <a:pt x="493" y="144"/>
                  <a:pt x="495" y="135"/>
                </a:cubicBezTo>
                <a:cubicBezTo>
                  <a:pt x="517" y="48"/>
                  <a:pt x="492" y="125"/>
                  <a:pt x="513" y="63"/>
                </a:cubicBezTo>
                <a:cubicBezTo>
                  <a:pt x="556" y="91"/>
                  <a:pt x="569" y="84"/>
                  <a:pt x="585" y="36"/>
                </a:cubicBezTo>
                <a:cubicBezTo>
                  <a:pt x="588" y="45"/>
                  <a:pt x="585" y="63"/>
                  <a:pt x="594" y="63"/>
                </a:cubicBezTo>
                <a:cubicBezTo>
                  <a:pt x="603" y="63"/>
                  <a:pt x="598" y="28"/>
                  <a:pt x="603" y="36"/>
                </a:cubicBezTo>
                <a:cubicBezTo>
                  <a:pt x="613" y="51"/>
                  <a:pt x="609" y="72"/>
                  <a:pt x="612" y="90"/>
                </a:cubicBezTo>
                <a:cubicBezTo>
                  <a:pt x="642" y="1"/>
                  <a:pt x="594" y="130"/>
                  <a:pt x="630" y="108"/>
                </a:cubicBezTo>
                <a:cubicBezTo>
                  <a:pt x="653" y="94"/>
                  <a:pt x="654" y="60"/>
                  <a:pt x="666" y="36"/>
                </a:cubicBezTo>
                <a:cubicBezTo>
                  <a:pt x="669" y="48"/>
                  <a:pt x="673" y="60"/>
                  <a:pt x="675" y="72"/>
                </a:cubicBezTo>
                <a:cubicBezTo>
                  <a:pt x="687" y="134"/>
                  <a:pt x="673" y="143"/>
                  <a:pt x="702" y="99"/>
                </a:cubicBezTo>
                <a:cubicBezTo>
                  <a:pt x="709" y="374"/>
                  <a:pt x="740" y="643"/>
                  <a:pt x="756" y="918"/>
                </a:cubicBezTo>
                <a:cubicBezTo>
                  <a:pt x="759" y="903"/>
                  <a:pt x="762" y="888"/>
                  <a:pt x="765" y="873"/>
                </a:cubicBezTo>
                <a:cubicBezTo>
                  <a:pt x="771" y="849"/>
                  <a:pt x="783" y="801"/>
                  <a:pt x="783" y="801"/>
                </a:cubicBezTo>
                <a:cubicBezTo>
                  <a:pt x="816" y="899"/>
                  <a:pt x="791" y="849"/>
                  <a:pt x="810" y="765"/>
                </a:cubicBezTo>
                <a:cubicBezTo>
                  <a:pt x="812" y="754"/>
                  <a:pt x="822" y="747"/>
                  <a:pt x="828" y="738"/>
                </a:cubicBezTo>
                <a:cubicBezTo>
                  <a:pt x="831" y="762"/>
                  <a:pt x="814" y="802"/>
                  <a:pt x="837" y="810"/>
                </a:cubicBezTo>
                <a:cubicBezTo>
                  <a:pt x="858" y="817"/>
                  <a:pt x="844" y="728"/>
                  <a:pt x="855" y="747"/>
                </a:cubicBezTo>
                <a:cubicBezTo>
                  <a:pt x="874" y="778"/>
                  <a:pt x="861" y="819"/>
                  <a:pt x="864" y="855"/>
                </a:cubicBezTo>
                <a:cubicBezTo>
                  <a:pt x="885" y="770"/>
                  <a:pt x="860" y="849"/>
                  <a:pt x="882" y="864"/>
                </a:cubicBezTo>
                <a:cubicBezTo>
                  <a:pt x="891" y="870"/>
                  <a:pt x="894" y="846"/>
                  <a:pt x="900" y="837"/>
                </a:cubicBezTo>
                <a:cubicBezTo>
                  <a:pt x="903" y="822"/>
                  <a:pt x="898" y="781"/>
                  <a:pt x="909" y="792"/>
                </a:cubicBezTo>
                <a:cubicBezTo>
                  <a:pt x="926" y="809"/>
                  <a:pt x="927" y="864"/>
                  <a:pt x="927" y="864"/>
                </a:cubicBezTo>
                <a:cubicBezTo>
                  <a:pt x="948" y="800"/>
                  <a:pt x="934" y="794"/>
                  <a:pt x="963" y="837"/>
                </a:cubicBezTo>
                <a:cubicBezTo>
                  <a:pt x="975" y="819"/>
                  <a:pt x="989" y="802"/>
                  <a:pt x="999" y="783"/>
                </a:cubicBezTo>
                <a:cubicBezTo>
                  <a:pt x="1007" y="766"/>
                  <a:pt x="1001" y="740"/>
                  <a:pt x="1017" y="729"/>
                </a:cubicBezTo>
                <a:cubicBezTo>
                  <a:pt x="1027" y="722"/>
                  <a:pt x="1022" y="753"/>
                  <a:pt x="1026" y="765"/>
                </a:cubicBezTo>
                <a:cubicBezTo>
                  <a:pt x="1056" y="854"/>
                  <a:pt x="1035" y="766"/>
                  <a:pt x="1053" y="855"/>
                </a:cubicBezTo>
                <a:cubicBezTo>
                  <a:pt x="1074" y="793"/>
                  <a:pt x="1049" y="851"/>
                  <a:pt x="1071" y="873"/>
                </a:cubicBezTo>
                <a:cubicBezTo>
                  <a:pt x="1078" y="880"/>
                  <a:pt x="1073" y="853"/>
                  <a:pt x="1080" y="846"/>
                </a:cubicBezTo>
                <a:cubicBezTo>
                  <a:pt x="1087" y="839"/>
                  <a:pt x="1098" y="840"/>
                  <a:pt x="1107" y="837"/>
                </a:cubicBezTo>
                <a:cubicBezTo>
                  <a:pt x="1116" y="822"/>
                  <a:pt x="1117" y="792"/>
                  <a:pt x="1134" y="792"/>
                </a:cubicBezTo>
                <a:cubicBezTo>
                  <a:pt x="1149" y="792"/>
                  <a:pt x="1132" y="848"/>
                  <a:pt x="1143" y="837"/>
                </a:cubicBezTo>
                <a:cubicBezTo>
                  <a:pt x="1160" y="820"/>
                  <a:pt x="1155" y="789"/>
                  <a:pt x="1161" y="765"/>
                </a:cubicBezTo>
                <a:cubicBezTo>
                  <a:pt x="1164" y="786"/>
                  <a:pt x="1166" y="807"/>
                  <a:pt x="1170" y="828"/>
                </a:cubicBezTo>
                <a:cubicBezTo>
                  <a:pt x="1172" y="837"/>
                  <a:pt x="1171" y="851"/>
                  <a:pt x="1179" y="855"/>
                </a:cubicBezTo>
                <a:cubicBezTo>
                  <a:pt x="1187" y="859"/>
                  <a:pt x="1197" y="849"/>
                  <a:pt x="1206" y="846"/>
                </a:cubicBezTo>
                <a:cubicBezTo>
                  <a:pt x="1215" y="834"/>
                  <a:pt x="1218" y="814"/>
                  <a:pt x="1233" y="810"/>
                </a:cubicBezTo>
                <a:cubicBezTo>
                  <a:pt x="1242" y="808"/>
                  <a:pt x="1240" y="828"/>
                  <a:pt x="1242" y="837"/>
                </a:cubicBezTo>
                <a:cubicBezTo>
                  <a:pt x="1246" y="855"/>
                  <a:pt x="1248" y="873"/>
                  <a:pt x="1251" y="891"/>
                </a:cubicBezTo>
                <a:cubicBezTo>
                  <a:pt x="1270" y="862"/>
                  <a:pt x="1280" y="832"/>
                  <a:pt x="1296" y="801"/>
                </a:cubicBezTo>
                <a:cubicBezTo>
                  <a:pt x="1318" y="867"/>
                  <a:pt x="1301" y="868"/>
                  <a:pt x="1341" y="828"/>
                </a:cubicBezTo>
                <a:cubicBezTo>
                  <a:pt x="1344" y="810"/>
                  <a:pt x="1340" y="789"/>
                  <a:pt x="1350" y="774"/>
                </a:cubicBezTo>
                <a:cubicBezTo>
                  <a:pt x="1355" y="766"/>
                  <a:pt x="1351" y="797"/>
                  <a:pt x="1359" y="801"/>
                </a:cubicBezTo>
                <a:cubicBezTo>
                  <a:pt x="1367" y="805"/>
                  <a:pt x="1377" y="795"/>
                  <a:pt x="1386" y="792"/>
                </a:cubicBezTo>
                <a:cubicBezTo>
                  <a:pt x="1389" y="813"/>
                  <a:pt x="1383" y="837"/>
                  <a:pt x="1395" y="855"/>
                </a:cubicBezTo>
                <a:cubicBezTo>
                  <a:pt x="1400" y="863"/>
                  <a:pt x="1418" y="855"/>
                  <a:pt x="1422" y="846"/>
                </a:cubicBezTo>
                <a:cubicBezTo>
                  <a:pt x="1438" y="812"/>
                  <a:pt x="1449" y="738"/>
                  <a:pt x="1449" y="738"/>
                </a:cubicBezTo>
                <a:cubicBezTo>
                  <a:pt x="1455" y="639"/>
                  <a:pt x="1462" y="555"/>
                  <a:pt x="1476" y="459"/>
                </a:cubicBezTo>
                <a:cubicBezTo>
                  <a:pt x="1479" y="396"/>
                  <a:pt x="1480" y="333"/>
                  <a:pt x="1485" y="270"/>
                </a:cubicBezTo>
                <a:cubicBezTo>
                  <a:pt x="1486" y="252"/>
                  <a:pt x="1509" y="190"/>
                  <a:pt x="1512" y="180"/>
                </a:cubicBezTo>
                <a:cubicBezTo>
                  <a:pt x="1515" y="171"/>
                  <a:pt x="1521" y="153"/>
                  <a:pt x="1521" y="153"/>
                </a:cubicBezTo>
                <a:cubicBezTo>
                  <a:pt x="1524" y="114"/>
                  <a:pt x="1515" y="72"/>
                  <a:pt x="1530" y="36"/>
                </a:cubicBezTo>
                <a:cubicBezTo>
                  <a:pt x="1541" y="10"/>
                  <a:pt x="1557" y="117"/>
                  <a:pt x="1557" y="117"/>
                </a:cubicBezTo>
                <a:cubicBezTo>
                  <a:pt x="1561" y="111"/>
                  <a:pt x="1600" y="52"/>
                  <a:pt x="1602" y="54"/>
                </a:cubicBezTo>
                <a:cubicBezTo>
                  <a:pt x="1619" y="71"/>
                  <a:pt x="1608" y="102"/>
                  <a:pt x="1611" y="126"/>
                </a:cubicBezTo>
                <a:cubicBezTo>
                  <a:pt x="1620" y="117"/>
                  <a:pt x="1631" y="109"/>
                  <a:pt x="1638" y="99"/>
                </a:cubicBezTo>
                <a:cubicBezTo>
                  <a:pt x="1663" y="64"/>
                  <a:pt x="1650" y="44"/>
                  <a:pt x="1665" y="90"/>
                </a:cubicBezTo>
                <a:cubicBezTo>
                  <a:pt x="1668" y="81"/>
                  <a:pt x="1666" y="69"/>
                  <a:pt x="1674" y="63"/>
                </a:cubicBezTo>
                <a:cubicBezTo>
                  <a:pt x="1689" y="52"/>
                  <a:pt x="1728" y="45"/>
                  <a:pt x="1728" y="45"/>
                </a:cubicBezTo>
                <a:cubicBezTo>
                  <a:pt x="1741" y="85"/>
                  <a:pt x="1735" y="106"/>
                  <a:pt x="1782" y="90"/>
                </a:cubicBezTo>
                <a:cubicBezTo>
                  <a:pt x="1807" y="16"/>
                  <a:pt x="1769" y="115"/>
                  <a:pt x="1800" y="135"/>
                </a:cubicBezTo>
                <a:cubicBezTo>
                  <a:pt x="1816" y="146"/>
                  <a:pt x="1809" y="98"/>
                  <a:pt x="1818" y="81"/>
                </a:cubicBezTo>
                <a:cubicBezTo>
                  <a:pt x="1824" y="70"/>
                  <a:pt x="1836" y="63"/>
                  <a:pt x="1845" y="54"/>
                </a:cubicBezTo>
                <a:cubicBezTo>
                  <a:pt x="1862" y="159"/>
                  <a:pt x="1845" y="104"/>
                  <a:pt x="1863" y="81"/>
                </a:cubicBezTo>
                <a:cubicBezTo>
                  <a:pt x="1870" y="73"/>
                  <a:pt x="1881" y="69"/>
                  <a:pt x="1890" y="63"/>
                </a:cubicBezTo>
                <a:cubicBezTo>
                  <a:pt x="1893" y="81"/>
                  <a:pt x="1895" y="99"/>
                  <a:pt x="1899" y="117"/>
                </a:cubicBezTo>
                <a:cubicBezTo>
                  <a:pt x="1901" y="126"/>
                  <a:pt x="1899" y="144"/>
                  <a:pt x="1908" y="144"/>
                </a:cubicBezTo>
                <a:cubicBezTo>
                  <a:pt x="1919" y="144"/>
                  <a:pt x="1922" y="127"/>
                  <a:pt x="1926" y="117"/>
                </a:cubicBezTo>
                <a:cubicBezTo>
                  <a:pt x="1939" y="89"/>
                  <a:pt x="1946" y="57"/>
                  <a:pt x="1953" y="27"/>
                </a:cubicBezTo>
                <a:cubicBezTo>
                  <a:pt x="1956" y="51"/>
                  <a:pt x="1947" y="80"/>
                  <a:pt x="1962" y="99"/>
                </a:cubicBezTo>
                <a:cubicBezTo>
                  <a:pt x="1970" y="109"/>
                  <a:pt x="1982" y="83"/>
                  <a:pt x="1989" y="72"/>
                </a:cubicBezTo>
                <a:cubicBezTo>
                  <a:pt x="1994" y="64"/>
                  <a:pt x="1995" y="54"/>
                  <a:pt x="1998" y="45"/>
                </a:cubicBezTo>
                <a:cubicBezTo>
                  <a:pt x="2001" y="54"/>
                  <a:pt x="2005" y="63"/>
                  <a:pt x="2007" y="72"/>
                </a:cubicBezTo>
                <a:cubicBezTo>
                  <a:pt x="2011" y="96"/>
                  <a:pt x="1992" y="144"/>
                  <a:pt x="2016" y="144"/>
                </a:cubicBezTo>
                <a:cubicBezTo>
                  <a:pt x="2046" y="144"/>
                  <a:pt x="2070" y="72"/>
                  <a:pt x="2070" y="72"/>
                </a:cubicBezTo>
                <a:cubicBezTo>
                  <a:pt x="2078" y="96"/>
                  <a:pt x="2074" y="108"/>
                  <a:pt x="2106" y="108"/>
                </a:cubicBezTo>
                <a:cubicBezTo>
                  <a:pt x="2118" y="108"/>
                  <a:pt x="2142" y="99"/>
                  <a:pt x="2142" y="99"/>
                </a:cubicBezTo>
              </a:path>
            </a:pathLst>
          </a:cu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610080" y="2971800"/>
            <a:ext cx="3400200" cy="1457280"/>
          </a:xfrm>
          <a:custGeom>
            <a:avLst/>
            <a:gdLst/>
            <a:ahLst/>
            <a:rect l="l" t="t" r="r" b="b"/>
            <a:pathLst>
              <a:path w="2142" h="918">
                <a:moveTo>
                  <a:pt x="0" y="441"/>
                </a:moveTo>
                <a:cubicBezTo>
                  <a:pt x="18" y="300"/>
                  <a:pt x="28" y="157"/>
                  <a:pt x="63" y="18"/>
                </a:cubicBezTo>
                <a:cubicBezTo>
                  <a:pt x="66" y="36"/>
                  <a:pt x="62" y="57"/>
                  <a:pt x="72" y="72"/>
                </a:cubicBezTo>
                <a:cubicBezTo>
                  <a:pt x="77" y="80"/>
                  <a:pt x="72" y="45"/>
                  <a:pt x="81" y="45"/>
                </a:cubicBezTo>
                <a:cubicBezTo>
                  <a:pt x="90" y="45"/>
                  <a:pt x="87" y="63"/>
                  <a:pt x="90" y="72"/>
                </a:cubicBezTo>
                <a:cubicBezTo>
                  <a:pt x="96" y="63"/>
                  <a:pt x="97" y="45"/>
                  <a:pt x="108" y="45"/>
                </a:cubicBezTo>
                <a:cubicBezTo>
                  <a:pt x="117" y="45"/>
                  <a:pt x="108" y="74"/>
                  <a:pt x="117" y="72"/>
                </a:cubicBezTo>
                <a:cubicBezTo>
                  <a:pt x="132" y="68"/>
                  <a:pt x="135" y="48"/>
                  <a:pt x="144" y="36"/>
                </a:cubicBezTo>
                <a:cubicBezTo>
                  <a:pt x="147" y="27"/>
                  <a:pt x="149" y="0"/>
                  <a:pt x="153" y="9"/>
                </a:cubicBezTo>
                <a:cubicBezTo>
                  <a:pt x="173" y="60"/>
                  <a:pt x="150" y="116"/>
                  <a:pt x="171" y="54"/>
                </a:cubicBezTo>
                <a:cubicBezTo>
                  <a:pt x="174" y="69"/>
                  <a:pt x="166" y="92"/>
                  <a:pt x="180" y="99"/>
                </a:cubicBezTo>
                <a:cubicBezTo>
                  <a:pt x="199" y="109"/>
                  <a:pt x="214" y="52"/>
                  <a:pt x="216" y="45"/>
                </a:cubicBezTo>
                <a:cubicBezTo>
                  <a:pt x="257" y="72"/>
                  <a:pt x="258" y="62"/>
                  <a:pt x="297" y="36"/>
                </a:cubicBezTo>
                <a:cubicBezTo>
                  <a:pt x="300" y="57"/>
                  <a:pt x="293" y="82"/>
                  <a:pt x="306" y="99"/>
                </a:cubicBezTo>
                <a:cubicBezTo>
                  <a:pt x="312" y="108"/>
                  <a:pt x="319" y="82"/>
                  <a:pt x="324" y="72"/>
                </a:cubicBezTo>
                <a:cubicBezTo>
                  <a:pt x="328" y="64"/>
                  <a:pt x="330" y="54"/>
                  <a:pt x="333" y="45"/>
                </a:cubicBezTo>
                <a:cubicBezTo>
                  <a:pt x="336" y="54"/>
                  <a:pt x="333" y="72"/>
                  <a:pt x="342" y="72"/>
                </a:cubicBezTo>
                <a:cubicBezTo>
                  <a:pt x="364" y="72"/>
                  <a:pt x="373" y="32"/>
                  <a:pt x="378" y="18"/>
                </a:cubicBezTo>
                <a:cubicBezTo>
                  <a:pt x="381" y="45"/>
                  <a:pt x="375" y="75"/>
                  <a:pt x="387" y="99"/>
                </a:cubicBezTo>
                <a:cubicBezTo>
                  <a:pt x="392" y="109"/>
                  <a:pt x="400" y="82"/>
                  <a:pt x="405" y="72"/>
                </a:cubicBezTo>
                <a:cubicBezTo>
                  <a:pt x="409" y="64"/>
                  <a:pt x="411" y="54"/>
                  <a:pt x="414" y="45"/>
                </a:cubicBezTo>
                <a:cubicBezTo>
                  <a:pt x="439" y="143"/>
                  <a:pt x="400" y="18"/>
                  <a:pt x="450" y="18"/>
                </a:cubicBezTo>
                <a:cubicBezTo>
                  <a:pt x="471" y="18"/>
                  <a:pt x="456" y="60"/>
                  <a:pt x="459" y="81"/>
                </a:cubicBezTo>
                <a:cubicBezTo>
                  <a:pt x="498" y="2"/>
                  <a:pt x="465" y="55"/>
                  <a:pt x="486" y="162"/>
                </a:cubicBezTo>
                <a:cubicBezTo>
                  <a:pt x="488" y="171"/>
                  <a:pt x="493" y="144"/>
                  <a:pt x="495" y="135"/>
                </a:cubicBezTo>
                <a:cubicBezTo>
                  <a:pt x="517" y="48"/>
                  <a:pt x="492" y="125"/>
                  <a:pt x="513" y="63"/>
                </a:cubicBezTo>
                <a:cubicBezTo>
                  <a:pt x="556" y="91"/>
                  <a:pt x="569" y="84"/>
                  <a:pt x="585" y="36"/>
                </a:cubicBezTo>
                <a:cubicBezTo>
                  <a:pt x="588" y="45"/>
                  <a:pt x="585" y="63"/>
                  <a:pt x="594" y="63"/>
                </a:cubicBezTo>
                <a:cubicBezTo>
                  <a:pt x="603" y="63"/>
                  <a:pt x="598" y="28"/>
                  <a:pt x="603" y="36"/>
                </a:cubicBezTo>
                <a:cubicBezTo>
                  <a:pt x="613" y="51"/>
                  <a:pt x="609" y="72"/>
                  <a:pt x="612" y="90"/>
                </a:cubicBezTo>
                <a:cubicBezTo>
                  <a:pt x="642" y="1"/>
                  <a:pt x="594" y="130"/>
                  <a:pt x="630" y="108"/>
                </a:cubicBezTo>
                <a:cubicBezTo>
                  <a:pt x="653" y="94"/>
                  <a:pt x="654" y="60"/>
                  <a:pt x="666" y="36"/>
                </a:cubicBezTo>
                <a:cubicBezTo>
                  <a:pt x="669" y="48"/>
                  <a:pt x="673" y="60"/>
                  <a:pt x="675" y="72"/>
                </a:cubicBezTo>
                <a:cubicBezTo>
                  <a:pt x="687" y="134"/>
                  <a:pt x="673" y="143"/>
                  <a:pt x="702" y="99"/>
                </a:cubicBezTo>
                <a:cubicBezTo>
                  <a:pt x="709" y="374"/>
                  <a:pt x="740" y="643"/>
                  <a:pt x="756" y="918"/>
                </a:cubicBezTo>
                <a:cubicBezTo>
                  <a:pt x="759" y="903"/>
                  <a:pt x="762" y="888"/>
                  <a:pt x="765" y="873"/>
                </a:cubicBezTo>
                <a:cubicBezTo>
                  <a:pt x="771" y="849"/>
                  <a:pt x="783" y="801"/>
                  <a:pt x="783" y="801"/>
                </a:cubicBezTo>
                <a:cubicBezTo>
                  <a:pt x="816" y="899"/>
                  <a:pt x="791" y="849"/>
                  <a:pt x="810" y="765"/>
                </a:cubicBezTo>
                <a:cubicBezTo>
                  <a:pt x="812" y="754"/>
                  <a:pt x="822" y="747"/>
                  <a:pt x="828" y="738"/>
                </a:cubicBezTo>
                <a:cubicBezTo>
                  <a:pt x="831" y="762"/>
                  <a:pt x="814" y="802"/>
                  <a:pt x="837" y="810"/>
                </a:cubicBezTo>
                <a:cubicBezTo>
                  <a:pt x="858" y="817"/>
                  <a:pt x="844" y="728"/>
                  <a:pt x="855" y="747"/>
                </a:cubicBezTo>
                <a:cubicBezTo>
                  <a:pt x="874" y="778"/>
                  <a:pt x="861" y="819"/>
                  <a:pt x="864" y="855"/>
                </a:cubicBezTo>
                <a:cubicBezTo>
                  <a:pt x="885" y="770"/>
                  <a:pt x="860" y="849"/>
                  <a:pt x="882" y="864"/>
                </a:cubicBezTo>
                <a:cubicBezTo>
                  <a:pt x="891" y="870"/>
                  <a:pt x="894" y="846"/>
                  <a:pt x="900" y="837"/>
                </a:cubicBezTo>
                <a:cubicBezTo>
                  <a:pt x="903" y="822"/>
                  <a:pt x="898" y="781"/>
                  <a:pt x="909" y="792"/>
                </a:cubicBezTo>
                <a:cubicBezTo>
                  <a:pt x="926" y="809"/>
                  <a:pt x="927" y="864"/>
                  <a:pt x="927" y="864"/>
                </a:cubicBezTo>
                <a:cubicBezTo>
                  <a:pt x="948" y="800"/>
                  <a:pt x="934" y="794"/>
                  <a:pt x="963" y="837"/>
                </a:cubicBezTo>
                <a:cubicBezTo>
                  <a:pt x="975" y="819"/>
                  <a:pt x="989" y="802"/>
                  <a:pt x="999" y="783"/>
                </a:cubicBezTo>
                <a:cubicBezTo>
                  <a:pt x="1007" y="766"/>
                  <a:pt x="1001" y="740"/>
                  <a:pt x="1017" y="729"/>
                </a:cubicBezTo>
                <a:cubicBezTo>
                  <a:pt x="1027" y="722"/>
                  <a:pt x="1022" y="753"/>
                  <a:pt x="1026" y="765"/>
                </a:cubicBezTo>
                <a:cubicBezTo>
                  <a:pt x="1056" y="854"/>
                  <a:pt x="1035" y="766"/>
                  <a:pt x="1053" y="855"/>
                </a:cubicBezTo>
                <a:cubicBezTo>
                  <a:pt x="1074" y="793"/>
                  <a:pt x="1049" y="851"/>
                  <a:pt x="1071" y="873"/>
                </a:cubicBezTo>
                <a:cubicBezTo>
                  <a:pt x="1078" y="880"/>
                  <a:pt x="1073" y="853"/>
                  <a:pt x="1080" y="846"/>
                </a:cubicBezTo>
                <a:cubicBezTo>
                  <a:pt x="1087" y="839"/>
                  <a:pt x="1098" y="840"/>
                  <a:pt x="1107" y="837"/>
                </a:cubicBezTo>
                <a:cubicBezTo>
                  <a:pt x="1116" y="822"/>
                  <a:pt x="1117" y="792"/>
                  <a:pt x="1134" y="792"/>
                </a:cubicBezTo>
                <a:cubicBezTo>
                  <a:pt x="1149" y="792"/>
                  <a:pt x="1132" y="848"/>
                  <a:pt x="1143" y="837"/>
                </a:cubicBezTo>
                <a:cubicBezTo>
                  <a:pt x="1160" y="820"/>
                  <a:pt x="1155" y="789"/>
                  <a:pt x="1161" y="765"/>
                </a:cubicBezTo>
                <a:cubicBezTo>
                  <a:pt x="1164" y="786"/>
                  <a:pt x="1166" y="807"/>
                  <a:pt x="1170" y="828"/>
                </a:cubicBezTo>
                <a:cubicBezTo>
                  <a:pt x="1172" y="837"/>
                  <a:pt x="1171" y="851"/>
                  <a:pt x="1179" y="855"/>
                </a:cubicBezTo>
                <a:cubicBezTo>
                  <a:pt x="1187" y="859"/>
                  <a:pt x="1197" y="849"/>
                  <a:pt x="1206" y="846"/>
                </a:cubicBezTo>
                <a:cubicBezTo>
                  <a:pt x="1215" y="834"/>
                  <a:pt x="1218" y="814"/>
                  <a:pt x="1233" y="810"/>
                </a:cubicBezTo>
                <a:cubicBezTo>
                  <a:pt x="1242" y="808"/>
                  <a:pt x="1240" y="828"/>
                  <a:pt x="1242" y="837"/>
                </a:cubicBezTo>
                <a:cubicBezTo>
                  <a:pt x="1246" y="855"/>
                  <a:pt x="1248" y="873"/>
                  <a:pt x="1251" y="891"/>
                </a:cubicBezTo>
                <a:cubicBezTo>
                  <a:pt x="1270" y="862"/>
                  <a:pt x="1280" y="832"/>
                  <a:pt x="1296" y="801"/>
                </a:cubicBezTo>
                <a:cubicBezTo>
                  <a:pt x="1318" y="867"/>
                  <a:pt x="1301" y="868"/>
                  <a:pt x="1341" y="828"/>
                </a:cubicBezTo>
                <a:cubicBezTo>
                  <a:pt x="1344" y="810"/>
                  <a:pt x="1340" y="789"/>
                  <a:pt x="1350" y="774"/>
                </a:cubicBezTo>
                <a:cubicBezTo>
                  <a:pt x="1355" y="766"/>
                  <a:pt x="1351" y="797"/>
                  <a:pt x="1359" y="801"/>
                </a:cubicBezTo>
                <a:cubicBezTo>
                  <a:pt x="1367" y="805"/>
                  <a:pt x="1377" y="795"/>
                  <a:pt x="1386" y="792"/>
                </a:cubicBezTo>
                <a:cubicBezTo>
                  <a:pt x="1389" y="813"/>
                  <a:pt x="1383" y="837"/>
                  <a:pt x="1395" y="855"/>
                </a:cubicBezTo>
                <a:cubicBezTo>
                  <a:pt x="1400" y="863"/>
                  <a:pt x="1418" y="855"/>
                  <a:pt x="1422" y="846"/>
                </a:cubicBezTo>
                <a:cubicBezTo>
                  <a:pt x="1438" y="812"/>
                  <a:pt x="1449" y="738"/>
                  <a:pt x="1449" y="738"/>
                </a:cubicBezTo>
                <a:cubicBezTo>
                  <a:pt x="1455" y="639"/>
                  <a:pt x="1462" y="555"/>
                  <a:pt x="1476" y="459"/>
                </a:cubicBezTo>
                <a:cubicBezTo>
                  <a:pt x="1479" y="396"/>
                  <a:pt x="1480" y="333"/>
                  <a:pt x="1485" y="270"/>
                </a:cubicBezTo>
                <a:cubicBezTo>
                  <a:pt x="1486" y="252"/>
                  <a:pt x="1509" y="190"/>
                  <a:pt x="1512" y="180"/>
                </a:cubicBezTo>
                <a:cubicBezTo>
                  <a:pt x="1515" y="171"/>
                  <a:pt x="1521" y="153"/>
                  <a:pt x="1521" y="153"/>
                </a:cubicBezTo>
                <a:cubicBezTo>
                  <a:pt x="1524" y="114"/>
                  <a:pt x="1515" y="72"/>
                  <a:pt x="1530" y="36"/>
                </a:cubicBezTo>
                <a:cubicBezTo>
                  <a:pt x="1541" y="10"/>
                  <a:pt x="1557" y="117"/>
                  <a:pt x="1557" y="117"/>
                </a:cubicBezTo>
                <a:cubicBezTo>
                  <a:pt x="1561" y="111"/>
                  <a:pt x="1600" y="52"/>
                  <a:pt x="1602" y="54"/>
                </a:cubicBezTo>
                <a:cubicBezTo>
                  <a:pt x="1619" y="71"/>
                  <a:pt x="1608" y="102"/>
                  <a:pt x="1611" y="126"/>
                </a:cubicBezTo>
                <a:cubicBezTo>
                  <a:pt x="1620" y="117"/>
                  <a:pt x="1631" y="109"/>
                  <a:pt x="1638" y="99"/>
                </a:cubicBezTo>
                <a:cubicBezTo>
                  <a:pt x="1663" y="64"/>
                  <a:pt x="1650" y="44"/>
                  <a:pt x="1665" y="90"/>
                </a:cubicBezTo>
                <a:cubicBezTo>
                  <a:pt x="1668" y="81"/>
                  <a:pt x="1666" y="69"/>
                  <a:pt x="1674" y="63"/>
                </a:cubicBezTo>
                <a:cubicBezTo>
                  <a:pt x="1689" y="52"/>
                  <a:pt x="1728" y="45"/>
                  <a:pt x="1728" y="45"/>
                </a:cubicBezTo>
                <a:cubicBezTo>
                  <a:pt x="1741" y="85"/>
                  <a:pt x="1735" y="106"/>
                  <a:pt x="1782" y="90"/>
                </a:cubicBezTo>
                <a:cubicBezTo>
                  <a:pt x="1807" y="16"/>
                  <a:pt x="1769" y="115"/>
                  <a:pt x="1800" y="135"/>
                </a:cubicBezTo>
                <a:cubicBezTo>
                  <a:pt x="1816" y="146"/>
                  <a:pt x="1809" y="98"/>
                  <a:pt x="1818" y="81"/>
                </a:cubicBezTo>
                <a:cubicBezTo>
                  <a:pt x="1824" y="70"/>
                  <a:pt x="1836" y="63"/>
                  <a:pt x="1845" y="54"/>
                </a:cubicBezTo>
                <a:cubicBezTo>
                  <a:pt x="1862" y="159"/>
                  <a:pt x="1845" y="104"/>
                  <a:pt x="1863" y="81"/>
                </a:cubicBezTo>
                <a:cubicBezTo>
                  <a:pt x="1870" y="73"/>
                  <a:pt x="1881" y="69"/>
                  <a:pt x="1890" y="63"/>
                </a:cubicBezTo>
                <a:cubicBezTo>
                  <a:pt x="1893" y="81"/>
                  <a:pt x="1895" y="99"/>
                  <a:pt x="1899" y="117"/>
                </a:cubicBezTo>
                <a:cubicBezTo>
                  <a:pt x="1901" y="126"/>
                  <a:pt x="1899" y="144"/>
                  <a:pt x="1908" y="144"/>
                </a:cubicBezTo>
                <a:cubicBezTo>
                  <a:pt x="1919" y="144"/>
                  <a:pt x="1922" y="127"/>
                  <a:pt x="1926" y="117"/>
                </a:cubicBezTo>
                <a:cubicBezTo>
                  <a:pt x="1939" y="89"/>
                  <a:pt x="1946" y="57"/>
                  <a:pt x="1953" y="27"/>
                </a:cubicBezTo>
                <a:cubicBezTo>
                  <a:pt x="1956" y="51"/>
                  <a:pt x="1947" y="80"/>
                  <a:pt x="1962" y="99"/>
                </a:cubicBezTo>
                <a:cubicBezTo>
                  <a:pt x="1970" y="109"/>
                  <a:pt x="1982" y="83"/>
                  <a:pt x="1989" y="72"/>
                </a:cubicBezTo>
                <a:cubicBezTo>
                  <a:pt x="1994" y="64"/>
                  <a:pt x="1995" y="54"/>
                  <a:pt x="1998" y="45"/>
                </a:cubicBezTo>
                <a:cubicBezTo>
                  <a:pt x="2001" y="54"/>
                  <a:pt x="2005" y="63"/>
                  <a:pt x="2007" y="72"/>
                </a:cubicBezTo>
                <a:cubicBezTo>
                  <a:pt x="2011" y="96"/>
                  <a:pt x="1992" y="144"/>
                  <a:pt x="2016" y="144"/>
                </a:cubicBezTo>
                <a:cubicBezTo>
                  <a:pt x="2046" y="144"/>
                  <a:pt x="2070" y="72"/>
                  <a:pt x="2070" y="72"/>
                </a:cubicBezTo>
                <a:cubicBezTo>
                  <a:pt x="2078" y="96"/>
                  <a:pt x="2074" y="108"/>
                  <a:pt x="2106" y="108"/>
                </a:cubicBezTo>
                <a:cubicBezTo>
                  <a:pt x="2118" y="108"/>
                  <a:pt x="2142" y="99"/>
                  <a:pt x="2142" y="99"/>
                </a:cubicBezTo>
              </a:path>
            </a:pathLst>
          </a:custGeom>
          <a:noFill/>
          <a:ln w="9360">
            <a:solidFill>
              <a:srgbClr val="ffcf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276720" y="2971800"/>
            <a:ext cx="3400200" cy="1457280"/>
          </a:xfrm>
          <a:custGeom>
            <a:avLst/>
            <a:gdLst/>
            <a:ahLst/>
            <a:rect l="l" t="t" r="r" b="b"/>
            <a:pathLst>
              <a:path w="2142" h="918">
                <a:moveTo>
                  <a:pt x="0" y="441"/>
                </a:moveTo>
                <a:cubicBezTo>
                  <a:pt x="18" y="300"/>
                  <a:pt x="28" y="157"/>
                  <a:pt x="63" y="18"/>
                </a:cubicBezTo>
                <a:cubicBezTo>
                  <a:pt x="66" y="36"/>
                  <a:pt x="62" y="57"/>
                  <a:pt x="72" y="72"/>
                </a:cubicBezTo>
                <a:cubicBezTo>
                  <a:pt x="77" y="80"/>
                  <a:pt x="72" y="45"/>
                  <a:pt x="81" y="45"/>
                </a:cubicBezTo>
                <a:cubicBezTo>
                  <a:pt x="90" y="45"/>
                  <a:pt x="87" y="63"/>
                  <a:pt x="90" y="72"/>
                </a:cubicBezTo>
                <a:cubicBezTo>
                  <a:pt x="96" y="63"/>
                  <a:pt x="97" y="45"/>
                  <a:pt x="108" y="45"/>
                </a:cubicBezTo>
                <a:cubicBezTo>
                  <a:pt x="117" y="45"/>
                  <a:pt x="108" y="74"/>
                  <a:pt x="117" y="72"/>
                </a:cubicBezTo>
                <a:cubicBezTo>
                  <a:pt x="132" y="68"/>
                  <a:pt x="135" y="48"/>
                  <a:pt x="144" y="36"/>
                </a:cubicBezTo>
                <a:cubicBezTo>
                  <a:pt x="147" y="27"/>
                  <a:pt x="149" y="0"/>
                  <a:pt x="153" y="9"/>
                </a:cubicBezTo>
                <a:cubicBezTo>
                  <a:pt x="173" y="60"/>
                  <a:pt x="150" y="116"/>
                  <a:pt x="171" y="54"/>
                </a:cubicBezTo>
                <a:cubicBezTo>
                  <a:pt x="174" y="69"/>
                  <a:pt x="166" y="92"/>
                  <a:pt x="180" y="99"/>
                </a:cubicBezTo>
                <a:cubicBezTo>
                  <a:pt x="199" y="109"/>
                  <a:pt x="214" y="52"/>
                  <a:pt x="216" y="45"/>
                </a:cubicBezTo>
                <a:cubicBezTo>
                  <a:pt x="257" y="72"/>
                  <a:pt x="258" y="62"/>
                  <a:pt x="297" y="36"/>
                </a:cubicBezTo>
                <a:cubicBezTo>
                  <a:pt x="300" y="57"/>
                  <a:pt x="293" y="82"/>
                  <a:pt x="306" y="99"/>
                </a:cubicBezTo>
                <a:cubicBezTo>
                  <a:pt x="312" y="108"/>
                  <a:pt x="319" y="82"/>
                  <a:pt x="324" y="72"/>
                </a:cubicBezTo>
                <a:cubicBezTo>
                  <a:pt x="328" y="64"/>
                  <a:pt x="330" y="54"/>
                  <a:pt x="333" y="45"/>
                </a:cubicBezTo>
                <a:cubicBezTo>
                  <a:pt x="336" y="54"/>
                  <a:pt x="333" y="72"/>
                  <a:pt x="342" y="72"/>
                </a:cubicBezTo>
                <a:cubicBezTo>
                  <a:pt x="364" y="72"/>
                  <a:pt x="373" y="32"/>
                  <a:pt x="378" y="18"/>
                </a:cubicBezTo>
                <a:cubicBezTo>
                  <a:pt x="381" y="45"/>
                  <a:pt x="375" y="75"/>
                  <a:pt x="387" y="99"/>
                </a:cubicBezTo>
                <a:cubicBezTo>
                  <a:pt x="392" y="109"/>
                  <a:pt x="400" y="82"/>
                  <a:pt x="405" y="72"/>
                </a:cubicBezTo>
                <a:cubicBezTo>
                  <a:pt x="409" y="64"/>
                  <a:pt x="411" y="54"/>
                  <a:pt x="414" y="45"/>
                </a:cubicBezTo>
                <a:cubicBezTo>
                  <a:pt x="439" y="143"/>
                  <a:pt x="400" y="18"/>
                  <a:pt x="450" y="18"/>
                </a:cubicBezTo>
                <a:cubicBezTo>
                  <a:pt x="471" y="18"/>
                  <a:pt x="456" y="60"/>
                  <a:pt x="459" y="81"/>
                </a:cubicBezTo>
                <a:cubicBezTo>
                  <a:pt x="498" y="2"/>
                  <a:pt x="465" y="55"/>
                  <a:pt x="486" y="162"/>
                </a:cubicBezTo>
                <a:cubicBezTo>
                  <a:pt x="488" y="171"/>
                  <a:pt x="493" y="144"/>
                  <a:pt x="495" y="135"/>
                </a:cubicBezTo>
                <a:cubicBezTo>
                  <a:pt x="517" y="48"/>
                  <a:pt x="492" y="125"/>
                  <a:pt x="513" y="63"/>
                </a:cubicBezTo>
                <a:cubicBezTo>
                  <a:pt x="556" y="91"/>
                  <a:pt x="569" y="84"/>
                  <a:pt x="585" y="36"/>
                </a:cubicBezTo>
                <a:cubicBezTo>
                  <a:pt x="588" y="45"/>
                  <a:pt x="585" y="63"/>
                  <a:pt x="594" y="63"/>
                </a:cubicBezTo>
                <a:cubicBezTo>
                  <a:pt x="603" y="63"/>
                  <a:pt x="598" y="28"/>
                  <a:pt x="603" y="36"/>
                </a:cubicBezTo>
                <a:cubicBezTo>
                  <a:pt x="613" y="51"/>
                  <a:pt x="609" y="72"/>
                  <a:pt x="612" y="90"/>
                </a:cubicBezTo>
                <a:cubicBezTo>
                  <a:pt x="642" y="1"/>
                  <a:pt x="594" y="130"/>
                  <a:pt x="630" y="108"/>
                </a:cubicBezTo>
                <a:cubicBezTo>
                  <a:pt x="653" y="94"/>
                  <a:pt x="654" y="60"/>
                  <a:pt x="666" y="36"/>
                </a:cubicBezTo>
                <a:cubicBezTo>
                  <a:pt x="669" y="48"/>
                  <a:pt x="673" y="60"/>
                  <a:pt x="675" y="72"/>
                </a:cubicBezTo>
                <a:cubicBezTo>
                  <a:pt x="687" y="134"/>
                  <a:pt x="673" y="143"/>
                  <a:pt x="702" y="99"/>
                </a:cubicBezTo>
                <a:cubicBezTo>
                  <a:pt x="709" y="374"/>
                  <a:pt x="740" y="643"/>
                  <a:pt x="756" y="918"/>
                </a:cubicBezTo>
                <a:cubicBezTo>
                  <a:pt x="759" y="903"/>
                  <a:pt x="762" y="888"/>
                  <a:pt x="765" y="873"/>
                </a:cubicBezTo>
                <a:cubicBezTo>
                  <a:pt x="771" y="849"/>
                  <a:pt x="783" y="801"/>
                  <a:pt x="783" y="801"/>
                </a:cubicBezTo>
                <a:cubicBezTo>
                  <a:pt x="816" y="899"/>
                  <a:pt x="791" y="849"/>
                  <a:pt x="810" y="765"/>
                </a:cubicBezTo>
                <a:cubicBezTo>
                  <a:pt x="812" y="754"/>
                  <a:pt x="822" y="747"/>
                  <a:pt x="828" y="738"/>
                </a:cubicBezTo>
                <a:cubicBezTo>
                  <a:pt x="831" y="762"/>
                  <a:pt x="814" y="802"/>
                  <a:pt x="837" y="810"/>
                </a:cubicBezTo>
                <a:cubicBezTo>
                  <a:pt x="858" y="817"/>
                  <a:pt x="844" y="728"/>
                  <a:pt x="855" y="747"/>
                </a:cubicBezTo>
                <a:cubicBezTo>
                  <a:pt x="874" y="778"/>
                  <a:pt x="861" y="819"/>
                  <a:pt x="864" y="855"/>
                </a:cubicBezTo>
                <a:cubicBezTo>
                  <a:pt x="885" y="770"/>
                  <a:pt x="860" y="849"/>
                  <a:pt x="882" y="864"/>
                </a:cubicBezTo>
                <a:cubicBezTo>
                  <a:pt x="891" y="870"/>
                  <a:pt x="894" y="846"/>
                  <a:pt x="900" y="837"/>
                </a:cubicBezTo>
                <a:cubicBezTo>
                  <a:pt x="903" y="822"/>
                  <a:pt x="898" y="781"/>
                  <a:pt x="909" y="792"/>
                </a:cubicBezTo>
                <a:cubicBezTo>
                  <a:pt x="926" y="809"/>
                  <a:pt x="927" y="864"/>
                  <a:pt x="927" y="864"/>
                </a:cubicBezTo>
                <a:cubicBezTo>
                  <a:pt x="948" y="800"/>
                  <a:pt x="934" y="794"/>
                  <a:pt x="963" y="837"/>
                </a:cubicBezTo>
                <a:cubicBezTo>
                  <a:pt x="975" y="819"/>
                  <a:pt x="989" y="802"/>
                  <a:pt x="999" y="783"/>
                </a:cubicBezTo>
                <a:cubicBezTo>
                  <a:pt x="1007" y="766"/>
                  <a:pt x="1001" y="740"/>
                  <a:pt x="1017" y="729"/>
                </a:cubicBezTo>
                <a:cubicBezTo>
                  <a:pt x="1027" y="722"/>
                  <a:pt x="1022" y="753"/>
                  <a:pt x="1026" y="765"/>
                </a:cubicBezTo>
                <a:cubicBezTo>
                  <a:pt x="1056" y="854"/>
                  <a:pt x="1035" y="766"/>
                  <a:pt x="1053" y="855"/>
                </a:cubicBezTo>
                <a:cubicBezTo>
                  <a:pt x="1074" y="793"/>
                  <a:pt x="1049" y="851"/>
                  <a:pt x="1071" y="873"/>
                </a:cubicBezTo>
                <a:cubicBezTo>
                  <a:pt x="1078" y="880"/>
                  <a:pt x="1073" y="853"/>
                  <a:pt x="1080" y="846"/>
                </a:cubicBezTo>
                <a:cubicBezTo>
                  <a:pt x="1087" y="839"/>
                  <a:pt x="1098" y="840"/>
                  <a:pt x="1107" y="837"/>
                </a:cubicBezTo>
                <a:cubicBezTo>
                  <a:pt x="1116" y="822"/>
                  <a:pt x="1117" y="792"/>
                  <a:pt x="1134" y="792"/>
                </a:cubicBezTo>
                <a:cubicBezTo>
                  <a:pt x="1149" y="792"/>
                  <a:pt x="1132" y="848"/>
                  <a:pt x="1143" y="837"/>
                </a:cubicBezTo>
                <a:cubicBezTo>
                  <a:pt x="1160" y="820"/>
                  <a:pt x="1155" y="789"/>
                  <a:pt x="1161" y="765"/>
                </a:cubicBezTo>
                <a:cubicBezTo>
                  <a:pt x="1164" y="786"/>
                  <a:pt x="1166" y="807"/>
                  <a:pt x="1170" y="828"/>
                </a:cubicBezTo>
                <a:cubicBezTo>
                  <a:pt x="1172" y="837"/>
                  <a:pt x="1171" y="851"/>
                  <a:pt x="1179" y="855"/>
                </a:cubicBezTo>
                <a:cubicBezTo>
                  <a:pt x="1187" y="859"/>
                  <a:pt x="1197" y="849"/>
                  <a:pt x="1206" y="846"/>
                </a:cubicBezTo>
                <a:cubicBezTo>
                  <a:pt x="1215" y="834"/>
                  <a:pt x="1218" y="814"/>
                  <a:pt x="1233" y="810"/>
                </a:cubicBezTo>
                <a:cubicBezTo>
                  <a:pt x="1242" y="808"/>
                  <a:pt x="1240" y="828"/>
                  <a:pt x="1242" y="837"/>
                </a:cubicBezTo>
                <a:cubicBezTo>
                  <a:pt x="1246" y="855"/>
                  <a:pt x="1248" y="873"/>
                  <a:pt x="1251" y="891"/>
                </a:cubicBezTo>
                <a:cubicBezTo>
                  <a:pt x="1270" y="862"/>
                  <a:pt x="1280" y="832"/>
                  <a:pt x="1296" y="801"/>
                </a:cubicBezTo>
                <a:cubicBezTo>
                  <a:pt x="1318" y="867"/>
                  <a:pt x="1301" y="868"/>
                  <a:pt x="1341" y="828"/>
                </a:cubicBezTo>
                <a:cubicBezTo>
                  <a:pt x="1344" y="810"/>
                  <a:pt x="1340" y="789"/>
                  <a:pt x="1350" y="774"/>
                </a:cubicBezTo>
                <a:cubicBezTo>
                  <a:pt x="1355" y="766"/>
                  <a:pt x="1351" y="797"/>
                  <a:pt x="1359" y="801"/>
                </a:cubicBezTo>
                <a:cubicBezTo>
                  <a:pt x="1367" y="805"/>
                  <a:pt x="1377" y="795"/>
                  <a:pt x="1386" y="792"/>
                </a:cubicBezTo>
                <a:cubicBezTo>
                  <a:pt x="1389" y="813"/>
                  <a:pt x="1383" y="837"/>
                  <a:pt x="1395" y="855"/>
                </a:cubicBezTo>
                <a:cubicBezTo>
                  <a:pt x="1400" y="863"/>
                  <a:pt x="1418" y="855"/>
                  <a:pt x="1422" y="846"/>
                </a:cubicBezTo>
                <a:cubicBezTo>
                  <a:pt x="1438" y="812"/>
                  <a:pt x="1449" y="738"/>
                  <a:pt x="1449" y="738"/>
                </a:cubicBezTo>
                <a:cubicBezTo>
                  <a:pt x="1455" y="639"/>
                  <a:pt x="1462" y="555"/>
                  <a:pt x="1476" y="459"/>
                </a:cubicBezTo>
                <a:cubicBezTo>
                  <a:pt x="1479" y="396"/>
                  <a:pt x="1480" y="333"/>
                  <a:pt x="1485" y="270"/>
                </a:cubicBezTo>
                <a:cubicBezTo>
                  <a:pt x="1486" y="252"/>
                  <a:pt x="1509" y="190"/>
                  <a:pt x="1512" y="180"/>
                </a:cubicBezTo>
                <a:cubicBezTo>
                  <a:pt x="1515" y="171"/>
                  <a:pt x="1521" y="153"/>
                  <a:pt x="1521" y="153"/>
                </a:cubicBezTo>
                <a:cubicBezTo>
                  <a:pt x="1524" y="114"/>
                  <a:pt x="1515" y="72"/>
                  <a:pt x="1530" y="36"/>
                </a:cubicBezTo>
                <a:cubicBezTo>
                  <a:pt x="1541" y="10"/>
                  <a:pt x="1557" y="117"/>
                  <a:pt x="1557" y="117"/>
                </a:cubicBezTo>
                <a:cubicBezTo>
                  <a:pt x="1561" y="111"/>
                  <a:pt x="1600" y="52"/>
                  <a:pt x="1602" y="54"/>
                </a:cubicBezTo>
                <a:cubicBezTo>
                  <a:pt x="1619" y="71"/>
                  <a:pt x="1608" y="102"/>
                  <a:pt x="1611" y="126"/>
                </a:cubicBezTo>
                <a:cubicBezTo>
                  <a:pt x="1620" y="117"/>
                  <a:pt x="1631" y="109"/>
                  <a:pt x="1638" y="99"/>
                </a:cubicBezTo>
                <a:cubicBezTo>
                  <a:pt x="1663" y="64"/>
                  <a:pt x="1650" y="44"/>
                  <a:pt x="1665" y="90"/>
                </a:cubicBezTo>
                <a:cubicBezTo>
                  <a:pt x="1668" y="81"/>
                  <a:pt x="1666" y="69"/>
                  <a:pt x="1674" y="63"/>
                </a:cubicBezTo>
                <a:cubicBezTo>
                  <a:pt x="1689" y="52"/>
                  <a:pt x="1728" y="45"/>
                  <a:pt x="1728" y="45"/>
                </a:cubicBezTo>
                <a:cubicBezTo>
                  <a:pt x="1741" y="85"/>
                  <a:pt x="1735" y="106"/>
                  <a:pt x="1782" y="90"/>
                </a:cubicBezTo>
                <a:cubicBezTo>
                  <a:pt x="1807" y="16"/>
                  <a:pt x="1769" y="115"/>
                  <a:pt x="1800" y="135"/>
                </a:cubicBezTo>
                <a:cubicBezTo>
                  <a:pt x="1816" y="146"/>
                  <a:pt x="1809" y="98"/>
                  <a:pt x="1818" y="81"/>
                </a:cubicBezTo>
                <a:cubicBezTo>
                  <a:pt x="1824" y="70"/>
                  <a:pt x="1836" y="63"/>
                  <a:pt x="1845" y="54"/>
                </a:cubicBezTo>
                <a:cubicBezTo>
                  <a:pt x="1862" y="159"/>
                  <a:pt x="1845" y="104"/>
                  <a:pt x="1863" y="81"/>
                </a:cubicBezTo>
                <a:cubicBezTo>
                  <a:pt x="1870" y="73"/>
                  <a:pt x="1881" y="69"/>
                  <a:pt x="1890" y="63"/>
                </a:cubicBezTo>
                <a:cubicBezTo>
                  <a:pt x="1893" y="81"/>
                  <a:pt x="1895" y="99"/>
                  <a:pt x="1899" y="117"/>
                </a:cubicBezTo>
                <a:cubicBezTo>
                  <a:pt x="1901" y="126"/>
                  <a:pt x="1899" y="144"/>
                  <a:pt x="1908" y="144"/>
                </a:cubicBezTo>
                <a:cubicBezTo>
                  <a:pt x="1919" y="144"/>
                  <a:pt x="1922" y="127"/>
                  <a:pt x="1926" y="117"/>
                </a:cubicBezTo>
                <a:cubicBezTo>
                  <a:pt x="1939" y="89"/>
                  <a:pt x="1946" y="57"/>
                  <a:pt x="1953" y="27"/>
                </a:cubicBezTo>
                <a:cubicBezTo>
                  <a:pt x="1956" y="51"/>
                  <a:pt x="1947" y="80"/>
                  <a:pt x="1962" y="99"/>
                </a:cubicBezTo>
                <a:cubicBezTo>
                  <a:pt x="1970" y="109"/>
                  <a:pt x="1982" y="83"/>
                  <a:pt x="1989" y="72"/>
                </a:cubicBezTo>
                <a:cubicBezTo>
                  <a:pt x="1994" y="64"/>
                  <a:pt x="1995" y="54"/>
                  <a:pt x="1998" y="45"/>
                </a:cubicBezTo>
                <a:cubicBezTo>
                  <a:pt x="2001" y="54"/>
                  <a:pt x="2005" y="63"/>
                  <a:pt x="2007" y="72"/>
                </a:cubicBezTo>
                <a:cubicBezTo>
                  <a:pt x="2011" y="96"/>
                  <a:pt x="1992" y="144"/>
                  <a:pt x="2016" y="144"/>
                </a:cubicBezTo>
                <a:cubicBezTo>
                  <a:pt x="2046" y="144"/>
                  <a:pt x="2070" y="72"/>
                  <a:pt x="2070" y="72"/>
                </a:cubicBezTo>
                <a:cubicBezTo>
                  <a:pt x="2078" y="96"/>
                  <a:pt x="2074" y="108"/>
                  <a:pt x="2106" y="108"/>
                </a:cubicBezTo>
                <a:cubicBezTo>
                  <a:pt x="2118" y="108"/>
                  <a:pt x="2142" y="99"/>
                  <a:pt x="2142" y="99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762360" y="4857840"/>
            <a:ext cx="3400560" cy="1457280"/>
          </a:xfrm>
          <a:custGeom>
            <a:avLst/>
            <a:gdLst/>
            <a:ahLst/>
            <a:rect l="l" t="t" r="r" b="b"/>
            <a:pathLst>
              <a:path w="2142" h="918">
                <a:moveTo>
                  <a:pt x="0" y="441"/>
                </a:moveTo>
                <a:cubicBezTo>
                  <a:pt x="18" y="300"/>
                  <a:pt x="28" y="157"/>
                  <a:pt x="63" y="18"/>
                </a:cubicBezTo>
                <a:cubicBezTo>
                  <a:pt x="66" y="36"/>
                  <a:pt x="62" y="57"/>
                  <a:pt x="72" y="72"/>
                </a:cubicBezTo>
                <a:cubicBezTo>
                  <a:pt x="77" y="80"/>
                  <a:pt x="72" y="45"/>
                  <a:pt x="81" y="45"/>
                </a:cubicBezTo>
                <a:cubicBezTo>
                  <a:pt x="90" y="45"/>
                  <a:pt x="87" y="63"/>
                  <a:pt x="90" y="72"/>
                </a:cubicBezTo>
                <a:cubicBezTo>
                  <a:pt x="96" y="63"/>
                  <a:pt x="97" y="45"/>
                  <a:pt x="108" y="45"/>
                </a:cubicBezTo>
                <a:cubicBezTo>
                  <a:pt x="117" y="45"/>
                  <a:pt x="108" y="74"/>
                  <a:pt x="117" y="72"/>
                </a:cubicBezTo>
                <a:cubicBezTo>
                  <a:pt x="132" y="68"/>
                  <a:pt x="135" y="48"/>
                  <a:pt x="144" y="36"/>
                </a:cubicBezTo>
                <a:cubicBezTo>
                  <a:pt x="147" y="27"/>
                  <a:pt x="149" y="0"/>
                  <a:pt x="153" y="9"/>
                </a:cubicBezTo>
                <a:cubicBezTo>
                  <a:pt x="173" y="60"/>
                  <a:pt x="150" y="116"/>
                  <a:pt x="171" y="54"/>
                </a:cubicBezTo>
                <a:cubicBezTo>
                  <a:pt x="174" y="69"/>
                  <a:pt x="166" y="92"/>
                  <a:pt x="180" y="99"/>
                </a:cubicBezTo>
                <a:cubicBezTo>
                  <a:pt x="199" y="109"/>
                  <a:pt x="214" y="52"/>
                  <a:pt x="216" y="45"/>
                </a:cubicBezTo>
                <a:cubicBezTo>
                  <a:pt x="257" y="72"/>
                  <a:pt x="258" y="62"/>
                  <a:pt x="297" y="36"/>
                </a:cubicBezTo>
                <a:cubicBezTo>
                  <a:pt x="300" y="57"/>
                  <a:pt x="293" y="82"/>
                  <a:pt x="306" y="99"/>
                </a:cubicBezTo>
                <a:cubicBezTo>
                  <a:pt x="312" y="108"/>
                  <a:pt x="319" y="82"/>
                  <a:pt x="324" y="72"/>
                </a:cubicBezTo>
                <a:cubicBezTo>
                  <a:pt x="328" y="64"/>
                  <a:pt x="330" y="54"/>
                  <a:pt x="333" y="45"/>
                </a:cubicBezTo>
                <a:cubicBezTo>
                  <a:pt x="336" y="54"/>
                  <a:pt x="333" y="72"/>
                  <a:pt x="342" y="72"/>
                </a:cubicBezTo>
                <a:cubicBezTo>
                  <a:pt x="364" y="72"/>
                  <a:pt x="373" y="32"/>
                  <a:pt x="378" y="18"/>
                </a:cubicBezTo>
                <a:cubicBezTo>
                  <a:pt x="381" y="45"/>
                  <a:pt x="375" y="75"/>
                  <a:pt x="387" y="99"/>
                </a:cubicBezTo>
                <a:cubicBezTo>
                  <a:pt x="392" y="109"/>
                  <a:pt x="400" y="82"/>
                  <a:pt x="405" y="72"/>
                </a:cubicBezTo>
                <a:cubicBezTo>
                  <a:pt x="409" y="64"/>
                  <a:pt x="411" y="54"/>
                  <a:pt x="414" y="45"/>
                </a:cubicBezTo>
                <a:cubicBezTo>
                  <a:pt x="439" y="143"/>
                  <a:pt x="400" y="18"/>
                  <a:pt x="450" y="18"/>
                </a:cubicBezTo>
                <a:cubicBezTo>
                  <a:pt x="471" y="18"/>
                  <a:pt x="456" y="60"/>
                  <a:pt x="459" y="81"/>
                </a:cubicBezTo>
                <a:cubicBezTo>
                  <a:pt x="498" y="2"/>
                  <a:pt x="465" y="55"/>
                  <a:pt x="486" y="162"/>
                </a:cubicBezTo>
                <a:cubicBezTo>
                  <a:pt x="488" y="171"/>
                  <a:pt x="493" y="144"/>
                  <a:pt x="495" y="135"/>
                </a:cubicBezTo>
                <a:cubicBezTo>
                  <a:pt x="517" y="48"/>
                  <a:pt x="492" y="125"/>
                  <a:pt x="513" y="63"/>
                </a:cubicBezTo>
                <a:cubicBezTo>
                  <a:pt x="556" y="91"/>
                  <a:pt x="569" y="84"/>
                  <a:pt x="585" y="36"/>
                </a:cubicBezTo>
                <a:cubicBezTo>
                  <a:pt x="588" y="45"/>
                  <a:pt x="585" y="63"/>
                  <a:pt x="594" y="63"/>
                </a:cubicBezTo>
                <a:cubicBezTo>
                  <a:pt x="603" y="63"/>
                  <a:pt x="598" y="28"/>
                  <a:pt x="603" y="36"/>
                </a:cubicBezTo>
                <a:cubicBezTo>
                  <a:pt x="613" y="51"/>
                  <a:pt x="609" y="72"/>
                  <a:pt x="612" y="90"/>
                </a:cubicBezTo>
                <a:cubicBezTo>
                  <a:pt x="642" y="1"/>
                  <a:pt x="594" y="130"/>
                  <a:pt x="630" y="108"/>
                </a:cubicBezTo>
                <a:cubicBezTo>
                  <a:pt x="653" y="94"/>
                  <a:pt x="654" y="60"/>
                  <a:pt x="666" y="36"/>
                </a:cubicBezTo>
                <a:cubicBezTo>
                  <a:pt x="669" y="48"/>
                  <a:pt x="673" y="60"/>
                  <a:pt x="675" y="72"/>
                </a:cubicBezTo>
                <a:cubicBezTo>
                  <a:pt x="687" y="134"/>
                  <a:pt x="673" y="143"/>
                  <a:pt x="702" y="99"/>
                </a:cubicBezTo>
                <a:cubicBezTo>
                  <a:pt x="709" y="374"/>
                  <a:pt x="740" y="643"/>
                  <a:pt x="756" y="918"/>
                </a:cubicBezTo>
                <a:cubicBezTo>
                  <a:pt x="759" y="903"/>
                  <a:pt x="762" y="888"/>
                  <a:pt x="765" y="873"/>
                </a:cubicBezTo>
                <a:cubicBezTo>
                  <a:pt x="771" y="849"/>
                  <a:pt x="783" y="801"/>
                  <a:pt x="783" y="801"/>
                </a:cubicBezTo>
                <a:cubicBezTo>
                  <a:pt x="816" y="899"/>
                  <a:pt x="791" y="849"/>
                  <a:pt x="810" y="765"/>
                </a:cubicBezTo>
                <a:cubicBezTo>
                  <a:pt x="812" y="754"/>
                  <a:pt x="822" y="747"/>
                  <a:pt x="828" y="738"/>
                </a:cubicBezTo>
                <a:cubicBezTo>
                  <a:pt x="831" y="762"/>
                  <a:pt x="814" y="802"/>
                  <a:pt x="837" y="810"/>
                </a:cubicBezTo>
                <a:cubicBezTo>
                  <a:pt x="858" y="817"/>
                  <a:pt x="844" y="728"/>
                  <a:pt x="855" y="747"/>
                </a:cubicBezTo>
                <a:cubicBezTo>
                  <a:pt x="874" y="778"/>
                  <a:pt x="861" y="819"/>
                  <a:pt x="864" y="855"/>
                </a:cubicBezTo>
                <a:cubicBezTo>
                  <a:pt x="885" y="770"/>
                  <a:pt x="860" y="849"/>
                  <a:pt x="882" y="864"/>
                </a:cubicBezTo>
                <a:cubicBezTo>
                  <a:pt x="891" y="870"/>
                  <a:pt x="894" y="846"/>
                  <a:pt x="900" y="837"/>
                </a:cubicBezTo>
                <a:cubicBezTo>
                  <a:pt x="903" y="822"/>
                  <a:pt x="898" y="781"/>
                  <a:pt x="909" y="792"/>
                </a:cubicBezTo>
                <a:cubicBezTo>
                  <a:pt x="926" y="809"/>
                  <a:pt x="927" y="864"/>
                  <a:pt x="927" y="864"/>
                </a:cubicBezTo>
                <a:cubicBezTo>
                  <a:pt x="948" y="800"/>
                  <a:pt x="934" y="794"/>
                  <a:pt x="963" y="837"/>
                </a:cubicBezTo>
                <a:cubicBezTo>
                  <a:pt x="975" y="819"/>
                  <a:pt x="989" y="802"/>
                  <a:pt x="999" y="783"/>
                </a:cubicBezTo>
                <a:cubicBezTo>
                  <a:pt x="1007" y="766"/>
                  <a:pt x="1001" y="740"/>
                  <a:pt x="1017" y="729"/>
                </a:cubicBezTo>
                <a:cubicBezTo>
                  <a:pt x="1027" y="722"/>
                  <a:pt x="1022" y="753"/>
                  <a:pt x="1026" y="765"/>
                </a:cubicBezTo>
                <a:cubicBezTo>
                  <a:pt x="1056" y="854"/>
                  <a:pt x="1035" y="766"/>
                  <a:pt x="1053" y="855"/>
                </a:cubicBezTo>
                <a:cubicBezTo>
                  <a:pt x="1074" y="793"/>
                  <a:pt x="1049" y="851"/>
                  <a:pt x="1071" y="873"/>
                </a:cubicBezTo>
                <a:cubicBezTo>
                  <a:pt x="1078" y="880"/>
                  <a:pt x="1073" y="853"/>
                  <a:pt x="1080" y="846"/>
                </a:cubicBezTo>
                <a:cubicBezTo>
                  <a:pt x="1087" y="839"/>
                  <a:pt x="1098" y="840"/>
                  <a:pt x="1107" y="837"/>
                </a:cubicBezTo>
                <a:cubicBezTo>
                  <a:pt x="1116" y="822"/>
                  <a:pt x="1117" y="792"/>
                  <a:pt x="1134" y="792"/>
                </a:cubicBezTo>
                <a:cubicBezTo>
                  <a:pt x="1149" y="792"/>
                  <a:pt x="1132" y="848"/>
                  <a:pt x="1143" y="837"/>
                </a:cubicBezTo>
                <a:cubicBezTo>
                  <a:pt x="1160" y="820"/>
                  <a:pt x="1155" y="789"/>
                  <a:pt x="1161" y="765"/>
                </a:cubicBezTo>
                <a:cubicBezTo>
                  <a:pt x="1164" y="786"/>
                  <a:pt x="1166" y="807"/>
                  <a:pt x="1170" y="828"/>
                </a:cubicBezTo>
                <a:cubicBezTo>
                  <a:pt x="1172" y="837"/>
                  <a:pt x="1171" y="851"/>
                  <a:pt x="1179" y="855"/>
                </a:cubicBezTo>
                <a:cubicBezTo>
                  <a:pt x="1187" y="859"/>
                  <a:pt x="1197" y="849"/>
                  <a:pt x="1206" y="846"/>
                </a:cubicBezTo>
                <a:cubicBezTo>
                  <a:pt x="1215" y="834"/>
                  <a:pt x="1218" y="814"/>
                  <a:pt x="1233" y="810"/>
                </a:cubicBezTo>
                <a:cubicBezTo>
                  <a:pt x="1242" y="808"/>
                  <a:pt x="1240" y="828"/>
                  <a:pt x="1242" y="837"/>
                </a:cubicBezTo>
                <a:cubicBezTo>
                  <a:pt x="1246" y="855"/>
                  <a:pt x="1248" y="873"/>
                  <a:pt x="1251" y="891"/>
                </a:cubicBezTo>
                <a:cubicBezTo>
                  <a:pt x="1270" y="862"/>
                  <a:pt x="1280" y="832"/>
                  <a:pt x="1296" y="801"/>
                </a:cubicBezTo>
                <a:cubicBezTo>
                  <a:pt x="1318" y="867"/>
                  <a:pt x="1301" y="868"/>
                  <a:pt x="1341" y="828"/>
                </a:cubicBezTo>
                <a:cubicBezTo>
                  <a:pt x="1344" y="810"/>
                  <a:pt x="1340" y="789"/>
                  <a:pt x="1350" y="774"/>
                </a:cubicBezTo>
                <a:cubicBezTo>
                  <a:pt x="1355" y="766"/>
                  <a:pt x="1351" y="797"/>
                  <a:pt x="1359" y="801"/>
                </a:cubicBezTo>
                <a:cubicBezTo>
                  <a:pt x="1367" y="805"/>
                  <a:pt x="1377" y="795"/>
                  <a:pt x="1386" y="792"/>
                </a:cubicBezTo>
                <a:cubicBezTo>
                  <a:pt x="1389" y="813"/>
                  <a:pt x="1383" y="837"/>
                  <a:pt x="1395" y="855"/>
                </a:cubicBezTo>
                <a:cubicBezTo>
                  <a:pt x="1400" y="863"/>
                  <a:pt x="1418" y="855"/>
                  <a:pt x="1422" y="846"/>
                </a:cubicBezTo>
                <a:cubicBezTo>
                  <a:pt x="1438" y="812"/>
                  <a:pt x="1449" y="738"/>
                  <a:pt x="1449" y="738"/>
                </a:cubicBezTo>
                <a:cubicBezTo>
                  <a:pt x="1455" y="639"/>
                  <a:pt x="1462" y="555"/>
                  <a:pt x="1476" y="459"/>
                </a:cubicBezTo>
                <a:cubicBezTo>
                  <a:pt x="1479" y="396"/>
                  <a:pt x="1480" y="333"/>
                  <a:pt x="1485" y="270"/>
                </a:cubicBezTo>
                <a:cubicBezTo>
                  <a:pt x="1486" y="252"/>
                  <a:pt x="1509" y="190"/>
                  <a:pt x="1512" y="180"/>
                </a:cubicBezTo>
                <a:cubicBezTo>
                  <a:pt x="1515" y="171"/>
                  <a:pt x="1521" y="153"/>
                  <a:pt x="1521" y="153"/>
                </a:cubicBezTo>
                <a:cubicBezTo>
                  <a:pt x="1524" y="114"/>
                  <a:pt x="1515" y="72"/>
                  <a:pt x="1530" y="36"/>
                </a:cubicBezTo>
                <a:cubicBezTo>
                  <a:pt x="1541" y="10"/>
                  <a:pt x="1557" y="117"/>
                  <a:pt x="1557" y="117"/>
                </a:cubicBezTo>
                <a:cubicBezTo>
                  <a:pt x="1561" y="111"/>
                  <a:pt x="1600" y="52"/>
                  <a:pt x="1602" y="54"/>
                </a:cubicBezTo>
                <a:cubicBezTo>
                  <a:pt x="1619" y="71"/>
                  <a:pt x="1608" y="102"/>
                  <a:pt x="1611" y="126"/>
                </a:cubicBezTo>
                <a:cubicBezTo>
                  <a:pt x="1620" y="117"/>
                  <a:pt x="1631" y="109"/>
                  <a:pt x="1638" y="99"/>
                </a:cubicBezTo>
                <a:cubicBezTo>
                  <a:pt x="1663" y="64"/>
                  <a:pt x="1650" y="44"/>
                  <a:pt x="1665" y="90"/>
                </a:cubicBezTo>
                <a:cubicBezTo>
                  <a:pt x="1668" y="81"/>
                  <a:pt x="1666" y="69"/>
                  <a:pt x="1674" y="63"/>
                </a:cubicBezTo>
                <a:cubicBezTo>
                  <a:pt x="1689" y="52"/>
                  <a:pt x="1728" y="45"/>
                  <a:pt x="1728" y="45"/>
                </a:cubicBezTo>
                <a:cubicBezTo>
                  <a:pt x="1741" y="85"/>
                  <a:pt x="1735" y="106"/>
                  <a:pt x="1782" y="90"/>
                </a:cubicBezTo>
                <a:cubicBezTo>
                  <a:pt x="1807" y="16"/>
                  <a:pt x="1769" y="115"/>
                  <a:pt x="1800" y="135"/>
                </a:cubicBezTo>
                <a:cubicBezTo>
                  <a:pt x="1816" y="146"/>
                  <a:pt x="1809" y="98"/>
                  <a:pt x="1818" y="81"/>
                </a:cubicBezTo>
                <a:cubicBezTo>
                  <a:pt x="1824" y="70"/>
                  <a:pt x="1836" y="63"/>
                  <a:pt x="1845" y="54"/>
                </a:cubicBezTo>
                <a:cubicBezTo>
                  <a:pt x="1862" y="159"/>
                  <a:pt x="1845" y="104"/>
                  <a:pt x="1863" y="81"/>
                </a:cubicBezTo>
                <a:cubicBezTo>
                  <a:pt x="1870" y="73"/>
                  <a:pt x="1881" y="69"/>
                  <a:pt x="1890" y="63"/>
                </a:cubicBezTo>
                <a:cubicBezTo>
                  <a:pt x="1893" y="81"/>
                  <a:pt x="1895" y="99"/>
                  <a:pt x="1899" y="117"/>
                </a:cubicBezTo>
                <a:cubicBezTo>
                  <a:pt x="1901" y="126"/>
                  <a:pt x="1899" y="144"/>
                  <a:pt x="1908" y="144"/>
                </a:cubicBezTo>
                <a:cubicBezTo>
                  <a:pt x="1919" y="144"/>
                  <a:pt x="1922" y="127"/>
                  <a:pt x="1926" y="117"/>
                </a:cubicBezTo>
                <a:cubicBezTo>
                  <a:pt x="1939" y="89"/>
                  <a:pt x="1946" y="57"/>
                  <a:pt x="1953" y="27"/>
                </a:cubicBezTo>
                <a:cubicBezTo>
                  <a:pt x="1956" y="51"/>
                  <a:pt x="1947" y="80"/>
                  <a:pt x="1962" y="99"/>
                </a:cubicBezTo>
                <a:cubicBezTo>
                  <a:pt x="1970" y="109"/>
                  <a:pt x="1982" y="83"/>
                  <a:pt x="1989" y="72"/>
                </a:cubicBezTo>
                <a:cubicBezTo>
                  <a:pt x="1994" y="64"/>
                  <a:pt x="1995" y="54"/>
                  <a:pt x="1998" y="45"/>
                </a:cubicBezTo>
                <a:cubicBezTo>
                  <a:pt x="2001" y="54"/>
                  <a:pt x="2005" y="63"/>
                  <a:pt x="2007" y="72"/>
                </a:cubicBezTo>
                <a:cubicBezTo>
                  <a:pt x="2011" y="96"/>
                  <a:pt x="1992" y="144"/>
                  <a:pt x="2016" y="144"/>
                </a:cubicBezTo>
                <a:cubicBezTo>
                  <a:pt x="2046" y="144"/>
                  <a:pt x="2070" y="72"/>
                  <a:pt x="2070" y="72"/>
                </a:cubicBezTo>
                <a:cubicBezTo>
                  <a:pt x="2078" y="96"/>
                  <a:pt x="2074" y="108"/>
                  <a:pt x="2106" y="108"/>
                </a:cubicBezTo>
                <a:cubicBezTo>
                  <a:pt x="2118" y="108"/>
                  <a:pt x="2142" y="99"/>
                  <a:pt x="2142" y="99"/>
                </a:cubicBezTo>
              </a:path>
            </a:pathLst>
          </a:custGeom>
          <a:noFill/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38680" y="4867200"/>
            <a:ext cx="3400200" cy="1457280"/>
          </a:xfrm>
          <a:custGeom>
            <a:avLst/>
            <a:gdLst/>
            <a:ahLst/>
            <a:rect l="l" t="t" r="r" b="b"/>
            <a:pathLst>
              <a:path w="2142" h="918">
                <a:moveTo>
                  <a:pt x="0" y="441"/>
                </a:moveTo>
                <a:cubicBezTo>
                  <a:pt x="18" y="300"/>
                  <a:pt x="28" y="157"/>
                  <a:pt x="63" y="18"/>
                </a:cubicBezTo>
                <a:cubicBezTo>
                  <a:pt x="66" y="36"/>
                  <a:pt x="62" y="57"/>
                  <a:pt x="72" y="72"/>
                </a:cubicBezTo>
                <a:cubicBezTo>
                  <a:pt x="77" y="80"/>
                  <a:pt x="72" y="45"/>
                  <a:pt x="81" y="45"/>
                </a:cubicBezTo>
                <a:cubicBezTo>
                  <a:pt x="90" y="45"/>
                  <a:pt x="87" y="63"/>
                  <a:pt x="90" y="72"/>
                </a:cubicBezTo>
                <a:cubicBezTo>
                  <a:pt x="96" y="63"/>
                  <a:pt x="97" y="45"/>
                  <a:pt x="108" y="45"/>
                </a:cubicBezTo>
                <a:cubicBezTo>
                  <a:pt x="117" y="45"/>
                  <a:pt x="108" y="74"/>
                  <a:pt x="117" y="72"/>
                </a:cubicBezTo>
                <a:cubicBezTo>
                  <a:pt x="132" y="68"/>
                  <a:pt x="135" y="48"/>
                  <a:pt x="144" y="36"/>
                </a:cubicBezTo>
                <a:cubicBezTo>
                  <a:pt x="147" y="27"/>
                  <a:pt x="149" y="0"/>
                  <a:pt x="153" y="9"/>
                </a:cubicBezTo>
                <a:cubicBezTo>
                  <a:pt x="173" y="60"/>
                  <a:pt x="150" y="116"/>
                  <a:pt x="171" y="54"/>
                </a:cubicBezTo>
                <a:cubicBezTo>
                  <a:pt x="174" y="69"/>
                  <a:pt x="166" y="92"/>
                  <a:pt x="180" y="99"/>
                </a:cubicBezTo>
                <a:cubicBezTo>
                  <a:pt x="199" y="109"/>
                  <a:pt x="214" y="52"/>
                  <a:pt x="216" y="45"/>
                </a:cubicBezTo>
                <a:cubicBezTo>
                  <a:pt x="257" y="72"/>
                  <a:pt x="258" y="62"/>
                  <a:pt x="297" y="36"/>
                </a:cubicBezTo>
                <a:cubicBezTo>
                  <a:pt x="300" y="57"/>
                  <a:pt x="293" y="82"/>
                  <a:pt x="306" y="99"/>
                </a:cubicBezTo>
                <a:cubicBezTo>
                  <a:pt x="312" y="108"/>
                  <a:pt x="319" y="82"/>
                  <a:pt x="324" y="72"/>
                </a:cubicBezTo>
                <a:cubicBezTo>
                  <a:pt x="328" y="64"/>
                  <a:pt x="330" y="54"/>
                  <a:pt x="333" y="45"/>
                </a:cubicBezTo>
                <a:cubicBezTo>
                  <a:pt x="336" y="54"/>
                  <a:pt x="333" y="72"/>
                  <a:pt x="342" y="72"/>
                </a:cubicBezTo>
                <a:cubicBezTo>
                  <a:pt x="364" y="72"/>
                  <a:pt x="373" y="32"/>
                  <a:pt x="378" y="18"/>
                </a:cubicBezTo>
                <a:cubicBezTo>
                  <a:pt x="381" y="45"/>
                  <a:pt x="375" y="75"/>
                  <a:pt x="387" y="99"/>
                </a:cubicBezTo>
                <a:cubicBezTo>
                  <a:pt x="392" y="109"/>
                  <a:pt x="400" y="82"/>
                  <a:pt x="405" y="72"/>
                </a:cubicBezTo>
                <a:cubicBezTo>
                  <a:pt x="409" y="64"/>
                  <a:pt x="411" y="54"/>
                  <a:pt x="414" y="45"/>
                </a:cubicBezTo>
                <a:cubicBezTo>
                  <a:pt x="439" y="143"/>
                  <a:pt x="400" y="18"/>
                  <a:pt x="450" y="18"/>
                </a:cubicBezTo>
                <a:cubicBezTo>
                  <a:pt x="471" y="18"/>
                  <a:pt x="456" y="60"/>
                  <a:pt x="459" y="81"/>
                </a:cubicBezTo>
                <a:cubicBezTo>
                  <a:pt x="498" y="2"/>
                  <a:pt x="465" y="55"/>
                  <a:pt x="486" y="162"/>
                </a:cubicBezTo>
                <a:cubicBezTo>
                  <a:pt x="488" y="171"/>
                  <a:pt x="493" y="144"/>
                  <a:pt x="495" y="135"/>
                </a:cubicBezTo>
                <a:cubicBezTo>
                  <a:pt x="517" y="48"/>
                  <a:pt x="492" y="125"/>
                  <a:pt x="513" y="63"/>
                </a:cubicBezTo>
                <a:cubicBezTo>
                  <a:pt x="556" y="91"/>
                  <a:pt x="569" y="84"/>
                  <a:pt x="585" y="36"/>
                </a:cubicBezTo>
                <a:cubicBezTo>
                  <a:pt x="588" y="45"/>
                  <a:pt x="585" y="63"/>
                  <a:pt x="594" y="63"/>
                </a:cubicBezTo>
                <a:cubicBezTo>
                  <a:pt x="603" y="63"/>
                  <a:pt x="598" y="28"/>
                  <a:pt x="603" y="36"/>
                </a:cubicBezTo>
                <a:cubicBezTo>
                  <a:pt x="613" y="51"/>
                  <a:pt x="609" y="72"/>
                  <a:pt x="612" y="90"/>
                </a:cubicBezTo>
                <a:cubicBezTo>
                  <a:pt x="642" y="1"/>
                  <a:pt x="594" y="130"/>
                  <a:pt x="630" y="108"/>
                </a:cubicBezTo>
                <a:cubicBezTo>
                  <a:pt x="653" y="94"/>
                  <a:pt x="654" y="60"/>
                  <a:pt x="666" y="36"/>
                </a:cubicBezTo>
                <a:cubicBezTo>
                  <a:pt x="669" y="48"/>
                  <a:pt x="673" y="60"/>
                  <a:pt x="675" y="72"/>
                </a:cubicBezTo>
                <a:cubicBezTo>
                  <a:pt x="687" y="134"/>
                  <a:pt x="673" y="143"/>
                  <a:pt x="702" y="99"/>
                </a:cubicBezTo>
                <a:cubicBezTo>
                  <a:pt x="709" y="374"/>
                  <a:pt x="740" y="643"/>
                  <a:pt x="756" y="918"/>
                </a:cubicBezTo>
                <a:cubicBezTo>
                  <a:pt x="759" y="903"/>
                  <a:pt x="762" y="888"/>
                  <a:pt x="765" y="873"/>
                </a:cubicBezTo>
                <a:cubicBezTo>
                  <a:pt x="771" y="849"/>
                  <a:pt x="783" y="801"/>
                  <a:pt x="783" y="801"/>
                </a:cubicBezTo>
                <a:cubicBezTo>
                  <a:pt x="816" y="899"/>
                  <a:pt x="791" y="849"/>
                  <a:pt x="810" y="765"/>
                </a:cubicBezTo>
                <a:cubicBezTo>
                  <a:pt x="812" y="754"/>
                  <a:pt x="822" y="747"/>
                  <a:pt x="828" y="738"/>
                </a:cubicBezTo>
                <a:cubicBezTo>
                  <a:pt x="831" y="762"/>
                  <a:pt x="814" y="802"/>
                  <a:pt x="837" y="810"/>
                </a:cubicBezTo>
                <a:cubicBezTo>
                  <a:pt x="858" y="817"/>
                  <a:pt x="844" y="728"/>
                  <a:pt x="855" y="747"/>
                </a:cubicBezTo>
                <a:cubicBezTo>
                  <a:pt x="874" y="778"/>
                  <a:pt x="861" y="819"/>
                  <a:pt x="864" y="855"/>
                </a:cubicBezTo>
                <a:cubicBezTo>
                  <a:pt x="885" y="770"/>
                  <a:pt x="860" y="849"/>
                  <a:pt x="882" y="864"/>
                </a:cubicBezTo>
                <a:cubicBezTo>
                  <a:pt x="891" y="870"/>
                  <a:pt x="894" y="846"/>
                  <a:pt x="900" y="837"/>
                </a:cubicBezTo>
                <a:cubicBezTo>
                  <a:pt x="903" y="822"/>
                  <a:pt x="898" y="781"/>
                  <a:pt x="909" y="792"/>
                </a:cubicBezTo>
                <a:cubicBezTo>
                  <a:pt x="926" y="809"/>
                  <a:pt x="927" y="864"/>
                  <a:pt x="927" y="864"/>
                </a:cubicBezTo>
                <a:cubicBezTo>
                  <a:pt x="948" y="800"/>
                  <a:pt x="934" y="794"/>
                  <a:pt x="963" y="837"/>
                </a:cubicBezTo>
                <a:cubicBezTo>
                  <a:pt x="975" y="819"/>
                  <a:pt x="989" y="802"/>
                  <a:pt x="999" y="783"/>
                </a:cubicBezTo>
                <a:cubicBezTo>
                  <a:pt x="1007" y="766"/>
                  <a:pt x="1001" y="740"/>
                  <a:pt x="1017" y="729"/>
                </a:cubicBezTo>
                <a:cubicBezTo>
                  <a:pt x="1027" y="722"/>
                  <a:pt x="1022" y="753"/>
                  <a:pt x="1026" y="765"/>
                </a:cubicBezTo>
                <a:cubicBezTo>
                  <a:pt x="1056" y="854"/>
                  <a:pt x="1035" y="766"/>
                  <a:pt x="1053" y="855"/>
                </a:cubicBezTo>
                <a:cubicBezTo>
                  <a:pt x="1074" y="793"/>
                  <a:pt x="1049" y="851"/>
                  <a:pt x="1071" y="873"/>
                </a:cubicBezTo>
                <a:cubicBezTo>
                  <a:pt x="1078" y="880"/>
                  <a:pt x="1073" y="853"/>
                  <a:pt x="1080" y="846"/>
                </a:cubicBezTo>
                <a:cubicBezTo>
                  <a:pt x="1087" y="839"/>
                  <a:pt x="1098" y="840"/>
                  <a:pt x="1107" y="837"/>
                </a:cubicBezTo>
                <a:cubicBezTo>
                  <a:pt x="1116" y="822"/>
                  <a:pt x="1117" y="792"/>
                  <a:pt x="1134" y="792"/>
                </a:cubicBezTo>
                <a:cubicBezTo>
                  <a:pt x="1149" y="792"/>
                  <a:pt x="1132" y="848"/>
                  <a:pt x="1143" y="837"/>
                </a:cubicBezTo>
                <a:cubicBezTo>
                  <a:pt x="1160" y="820"/>
                  <a:pt x="1155" y="789"/>
                  <a:pt x="1161" y="765"/>
                </a:cubicBezTo>
                <a:cubicBezTo>
                  <a:pt x="1164" y="786"/>
                  <a:pt x="1166" y="807"/>
                  <a:pt x="1170" y="828"/>
                </a:cubicBezTo>
                <a:cubicBezTo>
                  <a:pt x="1172" y="837"/>
                  <a:pt x="1171" y="851"/>
                  <a:pt x="1179" y="855"/>
                </a:cubicBezTo>
                <a:cubicBezTo>
                  <a:pt x="1187" y="859"/>
                  <a:pt x="1197" y="849"/>
                  <a:pt x="1206" y="846"/>
                </a:cubicBezTo>
                <a:cubicBezTo>
                  <a:pt x="1215" y="834"/>
                  <a:pt x="1218" y="814"/>
                  <a:pt x="1233" y="810"/>
                </a:cubicBezTo>
                <a:cubicBezTo>
                  <a:pt x="1242" y="808"/>
                  <a:pt x="1240" y="828"/>
                  <a:pt x="1242" y="837"/>
                </a:cubicBezTo>
                <a:cubicBezTo>
                  <a:pt x="1246" y="855"/>
                  <a:pt x="1248" y="873"/>
                  <a:pt x="1251" y="891"/>
                </a:cubicBezTo>
                <a:cubicBezTo>
                  <a:pt x="1270" y="862"/>
                  <a:pt x="1280" y="832"/>
                  <a:pt x="1296" y="801"/>
                </a:cubicBezTo>
                <a:cubicBezTo>
                  <a:pt x="1318" y="867"/>
                  <a:pt x="1301" y="868"/>
                  <a:pt x="1341" y="828"/>
                </a:cubicBezTo>
                <a:cubicBezTo>
                  <a:pt x="1344" y="810"/>
                  <a:pt x="1340" y="789"/>
                  <a:pt x="1350" y="774"/>
                </a:cubicBezTo>
                <a:cubicBezTo>
                  <a:pt x="1355" y="766"/>
                  <a:pt x="1351" y="797"/>
                  <a:pt x="1359" y="801"/>
                </a:cubicBezTo>
                <a:cubicBezTo>
                  <a:pt x="1367" y="805"/>
                  <a:pt x="1377" y="795"/>
                  <a:pt x="1386" y="792"/>
                </a:cubicBezTo>
                <a:cubicBezTo>
                  <a:pt x="1389" y="813"/>
                  <a:pt x="1383" y="837"/>
                  <a:pt x="1395" y="855"/>
                </a:cubicBezTo>
                <a:cubicBezTo>
                  <a:pt x="1400" y="863"/>
                  <a:pt x="1418" y="855"/>
                  <a:pt x="1422" y="846"/>
                </a:cubicBezTo>
                <a:cubicBezTo>
                  <a:pt x="1438" y="812"/>
                  <a:pt x="1449" y="738"/>
                  <a:pt x="1449" y="738"/>
                </a:cubicBezTo>
                <a:cubicBezTo>
                  <a:pt x="1455" y="639"/>
                  <a:pt x="1462" y="555"/>
                  <a:pt x="1476" y="459"/>
                </a:cubicBezTo>
                <a:cubicBezTo>
                  <a:pt x="1479" y="396"/>
                  <a:pt x="1480" y="333"/>
                  <a:pt x="1485" y="270"/>
                </a:cubicBezTo>
                <a:cubicBezTo>
                  <a:pt x="1486" y="252"/>
                  <a:pt x="1509" y="190"/>
                  <a:pt x="1512" y="180"/>
                </a:cubicBezTo>
                <a:cubicBezTo>
                  <a:pt x="1515" y="171"/>
                  <a:pt x="1521" y="153"/>
                  <a:pt x="1521" y="153"/>
                </a:cubicBezTo>
                <a:cubicBezTo>
                  <a:pt x="1524" y="114"/>
                  <a:pt x="1515" y="72"/>
                  <a:pt x="1530" y="36"/>
                </a:cubicBezTo>
                <a:cubicBezTo>
                  <a:pt x="1541" y="10"/>
                  <a:pt x="1557" y="117"/>
                  <a:pt x="1557" y="117"/>
                </a:cubicBezTo>
                <a:cubicBezTo>
                  <a:pt x="1561" y="111"/>
                  <a:pt x="1600" y="52"/>
                  <a:pt x="1602" y="54"/>
                </a:cubicBezTo>
                <a:cubicBezTo>
                  <a:pt x="1619" y="71"/>
                  <a:pt x="1608" y="102"/>
                  <a:pt x="1611" y="126"/>
                </a:cubicBezTo>
                <a:cubicBezTo>
                  <a:pt x="1620" y="117"/>
                  <a:pt x="1631" y="109"/>
                  <a:pt x="1638" y="99"/>
                </a:cubicBezTo>
                <a:cubicBezTo>
                  <a:pt x="1663" y="64"/>
                  <a:pt x="1650" y="44"/>
                  <a:pt x="1665" y="90"/>
                </a:cubicBezTo>
                <a:cubicBezTo>
                  <a:pt x="1668" y="81"/>
                  <a:pt x="1666" y="69"/>
                  <a:pt x="1674" y="63"/>
                </a:cubicBezTo>
                <a:cubicBezTo>
                  <a:pt x="1689" y="52"/>
                  <a:pt x="1728" y="45"/>
                  <a:pt x="1728" y="45"/>
                </a:cubicBezTo>
                <a:cubicBezTo>
                  <a:pt x="1741" y="85"/>
                  <a:pt x="1735" y="106"/>
                  <a:pt x="1782" y="90"/>
                </a:cubicBezTo>
                <a:cubicBezTo>
                  <a:pt x="1807" y="16"/>
                  <a:pt x="1769" y="115"/>
                  <a:pt x="1800" y="135"/>
                </a:cubicBezTo>
                <a:cubicBezTo>
                  <a:pt x="1816" y="146"/>
                  <a:pt x="1809" y="98"/>
                  <a:pt x="1818" y="81"/>
                </a:cubicBezTo>
                <a:cubicBezTo>
                  <a:pt x="1824" y="70"/>
                  <a:pt x="1836" y="63"/>
                  <a:pt x="1845" y="54"/>
                </a:cubicBezTo>
                <a:cubicBezTo>
                  <a:pt x="1862" y="159"/>
                  <a:pt x="1845" y="104"/>
                  <a:pt x="1863" y="81"/>
                </a:cubicBezTo>
                <a:cubicBezTo>
                  <a:pt x="1870" y="73"/>
                  <a:pt x="1881" y="69"/>
                  <a:pt x="1890" y="63"/>
                </a:cubicBezTo>
                <a:cubicBezTo>
                  <a:pt x="1893" y="81"/>
                  <a:pt x="1895" y="99"/>
                  <a:pt x="1899" y="117"/>
                </a:cubicBezTo>
                <a:cubicBezTo>
                  <a:pt x="1901" y="126"/>
                  <a:pt x="1899" y="144"/>
                  <a:pt x="1908" y="144"/>
                </a:cubicBezTo>
                <a:cubicBezTo>
                  <a:pt x="1919" y="144"/>
                  <a:pt x="1922" y="127"/>
                  <a:pt x="1926" y="117"/>
                </a:cubicBezTo>
                <a:cubicBezTo>
                  <a:pt x="1939" y="89"/>
                  <a:pt x="1946" y="57"/>
                  <a:pt x="1953" y="27"/>
                </a:cubicBezTo>
                <a:cubicBezTo>
                  <a:pt x="1956" y="51"/>
                  <a:pt x="1947" y="80"/>
                  <a:pt x="1962" y="99"/>
                </a:cubicBezTo>
                <a:cubicBezTo>
                  <a:pt x="1970" y="109"/>
                  <a:pt x="1982" y="83"/>
                  <a:pt x="1989" y="72"/>
                </a:cubicBezTo>
                <a:cubicBezTo>
                  <a:pt x="1994" y="64"/>
                  <a:pt x="1995" y="54"/>
                  <a:pt x="1998" y="45"/>
                </a:cubicBezTo>
                <a:cubicBezTo>
                  <a:pt x="2001" y="54"/>
                  <a:pt x="2005" y="63"/>
                  <a:pt x="2007" y="72"/>
                </a:cubicBezTo>
                <a:cubicBezTo>
                  <a:pt x="2011" y="96"/>
                  <a:pt x="1992" y="144"/>
                  <a:pt x="2016" y="144"/>
                </a:cubicBezTo>
                <a:cubicBezTo>
                  <a:pt x="2046" y="144"/>
                  <a:pt x="2070" y="72"/>
                  <a:pt x="2070" y="72"/>
                </a:cubicBezTo>
                <a:cubicBezTo>
                  <a:pt x="2078" y="96"/>
                  <a:pt x="2074" y="108"/>
                  <a:pt x="2106" y="108"/>
                </a:cubicBezTo>
                <a:cubicBezTo>
                  <a:pt x="2118" y="108"/>
                  <a:pt x="2142" y="99"/>
                  <a:pt x="2142" y="99"/>
                </a:cubicBezTo>
              </a:path>
            </a:pathLst>
          </a:custGeom>
          <a:noFill/>
          <a:ln w="9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990960" y="4867200"/>
            <a:ext cx="3400560" cy="1457280"/>
          </a:xfrm>
          <a:custGeom>
            <a:avLst/>
            <a:gdLst/>
            <a:ahLst/>
            <a:rect l="l" t="t" r="r" b="b"/>
            <a:pathLst>
              <a:path w="2142" h="918">
                <a:moveTo>
                  <a:pt x="0" y="441"/>
                </a:moveTo>
                <a:cubicBezTo>
                  <a:pt x="18" y="300"/>
                  <a:pt x="28" y="157"/>
                  <a:pt x="63" y="18"/>
                </a:cubicBezTo>
                <a:cubicBezTo>
                  <a:pt x="66" y="36"/>
                  <a:pt x="62" y="57"/>
                  <a:pt x="72" y="72"/>
                </a:cubicBezTo>
                <a:cubicBezTo>
                  <a:pt x="77" y="80"/>
                  <a:pt x="72" y="45"/>
                  <a:pt x="81" y="45"/>
                </a:cubicBezTo>
                <a:cubicBezTo>
                  <a:pt x="90" y="45"/>
                  <a:pt x="87" y="63"/>
                  <a:pt x="90" y="72"/>
                </a:cubicBezTo>
                <a:cubicBezTo>
                  <a:pt x="96" y="63"/>
                  <a:pt x="97" y="45"/>
                  <a:pt x="108" y="45"/>
                </a:cubicBezTo>
                <a:cubicBezTo>
                  <a:pt x="117" y="45"/>
                  <a:pt x="108" y="74"/>
                  <a:pt x="117" y="72"/>
                </a:cubicBezTo>
                <a:cubicBezTo>
                  <a:pt x="132" y="68"/>
                  <a:pt x="135" y="48"/>
                  <a:pt x="144" y="36"/>
                </a:cubicBezTo>
                <a:cubicBezTo>
                  <a:pt x="147" y="27"/>
                  <a:pt x="149" y="0"/>
                  <a:pt x="153" y="9"/>
                </a:cubicBezTo>
                <a:cubicBezTo>
                  <a:pt x="173" y="60"/>
                  <a:pt x="150" y="116"/>
                  <a:pt x="171" y="54"/>
                </a:cubicBezTo>
                <a:cubicBezTo>
                  <a:pt x="174" y="69"/>
                  <a:pt x="166" y="92"/>
                  <a:pt x="180" y="99"/>
                </a:cubicBezTo>
                <a:cubicBezTo>
                  <a:pt x="199" y="109"/>
                  <a:pt x="214" y="52"/>
                  <a:pt x="216" y="45"/>
                </a:cubicBezTo>
                <a:cubicBezTo>
                  <a:pt x="257" y="72"/>
                  <a:pt x="258" y="62"/>
                  <a:pt x="297" y="36"/>
                </a:cubicBezTo>
                <a:cubicBezTo>
                  <a:pt x="300" y="57"/>
                  <a:pt x="293" y="82"/>
                  <a:pt x="306" y="99"/>
                </a:cubicBezTo>
                <a:cubicBezTo>
                  <a:pt x="312" y="108"/>
                  <a:pt x="319" y="82"/>
                  <a:pt x="324" y="72"/>
                </a:cubicBezTo>
                <a:cubicBezTo>
                  <a:pt x="328" y="64"/>
                  <a:pt x="330" y="54"/>
                  <a:pt x="333" y="45"/>
                </a:cubicBezTo>
                <a:cubicBezTo>
                  <a:pt x="336" y="54"/>
                  <a:pt x="333" y="72"/>
                  <a:pt x="342" y="72"/>
                </a:cubicBezTo>
                <a:cubicBezTo>
                  <a:pt x="364" y="72"/>
                  <a:pt x="373" y="32"/>
                  <a:pt x="378" y="18"/>
                </a:cubicBezTo>
                <a:cubicBezTo>
                  <a:pt x="381" y="45"/>
                  <a:pt x="375" y="75"/>
                  <a:pt x="387" y="99"/>
                </a:cubicBezTo>
                <a:cubicBezTo>
                  <a:pt x="392" y="109"/>
                  <a:pt x="400" y="82"/>
                  <a:pt x="405" y="72"/>
                </a:cubicBezTo>
                <a:cubicBezTo>
                  <a:pt x="409" y="64"/>
                  <a:pt x="411" y="54"/>
                  <a:pt x="414" y="45"/>
                </a:cubicBezTo>
                <a:cubicBezTo>
                  <a:pt x="439" y="143"/>
                  <a:pt x="400" y="18"/>
                  <a:pt x="450" y="18"/>
                </a:cubicBezTo>
                <a:cubicBezTo>
                  <a:pt x="471" y="18"/>
                  <a:pt x="456" y="60"/>
                  <a:pt x="459" y="81"/>
                </a:cubicBezTo>
                <a:cubicBezTo>
                  <a:pt x="498" y="2"/>
                  <a:pt x="465" y="55"/>
                  <a:pt x="486" y="162"/>
                </a:cubicBezTo>
                <a:cubicBezTo>
                  <a:pt x="488" y="171"/>
                  <a:pt x="493" y="144"/>
                  <a:pt x="495" y="135"/>
                </a:cubicBezTo>
                <a:cubicBezTo>
                  <a:pt x="517" y="48"/>
                  <a:pt x="492" y="125"/>
                  <a:pt x="513" y="63"/>
                </a:cubicBezTo>
                <a:cubicBezTo>
                  <a:pt x="556" y="91"/>
                  <a:pt x="569" y="84"/>
                  <a:pt x="585" y="36"/>
                </a:cubicBezTo>
                <a:cubicBezTo>
                  <a:pt x="588" y="45"/>
                  <a:pt x="585" y="63"/>
                  <a:pt x="594" y="63"/>
                </a:cubicBezTo>
                <a:cubicBezTo>
                  <a:pt x="603" y="63"/>
                  <a:pt x="598" y="28"/>
                  <a:pt x="603" y="36"/>
                </a:cubicBezTo>
                <a:cubicBezTo>
                  <a:pt x="613" y="51"/>
                  <a:pt x="609" y="72"/>
                  <a:pt x="612" y="90"/>
                </a:cubicBezTo>
                <a:cubicBezTo>
                  <a:pt x="642" y="1"/>
                  <a:pt x="594" y="130"/>
                  <a:pt x="630" y="108"/>
                </a:cubicBezTo>
                <a:cubicBezTo>
                  <a:pt x="653" y="94"/>
                  <a:pt x="654" y="60"/>
                  <a:pt x="666" y="36"/>
                </a:cubicBezTo>
                <a:cubicBezTo>
                  <a:pt x="669" y="48"/>
                  <a:pt x="673" y="60"/>
                  <a:pt x="675" y="72"/>
                </a:cubicBezTo>
                <a:cubicBezTo>
                  <a:pt x="687" y="134"/>
                  <a:pt x="673" y="143"/>
                  <a:pt x="702" y="99"/>
                </a:cubicBezTo>
                <a:cubicBezTo>
                  <a:pt x="709" y="374"/>
                  <a:pt x="740" y="643"/>
                  <a:pt x="756" y="918"/>
                </a:cubicBezTo>
                <a:cubicBezTo>
                  <a:pt x="759" y="903"/>
                  <a:pt x="762" y="888"/>
                  <a:pt x="765" y="873"/>
                </a:cubicBezTo>
                <a:cubicBezTo>
                  <a:pt x="771" y="849"/>
                  <a:pt x="783" y="801"/>
                  <a:pt x="783" y="801"/>
                </a:cubicBezTo>
                <a:cubicBezTo>
                  <a:pt x="816" y="899"/>
                  <a:pt x="791" y="849"/>
                  <a:pt x="810" y="765"/>
                </a:cubicBezTo>
                <a:cubicBezTo>
                  <a:pt x="812" y="754"/>
                  <a:pt x="822" y="747"/>
                  <a:pt x="828" y="738"/>
                </a:cubicBezTo>
                <a:cubicBezTo>
                  <a:pt x="831" y="762"/>
                  <a:pt x="814" y="802"/>
                  <a:pt x="837" y="810"/>
                </a:cubicBezTo>
                <a:cubicBezTo>
                  <a:pt x="858" y="817"/>
                  <a:pt x="844" y="728"/>
                  <a:pt x="855" y="747"/>
                </a:cubicBezTo>
                <a:cubicBezTo>
                  <a:pt x="874" y="778"/>
                  <a:pt x="861" y="819"/>
                  <a:pt x="864" y="855"/>
                </a:cubicBezTo>
                <a:cubicBezTo>
                  <a:pt x="885" y="770"/>
                  <a:pt x="860" y="849"/>
                  <a:pt x="882" y="864"/>
                </a:cubicBezTo>
                <a:cubicBezTo>
                  <a:pt x="891" y="870"/>
                  <a:pt x="894" y="846"/>
                  <a:pt x="900" y="837"/>
                </a:cubicBezTo>
                <a:cubicBezTo>
                  <a:pt x="903" y="822"/>
                  <a:pt x="898" y="781"/>
                  <a:pt x="909" y="792"/>
                </a:cubicBezTo>
                <a:cubicBezTo>
                  <a:pt x="926" y="809"/>
                  <a:pt x="927" y="864"/>
                  <a:pt x="927" y="864"/>
                </a:cubicBezTo>
                <a:cubicBezTo>
                  <a:pt x="948" y="800"/>
                  <a:pt x="934" y="794"/>
                  <a:pt x="963" y="837"/>
                </a:cubicBezTo>
                <a:cubicBezTo>
                  <a:pt x="975" y="819"/>
                  <a:pt x="989" y="802"/>
                  <a:pt x="999" y="783"/>
                </a:cubicBezTo>
                <a:cubicBezTo>
                  <a:pt x="1007" y="766"/>
                  <a:pt x="1001" y="740"/>
                  <a:pt x="1017" y="729"/>
                </a:cubicBezTo>
                <a:cubicBezTo>
                  <a:pt x="1027" y="722"/>
                  <a:pt x="1022" y="753"/>
                  <a:pt x="1026" y="765"/>
                </a:cubicBezTo>
                <a:cubicBezTo>
                  <a:pt x="1056" y="854"/>
                  <a:pt x="1035" y="766"/>
                  <a:pt x="1053" y="855"/>
                </a:cubicBezTo>
                <a:cubicBezTo>
                  <a:pt x="1074" y="793"/>
                  <a:pt x="1049" y="851"/>
                  <a:pt x="1071" y="873"/>
                </a:cubicBezTo>
                <a:cubicBezTo>
                  <a:pt x="1078" y="880"/>
                  <a:pt x="1073" y="853"/>
                  <a:pt x="1080" y="846"/>
                </a:cubicBezTo>
                <a:cubicBezTo>
                  <a:pt x="1087" y="839"/>
                  <a:pt x="1098" y="840"/>
                  <a:pt x="1107" y="837"/>
                </a:cubicBezTo>
                <a:cubicBezTo>
                  <a:pt x="1116" y="822"/>
                  <a:pt x="1117" y="792"/>
                  <a:pt x="1134" y="792"/>
                </a:cubicBezTo>
                <a:cubicBezTo>
                  <a:pt x="1149" y="792"/>
                  <a:pt x="1132" y="848"/>
                  <a:pt x="1143" y="837"/>
                </a:cubicBezTo>
                <a:cubicBezTo>
                  <a:pt x="1160" y="820"/>
                  <a:pt x="1155" y="789"/>
                  <a:pt x="1161" y="765"/>
                </a:cubicBezTo>
                <a:cubicBezTo>
                  <a:pt x="1164" y="786"/>
                  <a:pt x="1166" y="807"/>
                  <a:pt x="1170" y="828"/>
                </a:cubicBezTo>
                <a:cubicBezTo>
                  <a:pt x="1172" y="837"/>
                  <a:pt x="1171" y="851"/>
                  <a:pt x="1179" y="855"/>
                </a:cubicBezTo>
                <a:cubicBezTo>
                  <a:pt x="1187" y="859"/>
                  <a:pt x="1197" y="849"/>
                  <a:pt x="1206" y="846"/>
                </a:cubicBezTo>
                <a:cubicBezTo>
                  <a:pt x="1215" y="834"/>
                  <a:pt x="1218" y="814"/>
                  <a:pt x="1233" y="810"/>
                </a:cubicBezTo>
                <a:cubicBezTo>
                  <a:pt x="1242" y="808"/>
                  <a:pt x="1240" y="828"/>
                  <a:pt x="1242" y="837"/>
                </a:cubicBezTo>
                <a:cubicBezTo>
                  <a:pt x="1246" y="855"/>
                  <a:pt x="1248" y="873"/>
                  <a:pt x="1251" y="891"/>
                </a:cubicBezTo>
                <a:cubicBezTo>
                  <a:pt x="1270" y="862"/>
                  <a:pt x="1280" y="832"/>
                  <a:pt x="1296" y="801"/>
                </a:cubicBezTo>
                <a:cubicBezTo>
                  <a:pt x="1318" y="867"/>
                  <a:pt x="1301" y="868"/>
                  <a:pt x="1341" y="828"/>
                </a:cubicBezTo>
                <a:cubicBezTo>
                  <a:pt x="1344" y="810"/>
                  <a:pt x="1340" y="789"/>
                  <a:pt x="1350" y="774"/>
                </a:cubicBezTo>
                <a:cubicBezTo>
                  <a:pt x="1355" y="766"/>
                  <a:pt x="1351" y="797"/>
                  <a:pt x="1359" y="801"/>
                </a:cubicBezTo>
                <a:cubicBezTo>
                  <a:pt x="1367" y="805"/>
                  <a:pt x="1377" y="795"/>
                  <a:pt x="1386" y="792"/>
                </a:cubicBezTo>
                <a:cubicBezTo>
                  <a:pt x="1389" y="813"/>
                  <a:pt x="1383" y="837"/>
                  <a:pt x="1395" y="855"/>
                </a:cubicBezTo>
                <a:cubicBezTo>
                  <a:pt x="1400" y="863"/>
                  <a:pt x="1418" y="855"/>
                  <a:pt x="1422" y="846"/>
                </a:cubicBezTo>
                <a:cubicBezTo>
                  <a:pt x="1438" y="812"/>
                  <a:pt x="1449" y="738"/>
                  <a:pt x="1449" y="738"/>
                </a:cubicBezTo>
                <a:cubicBezTo>
                  <a:pt x="1455" y="639"/>
                  <a:pt x="1462" y="555"/>
                  <a:pt x="1476" y="459"/>
                </a:cubicBezTo>
                <a:cubicBezTo>
                  <a:pt x="1479" y="396"/>
                  <a:pt x="1480" y="333"/>
                  <a:pt x="1485" y="270"/>
                </a:cubicBezTo>
                <a:cubicBezTo>
                  <a:pt x="1486" y="252"/>
                  <a:pt x="1509" y="190"/>
                  <a:pt x="1512" y="180"/>
                </a:cubicBezTo>
                <a:cubicBezTo>
                  <a:pt x="1515" y="171"/>
                  <a:pt x="1521" y="153"/>
                  <a:pt x="1521" y="153"/>
                </a:cubicBezTo>
                <a:cubicBezTo>
                  <a:pt x="1524" y="114"/>
                  <a:pt x="1515" y="72"/>
                  <a:pt x="1530" y="36"/>
                </a:cubicBezTo>
                <a:cubicBezTo>
                  <a:pt x="1541" y="10"/>
                  <a:pt x="1557" y="117"/>
                  <a:pt x="1557" y="117"/>
                </a:cubicBezTo>
                <a:cubicBezTo>
                  <a:pt x="1561" y="111"/>
                  <a:pt x="1600" y="52"/>
                  <a:pt x="1602" y="54"/>
                </a:cubicBezTo>
                <a:cubicBezTo>
                  <a:pt x="1619" y="71"/>
                  <a:pt x="1608" y="102"/>
                  <a:pt x="1611" y="126"/>
                </a:cubicBezTo>
                <a:cubicBezTo>
                  <a:pt x="1620" y="117"/>
                  <a:pt x="1631" y="109"/>
                  <a:pt x="1638" y="99"/>
                </a:cubicBezTo>
                <a:cubicBezTo>
                  <a:pt x="1663" y="64"/>
                  <a:pt x="1650" y="44"/>
                  <a:pt x="1665" y="90"/>
                </a:cubicBezTo>
                <a:cubicBezTo>
                  <a:pt x="1668" y="81"/>
                  <a:pt x="1666" y="69"/>
                  <a:pt x="1674" y="63"/>
                </a:cubicBezTo>
                <a:cubicBezTo>
                  <a:pt x="1689" y="52"/>
                  <a:pt x="1728" y="45"/>
                  <a:pt x="1728" y="45"/>
                </a:cubicBezTo>
                <a:cubicBezTo>
                  <a:pt x="1741" y="85"/>
                  <a:pt x="1735" y="106"/>
                  <a:pt x="1782" y="90"/>
                </a:cubicBezTo>
                <a:cubicBezTo>
                  <a:pt x="1807" y="16"/>
                  <a:pt x="1769" y="115"/>
                  <a:pt x="1800" y="135"/>
                </a:cubicBezTo>
                <a:cubicBezTo>
                  <a:pt x="1816" y="146"/>
                  <a:pt x="1809" y="98"/>
                  <a:pt x="1818" y="81"/>
                </a:cubicBezTo>
                <a:cubicBezTo>
                  <a:pt x="1824" y="70"/>
                  <a:pt x="1836" y="63"/>
                  <a:pt x="1845" y="54"/>
                </a:cubicBezTo>
                <a:cubicBezTo>
                  <a:pt x="1862" y="159"/>
                  <a:pt x="1845" y="104"/>
                  <a:pt x="1863" y="81"/>
                </a:cubicBezTo>
                <a:cubicBezTo>
                  <a:pt x="1870" y="73"/>
                  <a:pt x="1881" y="69"/>
                  <a:pt x="1890" y="63"/>
                </a:cubicBezTo>
                <a:cubicBezTo>
                  <a:pt x="1893" y="81"/>
                  <a:pt x="1895" y="99"/>
                  <a:pt x="1899" y="117"/>
                </a:cubicBezTo>
                <a:cubicBezTo>
                  <a:pt x="1901" y="126"/>
                  <a:pt x="1899" y="144"/>
                  <a:pt x="1908" y="144"/>
                </a:cubicBezTo>
                <a:cubicBezTo>
                  <a:pt x="1919" y="144"/>
                  <a:pt x="1922" y="127"/>
                  <a:pt x="1926" y="117"/>
                </a:cubicBezTo>
                <a:cubicBezTo>
                  <a:pt x="1939" y="89"/>
                  <a:pt x="1946" y="57"/>
                  <a:pt x="1953" y="27"/>
                </a:cubicBezTo>
                <a:cubicBezTo>
                  <a:pt x="1956" y="51"/>
                  <a:pt x="1947" y="80"/>
                  <a:pt x="1962" y="99"/>
                </a:cubicBezTo>
                <a:cubicBezTo>
                  <a:pt x="1970" y="109"/>
                  <a:pt x="1982" y="83"/>
                  <a:pt x="1989" y="72"/>
                </a:cubicBezTo>
                <a:cubicBezTo>
                  <a:pt x="1994" y="64"/>
                  <a:pt x="1995" y="54"/>
                  <a:pt x="1998" y="45"/>
                </a:cubicBezTo>
                <a:cubicBezTo>
                  <a:pt x="2001" y="54"/>
                  <a:pt x="2005" y="63"/>
                  <a:pt x="2007" y="72"/>
                </a:cubicBezTo>
                <a:cubicBezTo>
                  <a:pt x="2011" y="96"/>
                  <a:pt x="1992" y="144"/>
                  <a:pt x="2016" y="144"/>
                </a:cubicBezTo>
                <a:cubicBezTo>
                  <a:pt x="2046" y="144"/>
                  <a:pt x="2070" y="72"/>
                  <a:pt x="2070" y="72"/>
                </a:cubicBezTo>
                <a:cubicBezTo>
                  <a:pt x="2078" y="96"/>
                  <a:pt x="2074" y="108"/>
                  <a:pt x="2106" y="108"/>
                </a:cubicBezTo>
                <a:cubicBezTo>
                  <a:pt x="2118" y="108"/>
                  <a:pt x="2142" y="99"/>
                  <a:pt x="2142" y="99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657600" y="4867200"/>
            <a:ext cx="3400560" cy="1457280"/>
          </a:xfrm>
          <a:custGeom>
            <a:avLst/>
            <a:gdLst/>
            <a:ahLst/>
            <a:rect l="l" t="t" r="r" b="b"/>
            <a:pathLst>
              <a:path w="2142" h="918">
                <a:moveTo>
                  <a:pt x="0" y="441"/>
                </a:moveTo>
                <a:cubicBezTo>
                  <a:pt x="18" y="300"/>
                  <a:pt x="28" y="157"/>
                  <a:pt x="63" y="18"/>
                </a:cubicBezTo>
                <a:cubicBezTo>
                  <a:pt x="66" y="36"/>
                  <a:pt x="62" y="57"/>
                  <a:pt x="72" y="72"/>
                </a:cubicBezTo>
                <a:cubicBezTo>
                  <a:pt x="77" y="80"/>
                  <a:pt x="72" y="45"/>
                  <a:pt x="81" y="45"/>
                </a:cubicBezTo>
                <a:cubicBezTo>
                  <a:pt x="90" y="45"/>
                  <a:pt x="87" y="63"/>
                  <a:pt x="90" y="72"/>
                </a:cubicBezTo>
                <a:cubicBezTo>
                  <a:pt x="96" y="63"/>
                  <a:pt x="97" y="45"/>
                  <a:pt x="108" y="45"/>
                </a:cubicBezTo>
                <a:cubicBezTo>
                  <a:pt x="117" y="45"/>
                  <a:pt x="108" y="74"/>
                  <a:pt x="117" y="72"/>
                </a:cubicBezTo>
                <a:cubicBezTo>
                  <a:pt x="132" y="68"/>
                  <a:pt x="135" y="48"/>
                  <a:pt x="144" y="36"/>
                </a:cubicBezTo>
                <a:cubicBezTo>
                  <a:pt x="147" y="27"/>
                  <a:pt x="149" y="0"/>
                  <a:pt x="153" y="9"/>
                </a:cubicBezTo>
                <a:cubicBezTo>
                  <a:pt x="173" y="60"/>
                  <a:pt x="150" y="116"/>
                  <a:pt x="171" y="54"/>
                </a:cubicBezTo>
                <a:cubicBezTo>
                  <a:pt x="174" y="69"/>
                  <a:pt x="166" y="92"/>
                  <a:pt x="180" y="99"/>
                </a:cubicBezTo>
                <a:cubicBezTo>
                  <a:pt x="199" y="109"/>
                  <a:pt x="214" y="52"/>
                  <a:pt x="216" y="45"/>
                </a:cubicBezTo>
                <a:cubicBezTo>
                  <a:pt x="257" y="72"/>
                  <a:pt x="258" y="62"/>
                  <a:pt x="297" y="36"/>
                </a:cubicBezTo>
                <a:cubicBezTo>
                  <a:pt x="300" y="57"/>
                  <a:pt x="293" y="82"/>
                  <a:pt x="306" y="99"/>
                </a:cubicBezTo>
                <a:cubicBezTo>
                  <a:pt x="312" y="108"/>
                  <a:pt x="319" y="82"/>
                  <a:pt x="324" y="72"/>
                </a:cubicBezTo>
                <a:cubicBezTo>
                  <a:pt x="328" y="64"/>
                  <a:pt x="330" y="54"/>
                  <a:pt x="333" y="45"/>
                </a:cubicBezTo>
                <a:cubicBezTo>
                  <a:pt x="336" y="54"/>
                  <a:pt x="333" y="72"/>
                  <a:pt x="342" y="72"/>
                </a:cubicBezTo>
                <a:cubicBezTo>
                  <a:pt x="364" y="72"/>
                  <a:pt x="373" y="32"/>
                  <a:pt x="378" y="18"/>
                </a:cubicBezTo>
                <a:cubicBezTo>
                  <a:pt x="381" y="45"/>
                  <a:pt x="375" y="75"/>
                  <a:pt x="387" y="99"/>
                </a:cubicBezTo>
                <a:cubicBezTo>
                  <a:pt x="392" y="109"/>
                  <a:pt x="400" y="82"/>
                  <a:pt x="405" y="72"/>
                </a:cubicBezTo>
                <a:cubicBezTo>
                  <a:pt x="409" y="64"/>
                  <a:pt x="411" y="54"/>
                  <a:pt x="414" y="45"/>
                </a:cubicBezTo>
                <a:cubicBezTo>
                  <a:pt x="439" y="143"/>
                  <a:pt x="400" y="18"/>
                  <a:pt x="450" y="18"/>
                </a:cubicBezTo>
                <a:cubicBezTo>
                  <a:pt x="471" y="18"/>
                  <a:pt x="456" y="60"/>
                  <a:pt x="459" y="81"/>
                </a:cubicBezTo>
                <a:cubicBezTo>
                  <a:pt x="498" y="2"/>
                  <a:pt x="465" y="55"/>
                  <a:pt x="486" y="162"/>
                </a:cubicBezTo>
                <a:cubicBezTo>
                  <a:pt x="488" y="171"/>
                  <a:pt x="493" y="144"/>
                  <a:pt x="495" y="135"/>
                </a:cubicBezTo>
                <a:cubicBezTo>
                  <a:pt x="517" y="48"/>
                  <a:pt x="492" y="125"/>
                  <a:pt x="513" y="63"/>
                </a:cubicBezTo>
                <a:cubicBezTo>
                  <a:pt x="556" y="91"/>
                  <a:pt x="569" y="84"/>
                  <a:pt x="585" y="36"/>
                </a:cubicBezTo>
                <a:cubicBezTo>
                  <a:pt x="588" y="45"/>
                  <a:pt x="585" y="63"/>
                  <a:pt x="594" y="63"/>
                </a:cubicBezTo>
                <a:cubicBezTo>
                  <a:pt x="603" y="63"/>
                  <a:pt x="598" y="28"/>
                  <a:pt x="603" y="36"/>
                </a:cubicBezTo>
                <a:cubicBezTo>
                  <a:pt x="613" y="51"/>
                  <a:pt x="609" y="72"/>
                  <a:pt x="612" y="90"/>
                </a:cubicBezTo>
                <a:cubicBezTo>
                  <a:pt x="642" y="1"/>
                  <a:pt x="594" y="130"/>
                  <a:pt x="630" y="108"/>
                </a:cubicBezTo>
                <a:cubicBezTo>
                  <a:pt x="653" y="94"/>
                  <a:pt x="654" y="60"/>
                  <a:pt x="666" y="36"/>
                </a:cubicBezTo>
                <a:cubicBezTo>
                  <a:pt x="669" y="48"/>
                  <a:pt x="673" y="60"/>
                  <a:pt x="675" y="72"/>
                </a:cubicBezTo>
                <a:cubicBezTo>
                  <a:pt x="687" y="134"/>
                  <a:pt x="673" y="143"/>
                  <a:pt x="702" y="99"/>
                </a:cubicBezTo>
                <a:cubicBezTo>
                  <a:pt x="709" y="374"/>
                  <a:pt x="740" y="643"/>
                  <a:pt x="756" y="918"/>
                </a:cubicBezTo>
                <a:cubicBezTo>
                  <a:pt x="759" y="903"/>
                  <a:pt x="762" y="888"/>
                  <a:pt x="765" y="873"/>
                </a:cubicBezTo>
                <a:cubicBezTo>
                  <a:pt x="771" y="849"/>
                  <a:pt x="783" y="801"/>
                  <a:pt x="783" y="801"/>
                </a:cubicBezTo>
                <a:cubicBezTo>
                  <a:pt x="816" y="899"/>
                  <a:pt x="791" y="849"/>
                  <a:pt x="810" y="765"/>
                </a:cubicBezTo>
                <a:cubicBezTo>
                  <a:pt x="812" y="754"/>
                  <a:pt x="822" y="747"/>
                  <a:pt x="828" y="738"/>
                </a:cubicBezTo>
                <a:cubicBezTo>
                  <a:pt x="831" y="762"/>
                  <a:pt x="814" y="802"/>
                  <a:pt x="837" y="810"/>
                </a:cubicBezTo>
                <a:cubicBezTo>
                  <a:pt x="858" y="817"/>
                  <a:pt x="844" y="728"/>
                  <a:pt x="855" y="747"/>
                </a:cubicBezTo>
                <a:cubicBezTo>
                  <a:pt x="874" y="778"/>
                  <a:pt x="861" y="819"/>
                  <a:pt x="864" y="855"/>
                </a:cubicBezTo>
                <a:cubicBezTo>
                  <a:pt x="885" y="770"/>
                  <a:pt x="860" y="849"/>
                  <a:pt x="882" y="864"/>
                </a:cubicBezTo>
                <a:cubicBezTo>
                  <a:pt x="891" y="870"/>
                  <a:pt x="894" y="846"/>
                  <a:pt x="900" y="837"/>
                </a:cubicBezTo>
                <a:cubicBezTo>
                  <a:pt x="903" y="822"/>
                  <a:pt x="898" y="781"/>
                  <a:pt x="909" y="792"/>
                </a:cubicBezTo>
                <a:cubicBezTo>
                  <a:pt x="926" y="809"/>
                  <a:pt x="927" y="864"/>
                  <a:pt x="927" y="864"/>
                </a:cubicBezTo>
                <a:cubicBezTo>
                  <a:pt x="948" y="800"/>
                  <a:pt x="934" y="794"/>
                  <a:pt x="963" y="837"/>
                </a:cubicBezTo>
                <a:cubicBezTo>
                  <a:pt x="975" y="819"/>
                  <a:pt x="989" y="802"/>
                  <a:pt x="999" y="783"/>
                </a:cubicBezTo>
                <a:cubicBezTo>
                  <a:pt x="1007" y="766"/>
                  <a:pt x="1001" y="740"/>
                  <a:pt x="1017" y="729"/>
                </a:cubicBezTo>
                <a:cubicBezTo>
                  <a:pt x="1027" y="722"/>
                  <a:pt x="1022" y="753"/>
                  <a:pt x="1026" y="765"/>
                </a:cubicBezTo>
                <a:cubicBezTo>
                  <a:pt x="1056" y="854"/>
                  <a:pt x="1035" y="766"/>
                  <a:pt x="1053" y="855"/>
                </a:cubicBezTo>
                <a:cubicBezTo>
                  <a:pt x="1074" y="793"/>
                  <a:pt x="1049" y="851"/>
                  <a:pt x="1071" y="873"/>
                </a:cubicBezTo>
                <a:cubicBezTo>
                  <a:pt x="1078" y="880"/>
                  <a:pt x="1073" y="853"/>
                  <a:pt x="1080" y="846"/>
                </a:cubicBezTo>
                <a:cubicBezTo>
                  <a:pt x="1087" y="839"/>
                  <a:pt x="1098" y="840"/>
                  <a:pt x="1107" y="837"/>
                </a:cubicBezTo>
                <a:cubicBezTo>
                  <a:pt x="1116" y="822"/>
                  <a:pt x="1117" y="792"/>
                  <a:pt x="1134" y="792"/>
                </a:cubicBezTo>
                <a:cubicBezTo>
                  <a:pt x="1149" y="792"/>
                  <a:pt x="1132" y="848"/>
                  <a:pt x="1143" y="837"/>
                </a:cubicBezTo>
                <a:cubicBezTo>
                  <a:pt x="1160" y="820"/>
                  <a:pt x="1155" y="789"/>
                  <a:pt x="1161" y="765"/>
                </a:cubicBezTo>
                <a:cubicBezTo>
                  <a:pt x="1164" y="786"/>
                  <a:pt x="1166" y="807"/>
                  <a:pt x="1170" y="828"/>
                </a:cubicBezTo>
                <a:cubicBezTo>
                  <a:pt x="1172" y="837"/>
                  <a:pt x="1171" y="851"/>
                  <a:pt x="1179" y="855"/>
                </a:cubicBezTo>
                <a:cubicBezTo>
                  <a:pt x="1187" y="859"/>
                  <a:pt x="1197" y="849"/>
                  <a:pt x="1206" y="846"/>
                </a:cubicBezTo>
                <a:cubicBezTo>
                  <a:pt x="1215" y="834"/>
                  <a:pt x="1218" y="814"/>
                  <a:pt x="1233" y="810"/>
                </a:cubicBezTo>
                <a:cubicBezTo>
                  <a:pt x="1242" y="808"/>
                  <a:pt x="1240" y="828"/>
                  <a:pt x="1242" y="837"/>
                </a:cubicBezTo>
                <a:cubicBezTo>
                  <a:pt x="1246" y="855"/>
                  <a:pt x="1248" y="873"/>
                  <a:pt x="1251" y="891"/>
                </a:cubicBezTo>
                <a:cubicBezTo>
                  <a:pt x="1270" y="862"/>
                  <a:pt x="1280" y="832"/>
                  <a:pt x="1296" y="801"/>
                </a:cubicBezTo>
                <a:cubicBezTo>
                  <a:pt x="1318" y="867"/>
                  <a:pt x="1301" y="868"/>
                  <a:pt x="1341" y="828"/>
                </a:cubicBezTo>
                <a:cubicBezTo>
                  <a:pt x="1344" y="810"/>
                  <a:pt x="1340" y="789"/>
                  <a:pt x="1350" y="774"/>
                </a:cubicBezTo>
                <a:cubicBezTo>
                  <a:pt x="1355" y="766"/>
                  <a:pt x="1351" y="797"/>
                  <a:pt x="1359" y="801"/>
                </a:cubicBezTo>
                <a:cubicBezTo>
                  <a:pt x="1367" y="805"/>
                  <a:pt x="1377" y="795"/>
                  <a:pt x="1386" y="792"/>
                </a:cubicBezTo>
                <a:cubicBezTo>
                  <a:pt x="1389" y="813"/>
                  <a:pt x="1383" y="837"/>
                  <a:pt x="1395" y="855"/>
                </a:cubicBezTo>
                <a:cubicBezTo>
                  <a:pt x="1400" y="863"/>
                  <a:pt x="1418" y="855"/>
                  <a:pt x="1422" y="846"/>
                </a:cubicBezTo>
                <a:cubicBezTo>
                  <a:pt x="1438" y="812"/>
                  <a:pt x="1449" y="738"/>
                  <a:pt x="1449" y="738"/>
                </a:cubicBezTo>
                <a:cubicBezTo>
                  <a:pt x="1455" y="639"/>
                  <a:pt x="1462" y="555"/>
                  <a:pt x="1476" y="459"/>
                </a:cubicBezTo>
                <a:cubicBezTo>
                  <a:pt x="1479" y="396"/>
                  <a:pt x="1480" y="333"/>
                  <a:pt x="1485" y="270"/>
                </a:cubicBezTo>
                <a:cubicBezTo>
                  <a:pt x="1486" y="252"/>
                  <a:pt x="1509" y="190"/>
                  <a:pt x="1512" y="180"/>
                </a:cubicBezTo>
                <a:cubicBezTo>
                  <a:pt x="1515" y="171"/>
                  <a:pt x="1521" y="153"/>
                  <a:pt x="1521" y="153"/>
                </a:cubicBezTo>
                <a:cubicBezTo>
                  <a:pt x="1524" y="114"/>
                  <a:pt x="1515" y="72"/>
                  <a:pt x="1530" y="36"/>
                </a:cubicBezTo>
                <a:cubicBezTo>
                  <a:pt x="1541" y="10"/>
                  <a:pt x="1557" y="117"/>
                  <a:pt x="1557" y="117"/>
                </a:cubicBezTo>
                <a:cubicBezTo>
                  <a:pt x="1561" y="111"/>
                  <a:pt x="1600" y="52"/>
                  <a:pt x="1602" y="54"/>
                </a:cubicBezTo>
                <a:cubicBezTo>
                  <a:pt x="1619" y="71"/>
                  <a:pt x="1608" y="102"/>
                  <a:pt x="1611" y="126"/>
                </a:cubicBezTo>
                <a:cubicBezTo>
                  <a:pt x="1620" y="117"/>
                  <a:pt x="1631" y="109"/>
                  <a:pt x="1638" y="99"/>
                </a:cubicBezTo>
                <a:cubicBezTo>
                  <a:pt x="1663" y="64"/>
                  <a:pt x="1650" y="44"/>
                  <a:pt x="1665" y="90"/>
                </a:cubicBezTo>
                <a:cubicBezTo>
                  <a:pt x="1668" y="81"/>
                  <a:pt x="1666" y="69"/>
                  <a:pt x="1674" y="63"/>
                </a:cubicBezTo>
                <a:cubicBezTo>
                  <a:pt x="1689" y="52"/>
                  <a:pt x="1728" y="45"/>
                  <a:pt x="1728" y="45"/>
                </a:cubicBezTo>
                <a:cubicBezTo>
                  <a:pt x="1741" y="85"/>
                  <a:pt x="1735" y="106"/>
                  <a:pt x="1782" y="90"/>
                </a:cubicBezTo>
                <a:cubicBezTo>
                  <a:pt x="1807" y="16"/>
                  <a:pt x="1769" y="115"/>
                  <a:pt x="1800" y="135"/>
                </a:cubicBezTo>
                <a:cubicBezTo>
                  <a:pt x="1816" y="146"/>
                  <a:pt x="1809" y="98"/>
                  <a:pt x="1818" y="81"/>
                </a:cubicBezTo>
                <a:cubicBezTo>
                  <a:pt x="1824" y="70"/>
                  <a:pt x="1836" y="63"/>
                  <a:pt x="1845" y="54"/>
                </a:cubicBezTo>
                <a:cubicBezTo>
                  <a:pt x="1862" y="159"/>
                  <a:pt x="1845" y="104"/>
                  <a:pt x="1863" y="81"/>
                </a:cubicBezTo>
                <a:cubicBezTo>
                  <a:pt x="1870" y="73"/>
                  <a:pt x="1881" y="69"/>
                  <a:pt x="1890" y="63"/>
                </a:cubicBezTo>
                <a:cubicBezTo>
                  <a:pt x="1893" y="81"/>
                  <a:pt x="1895" y="99"/>
                  <a:pt x="1899" y="117"/>
                </a:cubicBezTo>
                <a:cubicBezTo>
                  <a:pt x="1901" y="126"/>
                  <a:pt x="1899" y="144"/>
                  <a:pt x="1908" y="144"/>
                </a:cubicBezTo>
                <a:cubicBezTo>
                  <a:pt x="1919" y="144"/>
                  <a:pt x="1922" y="127"/>
                  <a:pt x="1926" y="117"/>
                </a:cubicBezTo>
                <a:cubicBezTo>
                  <a:pt x="1939" y="89"/>
                  <a:pt x="1946" y="57"/>
                  <a:pt x="1953" y="27"/>
                </a:cubicBezTo>
                <a:cubicBezTo>
                  <a:pt x="1956" y="51"/>
                  <a:pt x="1947" y="80"/>
                  <a:pt x="1962" y="99"/>
                </a:cubicBezTo>
                <a:cubicBezTo>
                  <a:pt x="1970" y="109"/>
                  <a:pt x="1982" y="83"/>
                  <a:pt x="1989" y="72"/>
                </a:cubicBezTo>
                <a:cubicBezTo>
                  <a:pt x="1994" y="64"/>
                  <a:pt x="1995" y="54"/>
                  <a:pt x="1998" y="45"/>
                </a:cubicBezTo>
                <a:cubicBezTo>
                  <a:pt x="2001" y="54"/>
                  <a:pt x="2005" y="63"/>
                  <a:pt x="2007" y="72"/>
                </a:cubicBezTo>
                <a:cubicBezTo>
                  <a:pt x="2011" y="96"/>
                  <a:pt x="1992" y="144"/>
                  <a:pt x="2016" y="144"/>
                </a:cubicBezTo>
                <a:cubicBezTo>
                  <a:pt x="2046" y="144"/>
                  <a:pt x="2070" y="72"/>
                  <a:pt x="2070" y="72"/>
                </a:cubicBezTo>
                <a:cubicBezTo>
                  <a:pt x="2078" y="96"/>
                  <a:pt x="2074" y="108"/>
                  <a:pt x="2106" y="108"/>
                </a:cubicBezTo>
                <a:cubicBezTo>
                  <a:pt x="2118" y="108"/>
                  <a:pt x="2142" y="99"/>
                  <a:pt x="2142" y="99"/>
                </a:cubicBezTo>
              </a:path>
            </a:pathLst>
          </a:custGeom>
          <a:noFill/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66880" y="1905120"/>
            <a:ext cx="38124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048120" y="3657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696080" y="1690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96080" y="3443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696080" y="53481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143000" y="10666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ransmission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914400" y="28195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eceived signal (short dela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14400" y="4724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eceived signal (long dela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295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9625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105520" y="1295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666880" y="4038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914400" y="42670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opagation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2438280" y="411444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200400" y="3352680"/>
            <a:ext cx="53352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1280" y="5257800"/>
            <a:ext cx="53352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200400" y="44197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Delayed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352680" y="373356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352680" y="47242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8185-3B2A-41BC-8BBC-2F5828BFFBD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45800" y="2282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herence Bandwidt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01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herence bandwidth B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presents correlation between 2 fading signal envelopes at frequencies 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nd 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s a function of delay spre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wo frequencies that are larger than coherence bandwidth fade independ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ncept useful in diversity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ultiple copies of same message are sent using different frequenc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F197-99A1-4081-875C-07DDA03392E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channel Interfere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ells having the same frequency interfere with each 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s the desir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s the interfering undesir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s the protection ratio for whi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(so that the signals interfere the le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P(r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s the probability that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ochannel probabilit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co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= P(r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8B7E-8C29-4067-87DC-885A6B822C1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ypes of Wav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811160"/>
            <a:ext cx="6629400" cy="1981440"/>
          </a:xfrm>
          <a:custGeom>
            <a:avLst/>
            <a:gdLst/>
            <a:ahLst/>
            <a:rect l="l" t="t" r="r" b="b"/>
            <a:pathLst>
              <a:path w="4176" h="576">
                <a:moveTo>
                  <a:pt x="0" y="240"/>
                </a:moveTo>
                <a:lnTo>
                  <a:pt x="0" y="576"/>
                </a:lnTo>
                <a:lnTo>
                  <a:pt x="288" y="480"/>
                </a:lnTo>
                <a:lnTo>
                  <a:pt x="528" y="432"/>
                </a:lnTo>
                <a:lnTo>
                  <a:pt x="816" y="384"/>
                </a:lnTo>
                <a:lnTo>
                  <a:pt x="1152" y="384"/>
                </a:lnTo>
                <a:lnTo>
                  <a:pt x="1680" y="336"/>
                </a:lnTo>
                <a:lnTo>
                  <a:pt x="2256" y="336"/>
                </a:lnTo>
                <a:lnTo>
                  <a:pt x="2736" y="336"/>
                </a:lnTo>
                <a:lnTo>
                  <a:pt x="3168" y="384"/>
                </a:lnTo>
                <a:lnTo>
                  <a:pt x="3648" y="432"/>
                </a:lnTo>
                <a:lnTo>
                  <a:pt x="3936" y="480"/>
                </a:lnTo>
                <a:lnTo>
                  <a:pt x="4176" y="576"/>
                </a:lnTo>
                <a:lnTo>
                  <a:pt x="4176" y="240"/>
                </a:lnTo>
                <a:lnTo>
                  <a:pt x="3888" y="144"/>
                </a:lnTo>
                <a:lnTo>
                  <a:pt x="3600" y="96"/>
                </a:lnTo>
                <a:lnTo>
                  <a:pt x="3264" y="48"/>
                </a:lnTo>
                <a:lnTo>
                  <a:pt x="2784" y="0"/>
                </a:lnTo>
                <a:lnTo>
                  <a:pt x="2304" y="0"/>
                </a:lnTo>
                <a:lnTo>
                  <a:pt x="1776" y="0"/>
                </a:lnTo>
                <a:lnTo>
                  <a:pt x="1536" y="0"/>
                </a:lnTo>
                <a:lnTo>
                  <a:pt x="1008" y="48"/>
                </a:lnTo>
                <a:lnTo>
                  <a:pt x="816" y="48"/>
                </a:lnTo>
                <a:lnTo>
                  <a:pt x="624" y="96"/>
                </a:lnTo>
                <a:lnTo>
                  <a:pt x="480" y="96"/>
                </a:lnTo>
                <a:lnTo>
                  <a:pt x="288" y="144"/>
                </a:lnTo>
                <a:lnTo>
                  <a:pt x="96" y="192"/>
                </a:lnTo>
                <a:lnTo>
                  <a:pt x="0" y="24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2954160"/>
            <a:ext cx="6629400" cy="1524240"/>
          </a:xfrm>
          <a:custGeom>
            <a:avLst/>
            <a:gdLst/>
            <a:ahLst/>
            <a:rect l="l" t="t" r="r" b="b"/>
            <a:pathLst>
              <a:path w="4176" h="576">
                <a:moveTo>
                  <a:pt x="0" y="240"/>
                </a:moveTo>
                <a:lnTo>
                  <a:pt x="0" y="576"/>
                </a:lnTo>
                <a:lnTo>
                  <a:pt x="288" y="480"/>
                </a:lnTo>
                <a:lnTo>
                  <a:pt x="528" y="432"/>
                </a:lnTo>
                <a:lnTo>
                  <a:pt x="816" y="384"/>
                </a:lnTo>
                <a:lnTo>
                  <a:pt x="1152" y="384"/>
                </a:lnTo>
                <a:lnTo>
                  <a:pt x="1680" y="336"/>
                </a:lnTo>
                <a:lnTo>
                  <a:pt x="2256" y="336"/>
                </a:lnTo>
                <a:lnTo>
                  <a:pt x="2736" y="336"/>
                </a:lnTo>
                <a:lnTo>
                  <a:pt x="3168" y="384"/>
                </a:lnTo>
                <a:lnTo>
                  <a:pt x="3648" y="432"/>
                </a:lnTo>
                <a:lnTo>
                  <a:pt x="3936" y="480"/>
                </a:lnTo>
                <a:lnTo>
                  <a:pt x="4176" y="576"/>
                </a:lnTo>
                <a:lnTo>
                  <a:pt x="4176" y="240"/>
                </a:lnTo>
                <a:lnTo>
                  <a:pt x="3888" y="144"/>
                </a:lnTo>
                <a:lnTo>
                  <a:pt x="3600" y="96"/>
                </a:lnTo>
                <a:lnTo>
                  <a:pt x="3264" y="48"/>
                </a:lnTo>
                <a:lnTo>
                  <a:pt x="2784" y="0"/>
                </a:lnTo>
                <a:lnTo>
                  <a:pt x="2304" y="0"/>
                </a:lnTo>
                <a:lnTo>
                  <a:pt x="1776" y="0"/>
                </a:lnTo>
                <a:lnTo>
                  <a:pt x="1536" y="0"/>
                </a:lnTo>
                <a:lnTo>
                  <a:pt x="1008" y="48"/>
                </a:lnTo>
                <a:lnTo>
                  <a:pt x="816" y="48"/>
                </a:lnTo>
                <a:lnTo>
                  <a:pt x="624" y="96"/>
                </a:lnTo>
                <a:lnTo>
                  <a:pt x="480" y="96"/>
                </a:lnTo>
                <a:lnTo>
                  <a:pt x="288" y="144"/>
                </a:lnTo>
                <a:lnTo>
                  <a:pt x="96" y="192"/>
                </a:lnTo>
                <a:lnTo>
                  <a:pt x="0" y="24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3792600"/>
            <a:ext cx="6629400" cy="1523880"/>
          </a:xfrm>
          <a:custGeom>
            <a:avLst/>
            <a:gdLst/>
            <a:ahLst/>
            <a:rect l="l" t="t" r="r" b="b"/>
            <a:pathLst>
              <a:path w="4176" h="576">
                <a:moveTo>
                  <a:pt x="0" y="240"/>
                </a:moveTo>
                <a:lnTo>
                  <a:pt x="0" y="576"/>
                </a:lnTo>
                <a:lnTo>
                  <a:pt x="288" y="480"/>
                </a:lnTo>
                <a:lnTo>
                  <a:pt x="528" y="432"/>
                </a:lnTo>
                <a:lnTo>
                  <a:pt x="816" y="384"/>
                </a:lnTo>
                <a:lnTo>
                  <a:pt x="1152" y="384"/>
                </a:lnTo>
                <a:lnTo>
                  <a:pt x="1680" y="336"/>
                </a:lnTo>
                <a:lnTo>
                  <a:pt x="2256" y="336"/>
                </a:lnTo>
                <a:lnTo>
                  <a:pt x="2736" y="336"/>
                </a:lnTo>
                <a:lnTo>
                  <a:pt x="3168" y="384"/>
                </a:lnTo>
                <a:lnTo>
                  <a:pt x="3648" y="432"/>
                </a:lnTo>
                <a:lnTo>
                  <a:pt x="3936" y="480"/>
                </a:lnTo>
                <a:lnTo>
                  <a:pt x="4176" y="576"/>
                </a:lnTo>
                <a:lnTo>
                  <a:pt x="4176" y="240"/>
                </a:lnTo>
                <a:lnTo>
                  <a:pt x="3888" y="144"/>
                </a:lnTo>
                <a:lnTo>
                  <a:pt x="3600" y="96"/>
                </a:lnTo>
                <a:lnTo>
                  <a:pt x="3264" y="48"/>
                </a:lnTo>
                <a:lnTo>
                  <a:pt x="2784" y="0"/>
                </a:lnTo>
                <a:lnTo>
                  <a:pt x="2304" y="0"/>
                </a:lnTo>
                <a:lnTo>
                  <a:pt x="1776" y="0"/>
                </a:lnTo>
                <a:lnTo>
                  <a:pt x="1536" y="0"/>
                </a:lnTo>
                <a:lnTo>
                  <a:pt x="1008" y="48"/>
                </a:lnTo>
                <a:lnTo>
                  <a:pt x="816" y="48"/>
                </a:lnTo>
                <a:lnTo>
                  <a:pt x="624" y="96"/>
                </a:lnTo>
                <a:lnTo>
                  <a:pt x="480" y="96"/>
                </a:lnTo>
                <a:lnTo>
                  <a:pt x="288" y="144"/>
                </a:lnTo>
                <a:lnTo>
                  <a:pt x="96" y="192"/>
                </a:lnTo>
                <a:lnTo>
                  <a:pt x="0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630680"/>
            <a:ext cx="6629400" cy="1523880"/>
          </a:xfrm>
          <a:custGeom>
            <a:avLst/>
            <a:gdLst/>
            <a:ahLst/>
            <a:rect l="l" t="t" r="r" b="b"/>
            <a:pathLst>
              <a:path w="4176" h="576">
                <a:moveTo>
                  <a:pt x="0" y="240"/>
                </a:moveTo>
                <a:lnTo>
                  <a:pt x="0" y="576"/>
                </a:lnTo>
                <a:lnTo>
                  <a:pt x="288" y="480"/>
                </a:lnTo>
                <a:lnTo>
                  <a:pt x="528" y="432"/>
                </a:lnTo>
                <a:lnTo>
                  <a:pt x="816" y="384"/>
                </a:lnTo>
                <a:lnTo>
                  <a:pt x="1152" y="384"/>
                </a:lnTo>
                <a:lnTo>
                  <a:pt x="1680" y="336"/>
                </a:lnTo>
                <a:lnTo>
                  <a:pt x="2256" y="336"/>
                </a:lnTo>
                <a:lnTo>
                  <a:pt x="2736" y="336"/>
                </a:lnTo>
                <a:lnTo>
                  <a:pt x="3168" y="384"/>
                </a:lnTo>
                <a:lnTo>
                  <a:pt x="3648" y="432"/>
                </a:lnTo>
                <a:lnTo>
                  <a:pt x="3936" y="480"/>
                </a:lnTo>
                <a:lnTo>
                  <a:pt x="4176" y="576"/>
                </a:lnTo>
                <a:lnTo>
                  <a:pt x="4176" y="240"/>
                </a:lnTo>
                <a:lnTo>
                  <a:pt x="3888" y="144"/>
                </a:lnTo>
                <a:lnTo>
                  <a:pt x="3600" y="96"/>
                </a:lnTo>
                <a:lnTo>
                  <a:pt x="3264" y="48"/>
                </a:lnTo>
                <a:lnTo>
                  <a:pt x="2784" y="0"/>
                </a:lnTo>
                <a:lnTo>
                  <a:pt x="2304" y="0"/>
                </a:lnTo>
                <a:lnTo>
                  <a:pt x="1776" y="0"/>
                </a:lnTo>
                <a:lnTo>
                  <a:pt x="1536" y="0"/>
                </a:lnTo>
                <a:lnTo>
                  <a:pt x="1008" y="48"/>
                </a:lnTo>
                <a:lnTo>
                  <a:pt x="816" y="48"/>
                </a:lnTo>
                <a:lnTo>
                  <a:pt x="624" y="96"/>
                </a:lnTo>
                <a:lnTo>
                  <a:pt x="480" y="96"/>
                </a:lnTo>
                <a:lnTo>
                  <a:pt x="288" y="144"/>
                </a:lnTo>
                <a:lnTo>
                  <a:pt x="96" y="192"/>
                </a:lnTo>
                <a:lnTo>
                  <a:pt x="0" y="24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720" y="5500800"/>
            <a:ext cx="7239240" cy="175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" y="10562"/>
                </a:moveTo>
                <a:arcTo wR="10800" hR="10800" stAng="-10724229" swAng="10812364"/>
                <a:lnTo>
                  <a:pt x="10800" y="10800"/>
                </a:lnTo>
                <a:close/>
              </a:path>
              <a:path fill="none" w="21600" h="21600">
                <a:moveTo>
                  <a:pt x="3" y="10562"/>
                </a:moveTo>
                <a:arcTo wR="10800" hR="10800" stAng="-10724229" swAng="10812364"/>
              </a:path>
            </a:pathLst>
          </a:custGeom>
          <a:solidFill>
            <a:srgbClr val="cc99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20625000">
            <a:off x="151200" y="5443560"/>
            <a:ext cx="14479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ransm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880200">
            <a:off x="5792040" y="5443560"/>
            <a:ext cx="13716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5925960"/>
            <a:ext cx="762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ar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564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10280" y="35640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4402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0280" y="260496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15200" y="2604960"/>
            <a:ext cx="0" cy="959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5392800"/>
            <a:ext cx="4038480" cy="152280"/>
          </a:xfrm>
          <a:custGeom>
            <a:avLst/>
            <a:gdLst/>
            <a:ahLst/>
            <a:rect l="l" t="t" r="r" b="b"/>
            <a:pathLst>
              <a:path w="2538" h="72">
                <a:moveTo>
                  <a:pt x="0" y="54"/>
                </a:moveTo>
                <a:cubicBezTo>
                  <a:pt x="140" y="19"/>
                  <a:pt x="305" y="32"/>
                  <a:pt x="441" y="27"/>
                </a:cubicBezTo>
                <a:cubicBezTo>
                  <a:pt x="696" y="18"/>
                  <a:pt x="951" y="6"/>
                  <a:pt x="1206" y="0"/>
                </a:cubicBezTo>
                <a:cubicBezTo>
                  <a:pt x="1568" y="7"/>
                  <a:pt x="1923" y="29"/>
                  <a:pt x="2286" y="36"/>
                </a:cubicBezTo>
                <a:cubicBezTo>
                  <a:pt x="2353" y="44"/>
                  <a:pt x="2417" y="55"/>
                  <a:pt x="2484" y="63"/>
                </a:cubicBezTo>
                <a:cubicBezTo>
                  <a:pt x="2502" y="65"/>
                  <a:pt x="2538" y="72"/>
                  <a:pt x="2538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50878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33354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ky w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19520" y="46306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pace w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19520" y="50720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round w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85800" y="1658880"/>
            <a:ext cx="106668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1658880"/>
            <a:ext cx="449568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914400" y="776160"/>
            <a:ext cx="1600200" cy="1111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 flipV="1">
            <a:off x="914400" y="2649600"/>
            <a:ext cx="14479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38280" y="2649600"/>
            <a:ext cx="36576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5200" y="5240160"/>
            <a:ext cx="0" cy="88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10280" y="52848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10280" y="6122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91520" y="539280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roposphere (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0 - 12 k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15200" y="4402080"/>
            <a:ext cx="0" cy="88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91520" y="455436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tratosphere (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12 - 50 k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363996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esosphere (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50 - 80 k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91520" y="278604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onosphere (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80 - 720 k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FB3B-311E-4AB0-8F6D-CC4CBCAD14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adio Frequency Band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38080" y="1428840"/>
          <a:ext cx="7707600" cy="4743360"/>
        </p:xfrm>
        <a:graphic>
          <a:graphicData uri="http://schemas.openxmlformats.org/drawingml/2006/table">
            <a:tbl>
              <a:tblPr/>
              <a:tblGrid>
                <a:gridCol w="2176560"/>
                <a:gridCol w="990720"/>
                <a:gridCol w="2514600"/>
                <a:gridCol w="20257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lassification B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iti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requency R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haracter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tremely 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L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&lt; 300 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round w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fra 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L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00 Hz - 3 k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y 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L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 kHz - 30 k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0 kHz - 300 k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d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00 kHz - 3 M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round/Sky w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 MHz - 30 M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ky w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y 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H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0 MHz - 300 M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pace w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ltra 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H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00 MHz - 3 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uper 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H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 GHz - 30 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tremely 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H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0 GHz - 300 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remendously 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H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00 GHz - 3000 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9CA2-DAF3-4CCF-AC1A-79955C1591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pagation Mechanis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pagation wave impinges on an object which is large as compared to waveleng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 e.g., the surface of the Earth, buildings, wall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ff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Radio path between transmitter and receiver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obstructed by surface with sharp irregular ed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aves bend around the obstacle, even when LOS (line of sight)  does not ex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tt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Objects smaller than the wavelength of th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propagation wa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 e.g. foliage, street signs, lamp po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AD26-8B4B-4433-A734-DBC9FAB5C5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adio Propagation Effec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4937040"/>
            <a:ext cx="1523880" cy="3988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46483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172200" y="4289400"/>
            <a:ext cx="762120" cy="379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V="1">
            <a:off x="6553080" y="4098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2666880"/>
            <a:ext cx="3886200" cy="143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38280" y="4632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53080" y="4632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38280" y="478476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7084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4937040"/>
            <a:ext cx="1524240" cy="3988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371600" y="2955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4038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676520" y="2955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35812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38880" y="41752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40989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40989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285640" y="2454120"/>
            <a:ext cx="381240" cy="1812960"/>
            <a:chOff x="2285640" y="2454120"/>
            <a:chExt cx="381240" cy="1812960"/>
          </a:xfrm>
        </p:grpSpPr>
        <p:sp>
          <p:nvSpPr>
            <p:cNvPr id="162" name=""/>
            <p:cNvSpPr/>
            <p:nvPr/>
          </p:nvSpPr>
          <p:spPr>
            <a:xfrm flipH="1">
              <a:off x="2285640" y="2895480"/>
              <a:ext cx="15228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38280" y="2895480"/>
              <a:ext cx="22860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2286000" y="3809880"/>
              <a:ext cx="3049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flipV="1">
              <a:off x="2362320" y="3809880"/>
              <a:ext cx="3045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62320" y="3504600"/>
              <a:ext cx="15228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2361960" y="3504600"/>
              <a:ext cx="22860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362320" y="33523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2361960" y="33523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438280" y="2454120"/>
              <a:ext cx="0" cy="44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62320" y="26668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62320" y="25905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14600" y="25905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5410080" y="2057400"/>
            <a:ext cx="914400" cy="1371600"/>
          </a:xfrm>
          <a:prstGeom prst="rect">
            <a:avLst/>
          </a:pr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487840" y="21344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5716440" y="21344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5945040" y="21344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6173640" y="21344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5487840" y="23630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5716440" y="23630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5945040" y="23630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6173640" y="23630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5487840" y="25916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5716440" y="25916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5945040" y="25916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6173640" y="25916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5487840" y="28202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5716440" y="28202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5945040" y="28202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6173640" y="28202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09680" y="4267080"/>
            <a:ext cx="533520" cy="38124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43434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43434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90920" y="434340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0" y="44956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38280" y="44956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909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487840" y="30488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5716440" y="30488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5945040" y="30488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172200" y="3047400"/>
            <a:ext cx="763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52680" y="3657600"/>
            <a:ext cx="533520" cy="99072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3733920"/>
            <a:ext cx="763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81280" y="3733920"/>
            <a:ext cx="763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3733920"/>
            <a:ext cx="7596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29000" y="38862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81280" y="38862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33920" y="388620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4038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4038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33920" y="4038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29000" y="4191120"/>
            <a:ext cx="763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81280" y="4191120"/>
            <a:ext cx="763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4191120"/>
            <a:ext cx="7596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29000" y="43434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280" y="43434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434340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29000" y="44956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81280" y="44956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2743200"/>
            <a:ext cx="1600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3657600"/>
            <a:ext cx="2590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36576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36576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886200" y="35812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38862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67080" y="3886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Diffracted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90920" y="2590920"/>
            <a:ext cx="3124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15000" y="2743200"/>
            <a:ext cx="7621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24480" y="3505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eflected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715000" y="2743200"/>
            <a:ext cx="38088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2895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Direct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5487840" y="32774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5716440" y="32774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5945040" y="32774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6172200" y="3276000"/>
            <a:ext cx="763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05520" y="14479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24A6-FD82-43CA-BE3C-069BCEEEF5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ree-space Propag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81532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 received signal power at distanc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s transmitting power,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s effective area, and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s the transmitting antenna gain. Assuming that the radiated power is uniformly distributed over the surface of the sphe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3321000"/>
            <a:ext cx="1523880" cy="3988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30322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172200" y="2673360"/>
            <a:ext cx="762120" cy="3794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 flipV="1">
            <a:off x="6553080" y="2803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90920" y="1355760"/>
            <a:ext cx="3886200" cy="11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38280" y="30639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5530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38280" y="32004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2004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istanc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867280" y="3352680"/>
            <a:ext cx="1524240" cy="3988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371600" y="133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242244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676520" y="13395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19810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315200" y="26668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0572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162920" y="2666880"/>
            <a:ext cx="0" cy="365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285640" y="1219320"/>
            <a:ext cx="381240" cy="1812960"/>
            <a:chOff x="2285640" y="1219320"/>
            <a:chExt cx="381240" cy="1812960"/>
          </a:xfrm>
        </p:grpSpPr>
        <p:sp>
          <p:nvSpPr>
            <p:cNvPr id="258" name=""/>
            <p:cNvSpPr/>
            <p:nvPr/>
          </p:nvSpPr>
          <p:spPr>
            <a:xfrm flipH="1">
              <a:off x="2285640" y="1660680"/>
              <a:ext cx="15228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38280" y="1660680"/>
              <a:ext cx="22860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2286000" y="2575080"/>
              <a:ext cx="3049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2362320" y="2575080"/>
              <a:ext cx="3045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2362320" y="2269800"/>
              <a:ext cx="15228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2361960" y="2269800"/>
              <a:ext cx="22860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362320" y="21175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2361960" y="21175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2438280" y="1219320"/>
              <a:ext cx="0" cy="44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362320" y="14320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62320" y="13557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14600" y="13557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724280" y="2590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2325600" y="4386240"/>
                <a:ext cx="15606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e</m:t>
                        </m:r>
                        <m:r>
                          <m:t xml:space="preserve">G</m:t>
                        </m:r>
                        <m:r>
                          <m:t xml:space="preserve">t</m:t>
                        </m:r>
                        <m:r>
                          <m:t xml:space="preserve">P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780E-E6B6-4C65-AB76-AB2F75551C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ntenna Gai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 a circular reflector anten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a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 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 /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 net efficiency (depends on the electric field distribution over the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antenna aperture, losses, ohmic heating , typically 0.5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dia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u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 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 f /c 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 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f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s speed of ligh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ntenna with diameter = 2 m, frequency   = 6 GHz, wavelength  = 0.05 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39.4 d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equency = 14 GHz, same diameter, wavelength = 0.021 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46.9 d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* Higher the frequency, higher the gain for the same size anten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5873-3747-4D6B-A9D1-89A0A6485D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1T18:43:44Z</dcterms:created>
  <dc:creator>A satisfied Microsoft Office User</dc:creator>
  <dc:description/>
  <dc:language>en-US</dc:language>
  <cp:lastModifiedBy>dpa</cp:lastModifiedBy>
  <dcterms:modified xsi:type="dcterms:W3CDTF">2004-01-13T17:56:57Z</dcterms:modified>
  <cp:revision>208</cp:revision>
  <dc:subject/>
  <dc:title>Radio Propagation</dc:title>
</cp:coreProperties>
</file>