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82600" y="3702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65280" y="1552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82600" y="3702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65280" y="3702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10600" y="1552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38240" y="1552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82600" y="3702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10600" y="3702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38240" y="3702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50FC-DC29-4C3F-850E-25861717F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D024-03F2-4496-ACD6-B74C1119A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0FAE-EC6E-4854-9161-02320C9A4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1552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E3AD-07D5-41A6-9533-81D095C49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94B7-8C24-40E1-8DBC-1FDEC34C3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150560" y="15192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3BA9-B231-4057-B8E9-FF3BB629B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1552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82600" y="3702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0323-3E22-4D6C-B913-9A0194E46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1552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165280" y="3702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CA33-EB10-43DA-92C6-19F3714F2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1552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3702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07F4-9762-4DE9-AAB7-0ACBBEABA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182600" y="3702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205A-4420-482F-A65E-968A3790B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65280" y="1552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182600" y="3702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165280" y="3702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5245-9D84-4EB6-9F42-5767B6872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810600" y="1552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438240" y="1552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182600" y="3702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810600" y="3702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438240" y="3702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9024-CD96-4A32-B02F-C926D4A01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65280" y="1552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50560" y="15192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1552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82600" y="3702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1552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65280" y="3702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1552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82600" y="3702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3324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0555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0555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98280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52560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3161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6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7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1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43778-BA1C-4216-A5C0-AE4773CDE8D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ntennas and Propa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pter 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Sky Wave Propa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600200" y="1981080"/>
            <a:ext cx="6172200" cy="33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Sky Wave Propa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al reflected from ionized layer of atmosphere back down to ear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al can travel a number of hops, back and forth between ionosphere and earth’s su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lection effect caused by refr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ateur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B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Line-of-Sight Propa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219320" y="2209680"/>
            <a:ext cx="6933960" cy="26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Line-of-Sight Propa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mitting and receiving antennas must be within 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tellite communication – signal above 30 MHz not reflected by ionosp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nd communication – antennas with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ffec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ine of site due to refr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raction – bending of microwaves by the atmosp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locity of electromagnetic wave is a function of the density of the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wave changes medium, speed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ve bends at the boundary between mediu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Line-of-Sight Equ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94920" y="1523880"/>
            <a:ext cx="7239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cal line of sigh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fective, or radio, line of sigh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distance between antenna and horizon (k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antenna height (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 = adjustment factor to account for refraction, rule of thumb K = 4/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200400" y="1905120"/>
                <a:ext cx="243828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h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2971800"/>
                <a:ext cx="280980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Κh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Line-of-Sight Equ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imum distance between two antennas for LOS propagat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height of antenna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height of antenna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2514600" y="2895480"/>
                <a:ext cx="396540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Κ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rad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Κ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LOS Wireless Transmission Impair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enuation and attenuation distor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e space lo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mospheric absor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mal no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ttenu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ngth of signal falls off with distance over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enuation factors for unguided medi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d signal must have sufficient strength so that circuitry in the receiver can interpret th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al must maintain a level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nuation is greater at higher frequencies, causing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Free Space Lo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e space loss, ideal isotropic antenn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signal power at transmitting antenn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signal power at receiving antenn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carrier waveleng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propagation distance between antenn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speed of light (» 3 ´ 10 8 m/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in the same units (e.g., meter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438280" y="2057400"/>
                <a:ext cx="4584960" cy="15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4</m:t>
                                </m:r>
                                <m:r>
                                  <m:t xml:space="preserve">πd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4</m:t>
                                </m:r>
                                <m:r>
                                  <m:t xml:space="preserve">π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fd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Free Space Lo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e space loss equation can be recas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1663560" y="2666880"/>
                <a:ext cx="391320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πd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182680" y="3809880"/>
                <a:ext cx="45529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λ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8</m:t>
                    </m:r>
                    <m:r>
                      <m:rPr>
                        <m:lit/>
                        <m:nor/>
                      </m:rPr>
                      <m:t xml:space="preserve"> d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182680" y="4495680"/>
                <a:ext cx="6550200" cy="90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fd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  <m:r>
                      <m:rPr>
                        <m:lit/>
                        <m:nor/>
                      </m:rPr>
                      <m:t xml:space="preserve"> d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ntenna is a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ctrical conductor or system of conduc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ssion - radiates electromagnetic energy into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ption - collects electromagnetic energy from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wo-way communication, the same antenna can be used for transmission and rece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Free Space Lo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e space loss accounting for gain of other antenn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gain of transmitting antenn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gain of receiving antenn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effective area of transmitting antenn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effective area of receiving antenn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1676520" y="2438280"/>
                <a:ext cx="6856200" cy="15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4</m:t>
                                </m:r>
                                <m:r>
                                  <m:t xml:space="preserve">π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d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λd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d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Free Space Lo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e space loss accounting for gain of other antennas can be recast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1676520" y="3048120"/>
                <a:ext cx="524484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λ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209680" y="3809880"/>
                <a:ext cx="644364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6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ategories of Noi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mal No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modulation no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tal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ulse Noi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Thermal Noi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mal noise due to agitation of electr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 in all electronic devices and transmission med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not be elimin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 of tempera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cularly significant for satellite commun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Thermal Noi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ount of thermal noise to be found in a bandwidth of 1Hz in any device or conductor i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noise power density in watts per 1 Hz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 = Boltzmann's constant = 1.3803 ´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J/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temperature, in kelvins (absolute temperatur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3235320" y="3048120"/>
                <a:ext cx="338616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T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W/Hz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Thermal Noi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e is assumed to be independent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mal noise present in a bandwidth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ertz (in watts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, in decibel-wat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809880" y="3200400"/>
                <a:ext cx="182880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T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905120" y="4419720"/>
                <a:ext cx="579096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rPr>
                        <m:lit/>
                        <m:nor/>
                      </m:rPr>
                      <m:t xml:space="preserve">k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 log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2325600" y="5029200"/>
                <a:ext cx="626760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2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 dBW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 log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Noise Terminolo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modulation noise – occurs if signals with different frequencies share the sam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ference caused by a signal produced at a frequency that is the sum or difference of original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osstalk – unwanted coupling between sign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ulse noise – irregular pulses or noise spik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rt duration and of relatively 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used by external electromagnetic disturbances, or faults and flaws in the communications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Expression </a:t>
            </a:r>
            <a:r>
              <a:rPr b="0" i="1" lang="en-US" sz="4400" spc="-1" strike="noStrike">
                <a:solidFill>
                  <a:srgbClr val="333399"/>
                </a:solidFill>
                <a:latin typeface="Times New Roman"/>
              </a:rPr>
              <a:t>E</a:t>
            </a:r>
            <a:r>
              <a:rPr b="0" i="1" lang="en-US" sz="4400" spc="-1" strike="noStrike" baseline="-25000">
                <a:solidFill>
                  <a:srgbClr val="333399"/>
                </a:solidFill>
                <a:latin typeface="Times New Roman"/>
              </a:rPr>
              <a:t>b</a:t>
            </a: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/</a:t>
            </a:r>
            <a:r>
              <a:rPr b="0" i="1" lang="en-US" sz="4400" spc="-1" strike="noStrike">
                <a:solidFill>
                  <a:srgbClr val="333399"/>
                </a:solidFill>
                <a:latin typeface="Times New Roman"/>
              </a:rPr>
              <a:t>N</a:t>
            </a:r>
            <a:r>
              <a:rPr b="0" i="1" lang="en-US" sz="4400" spc="-1" strike="noStrike" baseline="-25000">
                <a:solidFill>
                  <a:srgbClr val="333399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io of signal energy per bit to noise power density per Hert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it error rate for digital data is a functio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chieve a desired error rate, parameters of this formula can be sel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bit 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s, transmitted signal power must increase to maintain requir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276720" y="2438280"/>
                <a:ext cx="2865240" cy="10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Other Impair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mospheric absorption – water vapor and oxygen contribute to atten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ath – obstacles reflect signals so that multiple copies with varying delays are receiv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raction – bending of radio waves as they propagate through the atmosphe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Multipath Propa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7772400" cy="54799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838080" y="5943600"/>
            <a:ext cx="7315200" cy="6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Radiation Patter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iation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phical representation of radiation properties of an anten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icted as two-dimensional cross s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am width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or half-power beam width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e of directivity of anten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ption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ing antenna’s equivalent to radiation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Multipath Propa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lection - occurs when signal encounters a surface that is large relative to the wavelength of th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raction - occurs at the edge of an impenetrable body that is large compared to wavelength of radio 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attering – occurs when incoming signal hits an object whose size in the order of the wavelength of the signal or 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The Effects of Multipath Propa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e copies of a signal may arrive at different ph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phases add destructively, the signal level relative to noise declines, making detection more difficu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symbol interference (ISI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or more delayed copies of a pulse may arrive at the same time as the primary pulse for a subsequent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Types of Fad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t fa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ow fa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at fa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ive fa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yleigh fa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cian fa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Error Compensation Mechanis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ward error corr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aptive equ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ersity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Forward Error Corre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mitter adds error-correcting code to data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a function of the data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r calculates error-correcting code from incoming data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calculated code matches incoming code, no error occu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error-correcting codes don’t match, receiver attempts to determine bits in error and corr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daptive Equal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applied to transmissions that carry analog or digital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og voice 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gital data, digitized voice 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combat intersymbol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olves gathering dispersed symbol energy back into its original tim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mped analog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phisticated digital signal process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Diversity Techniq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ersity is based on the fact that individual channels experience independent fading ev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ace diversity – techniques involving physical transmission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quency diversity – techniques where the signal is spread out over a larger frequency bandwidth or carried on multiple frequency carr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 diversity – techniques aimed at spreading the data out over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Types of Antenn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otropic antenna (idealiz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iates power equally in all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pole antenn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f-wave dipole antenna (or Hertz antenn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rter-wave vertical antenna (or Marconi antenn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bolic Reflective Antenn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ntenna Gain</a:t>
            </a: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tenna g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wer output, in a particular direction, compared to that produced in any direction by a perfect omnidirectional antenna (isotropic antenn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fective ar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ed to physical size and shape of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ntenna G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ship between antenna gain and effectiv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antenna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effective ar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carrier frequ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 = speed of light (» 3 ´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/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carrier waveleng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819520" y="2514600"/>
                <a:ext cx="331128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b>
                          <m:e>
                            <m:r>
                              <m:t xml:space="preserve">πA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πf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opagation Mod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nd-wave propa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ky-wave propa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e-of-sight propa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400800" y="1752480"/>
            <a:ext cx="1447920" cy="1414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Ground Wave Propa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371600" y="2057400"/>
            <a:ext cx="6248520" cy="30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Ground Wave Propa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llows contour of the ear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Propagate considerable dista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ies up to 2 MH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6T21:48:38Z</dcterms:created>
  <dc:creator>Thomas Fronckowiak Jr.</dc:creator>
  <dc:description/>
  <dc:language>en-US</dc:language>
  <cp:lastModifiedBy>Thomas Fronckowiak</cp:lastModifiedBy>
  <dcterms:modified xsi:type="dcterms:W3CDTF">2001-05-22T06:02:54Z</dcterms:modified>
  <cp:revision>50</cp:revision>
  <dc:subject/>
  <dc:title>Wireless Communications and Networks</dc:title>
</cp:coreProperties>
</file>