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698-AF3A-4938-B290-B10C3CDA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001-AD4B-4DBB-9C7D-267C9DD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F79-8DED-42AA-8FE9-3F0DC5AC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712-798F-452A-A4BD-0CACD80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376-B452-422C-8F45-F0CA5E1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ED6-9DAB-48AD-9A92-AF2AA77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AC3-7169-41D2-93AE-B93B2C2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A40-DACF-427A-94C2-6167DA6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503-9781-4171-9366-2AB14E8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C88-1959-4489-8E4B-E381D2B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4D5-3676-4BBC-B219-92BC51A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A50-B670-4599-BE72-5EBA2BC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0D3-62C2-4ACE-9DD8-7572F7244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ECE 5014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wave Antenna and Radio Wave Propaga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ed b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w Zin Mar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t:of Ec &amp; 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.T.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8.200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D83-2940-45A3-9BED-F0E993954A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carefully the constructional details are followed, a slight readjustment of the dimensions will be necessary to improve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al advantage of delta-matched feed system, which employs a balanced transmission line, is that the radiation from the line is kept at a minimum at the frequency for which it was de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type of antenna feed, therefore, two transmitters can be operated simultaneously on adjacent frequency without detrimental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6D4-A70C-4B36-8DD7-D098B166F5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-GUID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accomplished by means of two resonant windows formed by a capacitive iris and an inductive i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window is broadly resonant in much the same manner as a large-diameter dipole, and the feed is matched by means of a capacitive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is essentially a low-impedance device, and since the wave guide used for transmission operates at a higher impedance, a matching section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ching section depends upon whether broad-band or narrow-band characteristics ar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83C-BBFE-49A7-A7FB-DAEA4C27A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FICIAL-LINE MATCH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simplest methods of coupling a transmission line to an antenna at low, medium, or high frequencies is by the use of an artificial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per design of this type of coupling network, a wide range of transmission line impedances can be coupled to any range of antenna input impedances in a narrow band of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an artificial line over the various type of matching stubs previously mentioned is that the components can be lumped and built  into a small weather-proofed enclosure and mounted at the antenna input; thus, it has negligible effect on the field radiation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6CD-E32C-467D-A7E1-CFEBA9224D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ing network acts to cancel out the reactive components that would  exist if the transmission lines were coupled directly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network must contain inductive and capacitive reactances of the proper values to make the antenna appear to the line as a pure resistance equal in value to the characteristic impedanc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inductance and capacity required can be found by calculation, if the antenna input impedance and transmission-line characteristic impedance are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BFB-364C-444B-A9FF-930850C649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ctive reactance can be found by the formul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417920"/>
                <a:ext cx="28195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09680" y="990720"/>
                <a:ext cx="3886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5621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ntenna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mission-line characteristic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ive reactance can be found by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791-8CCF-43AF-9B62-70A6EFFF1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Thank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843-09B1-411C-9490-B03CE8DD20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AT THE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ffect the maximum transfer of power the transmission line must be attached to the antenna in such a manner that its impedance sees an equivalent impedance at the point where 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FE7-2507-4EF2-8041-7BB1A4F0C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WITH RESONAN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onant line is connected to an antenna at the highest or lowest impedance point, that is, at the voltage or current loop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ovides comparatively efficient transfer of power if its length is limited to one wav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of feeding a half-wave antenna with resonan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Half-wave length of resonant line connected directly to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series tuned circuit, which has a low impedance at reson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, which is approximately 73 ohms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8E2-FA28-41BF-BAD4-650A72B39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half wave length of a resonant line connected directly to the end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parallel-tuned circuit, which has a high impedance at reso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dance of approximately 2500 ohms exists at the end of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er-fed and an end-fed half-wave antenna, using quarter-wave tuned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er-fed half-wave antenna, has a parallel-tuned circuit, at the transmitter end of the feed line, which develops a high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load or the center of the antenna which is a quarter wave length away sees a low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-fed antenna has a series-tuned or low-impedance circuit at the transmitter end of its feed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1CA-AB84-40E9-87CC-A968C702E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 quarter-wave line inverts the impedance, the end of the antenna looking into the line sees a high impedance and, therefore, an approximate match i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the tuned-line system, when a half or quarter wave length line is used, is that the length of the line may vary as much as 20% from the calculated length for the antenna resonant frequency and still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t or non-resonant condition of a transmission line is a direct function of the degree of mismatch between the antenna and the transmission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tanding-wave ratio of 1.5 to 1 is obtained, for all practical purposes the feed line approaches a non-resonant cond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F3D-0D59-447B-8D70-7D29A637F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WIR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simplicity of adjustment and ease of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ne is properly terminated at the antenna, it can be extended to any reasonabl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system should be employed only when the site has a moist or highly conductive ground, because the capacity of the antenna to ground acts as the return path for the radio-frequency currents flowing in the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13A-9090-43E5-A48D-1739CBD860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ED-PAIR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ed system is easy to install and has a low r-f potential due to its low impedance , but it is the least desirable type of non-resonant feed system from an efficiency stand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wisted-pair feeder approximates 70 ohms, it may be used to feed the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isted-pair line is not weather-proofed, it is practically useless for damp-weather conditions and should be used only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D2A-5749-4887-86A5-D3D8121F4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XIAL-CABL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axial cable connected to the center of a half-wave antenna; this type of feed system finds universal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this system lies in the fact that the low impedance of the cable matches the low impedance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xial cable can be used also for feeding an antenna array, provided that a matching system is used between the antenna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4D3-85F5-474D-A5DF-1E41A4A0A3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TA-MATCHED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impedance of the transmission line is too high to match by direct attachment of the line to the center of the antenna, an impedance-transformation method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dance of the transmission line is gradually transformed into a higher value equal to the impedance encountered at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disadvantage of this type of feed system is the critical nature of the dimension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75D-38D0-4C73-AA22-707FC84D3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0:54:34Z</dcterms:created>
  <dc:creator>Santhit</dc:creator>
  <dc:description/>
  <dc:language>en-US</dc:language>
  <cp:lastModifiedBy>User</cp:lastModifiedBy>
  <dcterms:modified xsi:type="dcterms:W3CDTF">2008-08-27T14:28:06Z</dcterms:modified>
  <cp:revision>29</cp:revision>
  <dc:subject/>
  <dc:title>ECE 5014  Microwave Antenna and Radio Wave Propagation  Daw Zin Mar Oo  28.8.2008 </dc:title>
</cp:coreProperties>
</file>