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D8B-8AE1-4A08-817D-20631786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459-184D-45C6-A3A1-F71214E0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B73-8686-4BCF-B95B-8330FCF9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9C7-8B2B-4A8F-93FA-9D69C066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6FD-B053-4539-A8FA-8E943DCA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BB1-3AD7-4EBC-AB73-62F87AEA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EB1-B7EF-47D2-B2A0-AB44027B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730-C92D-4BD5-B2B1-285CE6C9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CA4-D281-47D2-B169-FACF26D6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DA6-3F50-48C2-9D88-BC23304B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566-A9C0-4D1A-94C6-197F51B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B8D-FCD3-4876-ABE4-3D88E507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49DC-A365-44FF-B245-CC64BEFA8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ECE 5014 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wave Antenna and Radio Wave Propagatio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ed by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w Zin Mar O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t:of Ec &amp; 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.T.U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.8.200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9557-33C0-4318-963A-23D2917A3F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tter how carefully the constructional details are followed, a slight readjustment of the dimensions will be necessary to improve effic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al advantage of delta-matched feed system, which employs a balanced transmission line, is that the radiation from the line is kept at a minimum at the frequency for which it was des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type of antenna feed, therefore, two transmitters can be operated simultaneously on adjacent frequency without detrimental interfer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B56-2ED5-4990-9F45-467CCE5379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VE-GUID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is accomplished by means of two resonant windows formed by a capacitive iris and an inductive i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window is broadly resonant in much the same manner as a large-diameter dipole, and the feed is matched by means of a capacitive stu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feed is essentially a low-impedance device, and since the wave guide used for transmission operates at a higher impedance, a matching section must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ching section depends upon whether broad-band or narrow-band characteristics are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EAE-B9D4-4999-9DBE-FF4BE6B3BE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RIFICIAL-LINE MATCH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simplest methods of coupling a transmission line to an antenna at low, medium, or high frequencies is by the use of an artificial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roper design of this type of coupling network, a wide range of transmission line impedances can be coupled to any range of antenna input impedances in a narrow band of frequ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antage of an artificial line over the various type of matching stubs previously mentioned is that the components can be lumped and built  into a small weather-proofed enclosure and mounted at the antenna input; thus, it has negligible effect on the field radiation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A05-22A3-4AED-8E81-1DA0D95414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pling network acts to cancel out the reactive components that would  exist if the transmission lines were coupled directly to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network must contain inductive and capacitive reactances of the proper values to make the antenna appear to the line as a pure resistance equal in value to the characteristic impedanc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s of inductance and capacity required can be found by calculation, if the antenna input impedance and transmission-line characteristic impedance are kn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375-CCB6-4B01-9A54-5390741302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uctive reactance can be found by the formula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66880" y="4417920"/>
                <a:ext cx="28195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09680" y="990720"/>
                <a:ext cx="38862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25621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ntenna input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mission-line characteristic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ive reactance can be found by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B38-05F3-4CCD-94EC-DE8653CCC2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00200" y="190512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Impact"/>
              </a:rPr>
              <a:t>Thank Yo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577-34BD-496C-B55E-BCB62E3B0D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OF FEED AT THE ANT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effect the maximum transfer of power the transmission line must be attached to the antenna in such a manner that its impedance sees an equivalent impedance at the point where 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205-AD20-4D06-89BD-EB7FB8C863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OF FEED WITH RESONAN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onant line is connected to an antenna at the highest or lowest impedance point, that is, at the voltage or current loop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provides comparatively efficient transfer of power if its length is limited to one wave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ethods of feeding a half-wave antenna with resonant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Half-wave length of resonant line connected directly to center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ransmitter end of the line is a series tuned circuit, which has a low impedance at reson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ad, which is approximately 73 ohms at the center of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41F-B050-46E5-A0B8-171E77FAAF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A half wave length of a resonant line connected directly to the end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ransmitter end of the line is a parallel-tuned circuit, which has a high impedance at reson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edance of approximately 2500 ohms exists at the end of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anten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nter-fed and an end-fed half-wave antenna, using quarter-wave tuned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ter-fed half-wave antenna, has a parallel-tuned circuit, at the transmitter end of the feed line, which develops a high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load or the center of the antenna which is a quarter wave length away sees a low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-fed antenna has a series-tuned or low-impedance circuit at the transmitter end of its feed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B5B-191E-402F-BEB8-AB7AC4AF90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 quarter-wave line inverts the impedance, the end of the antenna looking into the line sees a high impedance and, therefore, an approximate match is ob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dvantage of the tuned-line system, when a half or quarter wave length line is used, is that the length of the line may vary as much as 20% from the calculated length for the antenna resonant frequency and still operate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t or non-resonant condition of a transmission line is a direct function of the degree of mismatch between the antenna and the transmission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tanding-wave ratio of 1.5 to 1 is obtained, for all practical purposes the feed line approaches a non-resonant cond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F02-E3B2-4860-9F26-B8118E54D6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-WIR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of simplicity of adjustment and ease of constru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line is properly terminated at the antenna, it can be extended to any reasonable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feed system should be employed only when the site has a moist or highly conductive ground, because the capacity of the antenna to ground acts as the return path for the radio-frequency currents flowing in the anten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F4D-723F-42D0-BA2F-B254935226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ISTED-PAIR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eed system is easy to install and has a low r-f potential due to its low impedance , but it is the least desirable type of non-resonant feed system from an efficiency stand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twisted-pair feeder approximates 70 ohms, it may be used to feed the center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wisted-pair line is not weather-proofed, it is practically useless for damp-weather conditions and should be used only for emerg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CE2-1C58-4251-8D92-A20389B91D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XIAL-CABL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axial cable connected to the center of a half-wave antenna; this type of feed system finds universal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antage of this system lies in the fact that the low impedance of the cable matches the low impedance at the center of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axial cable can be used also for feeding an antenna array, provided that a matching system is used between the antenna and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67E-BC61-404B-A8EC-78344BE8E5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TA-MATCHED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acteristic impedance of the transmission line is too high to match by direct attachment of the line to the center of the antenna, an impedance-transformation method must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edance of the transmission line is gradually transformed into a higher value equal to the impedance encountered at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 disadvantage of this type of feed system is the critical nature of the dimensions invol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966-B743-42FE-B22C-1DB7AC6108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20:54:34Z</dcterms:created>
  <dc:creator>Santhit</dc:creator>
  <dc:description/>
  <dc:language>en-US</dc:language>
  <cp:lastModifiedBy>User</cp:lastModifiedBy>
  <dcterms:modified xsi:type="dcterms:W3CDTF">2008-08-27T14:28:06Z</dcterms:modified>
  <cp:revision>29</cp:revision>
  <dc:subject/>
  <dc:title>ECE 5014  Microwave Antenna and Radio Wave Propagation  Daw Zin Mar Oo  28.8.2008 </dc:title>
</cp:coreProperties>
</file>