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542-7453-407B-B996-29D032BA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996-273B-41B1-AD72-EA5A876B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6D3-843C-49A6-B698-8896D188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3A4-24AF-4EE0-8A51-6A979040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0FE-E79A-436E-BF29-00F78D13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7B8-E6B8-4667-97EB-50BEE502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046-30F2-4DCF-AEAC-3748DC8C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0FE-A49C-4DBD-B3EE-C1A214B6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FD9-1C32-4BF0-A0F1-79F4CE2E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497-BE93-4110-B998-B6613EDA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5C0-B848-4FC2-AC3D-2A347D41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6C4-B522-4139-9E3F-6CE9ED24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C70F-9463-4C7A-9B05-BB54A9C5F0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s and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reflected from ionized layer of atmosphere back down to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can travel a number of hops, back and forth between ionosphere and earth’s su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effect caused by ref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teur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9339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ing and receiving antennas must be within 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 communication – signal above 30 MHz not reflected by ionosp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communication – antennas with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 of site due to ref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ion – bending of microwaves by the atmosp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of electromagnetic wave is a function of the density of the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ve changes medium, speed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bends at the boundary between medi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, or radio,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istance between antenna and horizon (k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ntenna height (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adjustment factor to account for refraction, rule of thumb K = 4/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00400" y="1905120"/>
                <a:ext cx="2438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2971800"/>
                <a:ext cx="28098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distance between two antennas for LOS propag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514600" y="2895480"/>
                <a:ext cx="3965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OS Wireless Transmission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uation and attenuation disto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en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 of signal falls off with distance over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uation factors for unguided med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signal must have sufficient strength so that circuitry in the receiver can interpret th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must maintain a level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uation is greater at higher frequencies, causing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loss, ideal isotropic anten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ignal power at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ignal power at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opagation distance between anten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peed of light (» 3 ´ 10 8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in the same units (e.g., mete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38280" y="2057400"/>
                <a:ext cx="458496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equation can be reca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63560" y="2666880"/>
                <a:ext cx="39132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182680" y="3809880"/>
                <a:ext cx="45529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182680" y="4495680"/>
                <a:ext cx="65502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d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ntenna is 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conductor or system of condu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- radiates electromagnetic energy into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 - collects electromagnetic energy from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wo-way communication, the same antenna can be used for transmission and re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ain of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ain of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ffective area of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ffective area of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676520" y="2438280"/>
                <a:ext cx="6856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 can be recast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3048120"/>
                <a:ext cx="5244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09680" y="3809880"/>
                <a:ext cx="644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ategories of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odulation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 due to agitation of elect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n all electronic devices and transmission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elimin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of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ularly significant for satellit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unt of thermal noise to be found in a bandwidth of 1Hz in any device or conductor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oise power density in watts per 1 Hz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Boltzmann's constant = 1.3803 ´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/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emperature, in kelvins (absolute temperat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235320" y="3048120"/>
                <a:ext cx="3386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/H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 assumed to be independent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 noise present in a bandwid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tz (in watt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in decibel-wat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9880" y="3200400"/>
                <a:ext cx="1828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T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905120" y="4419720"/>
                <a:ext cx="5790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325600" y="5029200"/>
                <a:ext cx="6267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dB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oise 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odulation noise – occurs if signals with different frequencies share the sam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erence caused by a signal produced at a frequency that is the sum or difference of original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talk – unwanted coupling between sign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 noise – irregular pulses or noise spi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duration and of relatively 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external electromagnetic disturbances, or faults and flaws in the communications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pression 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of signal energy per bit to noise power density per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t error rate for digital data i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hieve a desired error rate, parameters of this formula can be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it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transmitted signal power must increase to maintain requir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276720" y="2438280"/>
                <a:ext cx="28652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 – water vapor and oxygen contribute to atten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 – obstacles reflect signals so that multiple copies with varying delays are rece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 – bending of radio waves as they propagate through the atmosp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479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3152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adiation Patter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representation of radiation properties of an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icted as two-dimensional cross s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wid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 half-power beam widt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of directivity of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antenna’s equivalent to radiatio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- occurs when signal encounters a surface that is large relative to the wavelength of th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raction - occurs at the edge of an impenetrable body that is large compared to wavelength of radio 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ttering – occurs when incoming signal hits an object whose size in the order of the wavelength of the signal or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Effects of 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copies of a signal may arrive at different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hases add destructively, the signal level relative to noise declines, making detection more diffic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ymbol interference (IS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delayed copies of a pulse may arrive at the same time as the primary pulse for a subsequent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F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leigh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ian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mpensation Mechanis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equ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ty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Error Corr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 adds error-correcting code to data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a function of the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calculates error-correcting code from incoming data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culated code matches incoming code, no error occu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rror-correcting codes don’t match, receiver attempts to determine bits in error and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aptive Equ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pplied to transmissions that carry analog or digital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data, digitized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combat intersymbol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gathering dispersed symbol energy back into its original tim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ped analog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phisticated digital signal process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versity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ty is based on the fact that individual channels experience independent fading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 diversity – techniques involving physical transmiss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iversity – techniques where the signal is spread out over a larger frequency bandwidth or carried on multiple frequency 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diversity – techniques aimed at spreading the data out over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Anten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tropic antenna (idealiz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es power equally in all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ole anten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f-wave dipole antenna (or Hertz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vertical antenna (or Marconi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bolic Reflective Anten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nna g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utput, in a particular direction, compared to that produced in any direction by a perfect omnidirectional antenna (isotropic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o physical size and shape of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between antenna gain and effectiv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ntenna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effectiv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speed of light (» 3 ´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19520" y="2514600"/>
                <a:ext cx="33112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agation M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-of-sigh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447920" cy="141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62485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ntour of the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opagate considerable di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ies up to 2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Thomas Fronckowiak</cp:lastModifiedBy>
  <dcterms:modified xsi:type="dcterms:W3CDTF">2001-05-22T06:02:54Z</dcterms:modified>
  <cp:revision>50</cp:revision>
  <dc:subject/>
  <dc:title>Wireless Communications and Networks</dc:title>
</cp:coreProperties>
</file>