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59C2-848B-463B-BF5D-B89B5F7B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665-16CD-45AE-81D0-EBBA4439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674-F9B9-4214-817F-C423D316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1597-8C1B-40D0-94A9-15EE822A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5D1E-F5F6-46F8-B324-30C280BD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68D-92A3-4839-BA98-B1BA0329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508-0971-4385-8E3F-B1725602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9A3C-9259-4A6B-88AA-1996727D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1CC-35DB-426C-9ACE-C54DACFD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4546-F947-48C2-8D56-D931F91C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1FE4-4A7C-4C7E-80D8-F5379470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E64F-2120-4D3B-918E-CAB3E9D3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F34F-1B09-4225-9DE1-BBC0F81D21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95280" y="260280"/>
            <a:ext cx="727236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Network Setup on Additional Comput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fter setting up the network on one computer, you can continue with the next computer. You two alternatives: you can use the same network wizard or you can use the setup disk you would have cre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o setup the network on the other computer(s) that will be part of your network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Practical Learning: Connecting Additional Comput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On the next computer, click Start -&gt; Network Plac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Under Network Tasks, click Set Up A Home Or Office Network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n the first page of the wizard, read the text and click Next</a:t>
            </a:r>
            <a:br>
              <a:rPr sz="1600"/>
            </a:b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networkwiz1"/>
          <p:cNvPicPr/>
          <p:nvPr/>
        </p:nvPicPr>
        <p:blipFill>
          <a:blip r:embed="rId1"/>
          <a:stretch/>
        </p:blipFill>
        <p:spPr>
          <a:xfrm>
            <a:off x="1763640" y="2711520"/>
            <a:ext cx="53294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networkwiz2"/>
          <p:cNvPicPr/>
          <p:nvPr/>
        </p:nvPicPr>
        <p:blipFill>
          <a:blip r:embed="rId1"/>
          <a:stretch/>
        </p:blipFill>
        <p:spPr>
          <a:xfrm>
            <a:off x="0" y="0"/>
            <a:ext cx="874872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networkwiz20"/>
          <p:cNvPicPr/>
          <p:nvPr/>
        </p:nvPicPr>
        <p:blipFill>
          <a:blip r:embed="rId1"/>
          <a:stretch/>
        </p:blipFill>
        <p:spPr>
          <a:xfrm>
            <a:off x="0" y="0"/>
            <a:ext cx="874872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networkwiz21"/>
          <p:cNvPicPr/>
          <p:nvPr/>
        </p:nvPicPr>
        <p:blipFill>
          <a:blip r:embed="rId1"/>
          <a:stretch/>
        </p:blipFill>
        <p:spPr>
          <a:xfrm>
            <a:off x="0" y="0"/>
            <a:ext cx="845964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networkwiz22"/>
          <p:cNvPicPr/>
          <p:nvPr/>
        </p:nvPicPr>
        <p:blipFill>
          <a:blip r:embed="rId1"/>
          <a:stretch/>
        </p:blipFill>
        <p:spPr>
          <a:xfrm>
            <a:off x="0" y="0"/>
            <a:ext cx="853272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networkwiz23"/>
          <p:cNvPicPr/>
          <p:nvPr/>
        </p:nvPicPr>
        <p:blipFill>
          <a:blip r:embed="rId1"/>
          <a:stretch/>
        </p:blipFill>
        <p:spPr>
          <a:xfrm>
            <a:off x="0" y="0"/>
            <a:ext cx="867564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networkwiz14"/>
          <p:cNvPicPr/>
          <p:nvPr/>
        </p:nvPicPr>
        <p:blipFill>
          <a:blip r:embed="rId1"/>
          <a:stretch/>
        </p:blipFill>
        <p:spPr>
          <a:xfrm>
            <a:off x="0" y="0"/>
            <a:ext cx="860436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networkwiz15"/>
          <p:cNvPicPr/>
          <p:nvPr/>
        </p:nvPicPr>
        <p:blipFill>
          <a:blip r:embed="rId1"/>
          <a:stretch/>
        </p:blipFill>
        <p:spPr>
          <a:xfrm>
            <a:off x="0" y="0"/>
            <a:ext cx="87487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5:30:59Z</dcterms:created>
  <dc:creator>ukyawnaing</dc:creator>
  <dc:description/>
  <dc:language>en-US</dc:language>
  <cp:lastModifiedBy>ukyawnaing</cp:lastModifiedBy>
  <dcterms:modified xsi:type="dcterms:W3CDTF">2012-10-11T05:34:42Z</dcterms:modified>
  <cp:revision>1</cp:revision>
  <dc:subject/>
  <dc:title>Slide 1</dc:title>
</cp:coreProperties>
</file>