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EC28-08F5-4A0D-9A0D-2F90A3E76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90D7-92F2-4531-B312-4408EE127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892F-1FE0-42A2-88E9-B23BF0D22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0534-67C5-49CA-9188-E974BD1CB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ED3D3-BBA5-4F9A-B0B5-7A40DA2E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913D6-1C54-4EBD-B4A6-C5B964DB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B96D0-5B1D-4629-9E45-473009E2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2FA58-74AA-4C1A-A920-11C0F9A3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75E6C-9C5F-48E1-9D8A-B6314931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11766-3CE8-49FA-8B39-F50192A0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93237-5ED7-4858-A04D-3B2B13B3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B828-3E81-4448-89D4-8EE64AFB2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9E31F-EBE9-4445-9490-7C851F64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EAE31-CBBE-4ABF-AE72-4F0F03A0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81A33-B8F4-4315-B722-12016E59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6156E-621A-4488-8691-EE74E125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0EFFA-E2C4-49FD-98F5-DEA2F892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D148-C5B0-4BD3-AB23-B018D6740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03DA-564A-4B19-ABF4-21441C941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1FF7-7789-4691-86A3-E16727BE2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55B2-129A-4509-A278-F7740EC39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1131-5A93-433D-AC53-D3E874203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1E91-7A0B-4DB5-8E40-9F42EFD39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47B7-BE49-466D-903A-1E77AD01D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5.</a:t>
            </a:r>
            <a:fld id="{75CAE34B-EB8C-4F15-B455-D07B4B1E6302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8F01-8CF2-470B-A02C-E270274BE7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14600"/>
            <a:ext cx="685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og 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D1FC-FB48-496E-BF6A-488F16C07B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3120" y="76212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equency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8839080" cy="43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96EF-655D-4FB5-A50C-EFC868F342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3120" y="762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M band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47840" y="3089160"/>
            <a:ext cx="7934040" cy="11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C987-5576-4518-AFE6-53A33980CE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ase Modulation (PM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ting signal only changes the phase of the carrier sig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hase change manifests itself as a frequency change but the instantaneous frequency change is proportional to the derivative of the amplitu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andwidth is higher than for AM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E48C-9B4A-4804-88FD-3AC6E7DB3A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3120" y="76212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2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hase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3360" y="1600200"/>
            <a:ext cx="8775720" cy="417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581F-8ABD-4076-BDA3-CA73B72BAB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36232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8640" y="502920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360" y="2454120"/>
            <a:ext cx="8077320" cy="308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otal bandwidth required for PM can be determined from the bandwid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maximum amplitude of the modulating signal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(1 + β)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 most of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7200" y="1752480"/>
            <a:ext cx="1143000" cy="567000"/>
            <a:chOff x="457200" y="1752480"/>
            <a:chExt cx="1143000" cy="56700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1143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92200" y="175248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FFD7-CC0F-457C-855D-0573AF897F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120" y="406440"/>
            <a:ext cx="60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2   ANALOG AND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38456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alog-to-analog conversion is the representation of analog information by an analog signal. One may ask why we need to modulate an analog signal; it is already analog. Modulation is needed if the medium is bandpass in nature or if only a bandpass channel is available to 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mplitude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Frequency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Phase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488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27E6-6B96-4808-897D-537C41C6E8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6640" y="762120"/>
            <a:ext cx="58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ypes of analog-to-analog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5200" y="2486160"/>
            <a:ext cx="8391600" cy="216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9A35-9418-4FA9-9DE8-F6A2A5ABA8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rrier signal is modulated only in amplitude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ating signal is the envelope of the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quired bandwidth is 2B, where B is the bandwidth of the modulatin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on both sides of the carrier freq.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 spectrum is identical, we can discard one half, thus requiring a smaller bandwidth for transmis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4F01-A41B-42F1-A8C2-BC91443E0F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3120" y="762120"/>
            <a:ext cx="41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9920" y="1763640"/>
            <a:ext cx="8821800" cy="395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F2EF-1E85-4EA4-BE7F-FF55330A01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54808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8640" y="529128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360" y="2685960"/>
            <a:ext cx="8077320" cy="2598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otal bandwidth required for A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be determ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bandwidth of the audi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l: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A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1905120"/>
            <a:ext cx="1143000" cy="566640"/>
            <a:chOff x="457200" y="1905120"/>
            <a:chExt cx="1143000" cy="5666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57200" y="190512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92200" y="19051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5AA9-8C12-4441-A3E0-321D481451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3120" y="762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M band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3246480"/>
            <a:ext cx="6919920" cy="109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4D14-2012-463C-848B-B2E28FC13B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equency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ting signal changes the freq.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the carrier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andwidth for FM is hi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pprox. 10x the signal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13B9-8BD4-4C73-8CB0-4F26F1C24E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97180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8640" y="472428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60" y="3063960"/>
            <a:ext cx="8077320" cy="21110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otal bandwidth required for FM can be determined from the bandwid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audio signal: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F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(1 + β)B. Wher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usually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57200" y="2362320"/>
            <a:ext cx="1143000" cy="566640"/>
            <a:chOff x="457200" y="2362320"/>
            <a:chExt cx="1143000" cy="56664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457200" y="236232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92200" y="23623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01AF-B88F-45B8-A89D-2DB24BFA2A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Magda El Zarki</cp:lastModifiedBy>
  <dcterms:modified xsi:type="dcterms:W3CDTF">2007-11-06T07:41:57Z</dcterms:modified>
  <cp:revision>154</cp:revision>
  <dc:subject/>
  <dc:title>PowerPoint Presentation</dc:title>
</cp:coreProperties>
</file>