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2AC-1D6A-43C0-A609-76071363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E4A-B5EF-453F-9845-5FFB9BE9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42E-BD95-4A17-85EB-649EC6FA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EE9-2B1D-455F-9961-9697917A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A9E-29AD-4136-95B4-6EABC124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2FC-E346-469B-9515-63168618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F44-C190-4819-95BD-20F6A92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E23-71D9-447A-987F-B8BDBAF9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86D-911A-4446-8D54-90A165C3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EB1-17EF-4641-9237-380DC0F9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9D7-EE0A-4E58-BA87-E4034EDA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DE3-4ECF-43B4-9704-B038446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B722-70B4-419C-989E-4AEA99770D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71600" y="33336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712440" y="768960"/>
            <a:ext cx="713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hub is rectangular box that is used as the central object on which computer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devices are connect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o make this possible, a hub is equipped with small holes called por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ere is an example of a hub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ub1"/>
          <p:cNvPicPr/>
          <p:nvPr/>
        </p:nvPicPr>
        <p:blipFill>
          <a:blip r:embed="rId1"/>
          <a:stretch/>
        </p:blipFill>
        <p:spPr>
          <a:xfrm>
            <a:off x="2195640" y="2133720"/>
            <a:ext cx="30970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8520" y="37893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Routers: Wired or Wirel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router2"/>
          <p:cNvPicPr/>
          <p:nvPr/>
        </p:nvPicPr>
        <p:blipFill>
          <a:blip r:embed="rId2"/>
          <a:stretch/>
        </p:blipFill>
        <p:spPr>
          <a:xfrm>
            <a:off x="2268360" y="4797360"/>
            <a:ext cx="33530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770760" y="4150800"/>
            <a:ext cx="795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ike a hub, a router is another type of device that acts as the central point among compute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nd other devices that are part of a network. Here is an example of a wired route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2:00Z</dcterms:created>
  <dc:creator>ukyawnaing</dc:creator>
  <dc:description/>
  <dc:language>en-US</dc:language>
  <cp:lastModifiedBy>ukyawnaing</cp:lastModifiedBy>
  <dcterms:modified xsi:type="dcterms:W3CDTF">2012-10-11T04:45:08Z</dcterms:modified>
  <cp:revision>1</cp:revision>
  <dc:subject/>
  <dc:title>Slide 1</dc:title>
</cp:coreProperties>
</file>