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B39D-1323-4416-B6E0-17ADEAAFB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00AD-1098-40BA-9B66-6E0FFF03A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3A9B-7E86-4F58-ACF2-94E3B7268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F999-516D-45E1-A44C-E57A84164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C681-EE9C-4944-98F1-7C24D2F52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C88D-C1CF-428D-AFA7-F043C6B6A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9D3F-BD51-4596-AE3B-7264D43F9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DDEB-8198-4055-8F3C-CD94D8CFF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CE21-638D-4F6C-9968-611498D95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DF63-063D-4C01-BA95-0E87F0296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D8A4-2A30-4509-B089-C6448B2AB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2B20-1846-4924-8FE1-D05EA3655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E5039-2618-4411-86F3-F2AF49BABE6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471600" y="333360"/>
            <a:ext cx="56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0000"/>
                </a:solidFill>
                <a:latin typeface="Calibri"/>
              </a:rPr>
              <a:t>Hu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1"/>
          <p:cNvSpPr/>
          <p:nvPr/>
        </p:nvSpPr>
        <p:spPr>
          <a:xfrm>
            <a:off x="712440" y="768960"/>
            <a:ext cx="7130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A hub is rectangular box that is used as the central object on which computers and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other devices are connected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To make this possible, a hub is equipped with small holes called ports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Here is an example of a hub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hub1"/>
          <p:cNvPicPr/>
          <p:nvPr/>
        </p:nvPicPr>
        <p:blipFill>
          <a:blip r:embed="rId1"/>
          <a:stretch/>
        </p:blipFill>
        <p:spPr>
          <a:xfrm>
            <a:off x="2195640" y="2133720"/>
            <a:ext cx="3097080" cy="13716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6"/>
          <p:cNvSpPr/>
          <p:nvPr/>
        </p:nvSpPr>
        <p:spPr>
          <a:xfrm>
            <a:off x="398520" y="3789360"/>
            <a:ext cx="27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0000"/>
                </a:solidFill>
                <a:latin typeface="Calibri"/>
              </a:rPr>
              <a:t>Routers: Wired or Wirel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3" descr="router2"/>
          <p:cNvPicPr/>
          <p:nvPr/>
        </p:nvPicPr>
        <p:blipFill>
          <a:blip r:embed="rId2"/>
          <a:stretch/>
        </p:blipFill>
        <p:spPr>
          <a:xfrm>
            <a:off x="2268360" y="4797360"/>
            <a:ext cx="3353040" cy="18860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4"/>
          <p:cNvSpPr/>
          <p:nvPr/>
        </p:nvSpPr>
        <p:spPr>
          <a:xfrm>
            <a:off x="770760" y="4150800"/>
            <a:ext cx="7954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Like a hub, a router is another type of device that acts as the central point among computers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and other devices that are part of a network. Here is an example of a wired route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1T04:42:00Z</dcterms:created>
  <dc:creator>ukyawnaing</dc:creator>
  <dc:description/>
  <dc:language>en-US</dc:language>
  <cp:lastModifiedBy>ukyawnaing</cp:lastModifiedBy>
  <dcterms:modified xsi:type="dcterms:W3CDTF">2012-10-11T04:45:08Z</dcterms:modified>
  <cp:revision>1</cp:revision>
  <dc:subject/>
  <dc:title>Slide 1</dc:title>
</cp:coreProperties>
</file>