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6.pct" ContentType="image/x-pict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ct" ContentType="image/x-pict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96F2-8DE9-4343-BF58-F758DAD16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08A4-6B1F-4F68-9D53-3EBBD5035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A219-311D-4709-9B2C-9AD4B7A75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E3D5-F2C5-41DD-BD9D-8BCDC9E13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8F45B-7E12-4E86-9883-C8539F1E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32CFE-8C10-419E-BEA9-B0DF797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A8C30-4D51-4765-838F-999A6160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1113D-68C6-44DA-81A0-61FAD2D9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5391E-71E6-4595-AC40-B715DAEC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377F9-834D-4C67-ADB0-F504B63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7EFC6-1FE3-4545-9611-C4704024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027D-AD80-4F00-A9FC-CB1FAC7CD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E1233-8156-429F-B00D-A74C98E9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8544D-F30F-4628-81FF-9480418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3E7EC-1834-4683-B71F-46CFA5D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6BD03-B5BD-4407-A6B4-8D71157B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1BA4F-5D13-47CB-BD72-2636F2FF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FFE2-EFC6-48DC-B0CC-FFB222B74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6CF9-16E9-4843-8723-7498DA02F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C82B-9EDA-4B34-ADC1-C51597CD4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407A-255B-4C56-82F1-3F8E3638C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3CE8-ECF2-44E6-AE1E-D71067FE1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C811-1510-4366-933F-D093A9C6C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93FA-53C3-4792-A789-199921902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.</a:t>
            </a:r>
            <a:fld id="{80B74EC8-8A58-428E-A98A-3357B2222225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629A-9173-4CFC-AF4F-185DEE7F2F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missio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6627-8CDD-4172-B2E4-3F738A984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3840" y="76212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axial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7400" y="1957320"/>
            <a:ext cx="814572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C1C5-5C93-4750-9D2A-08B41CB0E6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7160" y="182880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coaxial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23960" y="2316240"/>
            <a:ext cx="5894280" cy="202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3BF4-B72A-4AD5-803B-544BA9623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560" y="7621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NC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725560"/>
            <a:ext cx="7925040" cy="19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1388-4140-4038-BCF7-DD86E0425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600" y="7621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axial cabl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00240" y="1627200"/>
            <a:ext cx="6114960" cy="446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AEEA-B840-45F2-B279-EBD34074E2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680" y="76212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0  Fiber optics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ending of light 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3680" y="2362320"/>
            <a:ext cx="8070840" cy="22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E7E4-B966-4CBA-8A75-6FEAE01FA6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560" y="7621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tical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8000" y="2987640"/>
            <a:ext cx="830880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FE6A-5DBE-4689-AE1B-B8B3F454C4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0960" y="762120"/>
            <a:ext cx="38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pagation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49160" y="2133720"/>
            <a:ext cx="763272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5ED2-DE8B-41C4-A8F3-ECF3070C27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0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73240" y="1035000"/>
            <a:ext cx="6370560" cy="52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F9DA-5B95-4EB2-AB11-585163C15C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48480" y="16765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7080" y="2286000"/>
            <a:ext cx="8940600" cy="20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029E-DC63-467F-9FD5-CAE8B84382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200" y="76212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49280" y="1843200"/>
            <a:ext cx="6499440" cy="39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7508-D65E-4B13-8641-18AA95377C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9520" y="76212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ission medium and physic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5760" y="2584440"/>
            <a:ext cx="8729640" cy="25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CB64-9FF9-496F-B794-084E111543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2400" y="7621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-optic cable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890720"/>
            <a:ext cx="8593200" cy="39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2BC4-2D19-4AF7-B821-EB9BACE67A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1320" y="76212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tical fibe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82680" y="1676520"/>
            <a:ext cx="5575320" cy="44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CEEE-6EA2-4F89-BA3E-468A66F6EF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20" y="406440"/>
            <a:ext cx="71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2   UNGUIDED MEDIA: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860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guided media transport electromagnetic waves without using a physical conductor. This type of communication is often referred to as wireless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icro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8958-22E0-41CC-B92A-BF073FDCE2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0240" y="762120"/>
            <a:ext cx="75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lectromagnetic spectrum for wireless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9520" y="2590920"/>
            <a:ext cx="8400960" cy="21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AAC3-CBCA-4C7E-B0E7-AFBAB95AE7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1680" y="76212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paga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8040" y="1917720"/>
            <a:ext cx="8501040" cy="356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ACDA-B81F-431A-96A6-6F6C64D1D7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95600" y="66816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201680"/>
            <a:ext cx="779796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99AE-8E8D-40CE-B158-21E13D5E42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200" y="76212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reless transmission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2520" y="2043000"/>
            <a:ext cx="8238960" cy="27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ABC8-6692-4BD7-857B-8969407C3A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6668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640" y="441972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360" y="2771640"/>
            <a:ext cx="8077320" cy="30186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 waves are used for multicast communications, such as radio and television, and paging systems. They can penetrate through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y regulated. Use omni directional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2023920"/>
            <a:ext cx="1143000" cy="567000"/>
            <a:chOff x="457200" y="2023920"/>
            <a:chExt cx="1143000" cy="5670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9220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0446-E7D8-4D49-9CBF-0E8125417C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120" y="76212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mnidirectional 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79840" y="2039760"/>
            <a:ext cx="3263760" cy="36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DD71-4E0A-4402-BB38-B43B93037F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39544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513864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2487600"/>
            <a:ext cx="8077320" cy="399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waves are used for unicast communication such as cellular telephones, satellite network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wireless 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frequency ranges cannot penetrate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directional antennas - point to point line of sight commun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1752480"/>
            <a:ext cx="1143000" cy="567000"/>
            <a:chOff x="457200" y="1752480"/>
            <a:chExt cx="1143000" cy="5670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92200" y="17524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EB14-5BF8-4595-BA69-8100A8F57E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76212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asses of transmissio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100240"/>
            <a:ext cx="7715160" cy="31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C032-4310-4131-AD98-213A40365B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120" y="76212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directional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8880" y="2050920"/>
            <a:ext cx="7394400" cy="35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543D-26B1-422E-BFE5-E56DCBFDB7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6668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640" y="487692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360" y="2759040"/>
            <a:ext cx="8077320" cy="2043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rared signals can be used for short-range communication in a closed area using line-of-sight propag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2023920"/>
            <a:ext cx="1143000" cy="567000"/>
            <a:chOff x="457200" y="2023920"/>
            <a:chExt cx="1143000" cy="5670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9220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3B8C-5A18-4BBC-96E1-2B964490F6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reless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ubject to a lot more errors than guided media chann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 is one cause for errors, can be circumvented with high SN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gher the SNR the less capacity is available for transmission due to the broadcast nature of the chann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so subject to fading and no coverage ho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3C60-A625-4375-8F3D-B5C7CFC85E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40644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1   GUIDED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uided media, which are those that provide a conduit from one device to another, include twisted-pair cable, coaxial cable, and fiber-optic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wisted-Pair Cabl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axial Cabl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Fiber-Optic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89C7-03C9-484B-8CA9-E9F3BE3ACB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762120"/>
            <a:ext cx="35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wisted-pair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986200"/>
            <a:ext cx="8610480" cy="12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2863-AB9A-4A67-BAE3-92A34EE370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040" y="76212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and STP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8040" y="2112840"/>
            <a:ext cx="8501040" cy="33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62A7-FA3F-434B-957F-70B72C7107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1120" y="228600"/>
            <a:ext cx="61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unshielded twisted-pair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39720" y="685800"/>
            <a:ext cx="7742160" cy="58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38F6-1900-4902-AFB5-05CA3224C7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200" y="7621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19200" y="2244600"/>
            <a:ext cx="6481800" cy="270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F318-C6A7-47E2-A988-9FA42E5DFA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00" y="762120"/>
            <a:ext cx="35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124680" cy="44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138B-1FEB-4AF2-9F85-E10914FEB3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29T14:14:54Z</dcterms:modified>
  <cp:revision>166</cp:revision>
  <dc:subject/>
  <dc:title>PowerPoint Presentation</dc:title>
</cp:coreProperties>
</file>