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470-5891-4851-917F-7B5ED334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F57-540E-4D05-9E63-C1D95ACA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A0C-2119-4557-ADE6-81496A1C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AB9-162A-4422-B6F1-B916E386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3F1-CEAE-4A5A-BCB7-4E8802B1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F52-957A-425C-81DC-EAE3BDB3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38C-EA0C-4417-8F3A-6098B7C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185-6740-4602-8DAD-92876EDF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368-BAEA-49D8-AD93-EB28A6AD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B2D-F46B-4257-B553-30538EF7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669-63E1-420E-848E-04E44A0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D07-B190-4B84-9238-79A54E1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1A4-076D-4D70-A480-9C3A6CB82C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901440" y="40464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eer-to-Peer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28480" y="795600"/>
            <a:ext cx="710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ased on their layout (not the physical but the imagined layou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lso referred to as topology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re are two types of networks. A network is referred to as peer-to-pe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f most computers are similar and run workstation operating system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ttp://www.functionx.com/illustrations/network1.gif"/>
          <p:cNvPicPr/>
          <p:nvPr/>
        </p:nvPicPr>
        <p:blipFill>
          <a:blip r:embed="rId1"/>
          <a:stretch/>
        </p:blipFill>
        <p:spPr>
          <a:xfrm>
            <a:off x="2195640" y="2133720"/>
            <a:ext cx="3943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0:16Z</dcterms:created>
  <dc:creator>ukyawnaing</dc:creator>
  <dc:description/>
  <dc:language>en-US</dc:language>
  <cp:lastModifiedBy>ukyawnaing</cp:lastModifiedBy>
  <dcterms:modified xsi:type="dcterms:W3CDTF">2012-10-11T04:32:37Z</dcterms:modified>
  <cp:revision>1</cp:revision>
  <dc:subject/>
  <dc:title>Slide 1</dc:title>
</cp:coreProperties>
</file>