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347-8393-41BD-82F8-7643AD4C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240-9EA7-4F1A-81CF-75628C62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BC4-AD35-4F17-95FB-A6F9348C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0A6-1136-4287-90A3-1A3A9711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DC5-3AA9-49AF-8B93-6593158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139-E635-4F42-88E9-DF620A80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DE9-DCD6-4C76-BD4D-230A4023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B21-B1B5-4420-9714-4C5B9C8B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4EA-1FBD-4C43-8B5D-64F2406B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222-14A5-487D-9FBA-7E4291F8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043-222F-4280-AA52-E3FF4515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E45-2258-4BD7-B1D5-67BB953A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11BC-E7D4-4937-8C62-5F2797CFEE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ff0000"/>
                </a:solidFill>
                <a:uFillTx/>
                <a:latin typeface="Calibri"/>
              </a:rPr>
              <a:t>Server Operating System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s its name implies, the role of a server is to serve. To perform this job, it must be loaded with a special operating system. On this site, we cover a network that deals with a Microsoft-based network. The company publishes a server operating system named Microsoft Windows Server 2003. </a:t>
            </a:r>
            <a:br>
              <a:rPr sz="1600"/>
            </a:b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Before acquiring the operating system, you may fit one of the following descriptions: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 will purchase a brand new computer, to use as a server, from a web site: You can purchase a server from a manufacturer on the Internet (HP, Dell, IBM, Gateway,  etc). You can also purchase a computer from an Internet-based store (http://www.tigerdirect.com, http://www.provantage.com, http://www.cdw.com, etc).</a:t>
            </a:r>
            <a:br>
              <a:rPr sz="1600"/>
            </a:b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e web sites of HP, Dell, IBM, Gateway,  etc has a link (or a section) named (or labeled) Servers or Small Business. You can shop from that section, based on your budget. If you are using this approach, look for a machine called server. When choosing the machine, make sure it meets the following requirements: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  </a:t>
            </a:r>
            <a:br>
              <a:rPr sz="40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133-MHz processor required; 550-MHz recommended; up to eight processors supported on one server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128 MB of RAM minimum required; 256 MB or more recommended; 32 GB maximum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1.25 to 2 GB of available hard disk space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CD-ROM or DVD-ROM drive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VGA or hardware that supports console redirection required; Super VGA supporting 800 x 600 or higher-resolution monitor recommended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erver Operating System 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280" y="2349360"/>
            <a:ext cx="8209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www.highlightcomputergroup3.zoomshare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Computer_and_Networks.z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Introduction to Computer Networks.do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Page 86 to1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40:49Z</dcterms:created>
  <dc:creator>ukyawnaing</dc:creator>
  <dc:description/>
  <dc:language>en-US</dc:language>
  <cp:lastModifiedBy>ukyawnaing</cp:lastModifiedBy>
  <dcterms:modified xsi:type="dcterms:W3CDTF">2012-10-11T05:45:57Z</dcterms:modified>
  <cp:revision>2</cp:revision>
  <dc:subject/>
  <dc:title>Server Operating System As its name implies, the role of a server is to serve. To perform this job, it must be loaded with a special operating system. On this site, we cover a network that deals with a Microsoft-based network. The company publishes a server operating system named Microsoft Windows Server 2003.   Before acquiring the operating system, you may fit one of the following descriptions:  I will purchase a brand new computer, to use as a server, from a web site: You can purchase a server from a manufacturer on the Internet (HP, Dell, IBM, Gateway,  etc). You can also purchase a computer from an Internet-based store (http://www.tigerdirect.com, http://www.provantage.com, http://www.cdw.com, etc).  The web sites of HP, Dell, IBM, Gateway,  etc has a link (or a section) named (or labeled) Servers or Small Business. You can shop from that section, based on your budget. If you are using this approach, look for a machine called server. When choosing the machine, make sure it meets the following requirements:   133-MHz processor required; 550-MHz recommended; up to eight processors supported on one server  128 MB of RAM minimum required; 256 MB or more recommended; 32 GB maximum  1.25 to 2 GB of available hard disk space  CD-ROM or DVD-ROM drive  VGA or hardware that supports console redirection required; Super VGA supporting 800 x 600 or higher-resolution monitor recommended  </dc:title>
</cp:coreProperties>
</file>