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1A527-8E66-4C98-BFD7-68B0582806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2874D-42EF-437D-96B2-ABED01C35C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0595B-5027-41CC-B31B-601BE862FC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0AB1F-FD0F-4984-9CD2-68F1419784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CD5C2-742C-468A-A3D0-C1630D344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D04B4-BC3F-4B63-B4CA-E7387255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55BDF-65C5-4FEE-97F4-2E693043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4A358-4A36-4708-9915-EBE9EA5C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4EC001-D05D-4028-BBD4-BED14049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C3D8C-AED4-49F9-909A-228BDC3A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85B102-DD4D-4F55-9DE5-5EBA23E3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CA0CF-5617-4217-979C-484E1B07CD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11D6B-14AC-4632-9966-0B797194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3CA37-0D8A-4718-935C-E1772108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70A21-A54F-4F8F-805C-4553F9E8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6E04C-7045-4C6F-B6D6-10A9D1F9E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86658-6414-4E96-BE90-E3CD73770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F8A82-79F2-40C9-8089-307B4ACA7A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331F8-C0B2-41D4-A37C-D0CE104E33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B51E5-3799-4119-B95B-F0CF68551C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B8FAB-9F1A-4368-A376-853C0A759B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C890A-BC2C-4FED-9CB1-A11DADFDDC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52AE8-A2A1-423B-A8F9-53F4AC97F2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EDBE3-4B18-443A-A8E1-DCC9061579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6.</a:t>
            </a:r>
            <a:fld id="{06058CCA-A6AE-48D4-AF1B-E860281639D3}" type="slidenum">
              <a:rPr b="1" lang="en-US" sz="20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6546-435A-4D72-890B-ED9AADA33A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McGraw-H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65530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cGrawHill-Italic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The McGraw-Hill Companies, Inc.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143000" y="2514600"/>
            <a:ext cx="685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apter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ndwidth Utiliza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ltiplexing and Spre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5070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The McGraw-Hill Companies, Inc. Permission required for reproduction or displ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ED554-6365-418C-B73E-7E0BA57F20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2760" y="762120"/>
            <a:ext cx="33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6.33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SSS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6320" y="2057400"/>
            <a:ext cx="8875440" cy="3519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F5852-5C7B-4736-BB91-92DDBECA72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7200" y="22860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-1   SPREAD SPECT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99072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 spread spectrum (SS), we combine signals from different sources to fit into a larger bandwidth, but our goals are to prevent eavesdropping and jamming. To achieve these goals, spread spectrum techniques add redundan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477216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Frequency Hopping Spread Spectrum (FH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Direct Sequence Spread Spectrum (DS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4880" y="429588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ics discussed in this s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B9925-A62C-4039-A839-32991CE719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read Spect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gnal that occupies a bandwidth of B, is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prea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to occupy a bandwidth of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signals are spread to occupy the same bandwidth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are spread with different codes so that they can be separated at the receiv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can be spread in the frequency domain or in the time doma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8D1BA-7AFF-4E06-B7D4-5D9BA8C392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3480" y="762120"/>
            <a:ext cx="35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6.27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pread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93640" y="2351160"/>
            <a:ext cx="7788240" cy="305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7A78E-4306-4C99-9147-3C269FDFFB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7720" y="762120"/>
            <a:ext cx="65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6.28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requency hopping spread spectrum (FH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00280" y="1693800"/>
            <a:ext cx="7277040" cy="440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2F485-61EF-47FF-AD61-096C060EDE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3480" y="762120"/>
            <a:ext cx="49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6.29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requency selection in FH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321680" cy="435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DE5A8-798B-4F3A-BF4E-42199E2D2E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5640" y="762120"/>
            <a:ext cx="31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6.30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HSS cy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70000" y="1676520"/>
            <a:ext cx="6983280" cy="4387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0EBFE-C9A1-4018-BDD5-9F3600F3F7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3120" y="762120"/>
            <a:ext cx="38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6.3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andwidth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" y="2001960"/>
            <a:ext cx="8656560" cy="3865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FDCB2-3062-4ED3-9ED0-6FCDE36DB9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76212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6.3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S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84200" y="2490840"/>
            <a:ext cx="8126280" cy="2766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E4186-C069-4537-9B31-F27A1CD40C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04:50:39Z</dcterms:created>
  <dc:creator>Valued Gateway Client</dc:creator>
  <dc:description/>
  <dc:language>en-US</dc:language>
  <cp:lastModifiedBy>Magda El Zarki</cp:lastModifiedBy>
  <dcterms:modified xsi:type="dcterms:W3CDTF">2007-11-20T06:11:55Z</dcterms:modified>
  <cp:revision>161</cp:revision>
  <dc:subject/>
  <dc:title>PowerPoint Presentation</dc:title>
</cp:coreProperties>
</file>