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9.png" ContentType="image/png"/>
  <Override PartName="/ppt/media/image6.pct" ContentType="image/x-pict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ct" ContentType="image/x-pict"/>
  <Override PartName="/ppt/media/image1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ct" ContentType="image/x-pict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C3A3E-356A-43FC-BFDA-ABFC60326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EACB-B244-4399-80D9-600576D886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99158-7218-4B96-9B18-5B7A49CE67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6E2FA-3B87-4532-AF69-9306155EF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39193-22BF-45A4-B690-5D12CE8C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2080D-2984-44F1-8AEA-2382D691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A998A-14E3-48B0-9241-35D4E30F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1C577-113F-44BB-8E40-1E40CE9E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B62DE-BE8B-46FF-8665-EFC40986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41A50-A389-4E5B-9AE5-CCED45BE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B27DC-AD2A-40C1-8C4E-A982A500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9A526-C91D-4DF1-BEE4-7CCFA090D0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99FE9-548D-4C2A-BAA0-853EC4C7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6077D-2A91-4C15-8CEF-DE92B3D7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26F9F-CE0A-44C1-8CB5-3A909ED9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D6386-F027-4913-B48B-44F2F45E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3065D-AF0B-4F36-8852-AD39EA07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5842-E7BF-443B-A64A-C40891460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8CB75-CD12-4D27-860E-6B2301B36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86452-1C0D-4E53-AE32-D9D63B218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6C5AA-F004-4FF0-A0DF-E4EA0B98BF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49E22-F17D-4F40-AF7B-01D3595291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2C7AE-EAE7-4DCB-9A05-00DD8E4EC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2A78-7B6B-4F8D-B990-454ED1DD5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7.</a:t>
            </a:r>
            <a:fld id="{63AE98DE-91F0-4EB2-9307-91E73D9A05E6}" type="slidenum">
              <a:rPr b="1" lang="en-US" sz="20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A9DB-C4E7-4268-8FB0-58396DFF7D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43000" y="2514600"/>
            <a:ext cx="6858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pter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mission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5070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The McGraw-Hill Companies, Inc. Permission required for reproduction or disp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19106-7B07-4582-BE1F-A8BBEE52D9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3840" y="762120"/>
            <a:ext cx="30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7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axial 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7400" y="1957320"/>
            <a:ext cx="8145720" cy="35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2A8E3-B07D-4670-A088-F70C62C342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757160" y="1828800"/>
            <a:ext cx="44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ble 7.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ategories of coaxial c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23960" y="2316240"/>
            <a:ext cx="5894280" cy="202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1151E-7586-4EFD-AC4F-030A0C53DD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560" y="76212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8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NC conn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9480" y="2725560"/>
            <a:ext cx="7925040" cy="199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61542-0845-4B39-82AA-97C508A791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600" y="762120"/>
            <a:ext cx="45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9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axial cable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00240" y="1627200"/>
            <a:ext cx="6114960" cy="446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BA25-92E0-45D1-8FCA-D9EA339F22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1680" y="762120"/>
            <a:ext cx="56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0  Fiber optics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ending of light 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3680" y="2362320"/>
            <a:ext cx="8070840" cy="227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65D84-1377-411D-932F-69C3DC922C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560" y="76212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tical fi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78000" y="2987640"/>
            <a:ext cx="8308800" cy="158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4DACE-A031-45B7-B073-DD42C0AE84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0960" y="762120"/>
            <a:ext cx="38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opagation 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49160" y="2133720"/>
            <a:ext cx="763272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EECBB-BB11-4A4E-9008-70A633D4C8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2280" y="763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9144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3049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3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73240" y="1035000"/>
            <a:ext cx="6370560" cy="528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90B76-E3CF-4CC8-8DC6-0273C993FD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48480" y="167652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ble 7.3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iber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7080" y="2286000"/>
            <a:ext cx="8940600" cy="201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25727-F57A-42E1-BC4F-925362C50D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200" y="762120"/>
            <a:ext cx="37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4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iber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349280" y="1843200"/>
            <a:ext cx="6499440" cy="394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C338D-9198-43D3-A093-9E8E260731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9520" y="762120"/>
            <a:ext cx="59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ransmission medium and physical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5760" y="2584440"/>
            <a:ext cx="8729640" cy="252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B8BE7-4FA8-4FA5-9CA4-AE5528A726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2400" y="76212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5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iber-optic cable conn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1890720"/>
            <a:ext cx="8593200" cy="39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89832-21D8-4FF5-9548-91F70E860E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1320" y="76212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6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tical fiber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82680" y="1676520"/>
            <a:ext cx="5575320" cy="44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19BE-F33D-4B56-B5B3-8E1ED226F2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3920" y="406440"/>
            <a:ext cx="71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2   UNGUIDED MEDIA: WIR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13860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nguided media transport electromagnetic waves without using a physical conductor. This type of communication is often referred to as wireless commun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46800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adio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icro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4880" y="420372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C0882-CE36-444C-AE2E-E4478A3678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0240" y="762120"/>
            <a:ext cx="75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7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lectromagnetic spectrum for wireless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09520" y="2590920"/>
            <a:ext cx="8400960" cy="213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6F567-365E-4A0E-B202-7852A6D438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1680" y="762120"/>
            <a:ext cx="40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8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opaga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38040" y="1917720"/>
            <a:ext cx="8501040" cy="356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B2B1F-66D2-4C03-91E3-BD67C7DA76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95600" y="668160"/>
            <a:ext cx="22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ble 7.4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5800" y="1201680"/>
            <a:ext cx="7797960" cy="474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F2DD3-E5A4-4ACE-BF37-BE1AF872409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200" y="762120"/>
            <a:ext cx="47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9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ireless transmission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2520" y="2043000"/>
            <a:ext cx="8238960" cy="27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20D56-5F48-47D1-8CD0-051F47974D1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66688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8640" y="4419720"/>
            <a:ext cx="815364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360" y="2771640"/>
            <a:ext cx="8077320" cy="30186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io waves are used for multicast communications, such as radio and television, and paging systems. They can penetrate through wa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ly regulated. Use omni directional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57200" y="2023920"/>
            <a:ext cx="1143000" cy="567000"/>
            <a:chOff x="457200" y="2023920"/>
            <a:chExt cx="1143000" cy="567000"/>
          </a:xfrm>
        </p:grpSpPr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457200" y="2023920"/>
              <a:ext cx="11430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592200" y="202392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24A92-DAEC-45F8-A98C-259AEFC9CCD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3120" y="76212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20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mnidirectional ant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679840" y="2039760"/>
            <a:ext cx="3263760" cy="367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F6C26-B326-4A75-90AF-A2D19A511CF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239544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513864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360" y="2487600"/>
            <a:ext cx="8077320" cy="3993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crowaves are used for unicast communication such as cellular telephones, satellite networks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wireless L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er frequency ranges cannot penetrate wa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directional antennas - point to point line of sight commun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57200" y="1752480"/>
            <a:ext cx="1143000" cy="567000"/>
            <a:chOff x="457200" y="1752480"/>
            <a:chExt cx="1143000" cy="56700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11430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592200" y="175248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56BB-A0DC-4830-869F-49268E67E99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1680" y="76212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lasses of transmission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2100240"/>
            <a:ext cx="7715160" cy="31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8BA89-65A4-40D9-90A7-E09B9C9113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3120" y="762120"/>
            <a:ext cx="43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2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directional anten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58880" y="2050920"/>
            <a:ext cx="7394400" cy="351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A31CC-7AFC-4DE6-AB2F-369E8B5C002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266688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8640" y="4876920"/>
            <a:ext cx="815364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5360" y="2759040"/>
            <a:ext cx="8077320" cy="2043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rared signals can be used for short-range communication in a closed area using line-of-sight propag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57200" y="2023920"/>
            <a:ext cx="1143000" cy="567000"/>
            <a:chOff x="457200" y="2023920"/>
            <a:chExt cx="1143000" cy="56700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457200" y="2023920"/>
              <a:ext cx="11430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92200" y="202392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F20F3-5A6D-46BD-8502-F976D594B81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reless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subject to a lot more errors than guided media channe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 is one cause for errors, can be circumvented with high SN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higher the SNR the less capacity is available for transmission due to the broadcast nature of the chann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so subject to fading and no coverage ho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6D80-4BE4-4AF7-8834-FD2CD6DDAB5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5360" y="40644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1   GUIDED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15238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uided media, which are those that provide a conduit from one device to another, include twisted-pair cable, coaxial cable, and fiber-optic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46800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wisted-Pair Cable</a:t>
            </a:r>
            <a:br>
              <a:rPr sz="2400"/>
            </a:b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Coaxial Cable</a:t>
            </a:r>
            <a:br>
              <a:rPr sz="2400"/>
            </a:b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Fiber-Optic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4880" y="420372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2B16-78EF-4D23-830A-0151BEC103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3480" y="762120"/>
            <a:ext cx="35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3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wisted-pair 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2986200"/>
            <a:ext cx="8610480" cy="12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E1FCB-21E5-4332-B115-90871FB7CA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2040" y="76212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4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TP and STP c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38040" y="2112840"/>
            <a:ext cx="8501040" cy="337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A4B5C-D01D-4064-A143-7C4C886E52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1120" y="228600"/>
            <a:ext cx="61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ble 7.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ategories of unshielded twisted-pair c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39720" y="685800"/>
            <a:ext cx="7742160" cy="589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B4B8-AAF3-487D-A3C5-40AAE067D5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200" y="76212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5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TP conn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19200" y="2244600"/>
            <a:ext cx="6481800" cy="270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04D64-A830-4FE0-98CF-D8A38F52EC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2400" y="762120"/>
            <a:ext cx="35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6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TP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124680" cy="447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70CA8-89F4-46DF-8178-0088155E3C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Magda El Zarki</cp:lastModifiedBy>
  <dcterms:modified xsi:type="dcterms:W3CDTF">2007-11-29T14:14:54Z</dcterms:modified>
  <cp:revision>166</cp:revision>
  <dc:subject/>
  <dc:title>PowerPoint Presentation</dc:title>
</cp:coreProperties>
</file>