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047-BA00-4CF9-A821-2680F79A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832-7C59-4321-8404-02D628F3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E50-8F66-44E1-954F-88A6F36A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CB5-E8B5-4FD2-B456-EA2703B9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F26-F8E6-4400-BB89-64725A1F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6F1-0504-4C3D-8139-FDF21ED5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BDF-73D6-4B44-9215-510DA225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EDD-8C97-40A0-804C-D250D4C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FBE-BF34-4281-A1C4-ACEE1918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FC1-2178-4A24-A81E-6F1C286F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C47-296C-42FC-BAD6-58CD9AB0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024-EA5C-4898-A9E3-DB9B5068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0776-A361-45CC-BBE9-8178D5AB89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unctionx.com/networking/Lesson01.h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33160" y="747000"/>
            <a:ext cx="6075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  <a:hlinkClick r:id="rId1"/>
              </a:rPr>
              <a:t>computer network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an be two computers connect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http://www.functionx.com/illustrations/connect2pc1.gif"/>
          <p:cNvPicPr/>
          <p:nvPr/>
        </p:nvPicPr>
        <p:blipFill>
          <a:blip r:embed="rId2"/>
          <a:stretch/>
        </p:blipFill>
        <p:spPr>
          <a:xfrm>
            <a:off x="1979640" y="1341360"/>
            <a:ext cx="3762360" cy="94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1545480" y="2567160"/>
            <a:ext cx="63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network can also consist of, and is usually made for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ore than two computer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functionx.com/illustrations/network1.gif"/>
          <p:cNvPicPr/>
          <p:nvPr/>
        </p:nvPicPr>
        <p:blipFill>
          <a:blip r:embed="rId3"/>
          <a:stretch/>
        </p:blipFill>
        <p:spPr>
          <a:xfrm>
            <a:off x="2411280" y="3429000"/>
            <a:ext cx="30243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26:38Z</dcterms:created>
  <dc:creator>ukyawnaing</dc:creator>
  <dc:description/>
  <dc:language>en-US</dc:language>
  <cp:lastModifiedBy>ukyawnaing</cp:lastModifiedBy>
  <dcterms:modified xsi:type="dcterms:W3CDTF">2012-10-11T04:30:07Z</dcterms:modified>
  <cp:revision>1</cp:revision>
  <dc:subject/>
  <dc:title>Slide 1</dc:title>
</cp:coreProperties>
</file>