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3E94-1CD0-4DAC-A840-08B2AEE6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85B7-E8EE-489B-B41F-B277FE77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894F-609D-4784-A4B3-4F99E6A35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5155-DFEC-48C2-9312-7ED9210DC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C175-AE23-456F-BDC5-671FF6948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569A6-EC87-48B3-9E65-E82B44BE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94A34-AB31-4F25-84EE-E2902D6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B92C-3222-4B74-87B1-CBCD99EC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43900-6687-4E45-B029-D6926335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A193E-53B7-4505-B23D-B1F9257E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390BD-327D-4F0E-AD51-EC013C53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42545-86C2-4D69-8958-F75BEA8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1590-13CA-4595-A275-02EF5E5F4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0761B-503F-4F1B-A29C-427C05D8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72509-A7B7-4A44-BB8F-F03FC2D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14543-F081-47D0-A9A7-1745A00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521A-1CA1-4DBA-AA5B-764931DA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CB93C-EF0A-4CB9-B627-22CCE19D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43DE-1BD4-43F1-AD6E-E5789794E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EB36-9DE6-496E-B47F-E653A1658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BB84-AB3B-4DD7-919B-C1C4B8680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155B-78E1-4052-A6F6-FF129A5DB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AD7A-B55A-4BBC-899E-CE65EC458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D6AD-EF9F-4484-B88E-23F020384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F973-B3E9-4FB8-A662-375D383CB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FDCFC90-A71B-43A0-85DE-B7D9D729D7B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03D-A129-465E-BF5D-6E1AD7A81E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3A0A434-5F34-482B-B9DC-18E541758FE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orouzan4e07_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DE26218-4D72-4048-9783-13312F8B127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99160" y="380880"/>
            <a:ext cx="64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fully connected mesh topology (five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927080" y="1652760"/>
            <a:ext cx="4854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82B2856-56E3-43BF-B888-F123398816A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9160" y="3808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tar topology connecting four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562040" y="18813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B9E8367-671B-4962-B28C-663E7F42E3E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99880" y="45720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bus topology connecting thre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69880" y="2362320"/>
            <a:ext cx="78883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E8EFDA9F-335B-44DB-A744-E851CE22DEA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0240" y="45720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ring topology connecting six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46240" y="1922400"/>
            <a:ext cx="8592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E8C261E-983D-41B8-B404-6F21BBF5456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5200" y="3808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ybrid topology: a star backbone with three bu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736560" y="1490760"/>
            <a:ext cx="68835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B9D29C5-7F09-4813-85DD-FE1815F57DB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7560" y="3618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es of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signed to provide local inter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ong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larg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areas such as a city, a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D29888F-D2C7-4D83-B608-45A512BEDFC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95920" y="3808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 isolated LAN connecting 12 computers to a hub in a clo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239840" y="1622520"/>
            <a:ext cx="61516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FE66223-1668-49A3-BF49-0A766F2F989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98440" y="38088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7112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34F2D8D-0977-45FC-B782-BCEFC1E05B7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5560" y="2286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eterogeneous network made of four WANs and two 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1824120" y="990720"/>
            <a:ext cx="574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6A10ABB-3216-4293-9BB5-F80E2EF59CC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6080" y="15228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 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632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has revolutionized many aspects of our daily lives. It has affected the way we do business as well as the way we spend our leisure time. The Internet is a communication system that has brought a wealth of information to our fingertips and organized it for our us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28600" y="5045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Organization of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ternet Service Providers (IS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41200" y="4511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5A89305-5836-433B-B7DE-D5D74E19BC5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3920" y="19512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1   DATA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320" y="9910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lecommun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s communication at a distance. The wor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efers to information presented in whatever form is agreed upon by the parties creating and using the data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communicati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re the exchange of data between two devices via some form of transmission medium such as a wire cab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228600" y="5048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mponents of a data communication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ata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241200" y="4572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8B18287-4D53-437F-85BC-E0F4F4EE14A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0240" y="3049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210F74D0-8A4B-41F1-ADE0-CD34632EB19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6800" y="1522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4  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0825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rotocol is synonymous with rule. It consists of a set of rules that govern data communications. It determines what is communicated, how it is communicated and when it is communicated. The key elements of a protocol are syntax, semantics and 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2860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41200" y="3962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676ECEF-A45D-4627-8E97-7723F130FD1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68640" y="3618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a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ructure or format of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cates how to read the bits - field deline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terprets the meaning of the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nows which fields define what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data should be sent and w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peed at which data should be sent or speed at which it is being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F36DE92D-C208-4FB3-A0A8-8FC780B7719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onents of a data communica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2640" y="2593800"/>
            <a:ext cx="7066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3BCBE491-F12F-4A71-876F-C37658611F3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4840" y="38088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184D301-C4CC-4F12-B552-B8BE368924A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6800" y="1522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2  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28600" y="121968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a set of devices (often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connected by communicatio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ink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 node can be a computer, printer, or any other device capable of sending and/or receiving data generated by other nodes on the network. A link can be a cable, air, optical fiber, or any medium which can transport a signal carrying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Network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ysica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ategories of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6360" y="43434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EA19AA4-CAE3-4CB6-9A16-7D76C6B8417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2040" y="3618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rite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pends on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Delay and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ilure rate of network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availability/robust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ta protection against corruption/loss of data du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C42922D-0E36-42B3-9140-7BDB78BD969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0440" y="36180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ype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to Point - single transmitt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ltipoint - multiple recipients of single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nection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ype of transmission - unicast, mulitcast, broad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1824EE6-74B8-4845-A24F-7BEFF2DC6E8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000" y="45720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connections: point-to-point and 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8281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54D91857-57E0-40B8-B299-F77F65C6662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1320" y="3808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top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154160" y="2317680"/>
            <a:ext cx="6389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28:17Z</dcterms:created>
  <dc:creator>Magda El Zarki</dc:creator>
  <dc:description/>
  <dc:language>en-US</dc:language>
  <cp:lastModifiedBy>ukyawnaing</cp:lastModifiedBy>
  <dcterms:modified xsi:type="dcterms:W3CDTF">2012-10-11T02:55:21Z</dcterms:modified>
  <cp:revision>5</cp:revision>
  <dc:subject/>
  <dc:title>PowerPoint Presentation</dc:title>
</cp:coreProperties>
</file>