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A0D-53AF-4024-A502-F4B2491E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109-A4BA-4E35-A44B-468364DD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6D89-37E7-46CC-83C5-69DE8714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D4D-B35F-458F-AB36-811AE395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F98-C83F-4A83-86DD-3DD93EC0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CD6-A08B-438A-8666-F1DA3E80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2C1-0D9B-45D1-A691-72922A51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0B11-C6A6-4FE0-8653-B7491900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A6C-4C85-4645-977F-D41A3021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425-8400-40D5-9AC9-E5D979B1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5D5-FF7E-4746-B149-E03E146F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FEC4-3EF6-403F-B8D4-9348A55D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E5A4-4ACD-49C9-9C21-4BF3FB5372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Necessary Hardware and Software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  </a:t>
            </a:r>
            <a:br>
              <a:rPr sz="1600"/>
            </a:b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Server Machines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n Lesson 1, we saw that a server was another computer that can participate in a client/server network, as opposed to a peer-to-peer network. A server is used to hold resources and items that other computers would need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1989000"/>
            <a:ext cx="83516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network4"/>
          <p:cNvPicPr/>
          <p:nvPr/>
        </p:nvPicPr>
        <p:blipFill>
          <a:blip r:embed="rId1"/>
          <a:stretch/>
        </p:blipFill>
        <p:spPr>
          <a:xfrm>
            <a:off x="900000" y="2205000"/>
            <a:ext cx="57596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A processor with 133-MHz or higher speed; 550-MHz recommended; up to eight processors supported on one server 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128 MB of RAM minimum required; 256 MB or more recommended; 32 GB maximum 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1.25 to 2 GB of available hard disk space </a:t>
            </a: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CD-ROM or DVD-ROM drive 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VGA or hardware that supports console redirection required; Super VGA supporting 800 x 600 or higher-resolution monitor recommended 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If necessary, you can purchase additional items to meet these requirements. </a:t>
            </a:r>
            <a:br>
              <a:rPr sz="2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4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37:48Z</dcterms:created>
  <dc:creator>ukyawnaing</dc:creator>
  <dc:description/>
  <dc:language>en-US</dc:language>
  <cp:lastModifiedBy>ukyawnaing</cp:lastModifiedBy>
  <dcterms:modified xsi:type="dcterms:W3CDTF">2012-10-11T05:39:59Z</dcterms:modified>
  <cp:revision>1</cp:revision>
  <dc:subject/>
  <dc:title>Necessary Hardware and Software    Server Machines In Lesson 1, we saw that a server was another computer that can participate in a client/server network, as opposed to a peer-to-peer network. A server is used to hold resources and items that other computers would need: </dc:title>
</cp:coreProperties>
</file>