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C53-2557-4C13-9954-93DC3AE7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EDF-5A5A-42FB-B21C-D094BE2D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4B6-E88C-48C0-BD8F-A0F29049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5C6-1D6D-4F1D-B759-64C770B9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6CA-2407-4BAA-B212-699FCE9F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41E-EDC4-4591-9F38-4D8AD30C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70F-C63B-4593-AC49-23609AD0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03B-9F8F-4C0A-A264-DA23CC0F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FE5-89E9-490E-BAC7-5BBED176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C0F-EAB0-47F4-BE5F-517C0703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993-10FA-4D58-9E50-3AC50670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8EA-5403-421B-A292-F4E06C28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DD14-7016-492B-98E4-9B2A97929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Viewing Network Connection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My Network Plac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ce you have built a computer network, from time to time, you will need to check what computers are available and/or what files or folders have been shared. To assist you with this, Microsoft Windows XP provides a window named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 view the available connected computers: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actical Learning: Viewing the Connected Computer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 one of the computers, click Start -&gt;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f you don't see that option in the right column of the Start menu, depending of your configuration, click Start -&gt; Settings -&gt; Network Connections. Then, under Other Places, click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an alternative, you can click Start -&gt; Control Panel or Start -&gt; Settings -&gt; Control Panel. Under Other Places, click My Network Places.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nder Network Tasks, click View Workgroup Comput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Viewing Workgroup Computers With 3 Nodes"/>
          <p:cNvPicPr/>
          <p:nvPr/>
        </p:nvPicPr>
        <p:blipFill>
          <a:blip r:embed="rId1"/>
          <a:stretch/>
        </p:blipFill>
        <p:spPr>
          <a:xfrm>
            <a:off x="0" y="0"/>
            <a:ext cx="83883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5:09Z</dcterms:created>
  <dc:creator>ukyawnaing</dc:creator>
  <dc:description/>
  <dc:language>en-US</dc:language>
  <cp:lastModifiedBy>ukyawnaing</cp:lastModifiedBy>
  <dcterms:modified xsi:type="dcterms:W3CDTF">2012-10-11T05:37:44Z</dcterms:modified>
  <cp:revision>2</cp:revision>
  <dc:subject/>
  <dc:title>Viewing Network Connections    My Network Places Once you have built a computer network, from time to time, you will need to check what computers are available and/or what files or folders have been shared. To assist you with this, Microsoft Windows XP provides a window named My Network Places. To view the available connected computers:  Practical Learning: Viewing the Connected Computers On one of the computers, click Start -&gt; My Network Places. If you don't see that option in the right column of the Start menu, depending of your configuration, click Start -&gt; Settings -&gt; Network Connections. Then, under Other Places, click My Network Places. As an alternative, you can click Start -&gt; Control Panel or Start -&gt; Settings -&gt; Control Panel. Under Other Places, click My Network Places.  Under Network Tasks, click View Workgroup Computers </dc:title>
</cp:coreProperties>
</file>