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F3AB-11E5-4FED-A14B-00693F4A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4F3-7E25-457F-AFB0-BA961436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511-5FBA-4CBA-AC53-0F1B3BA1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1F7-D363-4739-953E-3F1F149B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3F2-FDF3-4701-BCFA-4D4C1C55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2845-F408-4196-92D9-7A781553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6D1-647F-4E58-9053-5478F45D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27E-A69F-4AC4-A5F3-2F5533B2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7574-9022-4604-B7F4-92ACB504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493-6864-4DBB-9C3E-B3A51739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306-D98F-4CC3-AA15-DC0154AB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6C6-4A4D-4506-945A-B26387D9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5B49-4125-472E-B066-CCD476BAB8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ff0000"/>
                </a:solidFill>
                <a:uFillTx/>
                <a:latin typeface="Calibri"/>
              </a:rPr>
              <a:t>Server Operating System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s its name implies, the role of a server is to serve. To perform this job, it must be loaded with a special operating system. On this site, we cover a network that deals with a Microsoft-based network. The company publishes a server operating system named Microsoft Windows Server 2003. </a:t>
            </a:r>
            <a:br>
              <a:rPr sz="1600"/>
            </a:b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Before acquiring the operating system, you may fit one of the following descriptions: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 will purchase a brand new computer, to use as a server, from a web site: You can purchase a server from a manufacturer on the Internet (HP, Dell, IBM, Gateway,  etc). You can also purchase a computer from an Internet-based store (http://www.tigerdirect.com, http://www.provantage.com, http://www.cdw.com, etc).</a:t>
            </a:r>
            <a:br>
              <a:rPr sz="1600"/>
            </a:b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he web sites of HP, Dell, IBM, Gateway,  etc has a link (or a section) named (or labeled) Servers or Small Business. You can shop from that section, based on your budget. If you are using this approach, look for a machine called server. When choosing the machine, make sure it meets the following requirements: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  </a:t>
            </a:r>
            <a:br>
              <a:rPr sz="40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133-MHz processor required; 550-MHz recommended; up to eight processors supported on one server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128 MB of RAM minimum required; 256 MB or more recommended; 32 GB maximum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1.25 to 2 GB of available hard disk space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CD-ROM or DVD-ROM drive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VGA or hardware that supports console redirection required; Super VGA supporting 800 x 600 or higher-resolution monitor recommended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erver Operating System 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280" y="2349360"/>
            <a:ext cx="8209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www.highlightcomputergroup3.zoomshare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Calibri"/>
              </a:rPr>
              <a:t>Computer_and_Networks.z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Calibri"/>
              </a:rPr>
              <a:t>Introduction to Computer Networks.do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Page 86 to1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40:49Z</dcterms:created>
  <dc:creator>ukyawnaing</dc:creator>
  <dc:description/>
  <dc:language>en-US</dc:language>
  <cp:lastModifiedBy>ukyawnaing</cp:lastModifiedBy>
  <dcterms:modified xsi:type="dcterms:W3CDTF">2012-10-11T05:45:57Z</dcterms:modified>
  <cp:revision>2</cp:revision>
  <dc:subject/>
  <dc:title>Server Operating System As its name implies, the role of a server is to serve. To perform this job, it must be loaded with a special operating system. On this site, we cover a network that deals with a Microsoft-based network. The company publishes a server operating system named Microsoft Windows Server 2003.   Before acquiring the operating system, you may fit one of the following descriptions:  I will purchase a brand new computer, to use as a server, from a web site: You can purchase a server from a manufacturer on the Internet (HP, Dell, IBM, Gateway,  etc). You can also purchase a computer from an Internet-based store (http://www.tigerdirect.com, http://www.provantage.com, http://www.cdw.com, etc).  The web sites of HP, Dell, IBM, Gateway,  etc has a link (or a section) named (or labeled) Servers or Small Business. You can shop from that section, based on your budget. If you are using this approach, look for a machine called server. When choosing the machine, make sure it meets the following requirements:   133-MHz processor required; 550-MHz recommended; up to eight processors supported on one server  128 MB of RAM minimum required; 256 MB or more recommended; 32 GB maximum  1.25 to 2 GB of available hard disk space  CD-ROM or DVD-ROM drive  VGA or hardware that supports console redirection required; Super VGA supporting 800 x 600 or higher-resolution monitor recommended  </dc:title>
</cp:coreProperties>
</file>