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B72-2D1F-4CA4-9AC1-B41151DC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3F1-50BB-43B0-9CF9-AFA800CE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FB2-CF61-4FD9-B359-7D81F3CC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10D-DB50-433A-8BE0-014CF474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A2E-E5F2-437C-B3E1-21150B1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EB2-0BCF-4777-B14A-7F3A2912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E1F-6B12-4BA1-830D-928F3717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498-CCA0-499F-B175-CF46FA4D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801-A6E3-4654-A6B1-1F5C2572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7F3-EBEE-445A-BD92-4D63C5C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5DE-6C5A-41AB-A779-833B646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7D1-1EE4-49D4-967D-39A8BD8C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FAAD-7FB7-42F2-B9EC-80F5FA5170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7960" y="6206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Wireless Network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wirelessnic1"/>
          <p:cNvPicPr/>
          <p:nvPr/>
        </p:nvPicPr>
        <p:blipFill>
          <a:blip r:embed="rId1"/>
          <a:stretch/>
        </p:blipFill>
        <p:spPr>
          <a:xfrm>
            <a:off x="1187280" y="1989000"/>
            <a:ext cx="3600720" cy="2602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wirelessnic2"/>
          <p:cNvPicPr/>
          <p:nvPr/>
        </p:nvPicPr>
        <p:blipFill>
          <a:blip r:embed="rId2"/>
          <a:stretch/>
        </p:blipFill>
        <p:spPr>
          <a:xfrm>
            <a:off x="5940360" y="2060640"/>
            <a:ext cx="2232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8:53Z</dcterms:created>
  <dc:creator>ukyawnaing</dc:creator>
  <dc:description/>
  <dc:language>en-US</dc:language>
  <cp:lastModifiedBy>ukyawnaing</cp:lastModifiedBy>
  <dcterms:modified xsi:type="dcterms:W3CDTF">2012-10-11T04:51:32Z</dcterms:modified>
  <cp:revision>1</cp:revision>
  <dc:subject/>
  <dc:title>Slide 1</dc:title>
</cp:coreProperties>
</file>