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70C-490A-4E13-8A4C-635BFB56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A6F7-D942-4294-A45A-55BA371FA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08C-C610-4E2D-921A-4F7C8AFF6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8174-52F3-4886-A301-76512AEBD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55C9-E7A9-4DC3-AFA4-398839880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F9142-7A20-4041-9BA1-4D59CB45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A0BCE-B59F-4309-8BF1-782C59C5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2605A-BE71-495F-99B8-6B12D7B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CBE3-B516-4D6A-BC6E-49E0EBC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53AB-A296-4C39-B4D1-173B4BBE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317CA-318E-4643-A911-8A5C08B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E82BD-E4E5-4124-8578-BDDB7F62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3DE3-818D-4A55-A5D0-D43BE0834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9CFE8-D74C-44D3-B0C6-AFC2F61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07B3-1C5D-4C95-9807-6516125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C396C-CF27-4BB7-8C26-7D8CD9E3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9ECA7-C148-4A03-82BA-88D1AD35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76307-11F6-4F1A-BAD9-15398839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F08F-7973-4715-AA2D-7C9BF5506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99A5-78DA-4AD5-813B-EBAC0B0CF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B4F8-1B07-4EC4-9CA5-6DA75BF77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6C4C-EF12-43BC-AFA8-F16813F76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C0B8-E66C-40E2-8045-EA90E52BA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6E4D-2847-41F2-8E0D-79174DE85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986F-2EE2-40D5-AF70-88A225005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DE60037-CF4F-42DD-96CD-3B873391BDC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DED-F5FC-4E94-B43E-E7E154301D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B99C5618-39B7-41E4-9F0F-537D289BA85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orouzan4e07_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77CEC45-B40C-4338-9E0D-99A092B2D6A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99160" y="380880"/>
            <a:ext cx="64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fully connected mesh topology (five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927080" y="1652760"/>
            <a:ext cx="4854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74F383E-0A0F-4A00-9263-073B1346ED7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9160" y="3808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tar topology connecting four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562040" y="18813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645C49F-50C8-44C9-B0ED-FC55B9CE85F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99880" y="45720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bus topology connecting thre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69880" y="2362320"/>
            <a:ext cx="78883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91CA526-017B-4889-B82E-302E9E8CC9E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0240" y="45720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ring topology connecting six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46240" y="1922400"/>
            <a:ext cx="8592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528E5F56-DF3E-417F-800F-6C5C31D8FE2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5200" y="3808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ybrid topology: a star backbone with three bu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736560" y="1490760"/>
            <a:ext cx="68835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E22BA8B2-341F-48FF-8802-9CF13780B79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7560" y="3618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es of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signed to provide local inter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ong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larg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areas such as a city, a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5788A1AE-89A5-4A71-AFFE-D5322C44F4E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95920" y="3808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 isolated LAN connecting 12 computers to a hub in a clo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239840" y="1622520"/>
            <a:ext cx="61516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11F6243-6E60-40FB-A5DE-FF24869C3F4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98440" y="38088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7112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8FD8903-2198-4B99-B2B2-CD5BA48EC13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5560" y="2286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eterogeneous network made of four WANs and two 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1824120" y="990720"/>
            <a:ext cx="574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EB0192AB-D13F-4D57-9DD6-7D6C055270A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6080" y="15228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 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632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has revolutionized many aspects of our daily lives. It has affected the way we do business as well as the way we spend our leisure time. The Internet is a communication system that has brought a wealth of information to our fingertips and organized it for our us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28600" y="5045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Organization of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ternet Service Providers (IS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41200" y="4511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1BFE9D1-7D1F-4D28-AEDC-372604382E7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3920" y="19512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1   DATA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320" y="9910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lecommun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s communication at a distance. The wor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efers to information presented in whatever form is agreed upon by the parties creating and using the data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communicati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re the exchange of data between two devices via some form of transmission medium such as a wire cab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228600" y="5048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mponents of a data communication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ata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241200" y="4572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ED0BC974-EE43-499B-82EB-C41A6E23F87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0240" y="3049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B5769B12-572B-4FCD-89A2-E94DD10C855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6800" y="1522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4  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0825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rotocol is synonymous with rule. It consists of a set of rules that govern data communications. It determines what is communicated, how it is communicated and when it is communicated. The key elements of a protocol are syntax, semantics and 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2860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41200" y="3962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BEA00F2-3C94-43E8-A3F4-7EAB07450FB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68640" y="3618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a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ructure or format of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cates how to read the bits - field deline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terprets the meaning of the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nows which fields define what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data should be sent and w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peed at which data should be sent or speed at which it is being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4F221F3-2393-4376-B568-C83854366AB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onents of a data communica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2640" y="2593800"/>
            <a:ext cx="7066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1E7F7AE-8AB0-43D0-BB27-84AEC0A8E96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4840" y="38088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EEC1CA0-F768-4F73-B9F2-C3AB875606D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6800" y="1522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2  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28600" y="121968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a set of devices (often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connected by communicatio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ink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 node can be a computer, printer, or any other device capable of sending and/or receiving data generated by other nodes on the network. A link can be a cable, air, optical fiber, or any medium which can transport a signal carrying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Network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ysica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ategories of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6360" y="43434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E0CFE514-E8F6-4676-9DDD-7A49ABE6E85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2040" y="3618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rite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pends on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Delay and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ilure rate of network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availability/robust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ta protection against corruption/loss of data du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888448D-7D76-43D7-8C77-D5206130A17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0440" y="36180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ype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to Point - single transmitt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ltipoint - multiple recipients of single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nection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ype of transmission - unicast, mulitcast, broad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D9EB319-9BD6-412A-9A45-5863DAF8868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000" y="45720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connections: point-to-point and 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8281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D8E33EB-4F4E-42F6-807D-FBB666BD604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1320" y="3808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top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154160" y="2317680"/>
            <a:ext cx="6389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28:17Z</dcterms:created>
  <dc:creator>Magda El Zarki</dc:creator>
  <dc:description/>
  <dc:language>en-US</dc:language>
  <cp:lastModifiedBy>ukyawnaing</cp:lastModifiedBy>
  <dcterms:modified xsi:type="dcterms:W3CDTF">2012-10-11T02:55:21Z</dcterms:modified>
  <cp:revision>5</cp:revision>
  <dc:subject/>
  <dc:title>PowerPoint Presentation</dc:title>
</cp:coreProperties>
</file>