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3D4-B624-40E4-A634-916F346B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1D0-FC3B-4653-9E9E-D9DADAF1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CF1-5200-4AE9-AD0A-300A1042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8E9-E483-469A-8218-36E1978D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01-F30E-415F-80EF-C153B336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BB0-7205-4217-946A-E593D36D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7B4-2E37-46D8-8F74-E340E437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3E5-B28A-4585-9137-1715DBDE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2E3-3A42-4D6E-B968-9BA96724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CD2-330F-4771-B716-54B8CB27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79D-D4D7-46F2-BB0C-94EB2EA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48F-F966-46A6-BE8E-A0CF1E2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A01-318E-4D14-B0BD-9CE210176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Viewing Network Connection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My Network Plac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ce you have built a computer network, from time to time, you will need to check what computers are available and/or what files or folders have been shared. To assist you with this, Microsoft Windows XP provides a window named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view the available connected computers: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Viewing the Connected Computer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one of the computers, click Start -&gt;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f you don't see that option in the right column of the Start menu, depending of your configuration, click Start -&gt; Settings -&gt; Network Connections. Then, under Other Places, click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an alternative, you can click Start -&gt; Control Panel or Start -&gt; Settings -&gt; Control Panel. Under Other Places, click My Network Places.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View Workgroup Comput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Viewing Workgroup Computers With 3 Nodes"/>
          <p:cNvPicPr/>
          <p:nvPr/>
        </p:nvPicPr>
        <p:blipFill>
          <a:blip r:embed="rId1"/>
          <a:stretch/>
        </p:blipFill>
        <p:spPr>
          <a:xfrm>
            <a:off x="0" y="0"/>
            <a:ext cx="83883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5:09Z</dcterms:created>
  <dc:creator>ukyawnaing</dc:creator>
  <dc:description/>
  <dc:language>en-US</dc:language>
  <cp:lastModifiedBy>ukyawnaing</cp:lastModifiedBy>
  <dcterms:modified xsi:type="dcterms:W3CDTF">2012-10-11T05:37:44Z</dcterms:modified>
  <cp:revision>2</cp:revision>
  <dc:subject/>
  <dc:title>Viewing Network Connections    My Network Places Once you have built a computer network, from time to time, you will need to check what computers are available and/or what files or folders have been shared. To assist you with this, Microsoft Windows XP provides a window named My Network Places. To view the available connected computers:  Practical Learning: Viewing the Connected Computers On one of the computers, click Start -&gt; My Network Places. If you don't see that option in the right column of the Start menu, depending of your configuration, click Start -&gt; Settings -&gt; Network Connections. Then, under Other Places, click My Network Places. As an alternative, you can click Start -&gt; Control Panel or Start -&gt; Settings -&gt; Control Panel. Under Other Places, click My Network Places.  Under Network Tasks, click View Workgroup Computers </dc:title>
</cp:coreProperties>
</file>