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1ACF-B5F0-4515-8662-59D18320E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0B11-3AAE-4F06-8FAC-880FD24ED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650C-A11D-4C9E-97BA-E34ABDE30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6A41-CA2E-453B-A468-2305B6D68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237C-E2C4-44E6-B032-52D8A27B2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B999-E0A2-4DD3-B096-4FBAF239F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285D-E15A-4A52-BBBD-0C519CA61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21D8-D98B-420B-B7F4-0801F0B09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3D89-FB2B-43B0-BFFF-2EF3B7275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D3E1-2958-4EA6-84B2-172F42BF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25C3-4FEF-48F4-B0BF-63106449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1019-8FB6-484D-820A-49211651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F9715-36CB-4513-9DEF-A69134A52D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472680" y="47628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0000"/>
                </a:solidFill>
                <a:latin typeface="Calibri"/>
              </a:rPr>
              <a:t>Network Cab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1"/>
          <p:cNvSpPr/>
          <p:nvPr/>
        </p:nvSpPr>
        <p:spPr>
          <a:xfrm>
            <a:off x="414000" y="983520"/>
            <a:ext cx="8500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Cable is used to connect computers. Although we are planning to use as much wireless as possible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you should always have one or more cables around. In our network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we will use Category 5 cable RJ-45. The ends of the cable appear as follow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able1"/>
          <p:cNvPicPr/>
          <p:nvPr/>
        </p:nvPicPr>
        <p:blipFill>
          <a:blip r:embed="rId1"/>
          <a:stretch/>
        </p:blipFill>
        <p:spPr>
          <a:xfrm>
            <a:off x="900000" y="1989000"/>
            <a:ext cx="1584360" cy="874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cable2"/>
          <p:cNvPicPr/>
          <p:nvPr/>
        </p:nvPicPr>
        <p:blipFill>
          <a:blip r:embed="rId2"/>
          <a:stretch/>
        </p:blipFill>
        <p:spPr>
          <a:xfrm>
            <a:off x="3851280" y="1773360"/>
            <a:ext cx="1174680" cy="1224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network3"/>
          <p:cNvPicPr/>
          <p:nvPr/>
        </p:nvPicPr>
        <p:blipFill>
          <a:blip r:embed="rId3"/>
          <a:stretch/>
        </p:blipFill>
        <p:spPr>
          <a:xfrm>
            <a:off x="1619280" y="2924280"/>
            <a:ext cx="4827600" cy="37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04:39:18Z</dcterms:created>
  <dc:creator>ukyawnaing</dc:creator>
  <dc:description/>
  <dc:language>en-US</dc:language>
  <cp:lastModifiedBy>ukyawnaing</cp:lastModifiedBy>
  <dcterms:modified xsi:type="dcterms:W3CDTF">2012-10-11T04:41:49Z</dcterms:modified>
  <cp:revision>1</cp:revision>
  <dc:subject/>
  <dc:title>Slide 1</dc:title>
</cp:coreProperties>
</file>