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3F7-20D6-4B80-9F75-5172D2CC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6B8-262B-464B-A05F-64AE6F95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4E6-39FF-4E81-83A2-CD55CAEF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CB0-2037-400E-A46C-28510C9D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4CD-2EA4-4AEB-8BDA-32D7854B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8C9-05BF-44BD-B46E-DBA742EE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B04-D839-4AC5-B342-6F34BB07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36D-2B90-4315-A402-2BD4AFD9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A9A-7E27-4383-8299-553C586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CA9-8789-4256-9004-8826389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1F7-C6D2-45B8-95AA-7091DDC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B07-3170-44CE-9482-550C9A8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3E81-2156-46DC-82A4-184DFAD4BD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9400" y="5493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Wired Network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68360" y="981000"/>
            <a:ext cx="41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order to connect to a network, a computer must be equipped with a device called a network  card. A network card, or a network adapter, also called a network interface card, or NIC,  allows a computer to connect to the exterior. If you buy a computer from one of those popular  stores or big companies on the Internet, most of their computers have a network card tested and alrea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ou can reliably use it. If you go to a store that sells or manufactures comput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ou can ask them to install or make sure that the computer has a network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nic1"/>
          <p:cNvPicPr/>
          <p:nvPr/>
        </p:nvPicPr>
        <p:blipFill>
          <a:blip r:embed="rId1"/>
          <a:stretch/>
        </p:blipFill>
        <p:spPr>
          <a:xfrm>
            <a:off x="4716360" y="2133720"/>
            <a:ext cx="3969000" cy="223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611280" y="50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 network card could also be used or installed externally. This can be done using US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usb1"/>
          <p:cNvPicPr/>
          <p:nvPr/>
        </p:nvPicPr>
        <p:blipFill>
          <a:blip r:embed="rId2"/>
          <a:stretch/>
        </p:blipFill>
        <p:spPr>
          <a:xfrm>
            <a:off x="5364000" y="4724280"/>
            <a:ext cx="1381320" cy="1225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usb2"/>
          <p:cNvPicPr/>
          <p:nvPr/>
        </p:nvPicPr>
        <p:blipFill>
          <a:blip r:embed="rId3"/>
          <a:stretch/>
        </p:blipFill>
        <p:spPr>
          <a:xfrm>
            <a:off x="7093080" y="4508640"/>
            <a:ext cx="1592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5:14Z</dcterms:created>
  <dc:creator>ukyawnaing</dc:creator>
  <dc:description/>
  <dc:language>en-US</dc:language>
  <cp:lastModifiedBy>ukyawnaing</cp:lastModifiedBy>
  <dcterms:modified xsi:type="dcterms:W3CDTF">2012-10-11T04:50:26Z</dcterms:modified>
  <cp:revision>2</cp:revision>
  <dc:subject/>
  <dc:title>Slide 1</dc:title>
</cp:coreProperties>
</file>