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E2FC-182C-4A29-B2D8-F1D048A0A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7D82-3BE2-4813-AFF0-98D87DEE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7AA8-A406-4591-AAD3-522C7BCE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30E6-F2C0-4B17-B834-1E4454D2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D6F6-9D3B-4D9E-88C2-683C08EE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6BFD-A2C9-435E-B311-893D7CE0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FBE8-D39A-4E90-B96C-7C16A50D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B350-6864-4A66-AB50-7785C394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78C3-09D6-4EC2-85FC-8C232E75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40BA-44C6-4363-9999-42B26FA1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5BFC-2A3E-43A9-9DC6-43DACFBD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4123-0B15-441C-A545-12210121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4863-314B-467D-B832-CB2EFF9542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395280" y="260280"/>
            <a:ext cx="7272360" cy="30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Network Setup on Additional Comput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After setting up the network on one computer, you can continue with the next computer. You two alternatives: you can use the same network wizard or you can use the setup disk you would have cre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To setup the network on the other computer(s) that will be part of your network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Practical Learning: Connecting Additional Comput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On the next computer, click Start -&gt; Network Plac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Under Network Tasks, click Set Up A Home Or Office Network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In the first page of the wizard, read the text and click Next</a:t>
            </a:r>
            <a:br>
              <a:rPr sz="1600"/>
            </a:b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networkwiz1"/>
          <p:cNvPicPr/>
          <p:nvPr/>
        </p:nvPicPr>
        <p:blipFill>
          <a:blip r:embed="rId1"/>
          <a:stretch/>
        </p:blipFill>
        <p:spPr>
          <a:xfrm>
            <a:off x="1763640" y="2711520"/>
            <a:ext cx="532944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networkwiz2"/>
          <p:cNvPicPr/>
          <p:nvPr/>
        </p:nvPicPr>
        <p:blipFill>
          <a:blip r:embed="rId1"/>
          <a:stretch/>
        </p:blipFill>
        <p:spPr>
          <a:xfrm>
            <a:off x="0" y="0"/>
            <a:ext cx="874872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networkwiz20"/>
          <p:cNvPicPr/>
          <p:nvPr/>
        </p:nvPicPr>
        <p:blipFill>
          <a:blip r:embed="rId1"/>
          <a:stretch/>
        </p:blipFill>
        <p:spPr>
          <a:xfrm>
            <a:off x="0" y="0"/>
            <a:ext cx="874872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networkwiz21"/>
          <p:cNvPicPr/>
          <p:nvPr/>
        </p:nvPicPr>
        <p:blipFill>
          <a:blip r:embed="rId1"/>
          <a:stretch/>
        </p:blipFill>
        <p:spPr>
          <a:xfrm>
            <a:off x="0" y="0"/>
            <a:ext cx="8459640" cy="66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networkwiz22"/>
          <p:cNvPicPr/>
          <p:nvPr/>
        </p:nvPicPr>
        <p:blipFill>
          <a:blip r:embed="rId1"/>
          <a:stretch/>
        </p:blipFill>
        <p:spPr>
          <a:xfrm>
            <a:off x="0" y="0"/>
            <a:ext cx="8532720" cy="66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networkwiz23"/>
          <p:cNvPicPr/>
          <p:nvPr/>
        </p:nvPicPr>
        <p:blipFill>
          <a:blip r:embed="rId1"/>
          <a:stretch/>
        </p:blipFill>
        <p:spPr>
          <a:xfrm>
            <a:off x="0" y="0"/>
            <a:ext cx="867564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networkwiz14"/>
          <p:cNvPicPr/>
          <p:nvPr/>
        </p:nvPicPr>
        <p:blipFill>
          <a:blip r:embed="rId1"/>
          <a:stretch/>
        </p:blipFill>
        <p:spPr>
          <a:xfrm>
            <a:off x="0" y="0"/>
            <a:ext cx="8604360" cy="66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networkwiz15"/>
          <p:cNvPicPr/>
          <p:nvPr/>
        </p:nvPicPr>
        <p:blipFill>
          <a:blip r:embed="rId1"/>
          <a:stretch/>
        </p:blipFill>
        <p:spPr>
          <a:xfrm>
            <a:off x="0" y="0"/>
            <a:ext cx="87487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5:30:59Z</dcterms:created>
  <dc:creator>ukyawnaing</dc:creator>
  <dc:description/>
  <dc:language>en-US</dc:language>
  <cp:lastModifiedBy>ukyawnaing</cp:lastModifiedBy>
  <dcterms:modified xsi:type="dcterms:W3CDTF">2012-10-11T05:34:42Z</dcterms:modified>
  <cp:revision>1</cp:revision>
  <dc:subject/>
  <dc:title>Slide 1</dc:title>
</cp:coreProperties>
</file>