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AAB1-E339-440D-BEC9-589D1A38C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EDFD-3FF3-4DC4-8B4B-6A701DE61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FF56-E79D-48EA-85C0-E7107AFA3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F7FB-2F2D-45A4-9728-742D1F1A0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416A6-4E40-463C-A396-2676C384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6204A-9573-4EB8-BFC5-95D76530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BFE9C-BDD1-4168-843F-F977E9D1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BAAB2-832C-4F7B-A0F8-08C1A21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387BD-207A-472E-B813-EC4FFB4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C9E14-81B8-4970-8852-5E8D197D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4EC12-F536-4EFB-BC5C-04378AF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D472-47BD-4A50-B1EE-F03E5CE9E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2F47-D186-4E25-855B-30213E7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CA1BC-5C44-4F09-B737-9C4385E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20FD-B235-4080-819E-635B03F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DCD06-0FBF-41B4-A6D1-DDEA168E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471B8-3F86-4C18-A354-79A2441A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56B6-27D4-4F37-BB4E-0BB732556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370D-24CC-4010-974F-D676CABD0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725D-C110-4A9B-BB67-9BBD60368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2519-356C-48DF-A775-B9153A0ED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5A95-590E-48D2-AE3E-0D44BD3F3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9D12-C162-4155-AE3B-85A8C0AF3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75E7-B903-4355-80D2-D6E50F747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5.</a:t>
            </a:r>
            <a:fld id="{FFC74D62-B0B7-413E-8A08-03FD09FCA48F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12E-0F14-4985-A7DE-B83B21E533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og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EF43-85E3-4EBC-8057-E1EB34E9B1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76212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839080" cy="43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18F9-1E55-46E4-9DC4-8784A41217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7840" y="3089160"/>
            <a:ext cx="7934040" cy="11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1C4F-DF74-4119-AD78-0F27C282C9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Modulation (PM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only changes the phase of the carrier sig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hase change manifests itself as a frequency change but the instantaneous frequency change is proportional to the derivative of the amplit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is higher than for A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E396-A087-4013-B37B-B552757F4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76212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360" y="1600200"/>
            <a:ext cx="8775720" cy="41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2DDC-0762-4CD1-963D-20464499A7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3623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50292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360" y="2454120"/>
            <a:ext cx="8077320" cy="308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P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maximum amplitude of the modulating signal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 most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AF7F-F7F0-4A8A-A500-0560543AB9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20" y="4064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2   ANALOG AND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3845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alog-to-analog conversion is the representation of analog information by an analog signal. One may ask why we need to modulate an analog signal; it is already analog. Modulation is needed if the medium is bandpass in nature or if only a bandpass channel is available to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requency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Phas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C3A0-FA1C-49D0-92F9-E3FB84335E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7621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analog-to-analog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5200" y="2486160"/>
            <a:ext cx="8391600" cy="21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B860-77F9-4439-9DBE-24258C392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rrier signal is modulated only in amplitude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ating signal is the envelope of the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quired bandwidth is 2B, where B is the bandwidth of the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on both sides of the carrier freq.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spectrum is identical, we can discard one half, thus requiring a smaller bandwidth for transmi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AD8B-ADD8-40C4-A3FA-D99BFE950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76212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920" y="1763640"/>
            <a:ext cx="882180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DC76-F973-4CCA-B554-7D7BEC718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5480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640" y="5291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2685960"/>
            <a:ext cx="8077320" cy="2598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bandwidth of the audi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905120"/>
            <a:ext cx="1143000" cy="566640"/>
            <a:chOff x="457200" y="1905120"/>
            <a:chExt cx="1143000" cy="5666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92200" y="19051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0BAB-EFF2-45D2-83E3-F56D11227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3246480"/>
            <a:ext cx="6919920" cy="109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79A9-388D-47A1-A7D5-7129579570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quency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changes the freq.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for FM is hi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pprox. 10x the signal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2737-F1C0-490F-9477-6238300779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9718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4724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60" y="3063960"/>
            <a:ext cx="8077320" cy="21110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F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audio 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 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sually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2362320"/>
            <a:ext cx="1143000" cy="566640"/>
            <a:chOff x="457200" y="2362320"/>
            <a:chExt cx="1143000" cy="566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92200" y="23623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00E8-6DBA-42A8-86BA-4C99CBC828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06T07:41:57Z</dcterms:modified>
  <cp:revision>154</cp:revision>
  <dc:subject/>
  <dc:title>PowerPoint Presentation</dc:title>
</cp:coreProperties>
</file>