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894-E225-4501-B45E-E575166E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DDC-CB05-4435-8815-8680D502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C25-DFFC-44E5-8568-361C974F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741-18F8-44EB-8A72-B04A7D2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10-0C66-42BA-BA0D-2395B75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8C2-C117-4C25-B167-15C0C1BA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47A-0BDC-4D66-96BC-7ADF6C44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FCF-A7BA-4E75-8326-6BC8DEB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623-E493-456D-9CB3-8BE34A4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553-D844-4545-865D-B30BCC6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A16-8B3E-4D43-9FA7-D95F78A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F06-1596-4AC2-8106-73D526A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7276-DE59-4B87-819C-9E14AE7B4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unctionx.com/networking/Lesson01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33160" y="747000"/>
            <a:ext cx="607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1"/>
              </a:rPr>
              <a:t>computer network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n be two computers connect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http://www.functionx.com/illustrations/connect2pc1.gif"/>
          <p:cNvPicPr/>
          <p:nvPr/>
        </p:nvPicPr>
        <p:blipFill>
          <a:blip r:embed="rId2"/>
          <a:stretch/>
        </p:blipFill>
        <p:spPr>
          <a:xfrm>
            <a:off x="1979640" y="1341360"/>
            <a:ext cx="376236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545480" y="2567160"/>
            <a:ext cx="63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can also consist of, and is usually made for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than two comput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functionx.com/illustrations/network1.gif"/>
          <p:cNvPicPr/>
          <p:nvPr/>
        </p:nvPicPr>
        <p:blipFill>
          <a:blip r:embed="rId3"/>
          <a:stretch/>
        </p:blipFill>
        <p:spPr>
          <a:xfrm>
            <a:off x="2411280" y="3429000"/>
            <a:ext cx="3024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26:38Z</dcterms:created>
  <dc:creator>ukyawnaing</dc:creator>
  <dc:description/>
  <dc:language>en-US</dc:language>
  <cp:lastModifiedBy>ukyawnaing</cp:lastModifiedBy>
  <dcterms:modified xsi:type="dcterms:W3CDTF">2012-10-11T04:30:07Z</dcterms:modified>
  <cp:revision>1</cp:revision>
  <dc:subject/>
  <dc:title>Slide 1</dc:title>
</cp:coreProperties>
</file>