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2675-FFB1-4FA5-8A61-153ED2858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AE2F-CCAD-48B3-92C8-A2FCE6DFF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EFFF-6523-4679-BB37-91300F8B8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9605-EAEB-48F1-A754-F5ECDA555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6F353-30BE-439C-B67A-BC7309F9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36644-C776-4556-B678-8B11E883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B4272-0D59-45D5-996B-2BA78E56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BF85B-7239-4DFA-A2F0-0E301ADB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46333-36F7-460B-8382-57715325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8BB47-AA1D-4602-8ECA-CE87161A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5B3D8-6596-42E2-84D3-0FFC0517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C3D2-033B-4E7E-B891-1B54D0A62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B8B8C-66CB-412C-BD20-73EE9565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BD285-14DE-417A-BC31-29399E35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0CBD1-F494-4A9C-8F13-37054FD7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6DC65-B808-45FF-BA9B-461BD67D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5C3E1-0A5F-4A68-A648-B7ABE277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841E-BAB5-44FB-8D67-391C66268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25B1-037F-4A56-BA6F-F576F0649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0F70-CAF3-4058-80BF-802539FD1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9E1F-04FB-4117-87DC-DFD1C4167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8525-160E-4734-AD1C-0716B4408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D19D-4272-47A5-8169-32FB6BACA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38AE-843B-4292-847C-FCB160493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6.</a:t>
            </a:r>
            <a:fld id="{2EEE4AB0-F6A2-405C-9D68-00197E904697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B4F3-513C-403B-A7CC-70F2E93672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2514600"/>
            <a:ext cx="685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ndwidth Utiliza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plexing and Sp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A2D1-E201-498B-8BB9-F38EE15712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2760" y="762120"/>
            <a:ext cx="33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3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SSS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8875440" cy="351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4595-89E3-4D78-B307-3DA4403B16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200" y="2286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1   SPREAD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99072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spread spectrum (SS), we combine signals from different sources to fit into a larger bandwidth, but our goals are to prevent eavesdropping and jamming. To achieve these goals, spread spectrum techniques add redunda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477216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requency Hopping Spread Spectrum (FH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Direct Sequence Spread Spectrum (DS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4880" y="429588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80D4-2151-4574-95D1-42064D1F61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gnal that occupies a bandwidth of B, i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rea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to occupy a bandwidth of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signals are spread to occupy the same bandwidth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are spread with different codes so that they can be separated at the receiv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can be spread in the frequency domain or in the time doma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84B3-892F-4EC9-BAE2-709AC5722A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3480" y="76212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2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pread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3640" y="2351160"/>
            <a:ext cx="7788240" cy="305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DCCE-F810-4DFC-842B-6719E4AB28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720" y="76212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28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equency hopping spread spectrum (FH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00280" y="1693800"/>
            <a:ext cx="7277040" cy="440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42BE-C3A9-4542-A82A-2546FB71B7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3480" y="76212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2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equency selection in FH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321680" cy="435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F349-F399-4F6A-9B25-858444C799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5640" y="76212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30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HSS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70000" y="1676520"/>
            <a:ext cx="6983280" cy="438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60A7-BA31-4B55-A47D-3745E86339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3120" y="762120"/>
            <a:ext cx="38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3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andwidth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2001960"/>
            <a:ext cx="8656560" cy="386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AE54-523C-4F5E-8F02-2B22E0F13D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76212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3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4200" y="2490840"/>
            <a:ext cx="8126280" cy="276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C31F-D674-442B-8B1B-0901A42708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Magda El Zarki</cp:lastModifiedBy>
  <dcterms:modified xsi:type="dcterms:W3CDTF">2007-11-20T06:11:55Z</dcterms:modified>
  <cp:revision>161</cp:revision>
  <dc:subject/>
  <dc:title>PowerPoint Presentation</dc:title>
</cp:coreProperties>
</file>