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477F-7AE8-46E8-8BB3-C273C5F22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A7D9-80D2-4E8B-8CCA-F768064B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7340-BF42-46C1-AC06-27B783B5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35B8-2023-48CD-BF7F-40F4D3B0C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A032-BC39-4900-8098-51485C23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129B-DD60-418C-B65B-6201A06A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D68E-BC07-41F9-9098-3185D606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EC35-E436-4DA0-A0C7-34B3A17A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36C9-4F64-4F0D-B2A2-75AAA913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73A0-4B56-4946-9725-CCFDE217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D683-38C0-4B84-9098-6F562351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07E0-168E-41A3-9E29-CA190680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0C31-5331-4967-A38B-CF7741F5D5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onnect3"/>
          <p:cNvPicPr/>
          <p:nvPr/>
        </p:nvPicPr>
        <p:blipFill>
          <a:blip r:embed="rId1"/>
          <a:stretch/>
        </p:blipFill>
        <p:spPr>
          <a:xfrm>
            <a:off x="755640" y="882720"/>
            <a:ext cx="648036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5:03:53Z</dcterms:created>
  <dc:creator>ukyawnaing</dc:creator>
  <dc:description/>
  <dc:language>en-US</dc:language>
  <cp:lastModifiedBy>ukyawnaing</cp:lastModifiedBy>
  <dcterms:modified xsi:type="dcterms:W3CDTF">2012-10-11T05:04:39Z</dcterms:modified>
  <cp:revision>1</cp:revision>
  <dc:subject/>
  <dc:title>Slide 1</dc:title>
</cp:coreProperties>
</file>