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C7A-4C25-42B9-9C29-4D2C274D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A7B-5185-4650-8575-DF7B3B9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AA5-4FE9-4F09-86CF-AF6BDB9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611-5C50-47C3-A863-619EE749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B1E-8541-49C8-BBF0-5FE58BD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9AB-E24F-4C3D-8B63-AE7CAE35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4F4-E67B-4A9D-A591-1C4C180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3F9-9247-42F4-B95E-8D4AB225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4E9-1163-433E-AFBE-C978DFD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A33-563C-48DB-A1D9-E3D07BB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B06-FAA1-41AB-A9C9-5C944F6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6A1-E3E3-4123-B19F-32CC6BB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B933-F265-4DBC-9D60-D797FC1246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cessary Hardware and Softwar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Server Machin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Lesson 1, we saw that a server was another computer that can participate in a client/server network, as opposed to a peer-to-peer network. A server is used to hold resources and items that other computers would need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network4"/>
          <p:cNvPicPr/>
          <p:nvPr/>
        </p:nvPicPr>
        <p:blipFill>
          <a:blip r:embed="rId1"/>
          <a:stretch/>
        </p:blipFill>
        <p:spPr>
          <a:xfrm>
            <a:off x="900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A processor with 133-MHz or higher speed; 550-MHz recommended; up to eight processors supported on one server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CD-ROM or DVD-ROM drive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If necessary, you can purchase additional items to meet these requirements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7:48Z</dcterms:created>
  <dc:creator>ukyawnaing</dc:creator>
  <dc:description/>
  <dc:language>en-US</dc:language>
  <cp:lastModifiedBy>ukyawnaing</cp:lastModifiedBy>
  <dcterms:modified xsi:type="dcterms:W3CDTF">2012-10-11T05:39:59Z</dcterms:modified>
  <cp:revision>1</cp:revision>
  <dc:subject/>
  <dc:title>Necessary Hardware and Software    Server Machines In Lesson 1, we saw that a server was another computer that can participate in a client/server network, as opposed to a peer-to-peer network. A server is used to hold resources and items that other computers would need: </dc:title>
</cp:coreProperties>
</file>