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3937-C6CC-4B2A-A577-200D565F5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BF7C-F9DE-4936-8DC9-8BF081772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1715-C092-41D4-8D02-DD7DA3F0B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22BE-3D53-4361-B87B-831955CF4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0572-0D0C-4995-AC40-3712F3FEE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19DEA-442A-4DCF-A137-BB767E16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7A44B-7556-4A0D-B949-5771B5FA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E3F20-A3E8-411D-A38E-859C514A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CBAD3-C588-4412-9F50-D69CC3C0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BC46D-FF0D-4CCF-B7B4-F0030EB5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E5FB7-B76B-41F0-83DE-E0A7ABC3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9A4F2-DE29-4E1D-B178-86C282CE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B02B-34F2-4F4B-8D7E-D05D869DA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B98DD-FC42-468B-B15C-23408247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24ACF-5EA8-4791-BDA8-931F1157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85B4D-DBF7-49B4-BC22-6A0F7E69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768F6-9B5C-452A-95E4-01C1E804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8E807-F3C9-4D2E-8EDB-DB2A82FA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A753-8C6B-410A-AC4A-965CB792B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E6BF-07F0-4CA2-97E6-FDA6DAEC6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51BF-5EB4-46E1-A8A8-7A4CDD13A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2ED85-EEF3-4186-A2A5-E17B908AC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4458-1250-4368-B006-7E31987DE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D279-742D-4F16-86BB-2A5809E37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8040-8D34-432C-A072-1A82F64B3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8E21BC27-F819-46CF-AE33-05C06C4632E6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17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B831-E8FC-4E2B-A22F-0CA3B0FCD4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2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AE183A2F-C34A-4B79-8F0F-A22726C70EE6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Forouzan4e07_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143000" y="2514600"/>
            <a:ext cx="6858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9B26AE89-35D5-42B2-AB6A-F8221F41EDBB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99160" y="380880"/>
            <a:ext cx="64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fully connected mesh topology (five devi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1927080" y="1652760"/>
            <a:ext cx="48546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BB002052-1CFC-4324-BBCA-A305FDB14826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99160" y="380880"/>
            <a:ext cx="58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star topology connecting four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562040" y="1881360"/>
            <a:ext cx="59054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0922247D-493C-4C65-8A36-62899EDF5692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99880" y="457200"/>
            <a:ext cx="59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bus topology connecting three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569880" y="2362320"/>
            <a:ext cx="788832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C2B3FA11-F629-496A-BC94-4B56FB27E0E1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00240" y="457200"/>
            <a:ext cx="57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ring topology connecting six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246240" y="1922400"/>
            <a:ext cx="85928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70432316-E97B-439D-ADF6-B24F6083DB55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95200" y="38088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hybrid topology: a star backbone with three bus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736560" y="1490760"/>
            <a:ext cx="688356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0A967266-08BE-44E1-9BEB-7CE75B16B75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67560" y="361800"/>
            <a:ext cx="42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egories of Net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ocal Area Networks (L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hort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esigned to provide local interconn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de Area Networks (W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ong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vide connectivity over larg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ropolitan Area Networks (M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vide connectivity over areas such as a city, a camp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3C7F39EE-0D0D-4E2F-B358-9B3FF3B54062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95920" y="380880"/>
            <a:ext cx="83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n isolated LAN connecting 12 computers to a hub in a clo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1239840" y="1622520"/>
            <a:ext cx="61516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77CC6CCF-6B92-4407-ADD7-0015B331EBB0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98440" y="380880"/>
            <a:ext cx="71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Ns: a switched WAN and a point-to-point W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1117440" y="1116000"/>
            <a:ext cx="711216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94547011-7137-4416-9CD6-77D5DBCCE843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95560" y="22860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heterogeneous network made of four WANs and two 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1824120" y="990720"/>
            <a:ext cx="5740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7AAA55D0-F9CC-4F6D-8FFF-1967DF18FD7A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26080" y="152280"/>
            <a:ext cx="41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3  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6320" y="121932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nterne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has revolutionized many aspects of our daily lives. It has affected the way we do business as well as the way we spend our leisure time. The Internet is a communication system that has brought a wealth of information to our fingertips and organized it for our us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228600" y="5045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Organization of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Internet Service Providers (ISP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41200" y="45115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5B4DF996-8529-48B4-A8F5-8A5B950AD1F2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3920" y="195120"/>
            <a:ext cx="62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1   DATA COMMUN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6320" y="99108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term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elecommunicati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means communication at a distance. The wor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at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refers to information presented in whatever form is agreed upon by the parties creating and using the data.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ata communication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are the exchange of data between two devices via some form of transmission medium such as a wire cabl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228600" y="5048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Components of a data communications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ata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241200" y="45720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804C9123-DDD4-400C-B90F-9C5B336E4661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"/>
          <p:cNvSpPr/>
          <p:nvPr/>
        </p:nvSpPr>
        <p:spPr>
          <a:xfrm>
            <a:off x="152280" y="763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00240" y="304920"/>
            <a:ext cx="61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ierarchical organization of the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668600" y="1095480"/>
            <a:ext cx="54943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8F6774A9-648C-4758-9FFC-8A82A698A7FF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6800" y="152280"/>
            <a:ext cx="35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4   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28600" y="108252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protocol is synonymous with rule. It consists of a set of rules that govern data communications. It determines what is communicated, how it is communicated and when it is communicated. The key elements of a protocol are syntax, semantics and ti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228600" y="4495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Synta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Seman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Ti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241200" y="39625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D1C15664-A8AF-4504-8894-FF86392322FF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68640" y="361800"/>
            <a:ext cx="41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ments of a Protoc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tructure or format of th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dicates how to read the bits - field deline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man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terprets the meaning of the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Knows which fields define what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en data should be sent and wh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peed at which data should be sent or speed at which it is being recei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B74F6842-D3C9-4534-A617-FBC8DDDE3F8F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04920" y="380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mponents of a data communication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2640" y="2593800"/>
            <a:ext cx="70660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DAE675D2-099E-47F8-AEC9-A805FCAD0024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4840" y="38088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ta flow (simplex, half-duplex, and full-duple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219320" y="1171440"/>
            <a:ext cx="6489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16EC543C-82F8-4F08-9B2C-D997140EB74B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6800" y="15228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2   NET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28600" y="121968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etwor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is a set of devices (often referred to a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de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connected by communicatio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ink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 A node can be a computer, printer, or any other device capable of sending and/or receiving data generated by other nodes on the network. A link can be a cable, air, optical fiber, or any medium which can transport a signal carrying inform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04920" y="4876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Network 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hysical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ategories of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06360" y="43434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AEA14B22-FBE2-4052-85CB-8DE391BC59FE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02040" y="36180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Criter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epends on Network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easured in terms of Delay and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ailure rate of network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easured in terms of availability/robust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ata protection against corruption/loss of data due 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rro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alicious 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C7E65C21-3121-4966-8960-EF9CA9A9FBEF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70440" y="361800"/>
            <a:ext cx="35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ysical Stru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ype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oint to Point - single transmitt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ltipoint - multiple recipients of single 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ysical Top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nnection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ype of transmission - unicast, mulitcast, broadca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F57CB186-886D-46C9-8A74-26E9897CF457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000" y="45720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ypes of connections: point-to-point and multi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020600" y="1717560"/>
            <a:ext cx="68281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0E4B4B6E-AC76-4083-9019-E5B3DECC57EF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1320" y="380880"/>
            <a:ext cx="40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tegories of top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154160" y="2317680"/>
            <a:ext cx="63896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4:28:17Z</dcterms:created>
  <dc:creator>Magda El Zarki</dc:creator>
  <dc:description/>
  <dc:language>en-US</dc:language>
  <cp:lastModifiedBy>ukyawnaing</cp:lastModifiedBy>
  <dcterms:modified xsi:type="dcterms:W3CDTF">2012-10-11T02:55:21Z</dcterms:modified>
  <cp:revision>5</cp:revision>
  <dc:subject/>
  <dc:title>PowerPoint Presentation</dc:title>
</cp:coreProperties>
</file>