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37A0-DD46-4F80-8273-EC1630404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4FD4-BC5B-47AF-95C7-CCACBCFB6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FBEC-43F9-4EC6-B183-CCAEB8BD1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F9A67-5CE9-4713-AE3B-6265E0A80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60865-33D8-4860-AF07-E91CFEE1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34A34-2C09-4720-B097-ECBAE5DE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E7D3B-E540-4DA1-A46C-5B294948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BB647-2EA1-4607-A6E3-E0B21EED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1BF79-77CF-4376-858F-CC4A72A8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E0BFB-A8C4-4B40-8199-59E82B4D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81074-9EA5-44E4-B282-7F34446E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35FA-B611-4F48-A164-7CA778AC2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E6AEE-A2AA-46E1-A3AA-5A82B7B3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CC498-649F-443B-AA14-E55E284C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F01B7-C4CE-4AA8-A489-2A964629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3A518-1804-4128-ADFE-57259F2E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2D9F9-D8B8-478E-B4EE-9C776D9E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07DD3-2446-455C-8C3D-85F1E47B9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5E3C-CCF3-4B6A-A33E-C9CD95D5F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B4A4-DC8D-4356-813C-BE4DED834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96CC-EC03-484C-9BDE-8E9E1DA1A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A662-FCF8-41FC-BDA5-FA85A02AF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DC04A-1E3B-46CC-BD20-D629534F5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D638-C198-43AC-9084-30DF03067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6.</a:t>
            </a:r>
            <a:fld id="{33561FC2-5487-4E3A-8678-9C1B02830A05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A4C8-DAB3-461E-843A-0A79890CDC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2514600"/>
            <a:ext cx="685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ndwidth Utiliza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plexing and Sp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16B3-2AD5-48AA-AB50-D9DD2B9CFA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2760" y="762120"/>
            <a:ext cx="33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3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SSS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8875440" cy="351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37C1-75CF-4CCB-BFAC-356108CACC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200" y="2286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1   SPREAD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99072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spread spectrum (SS), we combine signals from different sources to fit into a larger bandwidth, but our goals are to prevent eavesdropping and jamming. To achieve these goals, spread spectrum techniques add redunda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477216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requency Hopping Spread Spectrum (FH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Direct Sequence Spread Spectrum (DS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4880" y="429588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497D-BDB1-4F72-B9AC-D7BE1CC7F8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gnal that occupies a bandwidth of B, i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rea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to occupy a bandwidth of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signals are spread to occupy the same bandwidth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are spread with different codes so that they can be separated at the receiv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can be spread in the frequency domain or in the time doma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A6A7-3371-408A-934E-3BA2DDF85C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3480" y="76212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27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pread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3640" y="2351160"/>
            <a:ext cx="7788240" cy="305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7865-4D16-4A59-9316-E29300E56A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720" y="76212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28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equency hopping spread spectrum (FH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00280" y="1693800"/>
            <a:ext cx="7277040" cy="440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50BF-2238-4665-A31D-65D28ED81E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3480" y="76212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29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equency selection in FH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321680" cy="435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B4A5-C65D-4524-BCF7-959CDA0D09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5640" y="76212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30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HSS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70000" y="1676520"/>
            <a:ext cx="6983280" cy="438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56FF8-44EB-4950-8FE8-143E41A6DF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3120" y="762120"/>
            <a:ext cx="38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3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andwidth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2001960"/>
            <a:ext cx="8656560" cy="386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2F18-DC25-44D8-B69B-7E526CA4F1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76212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3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4200" y="2490840"/>
            <a:ext cx="8126280" cy="276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DC2BB-86AD-4CE6-A910-E11D991224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Magda El Zarki</cp:lastModifiedBy>
  <dcterms:modified xsi:type="dcterms:W3CDTF">2007-11-20T06:11:55Z</dcterms:modified>
  <cp:revision>161</cp:revision>
  <dc:subject/>
  <dc:title>PowerPoint Presentation</dc:title>
</cp:coreProperties>
</file>