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B4E-D428-491B-A40F-C2CD1EB1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73E-F3CA-46AA-B315-BE62FDF9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820-EC3B-4904-A224-0E0F97C3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58D-30DF-4A4A-A580-9AFDE0E7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174-84D0-4CA2-BB2D-428D868A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7DA-7FE7-4CF1-86BA-80B19D48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B36-8C16-4AE4-9998-691694B0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1B52-991D-43F1-A9E1-08A5EC9A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A5A-CBA1-4E71-9717-0677C838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FD0-F4A1-4E56-845F-CAB64AB4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81E-1543-407C-866A-57CA7BEF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AC8-52DD-45F4-8064-D8FC447C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29A6-0005-41AC-BCD5-C31ABA87A9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onnect3"/>
          <p:cNvPicPr/>
          <p:nvPr/>
        </p:nvPicPr>
        <p:blipFill>
          <a:blip r:embed="rId1"/>
          <a:stretch/>
        </p:blipFill>
        <p:spPr>
          <a:xfrm>
            <a:off x="755640" y="882720"/>
            <a:ext cx="648036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03:53Z</dcterms:created>
  <dc:creator>ukyawnaing</dc:creator>
  <dc:description/>
  <dc:language>en-US</dc:language>
  <cp:lastModifiedBy>ukyawnaing</cp:lastModifiedBy>
  <dcterms:modified xsi:type="dcterms:W3CDTF">2012-10-11T05:04:39Z</dcterms:modified>
  <cp:revision>1</cp:revision>
  <dc:subject/>
  <dc:title>Slide 1</dc:title>
</cp:coreProperties>
</file>