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4B6B-1A7C-4B60-A6FA-FDC39822B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72B0-9452-4CC8-8167-70AD5B33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621F-A419-4262-91FF-C145F4807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4915-897F-46F6-92A2-7AF2A077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BA4D-5009-46BA-9639-6CD3D97E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58C7-D915-48AA-8677-AA85110E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1885-53C0-4D10-94AB-A8FEB21D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4632-130F-4002-B71B-1B9EF0C9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EB1B-EECF-4BD9-93B2-07AC4762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0CAA-608B-4B81-A897-EA065290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B752-0F2F-4C55-8B42-3AD5E247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64A3-85CE-4D96-81E1-45E62C10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D88D-01CF-40C4-91AB-ABF5606B28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472680" y="47628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alibri"/>
              </a:rPr>
              <a:t>Network C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414000" y="983520"/>
            <a:ext cx="85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able is used to connect computers. Although we are planning to use as much wireless as possible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you should always have one or more cables around. In our network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we will use Category 5 cable RJ-45. The ends of the cable appear as follow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able1"/>
          <p:cNvPicPr/>
          <p:nvPr/>
        </p:nvPicPr>
        <p:blipFill>
          <a:blip r:embed="rId1"/>
          <a:stretch/>
        </p:blipFill>
        <p:spPr>
          <a:xfrm>
            <a:off x="900000" y="1989000"/>
            <a:ext cx="1584360" cy="874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able2"/>
          <p:cNvPicPr/>
          <p:nvPr/>
        </p:nvPicPr>
        <p:blipFill>
          <a:blip r:embed="rId2"/>
          <a:stretch/>
        </p:blipFill>
        <p:spPr>
          <a:xfrm>
            <a:off x="3851280" y="1773360"/>
            <a:ext cx="1174680" cy="1224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network3"/>
          <p:cNvPicPr/>
          <p:nvPr/>
        </p:nvPicPr>
        <p:blipFill>
          <a:blip r:embed="rId3"/>
          <a:stretch/>
        </p:blipFill>
        <p:spPr>
          <a:xfrm>
            <a:off x="1619280" y="2924280"/>
            <a:ext cx="482760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4:39:18Z</dcterms:created>
  <dc:creator>ukyawnaing</dc:creator>
  <dc:description/>
  <dc:language>en-US</dc:language>
  <cp:lastModifiedBy>ukyawnaing</cp:lastModifiedBy>
  <dcterms:modified xsi:type="dcterms:W3CDTF">2012-10-11T04:41:49Z</dcterms:modified>
  <cp:revision>1</cp:revision>
  <dc:subject/>
  <dc:title>Slide 1</dc:title>
</cp:coreProperties>
</file>