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353-D499-4B7D-8C2A-1E8AC8D5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518-829C-4558-A5D8-B3051BFD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7B5A-7EF3-429F-93AE-E872B3A7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0718-6B03-48E5-9D6A-866ED435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29A7-AEBF-4859-BF96-CB0D203C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F1D-5838-46E0-AA96-4C0E3B0F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498-2B91-42E0-B102-52DE940A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FD8-866B-4DA5-9D6C-742BCFC1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EE2-BE48-464A-8F70-3CC8898E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A5B-CB3B-4556-BC2E-C50D66D4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1B7-F7DB-4CA3-88E5-3957FACF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D02-92EF-42DE-A942-144EEEF9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2370-FDAD-4820-B731-B41F167F44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755640" y="549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 u="sng">
                <a:solidFill>
                  <a:srgbClr val="ff0000"/>
                </a:solidFill>
                <a:uFillTx/>
                <a:latin typeface="Calibri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684360" y="1268280"/>
            <a:ext cx="648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irewall is a security measure that consists of protecting your network from intruders. This is primarily important if you plan to connect your network to the Internet. There are two types of firewalls: hardware and softwa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 u="sng">
                <a:solidFill>
                  <a:srgbClr val="ff0000"/>
                </a:solidFill>
                <a:uFillTx/>
                <a:latin typeface="Calibri"/>
              </a:rPr>
              <a:t>Installing Windows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b0f0"/>
                </a:solidFill>
                <a:latin typeface="Calibri"/>
              </a:rPr>
              <a:t>http://highlightcomputergroup3.zoomshare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troduction to computer network 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age 37 to 4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51:38Z</dcterms:created>
  <dc:creator>ukyawnaing</dc:creator>
  <dc:description/>
  <dc:language>en-US</dc:language>
  <cp:lastModifiedBy>ukyawnaing</cp:lastModifiedBy>
  <dcterms:modified xsi:type="dcterms:W3CDTF">2012-10-11T04:58:03Z</dcterms:modified>
  <cp:revision>1</cp:revision>
  <dc:subject/>
  <dc:title>Slide 1</dc:title>
</cp:coreProperties>
</file>