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FB4-BD2D-49D0-8F23-DD555139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888-D975-4DBB-8AD4-738F336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008-6140-4D0A-B20A-A431FB95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A0C-9732-4818-8BA8-12EABDEA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DCA-A1A6-4763-9BF1-84B7865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330-939A-495C-A61A-5221E9E3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20E-B522-4744-B4CC-24408013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8B3-53DF-44EC-BB0D-69AD849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ABE-09B6-4EF9-9CE5-74EFECDA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090-1958-492A-A926-671B2CE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CCC-6F18-47A4-A4D5-1FB9CF6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B00-AE07-4AE8-91F3-F2FB3C8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743-28DA-475A-980C-F7486F016F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4360" y="126828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rewall is a security measure that consists of protecting your network from intruders. This is primarily important if you plan to connect your network to the Internet. There are two types of firewalls: hardware and softw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Installing Window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b0f0"/>
                </a:solidFill>
                <a:latin typeface="Calibri"/>
              </a:rPr>
              <a:t>http://highlightcomputergroup3.zoomshar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roduction to computer network 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age 37 to 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51:38Z</dcterms:created>
  <dc:creator>ukyawnaing</dc:creator>
  <dc:description/>
  <dc:language>en-US</dc:language>
  <cp:lastModifiedBy>ukyawnaing</cp:lastModifiedBy>
  <dcterms:modified xsi:type="dcterms:W3CDTF">2012-10-11T04:58:03Z</dcterms:modified>
  <cp:revision>1</cp:revision>
  <dc:subject/>
  <dc:title>Slide 1</dc:title>
</cp:coreProperties>
</file>