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9A8-D58C-4011-ADC3-B4679AF0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827-7A98-4910-AC86-99D02D2C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96B-4130-4D7E-BA33-7963A4FC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E099-78B1-4327-9840-8D9430E1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3E84-1865-4923-965D-82610CFA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794-DE99-4A4A-8A29-D30AE855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CA8-BD57-4D45-826E-8A8FD78F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39F-712E-4C94-8D7E-146BA5D8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619-B2A9-450A-BF39-98532E52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867-E08A-4701-8C5D-D4CD1AC8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ED4-32CF-4C25-B2E9-8074B947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5C7-3C38-4406-9996-9899640A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EABD-F761-4D95-9271-610018042F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9400" y="5493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Wired Network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68360" y="981000"/>
            <a:ext cx="410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 order to connect to a network, a computer must be equipped with a device called a network  card. A network card, or a network adapter, also called a network interface card, or NIC,  allows a computer to connect to the exterior. If you buy a computer from one of those popular  stores or big companies on the Internet, most of their computers have a network card tested and alrea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You can reliably use it. If you go to a store that sells or manufactures comput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you can ask them to install or make sure that the computer has a network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nic1"/>
          <p:cNvPicPr/>
          <p:nvPr/>
        </p:nvPicPr>
        <p:blipFill>
          <a:blip r:embed="rId1"/>
          <a:stretch/>
        </p:blipFill>
        <p:spPr>
          <a:xfrm>
            <a:off x="4716360" y="2133720"/>
            <a:ext cx="3969000" cy="2232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611280" y="508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 network card could also be used or installed externally. This can be done using US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usb1"/>
          <p:cNvPicPr/>
          <p:nvPr/>
        </p:nvPicPr>
        <p:blipFill>
          <a:blip r:embed="rId2"/>
          <a:stretch/>
        </p:blipFill>
        <p:spPr>
          <a:xfrm>
            <a:off x="5364000" y="4724280"/>
            <a:ext cx="1381320" cy="1225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usb2"/>
          <p:cNvPicPr/>
          <p:nvPr/>
        </p:nvPicPr>
        <p:blipFill>
          <a:blip r:embed="rId3"/>
          <a:stretch/>
        </p:blipFill>
        <p:spPr>
          <a:xfrm>
            <a:off x="7093080" y="4508640"/>
            <a:ext cx="15922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45:14Z</dcterms:created>
  <dc:creator>ukyawnaing</dc:creator>
  <dc:description/>
  <dc:language>en-US</dc:language>
  <cp:lastModifiedBy>ukyawnaing</cp:lastModifiedBy>
  <dcterms:modified xsi:type="dcterms:W3CDTF">2012-10-11T04:50:26Z</dcterms:modified>
  <cp:revision>2</cp:revision>
  <dc:subject/>
  <dc:title>Slide 1</dc:title>
</cp:coreProperties>
</file>