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C19-4EDB-40C1-9B88-2527ADBE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9DC-A833-4C6D-A349-422B48A5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C8F-285A-418F-8A01-B52E6ED5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240-85CE-4FA5-939E-023DC0EF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083-DD8C-411E-9666-E29B25CC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9FE-011D-49FB-BCAC-58EDDF33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756-75F9-498D-AB43-36C7C185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7DA-E5E0-421C-B2E5-CB269831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C95-6AE3-4834-A20D-AD7EF2B8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D96-0788-4A6F-B53F-8B3535BF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66D-C6EC-4624-98D2-DD1D5424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6DA-0508-4E52-B6F0-7C59BA4D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D2F8-1C1D-4251-B82C-728B5EBBB4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7960" y="62064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Wireless Network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wirelessnic1"/>
          <p:cNvPicPr/>
          <p:nvPr/>
        </p:nvPicPr>
        <p:blipFill>
          <a:blip r:embed="rId1"/>
          <a:stretch/>
        </p:blipFill>
        <p:spPr>
          <a:xfrm>
            <a:off x="1187280" y="1989000"/>
            <a:ext cx="3600720" cy="2602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wirelessnic2"/>
          <p:cNvPicPr/>
          <p:nvPr/>
        </p:nvPicPr>
        <p:blipFill>
          <a:blip r:embed="rId2"/>
          <a:stretch/>
        </p:blipFill>
        <p:spPr>
          <a:xfrm>
            <a:off x="5940360" y="2060640"/>
            <a:ext cx="2232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48:53Z</dcterms:created>
  <dc:creator>ukyawnaing</dc:creator>
  <dc:description/>
  <dc:language>en-US</dc:language>
  <cp:lastModifiedBy>ukyawnaing</cp:lastModifiedBy>
  <dcterms:modified xsi:type="dcterms:W3CDTF">2012-10-11T04:51:32Z</dcterms:modified>
  <cp:revision>1</cp:revision>
  <dc:subject/>
  <dc:title>Slide 1</dc:title>
</cp:coreProperties>
</file>