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6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894C-6611-4B30-BB0A-43C068C70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8C40-55E6-4E08-AFF8-78FE3ABBD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3876-1AFF-49EF-9977-4745298C2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675F-9F18-4702-9804-FE15A46AB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3345F-4823-4E81-82EB-3C36DDC8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E4FFC-E903-4F53-A8C7-02B56500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EF5F6-C92D-4042-8A9F-E68A2657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6BB79-FCF2-49B3-9380-9D0279D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61DFC-6BFB-4A0A-9008-4AABB4B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2C5BC-F551-4E6F-979B-8A43BC4D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154E-3450-4931-AA81-F6059C3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FDD9-48B2-43B5-A427-56A3F556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95856-C72E-413C-AB8B-9BC0311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9AD1F-E8ED-4C3B-81BB-AA660AA2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F654A-6466-42E0-909F-5D42714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DC204-F6CF-4D1F-9A42-510525E5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E01CE-BA8E-4A9B-9D8E-15883309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F412-77EF-4CEF-B93B-6E899D604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4B8D-D44F-4ADD-8219-A29924FEF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A5F7-F9E4-4C06-A5EA-E8DA1E07F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DEE2-87A3-4A4C-9CA9-34271DBD1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2EF8-8F73-4A3F-A6FB-93C0BAB5E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F076-4D93-4B46-842E-CED81519C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4CAE-99EB-49F7-9970-82DDB2A28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.</a:t>
            </a:r>
            <a:fld id="{626F63A2-6F1B-4915-BC03-94DC3B73A9C6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90B-AF85-4B02-9E97-683F516C46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20DC-E6BC-42A4-9F32-C2A847077E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840" y="7621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400" y="1957320"/>
            <a:ext cx="8145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E2D-8E58-4C89-BB96-72BF94522B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7160" y="182880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coaxial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23960" y="2316240"/>
            <a:ext cx="5894280" cy="202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72A2-9D57-4AC4-AFF4-F01C683C4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560" y="7621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N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725560"/>
            <a:ext cx="7925040" cy="19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809F-C9C7-45EE-8D2C-190D8FF2E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600" y="7621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0240" y="1627200"/>
            <a:ext cx="6114960" cy="44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5B1F-8547-43CC-9CC2-5D784A798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" y="7621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0  Fiber optic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nding of ligh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3680" y="2362320"/>
            <a:ext cx="807084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16C6-C933-4F24-B978-A5DA70BA19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560" y="762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" y="2987640"/>
            <a:ext cx="830880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7EDF-4C92-4638-BE81-7F17B9E1E4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960" y="762120"/>
            <a:ext cx="38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9160" y="2133720"/>
            <a:ext cx="76327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5E76-C731-4001-8602-85AA9CEC3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0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73240" y="1035000"/>
            <a:ext cx="6370560" cy="52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7CEF-02EB-4CD0-B108-80AEED19F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48480" y="16765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7080" y="2286000"/>
            <a:ext cx="8940600" cy="20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E7AB-73FA-4889-AABF-CCACD5015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200" y="7621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49280" y="1843200"/>
            <a:ext cx="6499440" cy="39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C255-F80D-40ED-BF9B-3F3C53E0C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20" y="7621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2584440"/>
            <a:ext cx="8729640" cy="25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5FA7-E09A-41FB-8D77-7F5DF1C8A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2400" y="7621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-optic cable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890720"/>
            <a:ext cx="85932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CC21-05B0-4098-A4E9-B85B322A5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" y="76212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82680" y="1676520"/>
            <a:ext cx="557532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2477-08C5-40B3-BFA6-8137A0B2B3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20" y="406440"/>
            <a:ext cx="71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2   UNGUIDED MEDIA: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86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guided media transport electromagnetic waves without using a physical conductor. This type of communication is often referred to as wireles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C84D-D4D3-46F4-AA93-C77225D439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240" y="7621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lectromagnetic spectrum for wireles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9520" y="2590920"/>
            <a:ext cx="840096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B782-983C-49A5-83B1-5EF1132FD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680" y="76212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8040" y="1917720"/>
            <a:ext cx="8501040" cy="35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F7BC-6045-4CD2-8688-2B075C35CD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95600" y="66816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201680"/>
            <a:ext cx="779796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4977-3D92-4FAF-9F8A-4887AD9F00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200" y="76212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reless transmissio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2520" y="2043000"/>
            <a:ext cx="8238960" cy="27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2838-C4E0-44F1-A643-DD5371D9FE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" y="44197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360" y="2771640"/>
            <a:ext cx="8077320" cy="3018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waves are used for multicast communications, such as radio and television, and paging systems. They can penetrate through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regulated. Use omni directional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A8C-ECE9-48F2-A5F0-37B2897AC1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120" y="76212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mnidirectional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79840" y="2039760"/>
            <a:ext cx="326376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F56A-395F-4566-84C6-B012E90339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3954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1386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2487600"/>
            <a:ext cx="8077320" cy="399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waves are used for unicast communication such as cellular telephones, satellite network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reless 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frequency ranges cannot penetrat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directional antennas - point to point line of sight commun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8E54-0950-4EAF-83B4-0A12963002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76212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00240"/>
            <a:ext cx="771516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BFF5-C9F4-4EA4-974B-BB334FDBF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120" y="7621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directional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8880" y="2050920"/>
            <a:ext cx="7394400" cy="35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153A-0D9E-44E6-98C0-0079401838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640" y="48769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360" y="2759040"/>
            <a:ext cx="807732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rared signals can be used for short-range communication in a closed area using line-of-sight propa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D9EF-555D-4017-B418-31D69C954A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less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ubject to a lot more errors than guided media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 is one cause for errors, can be circumvented with high SN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r the SNR the less capacity is available for transmission due to the broadcast nature of th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so subject to fading and no coverage ho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FF6F-A425-49AC-ABC8-9DDB4398C6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40644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1   GUIDED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uided media, which are those that provide a conduit from one device to another, include twisted-pair cable, coaxial cable, and fiber-optic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wisted-Pair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axial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iber-Opt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7802-5B38-4AF9-9B97-08689B6D47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76212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wisted-pair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986200"/>
            <a:ext cx="861048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D47C-3465-45F1-A71F-1856D26FB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040" y="7621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and STP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8040" y="2112840"/>
            <a:ext cx="8501040" cy="33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F43C-6187-4E07-B078-3AC07D41D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1120" y="228600"/>
            <a:ext cx="61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unshielded twisted-pair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9720" y="685800"/>
            <a:ext cx="7742160" cy="58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29FF-E380-45B8-880E-F6071951D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200" y="762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19200" y="2244600"/>
            <a:ext cx="648180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87E6-00B8-4A08-8AF1-ECD663EA44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00" y="76212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24680" cy="44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C58C-3AE6-4589-AC5D-84BED94568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9T14:14:54Z</dcterms:modified>
  <cp:revision>166</cp:revision>
  <dc:subject/>
  <dc:title>PowerPoint Presentation</dc:title>
</cp:coreProperties>
</file>