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5C1-9EA1-450B-BB73-5EC47DC0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9A4-4FCF-40C8-95F3-2947D448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749-880E-4872-A9B1-9924D301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AC3-D3A1-4129-994C-08A0E7AE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C1A-4A47-42D0-9307-2E1843AB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B4E-BABB-4B2F-B9CD-3E84900E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969-48F0-473E-A81F-DE7A76DD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9B63-AC0E-49F6-87B9-20E358A5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9BA-8968-4F70-B017-896F895A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2B8-A40E-410E-BD24-CCEA6A7C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1E2-7918-4E63-9807-FA29D604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1D2-68F1-4738-90E0-601E0925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806F-87F9-4A78-B5F0-04ED2D5F64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90480" y="4762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lient/Server Networ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854280" y="1056240"/>
            <a:ext cx="5596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mputer network is referred to as client/server if (at least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ne of the computers is used to "serve"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computers referred to as "clients". Besides the computers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types of devices can be part of the network</a:t>
            </a:r>
            <a:r>
              <a:rPr b="0" lang="en-A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www.functionx.com/illustrations/network2.gif"/>
          <p:cNvPicPr/>
          <p:nvPr/>
        </p:nvPicPr>
        <p:blipFill>
          <a:blip r:embed="rId1"/>
          <a:stretch/>
        </p:blipFill>
        <p:spPr>
          <a:xfrm>
            <a:off x="2411280" y="2205000"/>
            <a:ext cx="40482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32:44Z</dcterms:created>
  <dc:creator>ukyawnaing</dc:creator>
  <dc:description/>
  <dc:language>en-US</dc:language>
  <cp:lastModifiedBy>ukyawnaing</cp:lastModifiedBy>
  <dcterms:modified xsi:type="dcterms:W3CDTF">2012-10-11T04:34:07Z</dcterms:modified>
  <cp:revision>1</cp:revision>
  <dc:subject/>
  <dc:title>Slide 1</dc:title>
</cp:coreProperties>
</file>