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9B9-45A1-427D-83F1-17AF0FF5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9D4-2F3C-4623-9F4F-1EC0464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9D1-33F3-4996-B791-24A2D469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9D9-5B7E-434E-9374-02C3155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C41-AB02-4298-BB19-C31D1D93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A88-B462-4B64-B3C5-68259F6A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9C3-2242-4D42-A4D8-E834200E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868-B06C-4E79-90DB-61362899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5B2-C070-4515-AF77-FC141B8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601-BD88-4F56-A91E-9D1928B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E62-9962-4EE1-B317-54D8A71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D2E-E3E0-4AAD-BD4D-DD28C753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D92-09D6-44A0-8D6C-7E62FB2D81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90480" y="4762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lient/Serv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54280" y="1056240"/>
            <a:ext cx="559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is referred to as client/server if (at leas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the computers is used to "serve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computers referred to as "clients". Besides the computer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ypes of devices can be part of the network</a:t>
            </a:r>
            <a:r>
              <a:rPr b="0" lang="en-A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www.functionx.com/illustrations/network2.gif"/>
          <p:cNvPicPr/>
          <p:nvPr/>
        </p:nvPicPr>
        <p:blipFill>
          <a:blip r:embed="rId1"/>
          <a:stretch/>
        </p:blipFill>
        <p:spPr>
          <a:xfrm>
            <a:off x="2411280" y="2205000"/>
            <a:ext cx="4048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2:44Z</dcterms:created>
  <dc:creator>ukyawnaing</dc:creator>
  <dc:description/>
  <dc:language>en-US</dc:language>
  <cp:lastModifiedBy>ukyawnaing</cp:lastModifiedBy>
  <dcterms:modified xsi:type="dcterms:W3CDTF">2012-10-11T04:34:07Z</dcterms:modified>
  <cp:revision>1</cp:revision>
  <dc:subject/>
  <dc:title>Slide 1</dc:title>
</cp:coreProperties>
</file>