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0B7B-37A1-4FB3-94C2-BEDE89E66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E45B-F6CE-49DB-85CA-31F072B42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4DC1-6D19-4BF5-AE5B-1E18A19C9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A576-5F0E-4B65-9227-4F3DF15CF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D8D7F-68EE-46B2-B14E-455487C8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00424-E149-4FB8-B03C-BCF4296D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1DB77-2CFB-45FD-9475-B59883F4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4EA53-73AC-40B7-A3CE-E4B7A940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2C6BB-FE3F-40D9-8E69-CA64FA9F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644AC-123B-4CE2-9A01-C7F23F07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217CF-A4A2-4B91-A6D1-5EDF66B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1C57-DD82-4B5D-A582-910BD0340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D83FA-AD73-47AD-B672-D9B2FE2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8E554-8870-4DE3-9B2C-4CE787A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7B493-0FC5-4C4C-A8A0-F59D9DAE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A745D-F80B-4404-889A-15A11E39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81202-E59A-48C2-A677-139D5F83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A447-560F-4264-9924-BF356BC91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D4FD-23FC-4866-8638-C2F3EDB80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24EA-1C4A-4D83-B3D2-8C2C46462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C8B9-6578-48B6-A3A5-440514DB1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DAAE-E841-4793-BACD-4132AFCF6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51A1-5347-4CFD-B663-FC8794E50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F67E-F0BC-48E4-9AB3-D99E8A233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5.</a:t>
            </a:r>
            <a:fld id="{D9458597-B6AA-44BF-8242-C4858D61066B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D701-B08C-46E8-8AD8-BB28C89B89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og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BCDF-1F36-4577-AC6A-DFA3BE549D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120" y="76212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8839080" cy="43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041A-A6C1-4C83-8732-671FC6FD3F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120" y="762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M band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7840" y="3089160"/>
            <a:ext cx="7934040" cy="11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0C48-5DCB-4656-BD38-0643795444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Modulation (PM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ting signal only changes the phase of the carrier sig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hase change manifests itself as a frequency change but the instantaneous frequency change is proportional to the derivative of the amplitu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andwidth is higher than for A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D5CF-5C89-4036-A37A-17D91E8972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120" y="76212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2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has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360" y="1600200"/>
            <a:ext cx="8775720" cy="417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6B01-200E-4BB3-8EB7-BF7DE793A0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36232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502920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360" y="2454120"/>
            <a:ext cx="8077320" cy="308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PM can be determined from the bandwid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maximum amplitude of the modulating signal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(1 + β)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 most of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1752480"/>
            <a:ext cx="1143000" cy="567000"/>
            <a:chOff x="457200" y="1752480"/>
            <a:chExt cx="1143000" cy="56700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92200" y="17524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524C-EC9B-4515-AF8B-18F82B7F89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20" y="40644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2   ANALOG AND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38456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alog-to-analog conversion is the representation of analog information by an analog signal. One may ask why we need to modulate an analog signal; it is already analog. Modulation is needed if the medium is bandpass in nature or if only a bandpass channel is available to 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mplitud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Frequency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Phas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229C-0434-4322-8DEE-7D21FF1E51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76212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analog-to-analog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5200" y="2486160"/>
            <a:ext cx="8391600" cy="216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A434-BDDD-486A-918C-08D8C1D7D0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rrier signal is modulated only in amplitude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ating signal is the envelope of the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quired bandwidth is 2B, where B is the bandwidth of the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on both sides of the carrier freq.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spectrum is identical, we can discard one half, thus requiring a smaller bandwidth for transmi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17C9-C115-487A-B485-6706CA6A63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3120" y="762120"/>
            <a:ext cx="41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920" y="1763640"/>
            <a:ext cx="882180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EC28-0A85-420C-A940-27073B06C8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5480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640" y="52912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2685960"/>
            <a:ext cx="8077320" cy="2598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A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bandwidth of the audi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: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1905120"/>
            <a:ext cx="1143000" cy="566640"/>
            <a:chOff x="457200" y="1905120"/>
            <a:chExt cx="1143000" cy="5666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92200" y="19051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4E7B-FEAF-4A96-97C0-FC61D33DA8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120" y="762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M band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3246480"/>
            <a:ext cx="6919920" cy="109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4026-7658-4397-BA55-B6E7BDFE9A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equency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ting signal changes the freq.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carrier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andwidth for FM is hi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pprox. 10x the signal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2BA0-943B-4D15-8BAA-3912F05E90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9718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8640" y="47242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60" y="3063960"/>
            <a:ext cx="8077320" cy="21110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FM can be determined from the bandwid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audio signal: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(1 + β)B. 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sually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7200" y="2362320"/>
            <a:ext cx="1143000" cy="566640"/>
            <a:chOff x="457200" y="2362320"/>
            <a:chExt cx="1143000" cy="5666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92200" y="23623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FA9A-915C-412D-B5C3-844473695D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06T07:41:57Z</dcterms:modified>
  <cp:revision>154</cp:revision>
  <dc:subject/>
  <dc:title>PowerPoint Presentation</dc:title>
</cp:coreProperties>
</file>