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DCC-5FA7-478A-8C04-30F68D02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E4E-FE3B-4A8A-A291-AEE54871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441-E680-495B-8FAD-1B586F84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39D-FCCF-4927-99D4-8ED54E4E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909-70F2-4F7C-BB57-229B9AB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301-22C3-4951-B8ED-A35156E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EE3-EB56-4501-B155-DAAF2A8B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FC7-F242-48F5-BDBF-B1CC0B6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DB7-D570-4488-BEC8-2A7E3D52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D38-3E48-4363-A620-986BF71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1B3-44F1-4BA8-A98D-5E059804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F65-8D87-46AE-85E2-10EBFD5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99D-341C-4913-AE53-7282CAD8E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01440" y="4046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eer-to-Pe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28480" y="795600"/>
            <a:ext cx="71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d on their layout (not the physical but the imagined layou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so referred to as topology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two types of networks. A network is referred to as peer-to-pe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most computers are similar and run workstation operating system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ttp://www.functionx.com/illustrations/network1.gif"/>
          <p:cNvPicPr/>
          <p:nvPr/>
        </p:nvPicPr>
        <p:blipFill>
          <a:blip r:embed="rId1"/>
          <a:stretch/>
        </p:blipFill>
        <p:spPr>
          <a:xfrm>
            <a:off x="2195640" y="2133720"/>
            <a:ext cx="3943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0:16Z</dcterms:created>
  <dc:creator>ukyawnaing</dc:creator>
  <dc:description/>
  <dc:language>en-US</dc:language>
  <cp:lastModifiedBy>ukyawnaing</cp:lastModifiedBy>
  <dcterms:modified xsi:type="dcterms:W3CDTF">2012-10-11T04:32:37Z</dcterms:modified>
  <cp:revision>1</cp:revision>
  <dc:subject/>
  <dc:title>Slide 1</dc:title>
</cp:coreProperties>
</file>