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16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15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89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15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89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771-54C7-49B6-A0EE-62D5EC69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322-1FF1-49FE-AA56-55960614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503-40E8-4F5B-9DB1-000034AD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E5F-EBE7-4D5C-B99A-8F136473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051-BF55-40D5-B14B-06A66EC7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8C7-8BCB-4A69-AAB2-8C7AD754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062-9C3C-4848-9F06-CDF7F1BA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16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BFB-0A7D-40B5-A258-2EFD06A0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16A-2C44-4813-AB88-F20680AF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689-1688-4627-AC3C-3A47C10C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16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897-B4D5-4E15-980A-D8CAB07E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15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89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15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89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F0D-A1FD-4AD1-BD48-7FAD86FC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16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2" name=""/>
            <p:cNvSpPr/>
            <p:nvPr/>
          </p:nvSpPr>
          <p:spPr>
            <a:xfrm>
              <a:off x="0" y="685800"/>
              <a:ext cx="9144000" cy="5335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3">
              <a:lum bright="-12000"/>
            </a:blip>
            <a:stretch/>
          </p:blipFill>
          <p:spPr>
            <a:xfrm>
              <a:off x="0" y="0"/>
              <a:ext cx="119232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ssentials of Management Information Systems, 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458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</a:t>
            </a:r>
            <a:fld id="{DA920D3A-869A-4A22-A2F8-6692B0D6A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02440" y="647712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2005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EB24-36E6-466A-89A6-D3AEDB3B379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Managing the Digital Fi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685800"/>
            <a:ext cx="8001000" cy="763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89" name=""/>
            <p:cNvSpPr/>
            <p:nvPr/>
          </p:nvSpPr>
          <p:spPr>
            <a:xfrm>
              <a:off x="0" y="685800"/>
              <a:ext cx="9144000" cy="5335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0" y="0"/>
              <a:ext cx="119232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ormation of the Business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lat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cent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Location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Low transaction and coordina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llaborative work and team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Information technology capital investment 1980-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00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9577" r="0" b="0"/>
          <a:stretch/>
        </p:blipFill>
        <p:spPr>
          <a:xfrm>
            <a:off x="914400" y="1881360"/>
            <a:ext cx="723888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mergence of the Digital Fi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igitally enabled relationships with customers, suppliers, and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re business processes accomplished vi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igital management of key corporate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Rapid sensing and responding to environment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 set of interrelated components that coll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(or retrieve), process, store, and distribu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formation to support decision mak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ntrol in an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hat Is an Information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reams of raw facts representing events such as business transactions</a:t>
            </a:r>
            <a:br>
              <a:rPr sz="3200"/>
            </a:br>
            <a:r>
              <a:rPr b="0" lang="en-US" sz="32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:</a:t>
            </a: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Clusters of data that are meaningful and useful to human be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hat Is an Information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Data an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00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10303" r="0" b="0"/>
          <a:stretch/>
        </p:blipFill>
        <p:spPr>
          <a:xfrm>
            <a:off x="762120" y="1990800"/>
            <a:ext cx="76197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unctions of an informa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9146" r="0" b="0"/>
          <a:stretch/>
        </p:blipFill>
        <p:spPr>
          <a:xfrm>
            <a:off x="1676520" y="1828800"/>
            <a:ext cx="57196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m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ixed definitions of data and procedures for collecting, storing, processing, disseminating, and using these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an be computer-based or manual</a:t>
            </a:r>
            <a:br>
              <a:rPr sz="2600"/>
            </a:br>
            <a:r>
              <a:rPr b="0" lang="en-US" sz="26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uter-based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Use computer hardware and software to process and disseminate in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hat Is an Information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S Competes Globally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are the inputs, processing, and outputs of UPS’s package tracking system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technologies are us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ow are these technologies related to UPS’s business strategy? How do they provide value for the compan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would happen if these technologies were not availabl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indow on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business information value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0" t="9463" r="0" b="0"/>
          <a:stretch/>
        </p:blipFill>
        <p:spPr>
          <a:xfrm>
            <a:off x="1143000" y="1805040"/>
            <a:ext cx="68580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is the role of information systems in today’s competitive business environment?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exactly is an information system? What do managers need to know about information systems?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ow are information systems transforming organizations and man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Information systems are more than 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0" t="8107" r="0" b="0"/>
          <a:stretch/>
        </p:blipFill>
        <p:spPr>
          <a:xfrm>
            <a:off x="2390760" y="1725480"/>
            <a:ext cx="4238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systems literacy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</a:t>
            </a: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Broad-based understanding of information systems that includes behavioral knowledge about organizations and individuals using information systems and technical knowledge about computers</a:t>
            </a:r>
            <a:br>
              <a:rPr sz="2600"/>
            </a:br>
            <a:r>
              <a:rPr b="0" lang="en-US" sz="26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uter literacy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</a:t>
            </a: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Knowledge about information technology, focusing on understanding how computer-based technologies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jor Business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ales and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Elements of an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Operating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agement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nior manager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make long-range strategic decisions about products and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ddle manager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carry out the programs and plans of senior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rational manager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monitor the firm’s daily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Technology (IT) Infrastru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puter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puter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orage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munications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lementary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ssets required to derive value from a primary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an be organizational, managerial, or soci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echnology investments supported by investment in complementary assets receive superior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Variation in returns on information technology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0" t="8813" r="0" b="0"/>
          <a:stretch/>
        </p:blipFill>
        <p:spPr>
          <a:xfrm>
            <a:off x="2095560" y="1828800"/>
            <a:ext cx="49147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ganization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upportive organizational culture valuing efficiency and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Efficient business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centralized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istributed decision-making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rong IS developmen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ageri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rong senior management support for technology investment and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centives for management innov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eamwork and collaborative work environ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agement training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agement culture valuing flexibility and knowledge-based decision ma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ow have the Internet and Internet technology transformed business and government?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are the major management challenges to building and using information sys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i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he Internet and telecommunications infrastru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T-enriched educational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Governmental and private-sector stand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Laws and regulations creating fair, stable market environ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echnology and service firms in adjacent markets to assist imple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i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chnical approach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emphasizes mathematically based models, physical technology, and formal capabilities of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havioral approach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studies issues arising from development and maintenance of systems, such as business integration and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0" t="10560" r="0" b="0"/>
          <a:stretch/>
        </p:blipFill>
        <p:spPr>
          <a:xfrm>
            <a:off x="838080" y="1998720"/>
            <a:ext cx="73915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iotechn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agement Information Systems (M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ystem performance optimized when technology and organization adjust to each other for a satisfactory 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sociotechnical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rcRect l="0" t="10852" r="0" b="0"/>
          <a:stretch/>
        </p:blipFill>
        <p:spPr>
          <a:xfrm>
            <a:off x="838080" y="2057400"/>
            <a:ext cx="75438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interdependence between organizations and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0" t="14683" r="0" b="0"/>
          <a:stretch/>
        </p:blipFill>
        <p:spPr>
          <a:xfrm>
            <a:off x="2138400" y="1981080"/>
            <a:ext cx="47959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50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Technical changes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60s-70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Managerial controls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80s-90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Institutional core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day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 Digital information webs extending beyond the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Widening Scope of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widening scope of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0" t="12812" r="0" b="0"/>
          <a:stretch/>
        </p:blipFill>
        <p:spPr>
          <a:xfrm>
            <a:off x="762120" y="2209680"/>
            <a:ext cx="761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ternational network of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Universal technology platform: Any computer can communicate with any other compu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orld Wide Web and Web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Network Revolution and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You Can Do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municate and collab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cces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Participate in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upply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ind enter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Exchange business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Network Revolution and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nagement 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sign competitive and effective systems.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Understand system requirements of global business environment. 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reate information architecture that supports organization’s g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lattening organizations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eparating work from location 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Reorganizing workflows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creasing flexibility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Redefining organizational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ew Options for Organizational Design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Digital Firm and the Collaborative 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lattening organ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rcRect l="0" t="9354" r="0" b="0"/>
          <a:stretch/>
        </p:blipFill>
        <p:spPr>
          <a:xfrm>
            <a:off x="2057400" y="1905120"/>
            <a:ext cx="490536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designed workflow for insurance 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rcRect l="0" t="13664" r="0" b="0"/>
          <a:stretch/>
        </p:blipFill>
        <p:spPr>
          <a:xfrm>
            <a:off x="380880" y="2362320"/>
            <a:ext cx="8382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Electronic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Electronic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igital market: Information system that links buyers and sellers to exchange information, products, services,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razilian Dime St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comes an E-Commerce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How did the Web change the way Lojas Americanas ran its busine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How did the Web site provide value for this compan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indow on Organ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lectronic business and electronic commerce in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0" t="9524" r="0" b="0"/>
          <a:stretch/>
        </p:blipFill>
        <p:spPr>
          <a:xfrm>
            <a:off x="2286000" y="1793880"/>
            <a:ext cx="444348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ectronic Commerce (e-commerce)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buying and selling goods and services electron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ectronic Business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executing all the firm’s business processes with Interne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ranet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private, secure business network based on Interne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tranet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extension of intranet to authorized external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itive Impacts of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aster calculations and paper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nalysis of customer purchase patterns and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ore efficient busines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edical adv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stant global distribution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Learning to Use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hallenges of Information Systems:  Key Managemen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gative Impacts of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utomation leading to job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Privac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ystem outages and shutd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ealth problems, repetitive stress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llegal distribution of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Learning to Use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hallenges of Information Systems:  Key Managemen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Evaluate the role of information systems in the way Herman Miller runs its business. How important are th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Explain why z-Axis was an important step forward in the furniture business. How did it provide value for Herman Mil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Did z-Axis provide a competitive advantage for Herman Miller? Explain your answe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hapter 1 Cas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Herman Miller: Information Systems at the Crossr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nagement 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termine business value of information systems.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sign systems people can control, understand and use in a socially, ethically responsible ma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Should Herman Miller continue to invest in z-Axis? Why or 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What management challenges does this case study illustrate? Explain in your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hapter 1 Cas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Herman Miller: Information Systems at the Crossr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ur powerful worldwide changes that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ered the business environ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Glob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Rise of the Information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ransformation of the Business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Emergence of the Digital Fi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ob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agement and control in a global market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petition in world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Global work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Global deliver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se of the Information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Knowledge- and information-based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New product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Knowledge: a central productive and strategic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ime-base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horter product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urbul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Limited employee 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growth of the information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0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9054" r="0" b="0"/>
          <a:stretch/>
        </p:blipFill>
        <p:spPr>
          <a:xfrm>
            <a:off x="1219320" y="1905120"/>
            <a:ext cx="6629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7:50:18Z</dcterms:created>
  <dc:creator>Linda D</dc:creator>
  <dc:description/>
  <dc:language>en-US</dc:language>
  <cp:lastModifiedBy>Compaq</cp:lastModifiedBy>
  <dcterms:modified xsi:type="dcterms:W3CDTF">2007-06-13T00:38:52Z</dcterms:modified>
  <cp:revision>36</cp:revision>
  <dc:subject/>
  <dc:title>Managing the Digital Firm</dc:title>
</cp:coreProperties>
</file>