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9A2-BF8E-42CC-B4CB-B9A39231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7DF-B0E5-468D-AC17-7C33D3CF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106-ADD1-484A-90C1-2B3FB41C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FBF-8C77-4596-91BD-31CC883C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07D-0901-4099-AF92-B7B9A6F0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C3F-B6DD-4249-83F0-031F606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401-B87F-472D-A129-96EBD1A0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D3A-C0E3-4F21-B977-B112491D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8CF-F365-4BC5-B9A8-DFAC452D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F6A-B4F8-4D18-BFC0-70D3ADB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941-626C-4453-A092-D2D5B77F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12E-6F50-4185-ADC6-E0861C5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-</a:t>
            </a:r>
            <a:fld id="{68FD89D9-5A35-49CC-B132-9B40CFDC5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mputer Network and its applic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hang Guanxiang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张冠湘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l: 1352762556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-mail: gxzhang@scut.edu.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C34-F1D2-4274-B404-D26141689B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17240"/>
            <a:ext cx="77724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 Lay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ce models, Multiplexing/Demultiplexing, Connection-less transport (UDP), Principles of reliable data transfer, Connection-oriented transport (TCP), TCP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Layer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and forwarding, IP(The Internet Protocol ) IPv4, IPv6 ,Routing algorithms, Routing in the Internet, Multica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Layer and Local Area Network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layer services, Error detection and correction, Multiple Access Protocols, Link layer addressing, Ethernet, Hubs and switches, Point-to-Point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2AA-1E2B-4DBB-9FFB-D43F4FEBF6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valu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s (40%) :There will be 2 equally weighted assignments in this course. The assignments will consist of a paper, and a programming projec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Examination (60%)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course will have a 120-minute closed-boo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ope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F1B-FC7D-407C-814D-4D8F9B3464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purpose of this cours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this course is to introduce fundamental principles and concepts of computer network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understand specifically how the Internet works today, and where it is going in the near fut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CAD-3952-4F3E-8F63-2B9BE0C3FE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ext Books</a:t>
            </a:r>
            <a:r>
              <a:rPr b="0" lang="zh-CN" sz="4000" spc="-1" strike="noStrike" u="sng">
                <a:solidFill>
                  <a:srgbClr val="3333cc"/>
                </a:solidFill>
                <a:uFillTx/>
                <a:latin typeface="Comic Sans MS"/>
              </a:rPr>
              <a:t>（教材）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Networking: A Top-Down Approach Featuring the Internet, by James F. Kurose and Keith W. Ross, 3rd Edition, Addison Wesley, 200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ces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参考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Networks, 4th Ed., by Andrew S. Tanenbaum, Prentice Hall, 200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IP Illustrated  Vol. I-III, W. R. Stev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Networks: A Systems Approach, by Larry L. Peterson &amp; Bruce S. Davie, 3rd Ed., Morgan Kaufmann, 200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working with TCP/IP, Principles, Protocols and Architecture VOLUME 1, 5th Edition - by Douglas E. Comer , Pearson Education, 2006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5A1-6712-4DE6-928A-0CC17045D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op-Down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net F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the Princi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11F-B942-4CBA-BABC-9DB4214382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op-Down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cope with th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, many computer  networking texts are often organized around the “layers” of a networ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itional approach of teaching bottom-up—that is, from the physical layer towards the application layer—is not the best approa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ext is organized in a top-down manner—that is, it begins at the application layer and works its way down towards the physical lay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4EC-EAE1-4C7F-B3FB-AE05AC567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p-down approach has several important benefi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it places emphasis on the application layer, which has been the high "growth area" of computer networking. WEB,P2P,VOD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,   teaching networking applications near the beginning of the course is a powerful motivational tool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, the top-down approach enables instructors to introduce network  application development at an early st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680-9D16-415F-8BB3-1FA230C325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net F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existing textbooks give significant weight to a variety of telecommunications networks and protocol suites (such as ATM), We instead put the internet in the spotlight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computer networking is now synonymous with the Inter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D28-1FC8-4C35-A9F8-1B572A590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the Princi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ext identifies fundamental networking issues as well as approaches towards addressing these issu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ing the issues and solution approaches will allow the student to quickly understand just about any networking technolog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C3A-258F-4C13-B4B8-949ADBE13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 of Computer Networks and Internet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view of the Internet, client/server program, circuit switching, packet switching, physical media, queuing delay and packet loss, TCP/IP Service models, Internet Protocol Stack (Lay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Laye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ce requirements, WWW, HTTP, FTP, Electronic Mail, Domain Name System, Socket programm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A03-3A20-4F63-8ED5-373C90B2E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zgx</cp:lastModifiedBy>
  <dcterms:modified xsi:type="dcterms:W3CDTF">2008-03-02T12:24:05Z</dcterms:modified>
  <cp:revision>140</cp:revision>
  <dc:subject/>
  <dc:title>3rd Edition: Chapter 1</dc:title>
</cp:coreProperties>
</file>