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8B88B-7BB5-4A9C-A344-9E7067A38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FEDA7-3DB9-41FF-8668-B3E5F16C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9B628-466D-4898-9F1A-9011A2349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C306-1265-4742-BDB6-5DBCA29B2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1F92A-8A8B-47CD-A27D-1DF02EF3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3BDB-DF1D-499C-B134-0D036F9C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03497-8C40-49FA-A33E-298FA5A4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9B59B-1067-460B-8844-13523FA5C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EA75-2343-4820-93EB-98B56EE40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952F-B5B1-4500-93EE-D3C30B47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618B-DA76-4495-9C5D-0BD7B9FDE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90F80-C8DC-4436-89C6-29DECDACD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E482BC1D-3E95-49D0-A6AF-44F140BE5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3</a:t>
            </a:r>
            <a:r>
              <a:rPr b="0" lang="en-US" sz="1800" spc="-1" strike="noStrike" baseline="30000">
                <a:solidFill>
                  <a:srgbClr val="3333cc"/>
                </a:solidFill>
                <a:latin typeface="Comic Sans MS"/>
              </a:rPr>
              <a:t>r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4.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180120" y="485640"/>
            <a:ext cx="2468520" cy="3170520"/>
          </a:xfrm>
          <a:prstGeom prst="rect">
            <a:avLst/>
          </a:prstGeom>
          <a:ln w="0">
            <a:noFill/>
          </a:ln>
        </p:spPr>
      </p:pic>
      <p:sp>
        <p:nvSpPr>
          <p:cNvPr id="2" name="PlaceHolder 1"/>
          <p:cNvSpPr>
            <a:spLocks noGrp="1"/>
          </p:cNvSpPr>
          <p:nvPr>
            <p:ph type="sldNum" idx="3"/>
          </p:nvPr>
        </p:nvSpPr>
        <p:spPr/>
        <p:txBody>
          <a:bodyPr/>
          <a:p>
            <a:fld id="{6A6BA211-2821-403A-8D87-AB9AAC18D8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9026E5E-5A0C-4CF5-944B-92896D6362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5952BB2B-D122-47FB-A133-FCE25AA6FD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A8223D-EA72-4DE3-984E-DA7108915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047FE0-4B1B-4545-880A-BF10511B5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FF6716F9-C1E6-4FB3-AC81-08524EBC1B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2DD52-0EB8-4207-A9C4-17B1E01F9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1C5441-1B6C-47B5-B8D3-EBEFFEE74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EA0B1A9D-0250-479B-82FA-1A1187122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07A4E95-C3E6-449E-8316-B945D8DAFC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5E3BCEA-03F9-4465-809B-653E21D71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E30F9D9-3A2C-4807-8AB9-A8ED69422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37ED69-4DAB-416D-AC40-EA0324475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7CB1D1-ACF3-4306-AAE9-790713070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797FF5-036D-4E65-A76A-FF693DF676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6D9A038-451C-4C50-87FA-4BF2A44FF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0A14D15-82C9-434D-9B70-09B06EBBE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964447-0893-47CA-85F6-0B5483F754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9B2158-982A-47D4-88AF-82C678E62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8BECCE0-6F3E-43EB-99F3-C6A234B3CC75}"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F6DC688-FF9B-49D4-920E-9DD9751D42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B9D4CFFF-B8E7-401A-AC84-DACE5EF85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9686F43-BB6E-4DC4-AF1F-627924AAB9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8882756-EAF5-4A4A-BC49-846D9EA3A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88E5E8B-2DCF-4B01-9BED-A4EC9DB2E4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C82B1C0-B705-4159-B575-E141BD6FE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8D5B5-7F45-4F69-940D-83244D7A28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6-01-19T01:43:09Z</dcterms:modified>
  <cp:revision>97</cp:revision>
  <dc:subject/>
  <dc:title>Chapter 9 slides, 3rdedition</dc:title>
</cp:coreProperties>
</file>