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F09-C255-4226-A28B-711CDE2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A2B-29CD-4F4C-A20C-626F92B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1A-EB34-47E2-8DF3-B3E2FB6D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104-7CD1-4CE6-BD40-AF2313A4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565-85A5-4436-BEBE-AE253FF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778-5A7A-4F9D-B4E1-0170E7CD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F59-A7D8-465A-9D96-22CCE49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6A9-38D6-4FFF-962C-222E914F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AD1-282D-4905-9552-26A8412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4F5-5374-4331-8769-B4E6664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4E8-EB7E-40B3-927E-8E90F33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0E0-4D44-4F1B-AA62-0E7D69B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4DC-81E5-42FB-B58A-F65A925F3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to Minimize Ris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143000" y="2286000"/>
            <a:ext cx="746748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S 501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everal target levels of functionality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d, desirable, op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isible software process: intermediate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ood communication within team and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ing Assist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Good processes lead to good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Good processes reduce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828800" y="5181480"/>
            <a:ext cx="5867280" cy="990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1_U Kyaw Naing.mp3" descr=""/>
          <p:cNvPicPr/>
          <p:nvPr/>
        </p:nvPicPr>
        <p:blipFill>
          <a:blip r:embed="rId1"/>
          <a:stretch/>
        </p:blipFill>
        <p:spPr>
          <a:xfrm>
            <a:off x="8172360" y="393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7:22Z</dcterms:created>
  <dc:creator>Administrator</dc:creator>
  <dc:description/>
  <dc:language>en-US</dc:language>
  <cp:lastModifiedBy>ds0929</cp:lastModifiedBy>
  <dcterms:modified xsi:type="dcterms:W3CDTF">2013-06-08T09:14:03Z</dcterms:modified>
  <cp:revision>5</cp:revision>
  <dc:subject/>
  <dc:title>PowerPoint Presentation</dc:title>
</cp:coreProperties>
</file>