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F24-1780-4C4A-BE45-F6EFCD33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303-19D6-49B2-B2F9-DCA9D354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7D1-CE66-42C3-9824-4F50ED76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3B9-4D19-449A-AAEA-A68BB6C7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E52-0F25-4A25-9662-36A3254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445-B97E-4A41-9B6D-5473B51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B15-4EF3-4AA4-93A3-C67E8F00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C12-EC74-4BED-90B6-7F7F9D4A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CAA-E1E5-4528-A720-639060DB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1C7-2EBD-47DF-B2EF-40A0F7F3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28A-704A-48C4-9134-3209AA3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09C-CC9F-4515-875A-819E3805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CBE-061A-4C4A-A2C7-FB94CC4ECA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equirement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43" name="Oval 3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-68400" y="214632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easi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ud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14"/>
          <p:cNvGrpSpPr/>
          <p:nvPr/>
        </p:nvGrpSpPr>
        <p:grpSpPr>
          <a:xfrm>
            <a:off x="1882800" y="2119320"/>
            <a:ext cx="3733920" cy="838080"/>
            <a:chOff x="1882800" y="2119320"/>
            <a:chExt cx="3733920" cy="838080"/>
          </a:xfrm>
        </p:grpSpPr>
        <p:sp>
          <p:nvSpPr>
            <p:cNvPr id="46" name="Oval 6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9"/>
            <p:cNvSpPr/>
            <p:nvPr/>
          </p:nvSpPr>
          <p:spPr>
            <a:xfrm>
              <a:off x="1882800" y="21636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4267080" y="2895480"/>
            <a:ext cx="2514600" cy="838080"/>
            <a:chOff x="4267080" y="2895480"/>
            <a:chExt cx="2514600" cy="838080"/>
          </a:xfrm>
        </p:grpSpPr>
        <p:sp>
          <p:nvSpPr>
            <p:cNvPr id="49" name="Oval 7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10"/>
            <p:cNvSpPr/>
            <p:nvPr/>
          </p:nvSpPr>
          <p:spPr>
            <a:xfrm>
              <a:off x="4267080" y="291744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6553080" y="3505320"/>
            <a:ext cx="2440080" cy="837720"/>
            <a:chOff x="6553080" y="3505320"/>
            <a:chExt cx="2440080" cy="837720"/>
          </a:xfrm>
        </p:grpSpPr>
        <p:sp>
          <p:nvSpPr>
            <p:cNvPr id="52" name="Oval 8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6553080" y="3530520"/>
              <a:ext cx="24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189000" y="3619440"/>
            <a:ext cx="1904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as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546280" y="400860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343400" y="426708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337440" y="5765760"/>
            <a:ext cx="243828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Specifica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124080" y="5791320"/>
            <a:ext cx="20574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31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32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4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6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7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001_A_021_U Kyaw Naing.mp3" descr=""/>
          <p:cNvPicPr/>
          <p:nvPr/>
        </p:nvPicPr>
        <p:blipFill>
          <a:blip r:embed="rId1"/>
          <a:stretch/>
        </p:blipFill>
        <p:spPr>
          <a:xfrm>
            <a:off x="176364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6:55Z</dcterms:created>
  <dc:creator>Administrator</dc:creator>
  <dc:description/>
  <dc:language>en-US</dc:language>
  <cp:lastModifiedBy>ds0929</cp:lastModifiedBy>
  <dcterms:modified xsi:type="dcterms:W3CDTF">2013-06-08T09:19:30Z</dcterms:modified>
  <cp:revision>4</cp:revision>
  <dc:subject/>
  <dc:title>PowerPoint Presentation</dc:title>
</cp:coreProperties>
</file>