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135C-AEFC-4211-A707-4F361CD7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500-323B-4E51-BA69-AC8CEF47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58C-F20C-4876-A719-81F6597A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C326-B565-499D-B59C-78A7D7A3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7E9A-849F-47EC-BC13-63A4404B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ECA4-9BB6-4763-89A3-A65EC137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D514-0D80-40B6-928C-98261309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265A-20B8-4F27-B36E-955F3AE1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FD9B-FCC8-4D5D-ABC4-FC5E2CE9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20DF-FF89-4CD9-90F1-988C55DB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3240-63D9-439E-A4AF-AAE9055F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7912-98EA-4567-B370-339EFEE5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AF7D-981F-40C6-888E-7ECD89D891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me Busines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38080" y="2133720"/>
            <a:ext cx="7696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ware developed in-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ckage licensed to customer, binary only (Microsoft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ckage licensed to customer, source code for customer's mod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spoke software for customer (may be owned by supplier or custo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ware bundled with hardware product (PalmPil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07_U Kyaw Naing.mp3" descr=""/>
          <p:cNvPicPr/>
          <p:nvPr/>
        </p:nvPicPr>
        <p:blipFill>
          <a:blip r:embed="rId1"/>
          <a:stretch/>
        </p:blipFill>
        <p:spPr>
          <a:xfrm>
            <a:off x="4572000" y="5445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468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39:53Z</dcterms:created>
  <dc:creator>ukyawnaing</dc:creator>
  <dc:description/>
  <dc:language>en-US</dc:language>
  <cp:lastModifiedBy>ds0929</cp:lastModifiedBy>
  <dcterms:modified xsi:type="dcterms:W3CDTF">2013-06-08T14:42:36Z</dcterms:modified>
  <cp:revision>3</cp:revision>
  <dc:subject/>
  <dc:title>Slide 1</dc:title>
</cp:coreProperties>
</file>