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C06-93A7-476A-AD4C-3D446386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7A6-A823-440D-BDF8-DF40A5CF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741-69F1-43A0-BE5E-CE364BEB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807-2212-490A-B460-4825F84D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839-DFEF-4ABD-A270-63E2788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02F-0C16-4F96-A879-34E8241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44E-C65D-4602-9A38-A86CDC65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1D4-3A85-4691-BFFB-4C74EC4A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CBA-64ED-4E9B-802F-D3E465CE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C76-F97D-46E4-BDF2-69AD55F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9D8-F6A0-458D-8F0B-989FF015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2F6-199C-4D10-8A87-E6AA5FB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B626-0944-4C66-BB05-B1FAE9803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Waterfal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09040" y="1973160"/>
            <a:ext cx="1488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9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001_A_005_U Kyaw Naing.mp3" descr=""/>
          <p:cNvPicPr/>
          <p:nvPr/>
        </p:nvPicPr>
        <p:blipFill>
          <a:blip r:embed="rId1"/>
          <a:stretch/>
        </p:blipFill>
        <p:spPr>
          <a:xfrm>
            <a:off x="7956720" y="386064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43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2:16Z</dcterms:created>
  <dc:creator>Administrator</dc:creator>
  <dc:description/>
  <dc:language>en-US</dc:language>
  <cp:lastModifiedBy>ds0929</cp:lastModifiedBy>
  <dcterms:modified xsi:type="dcterms:W3CDTF">2013-06-08T09:09:00Z</dcterms:modified>
  <cp:revision>5</cp:revision>
  <dc:subject/>
  <dc:title>PowerPoint Presentation</dc:title>
</cp:coreProperties>
</file>