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6E0-7C71-4268-8592-EC957E8D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927-B99B-472E-952A-71946E9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8F2-2E87-438A-9CD4-76FE0750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7C2-3E6D-4811-82D9-6BD8A201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3F3-04BF-4FC2-B9B0-A716D68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534-4A6B-4770-BB58-97F6E7C2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A0C-D3E4-4244-BF3E-C3235003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0AA-CA10-42FC-8923-B12BFBAE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34E-6E67-45C2-AD42-BCA8FD76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31F-99C1-405A-A93F-6035920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FBC-FEA8-4165-A0BC-536D7B5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04C-0252-4D57-961F-5E7EABD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E96C-2799-4C19-8326-2E4CECF470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1981080"/>
            <a:ext cx="77724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beginning a project, a short, low-cost study to </a:t>
            </a: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identif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tential bene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ources need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aff, time, equipment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tential obsta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  <a:ea typeface="Times New Roman"/>
              </a:rPr>
              <a:t>Where are the risks?  How can they be minimiz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0_U Kyaw Naing.mp3" descr=""/>
          <p:cNvPicPr/>
          <p:nvPr/>
        </p:nvPicPr>
        <p:blipFill>
          <a:blip r:embed="rId1"/>
          <a:stretch/>
        </p:blipFill>
        <p:spPr>
          <a:xfrm>
            <a:off x="7308720" y="40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0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6:18Z</dcterms:created>
  <dc:creator>Administrator</dc:creator>
  <dc:description/>
  <dc:language>en-US</dc:language>
  <cp:lastModifiedBy>ds0929</cp:lastModifiedBy>
  <dcterms:modified xsi:type="dcterms:W3CDTF">2013-06-08T09:13:15Z</dcterms:modified>
  <cp:revision>5</cp:revision>
  <dc:subject/>
  <dc:title>PowerPoint Presentation</dc:title>
</cp:coreProperties>
</file>