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DBF-DB40-4368-8645-FC9A9E7A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86D-AA3B-45CA-B6AD-4494178A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27C-842B-4237-AD0E-6828453B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E5E-334F-40AA-B006-B70C1F96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A1D-587D-4534-A41B-346A4FD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FF5-BF0F-49AD-AED2-0570FEA3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217-0978-4375-A714-6EF38FB2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4FD-57D4-47BC-ABB7-14BDDFF6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504-4903-4366-9DAF-FA726F8C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781-8D84-4136-BBB2-EDF68E8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210-9F87-4441-BD90-2F1CB66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40E-8A28-4F13-BBCB-4AFBC4F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2C9B-CAFE-4AFB-B765-C201DA5310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60240" y="41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and Softwar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2590920"/>
            <a:ext cx="7238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ystem desig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Partition the requirements to hardware or software systems.  Establishes an overall system archite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oftware desig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 the software system functions in a form that can be transformed into one or more executabl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fied Modeling Language (UM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6_U Kyaw Naing.mp3" descr=""/>
          <p:cNvPicPr/>
          <p:nvPr/>
        </p:nvPicPr>
        <p:blipFill>
          <a:blip r:embed="rId1"/>
          <a:stretch/>
        </p:blipFill>
        <p:spPr>
          <a:xfrm>
            <a:off x="7020000" y="486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3:12Z</dcterms:created>
  <dc:creator>Administrator</dc:creator>
  <dc:description/>
  <dc:language>en-US</dc:language>
  <cp:lastModifiedBy>ds0929</cp:lastModifiedBy>
  <dcterms:modified xsi:type="dcterms:W3CDTF">2013-06-08T09:10:01Z</dcterms:modified>
  <cp:revision>5</cp:revision>
  <dc:subject/>
  <dc:title>PowerPoint Presentation</dc:title>
</cp:coreProperties>
</file>