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CC2D4-D155-42FC-A521-5529A7232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32734-35DB-4AFE-9600-ABA396B4E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D7680-D419-4C6E-8295-196AAAD8F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9390C-EB9B-49BA-918C-1EAB75EC8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5A68F-9C43-4A26-831D-51F01B042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D6233-DBEC-41CB-A0A0-05BCF969D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04109-50BF-4CDE-8880-02650A1B9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A7C49-FBA7-418C-AF36-FB83F98B6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2F7BF-AB4E-4AE2-AEE7-6B4BA11AC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9CF26-A331-470A-AE68-9AEF4074D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715E7-EE7C-4AD1-8E4F-85B9B73AF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1BDDF-59D1-490D-B657-6131D0E5E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5DF71-F336-40A7-845D-8D92900DC11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76212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Legal Environ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1676520" y="2057400"/>
            <a:ext cx="6629400" cy="29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Software is developed in a complex legal and economic framework.  Changes in laws follow changes in technical worl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Jurisdi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•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ited States Constit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•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rnational trea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•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ederal and state stat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•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eced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•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upreme Cou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•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st of establishing preced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001_A_001_U Kyaw Naing.mp3" descr=""/>
          <p:cNvPicPr/>
          <p:nvPr/>
        </p:nvPicPr>
        <p:blipFill>
          <a:blip r:embed="rId1"/>
          <a:stretch/>
        </p:blipFill>
        <p:spPr>
          <a:xfrm>
            <a:off x="7885080" y="501336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38592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"/>
          <p:cNvSpPr/>
          <p:nvPr/>
        </p:nvSpPr>
        <p:spPr>
          <a:xfrm>
            <a:off x="2286000" y="1762200"/>
            <a:ext cx="4572000" cy="332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copyright gives the owner the exclusive right to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•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produ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•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istribu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•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er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•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isp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•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icen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radually extended to cover text, music, photographs, designs, software, 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4T01:36:41Z</dcterms:created>
  <dc:creator>ukyawnaing</dc:creator>
  <dc:description/>
  <dc:language>en-US</dc:language>
  <cp:lastModifiedBy>ds0929</cp:lastModifiedBy>
  <dcterms:modified xsi:type="dcterms:W3CDTF">2013-06-08T14:40:24Z</dcterms:modified>
  <cp:revision>4</cp:revision>
  <dc:subject/>
  <dc:title>Slide 1</dc:title>
</cp:coreProperties>
</file>