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A2E-8ACF-4A98-B02F-AA930FAE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12C-B0E5-4919-BF4E-2D5CA4BE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4B1-0735-4718-9D8E-79288F49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6F2-EE58-4DBC-BA82-01AB9FD3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B69-E968-4210-927A-7D375F3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0EC-DBF5-49DF-85A6-E26F2544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BBA-5355-4718-9DF2-6092654F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302-B589-4381-AAF5-03CB987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95A-CAB3-4D9D-8FCF-F061D3EF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DE3-8B82-48D0-8907-112701F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A21-C8D0-4EBE-890A-2981BE0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156-7FF2-4082-B995-77322B5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3BB5-4462-4F68-83C0-8B2C09956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g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76520" y="2057400"/>
            <a:ext cx="66294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oftware is developed in a complex legal and economic framework.  Changes in laws follow changes in technical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Jurisdi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ed States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tional tre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deral and state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ce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of establishing prece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1_U Kyaw Naing.mp3" descr=""/>
          <p:cNvPicPr/>
          <p:nvPr/>
        </p:nvPicPr>
        <p:blipFill>
          <a:blip r:embed="rId1"/>
          <a:stretch/>
        </p:blipFill>
        <p:spPr>
          <a:xfrm>
            <a:off x="788508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59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86000" y="1762200"/>
            <a:ext cx="4572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pyright gives the owner the exclusive right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ually extended to cover text, music, photographs, designs, software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1:36:41Z</dcterms:created>
  <dc:creator>ukyawnaing</dc:creator>
  <dc:description/>
  <dc:language>en-US</dc:language>
  <cp:lastModifiedBy>ds0929</cp:lastModifiedBy>
  <dcterms:modified xsi:type="dcterms:W3CDTF">2013-06-08T14:40:24Z</dcterms:modified>
  <cp:revision>4</cp:revision>
  <dc:subject/>
  <dc:title>Slide 1</dc:title>
</cp:coreProperties>
</file>