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F2F-9923-4E9C-826E-90F60C99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7AC-96F1-4057-8E2E-9E48BCAF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161-38F2-4D46-BA9D-31FFD417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0F5-E5A2-4D17-9183-CF5CF986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63C-8241-4994-9F3A-7C9E3716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423-7B8D-4EFE-9910-13FECF0D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097-FAE0-493C-B096-CBB64F97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07D-EFC0-46D8-9E29-AEBDDEF6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69E-E76E-4DA1-9680-042C064A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F10-BA66-48D2-B9B2-D6AE780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9E4-9FDD-4656-A59B-313B7DD3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8EB-8FE4-4F44-9E4B-078E9CD6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DEF6-3CB0-4126-9744-53B5E18CD7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rivativ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133720"/>
            <a:ext cx="784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en software is derived from other 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code is owned by new 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s that apply to old code apply to deriv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write S, which is derived from A, B, C and D, you can not distribute or licenses S unless you have right to distribute each of A, B, C and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o create a software product, you must hav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ocument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rights to use every compo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4_U Kyaw Naing.mp3" descr=""/>
          <p:cNvPicPr/>
          <p:nvPr/>
        </p:nvPicPr>
        <p:blipFill>
          <a:blip r:embed="rId1"/>
          <a:stretch/>
        </p:blipFill>
        <p:spPr>
          <a:xfrm>
            <a:off x="7740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36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8:32Z</dcterms:created>
  <dc:creator>ukyawnaing</dc:creator>
  <dc:description/>
  <dc:language>en-US</dc:language>
  <cp:lastModifiedBy>ds0929</cp:lastModifiedBy>
  <dcterms:modified xsi:type="dcterms:W3CDTF">2013-06-08T14:41:29Z</dcterms:modified>
  <cp:revision>3</cp:revision>
  <dc:subject/>
  <dc:title>Slide 1</dc:title>
</cp:coreProperties>
</file>