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3E0E-E44C-473C-8B5C-F1B252588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for Dependabl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666880"/>
            <a:ext cx="77724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quality has to be built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Each stage of development must be don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Testing and correction does not lead to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Changes should be incorporated into 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Management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286000"/>
            <a:ext cx="6705360" cy="38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um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cesses lead to goo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importance of rout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requirements, specification,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standards (naming conv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and external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Management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438280"/>
            <a:ext cx="6781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manag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de management and ver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 of change requests and bu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changing requirements specifications, designs and other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ign and Code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83055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agues review each other's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pplied to any stage of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formal or 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veloper provides colleague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(e.g., specification or design), or code lis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s through the work while answer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effective when developer and reviewers prepare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of Design and Code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905120"/>
            <a:ext cx="708660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eyes spot mistakes, suggest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agues share expertise; helps with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ccasion to tidy loose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atibilities between modules can b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scheduling and management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damental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team members must show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helpful, not threa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ss (Plan)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05740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view progress against plan (formal or infor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just plan (schedule, team assignments, functionality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 on qu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quality systems usually result from plans that are demanding but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od people like to be stretched and to work hard, but must not be pressed beyond their cap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3828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operational profile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r generate a profile of te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est data to system, record failur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statistical values of metrics under tes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209680"/>
            <a:ext cx="822960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est with very large numbers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est with extreme cases (high loads, restarts, disrup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peat after system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in operational profile (unlikely inpu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ever prove high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133720"/>
            <a:ext cx="853416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central computer serves the entire campus.  Any failure is ser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.   Gather data on every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years of data in a simple 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failure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(e.g., power, air cond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(e.g., operator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209680"/>
            <a:ext cx="7315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.  Analyze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, monthly, and annu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failures and inter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of trends by component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rates of disk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failures after power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es caused by software bugs in eac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due tomorrow at 5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oup design with individual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s Wednesday through Fri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 group member must present during the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5909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.  Invest resources where benefit will be maximum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ly shut down after power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order for software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procedures for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men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s for Fault Free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8305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, unambigu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that expects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to software design and implementation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des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structured design, object-oriented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ware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restrict or detect errors (e.g., strongly typed languages, source control systems, debugg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emphasizes simplicity, readability, and avoidance of dangerous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re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or Avoid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209680"/>
            <a:ext cx="64008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ky programming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-poin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are valuable in certain circumstances, but should be used with dis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7848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y's L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thing can go wrong, it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ensive Progr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de is incorporated to check system state after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assumptions are t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438280"/>
            <a:ext cx="7086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ebugging code into program with a switch to display values a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hecking codes in data, e.g., checksum or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otable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209680"/>
            <a:ext cx="7696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 in Fortran compiler 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microcode for Honeywell DPS virt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film plotter with the missing byte (1:10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n 3 page fault that IBM paid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ed rotation in the graphic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ood people work aroun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best people track them down and fix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133720"/>
            <a:ext cx="769608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ilur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ftware does not deliver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ice expected by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mistake in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gramming or design error whereby the delivered system does no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form to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i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bability of a failure occurring in operational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ceived reli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pends up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209680"/>
            <a:ext cx="632484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failure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failure occurrence (failure intens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(up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pothetical 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s are safer than airplane in accidents (failures) per hour, but less safe in failures per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etrics for Distributed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458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ditional metrics are hard to apply in multi-component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big network, at a given moment something will be gi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, but very few users will se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that has excellent average reliability may g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ble service to certain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 many components that system administ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y on automatic reporting systems to identify problem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Perception of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772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 personal computer that crashes frequently v. a machine that is out of service for two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A database system that crashes frequently but comes back quickly with no loss of data v. a system that fails once in three years but data has to be restored from back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A system that does not fail but has unpredictable periods when it runs very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t of Improved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4800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37840" y="-1296360"/>
            <a:ext cx="5629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211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211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40080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34340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5486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you spend your money on new functionality or improved reli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fication of System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ATM card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743200"/>
            <a:ext cx="853452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ystem fails to ope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er 1,00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ith any card -- re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ystem can not 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1,000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 undamage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 pattern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co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743200"/>
            <a:ext cx="84582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2743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2743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191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105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for Dependabl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7772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uman mind can encompass only limited complex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Compreh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Simp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Partitioning of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07T19:49:34Z</dcterms:modified>
  <cp:revision>392</cp:revision>
  <dc:subject/>
  <dc:title>Digital Library Architecture- Key Principles </dc:title>
</cp:coreProperties>
</file>