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589-9FC8-4131-AD47-DDEBDDE4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D21-BCFE-4B51-A898-3E619CA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ED6-23AE-4CC1-98C5-17092C64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06F-5CC9-4519-8756-D30B8BC2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BC6-30C8-4A2E-A315-6C050D18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3DB-BCAE-4868-8D3B-7BE66383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379-F777-4F26-9D33-D5C1CB3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215-6197-4A89-92F0-92956BD8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6CE-B532-4D0D-AEAF-2DDAC8E9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D25-6E70-4B3B-B767-0807A44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B03-2FBD-49DD-9F94-9DBA8B80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73D-E958-4F14-AC86-B41DB880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E4E1-C9DF-4A26-8D55-26054C1340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3808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Specification of Programming Languag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2057400"/>
            <a:ext cx="85345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number&gt; ::=  &lt;unsigned integer&gt; | &lt;unsigned re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integer&gt; ::=  &lt;digit&gt; {&lt;digit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real&gt; ::= &lt;unsigned integer&gt; . &lt;digit&gt; {&lt;digit&gt;}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integer&gt; . &lt;digit&gt; {&lt;digit&gt;} E &lt;scale factor&gt;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integer&gt; E &lt;scale fact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cale factor&gt; ::= &lt;unsigned integer&gt; | &lt;sign&gt; &lt;unsigned integ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ign&gt; ::= + 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scal number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4_U Kyaw Naing.mp3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6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0:18Z</dcterms:created>
  <dc:creator>ukyawnaing</dc:creator>
  <dc:description/>
  <dc:language>en-US</dc:language>
  <cp:lastModifiedBy>ds0929</cp:lastModifiedBy>
  <dcterms:modified xsi:type="dcterms:W3CDTF">2013-06-08T14:45:37Z</dcterms:modified>
  <cp:revision>3</cp:revision>
  <dc:subject/>
  <dc:title>Slide 1</dc:title>
</cp:coreProperties>
</file>