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9A9-F782-4653-9826-01BCA002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466-DAD2-4536-863C-71C30A6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BF1-A032-4FF5-A598-26828B48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5A6-7A16-4C82-B174-B9622763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1D9-6683-4EFA-A10C-56A5B079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BB4-4D28-40AA-A68F-32811657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2A7-7ACD-4C3F-8718-B379E64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179-26BB-4136-AF1A-5165E2E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DA7-7549-488A-9D00-9F3E751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C95-FCE9-4C69-B399-0C788FA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366-E557-4A96-AA89-51F6D6A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DFE-0E52-44AE-BC13-0F12D37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0AE3-45F4-4A4A-93E1-838614944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dicting System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981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28800" y="274320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require detailed understanding of the interaction between software and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01_A_021_U Kyaw Naing.mp3" descr=""/>
          <p:cNvPicPr/>
          <p:nvPr/>
        </p:nvPicPr>
        <p:blipFill>
          <a:blip r:embed="rId1"/>
          <a:stretch/>
        </p:blipFill>
        <p:spPr>
          <a:xfrm>
            <a:off x="673272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9:13Z</dcterms:created>
  <dc:creator>ukyawnaing</dc:creator>
  <dc:description/>
  <dc:language>en-US</dc:language>
  <cp:lastModifiedBy>ds0929</cp:lastModifiedBy>
  <dcterms:modified xsi:type="dcterms:W3CDTF">2013-06-08T14:48:29Z</dcterms:modified>
  <cp:revision>3</cp:revision>
  <dc:subject/>
  <dc:title>Slide 1</dc:title>
</cp:coreProperties>
</file>