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18C6-C3F2-4EA7-83E2-7D7F591B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4D5A-EE2B-4C26-B1AF-FA398972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134E-0611-4DAC-B24E-E57BECE8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8ED6-2A2A-4D0F-8A76-A1855470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72A2-DFCC-4910-993F-125B01F9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A78E-CB6B-4038-96E1-E37C4C04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ACE0-861C-43E0-B6E4-D3AF9CC0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E802-D300-4B35-8B35-6E18DF2E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2E03-3137-41F7-8144-C78ABEF9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299E-816D-446A-9911-E81866D8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F33E-FDA8-478D-9D44-037A504E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992F-29B9-4B34-BD4C-DD9D0944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5C82-F6CE-4177-8380-5BD114A56C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539640" y="2276640"/>
            <a:ext cx="748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so known as Configur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 Code Managers are tools th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chive your developmen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e as a single point of entry/exit when adding or updating developmen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 Cod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 Cod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10_U Kyaw Naing.mp3" descr=""/>
          <p:cNvPicPr/>
          <p:nvPr/>
        </p:nvPicPr>
        <p:blipFill>
          <a:blip r:embed="rId1"/>
          <a:stretch/>
        </p:blipFill>
        <p:spPr>
          <a:xfrm>
            <a:off x="7380360" y="465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728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41:43Z</dcterms:created>
  <dc:creator>ukyawnaing</dc:creator>
  <dc:description/>
  <dc:language>en-US</dc:language>
  <cp:lastModifiedBy>ds0929</cp:lastModifiedBy>
  <dcterms:modified xsi:type="dcterms:W3CDTF">2013-06-08T14:44:21Z</dcterms:modified>
  <cp:revision>3</cp:revision>
  <dc:subject/>
  <dc:title>Slide 1</dc:title>
</cp:coreProperties>
</file>