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F9A-958E-4C8E-ABEB-31A012374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8098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Stop Graceful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82296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cancel a project than to sta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withdraw a service than introdu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ponents of the system must now reverse their public 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ment of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of the service need a migration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taff must have a graceful path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Complete a Software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rge software projects typically take at least two years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phase -- changes of plan are easy to accom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phase -- fundamental changes are almost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t many things can change in two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nse of Urg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981080"/>
            <a:ext cx="7620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not-for-profit corporation is developing a system for a government organiz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6 all research had been completed and the system demonstrated successfully with real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0, the system is still not in ful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cremental improvements to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peated requests for mor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luctance to reorganize cler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body had a sense of 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taken by Ev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niversity C has a project to develop a digital library system, with funds from Company Z , private foundations and the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3 an extensive system is running at the university and Z is marketing the technology to its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4 it is clear that web browsers and web formats (though technically weak) are becoming widely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ing Requirements and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79246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CNRI Handle System -- a high performance, distributed system to map names to resources (1994-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only web browser was Mos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Java did no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mirroring and caching utilities were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commercial interest wa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 made in 1994 had to be changed.  Software was rewritten and greatly improved in 1998/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a job's worth doing, it's worth doing twic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s of Leadersh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projects are wasted because of manag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1988, Company W gave University D $1,000,000 to port a new operating system to its personal computer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 was well done, o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W changed its president and senior technical staff during the project.  The work was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ade later and several presidents later, Company W is releasing a modern version of the sam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graduate student from University D is now Senior Vice President of Company W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ent Overs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 is out-sourced, the client must be vigi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G was the world's leader in software for optimization (e.g., linear and integer programming).  G had implemented several packages for various manufactur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rating system Company H contracted with G to develop an optimization package for its new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was late, performed badly and disliked by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went wrong? What can we l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Difficult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133720"/>
            <a:ext cx="7391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development team at University E was given government funds to build a high-performance gateway from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mising young developer was hired and assigned to this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was too difficult for him, but he hid his problems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produced nothing of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we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ineering and Marke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8600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porate engineering &amp; marketing divisions at cross purpo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rox's Palo Alto Research Center pioneered window managers, Etherne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user interfaces, font managers, et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pple, Adobe, Digital, etc. brought them to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would not bring its first Unix workstation to the market until the software had been largely re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Sun's early workstations were unreliable but sol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05740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appoint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President does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appoints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IO does not wa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appoints the computing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omputing mangers do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appoint th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developers do not want to admi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body pretends that things are go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Return 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133720"/>
            <a:ext cx="3505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 Dec 6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. Dec 11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30 - 3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. Dec 13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057400"/>
            <a:ext cx="7848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last the troubles can not be hidd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try to blame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tries to blame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tries to blame the computing man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s about the Presi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try to blame the develo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 about the 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s grumble about their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an we do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bering Though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omputing projects are very complex.  Inevitab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delays and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organizations know how to manage risk &amp;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CIO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 to minimiz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confidence of their staff who keep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self-confidence to keep their senio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362320"/>
            <a:ext cx="685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reward those people who were regular in attend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s and Ris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71629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development projects can fail in many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d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, over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unction, full of bugs, ba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biggest single source of problems is poor understanding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Ris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e projects to avoid ri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and visibl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void su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l review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 to modify or cance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ling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362320"/>
            <a:ext cx="7696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Window Manager (w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superior to X (MIT's Athena project)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... Digital Equipment Corporation turning X in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with massiv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ready to support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wm cancelled in 1986, Andrew user 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pplications por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 to Cancel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F developed a novel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985 to 1989, this was a promising language for simple programming of window-bas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0, clearly not gaining acceptance beyond University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evelopment continued for many more years (about $50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cancelled becau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Big to Cancel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1337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A has antiquated administrative systems. Senior management decides to replace them all with commercial packages from X.  The timetable and budget are hopelessly optim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get dispir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ef Information Officer finds anoth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Chief Information Officer is appo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she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doing it the Wrong Way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20968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B has a (big) joint project with Company Y to develop a new computer operating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wo years work, a junior software developer persuades the university leader that the technical approach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8T16:21:18Z</dcterms:modified>
  <cp:revision>617</cp:revision>
  <dc:subject/>
  <dc:title>Digital Library Architecture- Key Principles </dc:title>
</cp:coreProperties>
</file>