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FF83-4107-43FA-987D-44F6E0FD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A21A-2163-4B93-B3C2-CC129DE3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D6E2-542B-4BC0-B9E9-E464D99D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B6A3-3205-4F6E-9127-44495AF1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42AF-E814-4CB4-B049-0F621C03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F6EE-F519-4922-8ED9-E97CC74F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5AFA-E4E9-4972-8D63-F7C95D3B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EB90-E762-4DCC-A2AD-198C4E0E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EE2E-D84D-450F-97A9-E7FD6AAF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D890-C89B-48FE-A8F0-9E7AE8F5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A3CC-0A79-4B19-90F4-58942F4F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1399-E8A0-4BAA-B9CB-F11683BE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A19C-20B3-4835-8807-A20D77B03A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1"/>
          <p:cNvSpPr/>
          <p:nvPr/>
        </p:nvSpPr>
        <p:spPr>
          <a:xfrm>
            <a:off x="8001000" y="595476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Softwar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509040" y="1973160"/>
            <a:ext cx="14882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676520" y="2971800"/>
            <a:ext cx="2209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ftwar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095640" y="3916440"/>
            <a:ext cx="23623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nd Uni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5114880" y="4910040"/>
            <a:ext cx="21337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ystem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6567480" y="5886360"/>
            <a:ext cx="2057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220968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>
            <a:off x="388620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548640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7259760" y="5356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289548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4602240" y="3438360"/>
            <a:ext cx="4680" cy="46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4"/>
          <p:cNvSpPr/>
          <p:nvPr/>
        </p:nvSpPr>
        <p:spPr>
          <a:xfrm>
            <a:off x="6172200" y="4343400"/>
            <a:ext cx="46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 flipH="1">
            <a:off x="7932240" y="5342040"/>
            <a:ext cx="9720" cy="55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6"/>
          <p:cNvSpPr/>
          <p:nvPr/>
        </p:nvSpPr>
        <p:spPr>
          <a:xfrm flipH="1">
            <a:off x="914040" y="64008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7"/>
          <p:cNvSpPr/>
          <p:nvPr/>
        </p:nvSpPr>
        <p:spPr>
          <a:xfrm flipV="1">
            <a:off x="914400" y="2808000"/>
            <a:ext cx="1440" cy="359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 flipV="1">
            <a:off x="2438280" y="38095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 flipV="1">
            <a:off x="4114800" y="47239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 flipV="1">
            <a:off x="58672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001_A_023_U Kyaw Naing.mp3" descr=""/>
          <p:cNvPicPr/>
          <p:nvPr/>
        </p:nvPicPr>
        <p:blipFill>
          <a:blip r:embed="rId1"/>
          <a:stretch/>
        </p:blipFill>
        <p:spPr>
          <a:xfrm>
            <a:off x="8101080" y="3789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192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2:00:03Z</dcterms:created>
  <dc:creator>ukyawnaing</dc:creator>
  <dc:description/>
  <dc:language>en-US</dc:language>
  <cp:lastModifiedBy>ds0929</cp:lastModifiedBy>
  <dcterms:modified xsi:type="dcterms:W3CDTF">2013-06-08T14:49:13Z</dcterms:modified>
  <cp:revision>3</cp:revision>
  <dc:subject/>
  <dc:title>Slide 1</dc:title>
</cp:coreProperties>
</file>