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1ED-2F20-402A-8447-DB2F67AF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392-F628-4DF9-B0BB-54D2585D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B07-73C9-486D-AEDF-BD98FA34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F87-5385-48F8-B8F0-7386D76E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1A9-C2B0-4118-B694-2DD4A719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BED-C6E4-4039-A8CF-CBBF8781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B1A-4764-481B-99F8-FA146DBC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71A-F6AD-4A81-A054-92A54801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5E2-09AF-4FF0-A8BA-2EA8AEAE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00E-2FC4-4943-B9C7-BDF4BF5A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B74-E9B8-432A-B2C2-EEA777A7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B0F-5618-4708-BE6D-940338D7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B605-E8C9-4659-A6DF-58000241C6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Requirements Definition and Analysi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2800" y="1973160"/>
            <a:ext cx="148824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676520" y="2971800"/>
            <a:ext cx="2209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95640" y="3916440"/>
            <a:ext cx="2362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Unit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114880" y="4910040"/>
            <a:ext cx="2133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67480" y="588636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9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6"/>
          <p:cNvSpPr/>
          <p:nvPr/>
        </p:nvSpPr>
        <p:spPr>
          <a:xfrm flipH="1">
            <a:off x="914040" y="6400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20"/>
          <p:cNvSpPr/>
          <p:nvPr/>
        </p:nvSpPr>
        <p:spPr>
          <a:xfrm flipV="1">
            <a:off x="914400" y="2808000"/>
            <a:ext cx="1440" cy="359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21"/>
          <p:cNvSpPr/>
          <p:nvPr/>
        </p:nvSpPr>
        <p:spPr>
          <a:xfrm flipV="1">
            <a:off x="2438280" y="3809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22"/>
          <p:cNvSpPr/>
          <p:nvPr/>
        </p:nvSpPr>
        <p:spPr>
          <a:xfrm flipV="1">
            <a:off x="4114800" y="4723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23"/>
          <p:cNvSpPr/>
          <p:nvPr/>
        </p:nvSpPr>
        <p:spPr>
          <a:xfrm flipV="1">
            <a:off x="58672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8:02Z</dcterms:created>
  <dc:creator>Administrator</dc:creator>
  <dc:description/>
  <dc:language>en-US</dc:language>
  <cp:lastModifiedBy>ds0929</cp:lastModifiedBy>
  <dcterms:modified xsi:type="dcterms:W3CDTF">2013-06-08T07:42:22Z</dcterms:modified>
  <cp:revision>4</cp:revision>
  <dc:subject/>
  <dc:title>PowerPoint Presentation</dc:title>
</cp:coreProperties>
</file>