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475A-6206-4A3B-9503-BB201542D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887E-0CDE-479F-8F6F-7F79D03B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AB91-7EC5-4331-BE8D-DF419F2E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480C-7894-4FD4-AF4A-45477317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E180-4A04-4361-B4BB-EDF98EDA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63B4-FAA8-4B53-A523-38F82BC3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82DD-3E68-49BC-97C0-9DCD9F01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8E4C-A024-4409-9C46-6D062043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D07E-E53D-4528-A918-28D1B261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A18B-7C74-4FD2-BE06-BF2A5C12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DB32-4615-4053-B397-758D47C8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C4DA-7228-410E-80A6-F51D3689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7CAF-32A4-40D9-9458-4C04E6B044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7621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ome Business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38080" y="2133720"/>
            <a:ext cx="76964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ftware developed in-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ckage licensed to customer, binary only (Microsoft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ckage licensed to customer, source code for customer's mod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spoke software for customer (may be owned by supplier or custo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ftware bundled with hardware product (PalmPil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001_A_007_U Kyaw Naing.mp3" descr=""/>
          <p:cNvPicPr/>
          <p:nvPr/>
        </p:nvPicPr>
        <p:blipFill>
          <a:blip r:embed="rId1"/>
          <a:stretch/>
        </p:blipFill>
        <p:spPr>
          <a:xfrm>
            <a:off x="4572000" y="5445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468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1:39:53Z</dcterms:created>
  <dc:creator>ukyawnaing</dc:creator>
  <dc:description/>
  <dc:language>en-US</dc:language>
  <cp:lastModifiedBy>ds0929</cp:lastModifiedBy>
  <dcterms:modified xsi:type="dcterms:W3CDTF">2013-06-08T14:42:36Z</dcterms:modified>
  <cp:revision>3</cp:revision>
  <dc:subject/>
  <dc:title>Slide 1</dc:title>
</cp:coreProperties>
</file>