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7F3C-1792-4702-AD39-D9C21043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6BD9-BB44-47EB-A92C-C44DF23D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3A55-B12D-41AA-A954-21E5105C4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495A-1354-4FC0-95A6-127329BCF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274D-2B78-48CC-B3C9-224846DA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82E1-A29C-43A9-9E31-50CC37F3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0419-BE57-441E-9328-07B4F04D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9B40-C3A3-4901-A3E4-7E102E15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AA7A-0686-44C3-9BBA-14D5FE4E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C383-8D4A-42C1-A55D-BDD4FB72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4D51-1D77-4BCA-B5BF-A296DA7B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07C3-CD1D-4D7C-832A-AC6FD8F8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BFFA-F063-442E-AF16-077F5EC7D2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1"/>
          <p:cNvSpPr/>
          <p:nvPr/>
        </p:nvSpPr>
        <p:spPr>
          <a:xfrm>
            <a:off x="8001000" y="595476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Software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509040" y="1973160"/>
            <a:ext cx="14882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1676520" y="2971800"/>
            <a:ext cx="2209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ftwar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095640" y="3916440"/>
            <a:ext cx="236232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nd Unit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5114880" y="4910040"/>
            <a:ext cx="213372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Integra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ystem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6567480" y="5886360"/>
            <a:ext cx="2057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220968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>
            <a:off x="388620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>
            <a:off x="5486400" y="4343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7259760" y="5356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289548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4602240" y="3438360"/>
            <a:ext cx="4680" cy="46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4"/>
          <p:cNvSpPr/>
          <p:nvPr/>
        </p:nvSpPr>
        <p:spPr>
          <a:xfrm>
            <a:off x="6172200" y="4343400"/>
            <a:ext cx="46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5"/>
          <p:cNvSpPr/>
          <p:nvPr/>
        </p:nvSpPr>
        <p:spPr>
          <a:xfrm flipH="1">
            <a:off x="7932240" y="5342040"/>
            <a:ext cx="9720" cy="55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6"/>
          <p:cNvSpPr/>
          <p:nvPr/>
        </p:nvSpPr>
        <p:spPr>
          <a:xfrm flipH="1">
            <a:off x="914040" y="64008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7"/>
          <p:cNvSpPr/>
          <p:nvPr/>
        </p:nvSpPr>
        <p:spPr>
          <a:xfrm flipV="1">
            <a:off x="914400" y="2808000"/>
            <a:ext cx="1440" cy="359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8"/>
          <p:cNvSpPr/>
          <p:nvPr/>
        </p:nvSpPr>
        <p:spPr>
          <a:xfrm flipV="1">
            <a:off x="2438280" y="38095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"/>
          <p:cNvSpPr/>
          <p:nvPr/>
        </p:nvSpPr>
        <p:spPr>
          <a:xfrm flipV="1">
            <a:off x="4114800" y="47239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 flipV="1">
            <a:off x="58672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001_A_023_U Kyaw Naing.mp3" descr=""/>
          <p:cNvPicPr/>
          <p:nvPr/>
        </p:nvPicPr>
        <p:blipFill>
          <a:blip r:embed="rId1"/>
          <a:stretch/>
        </p:blipFill>
        <p:spPr>
          <a:xfrm>
            <a:off x="8101080" y="3789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192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2:00:03Z</dcterms:created>
  <dc:creator>ukyawnaing</dc:creator>
  <dc:description/>
  <dc:language>en-US</dc:language>
  <cp:lastModifiedBy>ds0929</cp:lastModifiedBy>
  <dcterms:modified xsi:type="dcterms:W3CDTF">2013-06-08T14:49:13Z</dcterms:modified>
  <cp:revision>3</cp:revision>
  <dc:subject/>
  <dc:title>Slide 1</dc:title>
</cp:coreProperties>
</file>