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61E-B668-489B-8C1A-06B73C2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E63-F89E-48A3-BD05-4E4EAEA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710-147F-4ED2-B50C-90A1F808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4B1-1301-4A01-A763-18D34E1C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DA8-6B8A-4D7C-9812-173DB3D2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01B-D77E-41D8-90AA-7F80CCD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859-1D72-4CE7-B071-557E688E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B86-7D7F-49EC-9BA5-529FBCF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DD5-977D-42BF-8FFB-EB7B04E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559-95B1-4345-9AC4-22FF8AE6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57C-25EA-4038-BD8A-568C766D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6D2-57BB-4419-9E2B-587CF12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617-2253-4F62-9E7A-0CDCEA04D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Procedural Models: Pseudo-co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0574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ample:  Check project project pl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14400" y="2590920"/>
            <a:ext cx="78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_pla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e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(date_time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ue_date_tim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(too_lat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(client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ror (no_cli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(team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_tea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_te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(bad_te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(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ad_report (re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omments (text), comments (grade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 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ror(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24_U Kyaw Naing.mp3" descr=""/>
          <p:cNvPicPr/>
          <p:nvPr/>
        </p:nvPicPr>
        <p:blipFill>
          <a:blip r:embed="rId1"/>
          <a:stretch/>
        </p:blipFill>
        <p:spPr>
          <a:xfrm>
            <a:off x="7308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01Z</dcterms:created>
  <dc:creator>Administrator</dc:creator>
  <dc:description/>
  <dc:language>en-US</dc:language>
  <cp:lastModifiedBy>ds0929</cp:lastModifiedBy>
  <dcterms:modified xsi:type="dcterms:W3CDTF">2013-06-08T09:21:17Z</dcterms:modified>
  <cp:revision>4</cp:revision>
  <dc:subject/>
  <dc:title>PowerPoint Presentation</dc:title>
</cp:coreProperties>
</file>