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4FE-2BD9-46A1-8144-DE20FE61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1CA-0DF3-4F32-9BCF-4FBC2BC3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15E-7909-4681-A106-37AA5329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6D2-3C66-4BE5-8E62-0A8AE762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029-F35A-41B9-B638-DE873393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343-9C18-420A-BC55-71428A96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1AF-80C4-4B6D-AF6B-BCB752CD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6EB-0FFF-4126-9325-6E64AA10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53A-25C6-40E5-AAB9-BDB51DB0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2B4-B0D6-44A2-B374-921300FB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0B6-5C88-495A-AA89-46E348B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2DD-A05E-46EC-9F12-1EFF6AAC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199B-7AA8-41C8-B80F-D52100FD55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4920" y="3049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Observations about Software Processe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2514600"/>
            <a:ext cx="80773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leted projects should look like the Waterfall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t ..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development process is always partly evolutiona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sk is lowered by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rototyp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ey compon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ding into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h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ing a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visib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use of reusabl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9_U Kyaw Naing.mp3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2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5:26Z</dcterms:created>
  <dc:creator>Administrator</dc:creator>
  <dc:description/>
  <dc:language>en-US</dc:language>
  <cp:lastModifiedBy>ds0929</cp:lastModifiedBy>
  <dcterms:modified xsi:type="dcterms:W3CDTF">2013-06-08T09:12:25Z</dcterms:modified>
  <cp:revision>5</cp:revision>
  <dc:subject/>
  <dc:title>PowerPoint Presentation</dc:title>
</cp:coreProperties>
</file>