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C93-494C-4A73-B7A1-FD8FD4B6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4303-CCE1-45DE-86E1-8FD95A47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0B0-AA37-4047-B883-9B24DED7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71B-FE9D-409C-8A9F-D8C1DBC6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0A6-A7C5-46AC-935B-EECF8975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CAF-7F0E-4EC4-8C6B-52D1FB22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5A6-9FC0-402B-952E-39CC94B3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8075-E25D-4D3D-8B63-04D3C0EF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58F-BA01-47E8-9C07-FAC086D9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336-856F-4979-8549-7AB7A376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1BB-4579-4430-B899-26765292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AF1-AEE8-45CD-B88C-C64E2910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0F16-0F10-4AA0-9874-9C8771C3F4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Distributed Objects and the System Life-Cyc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2120" y="2286000"/>
            <a:ext cx="78483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ll large systems change with time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ynamic binding of objects combined with polymorph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mits the addition of extra object types, incre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s, etc. to be loc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velopment environments change with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bindings and IIOP permit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oduction environments changes with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 can be reused in different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6_U Kyaw Naing.mp3" descr=""/>
          <p:cNvPicPr/>
          <p:nvPr/>
        </p:nvPicPr>
        <p:blipFill>
          <a:blip r:embed="rId1"/>
          <a:stretch/>
        </p:blipFill>
        <p:spPr>
          <a:xfrm>
            <a:off x="7667640" y="414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77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for Us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762120" y="2286000"/>
            <a:ext cx="8153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 of a computer system is a combination of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interfac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ystems and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dom from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nything el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6:02Z</dcterms:created>
  <dc:creator>ukyawnaing</dc:creator>
  <dc:description/>
  <dc:language>en-US</dc:language>
  <cp:lastModifiedBy>ds0929</cp:lastModifiedBy>
  <dcterms:modified xsi:type="dcterms:W3CDTF">2013-06-08T14:46:28Z</dcterms:modified>
  <cp:revision>4</cp:revision>
  <dc:subject/>
  <dc:title>Slide 1</dc:title>
</cp:coreProperties>
</file>