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7C26-A5E6-4676-B57E-506E02DB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0EE7-4708-4931-B3BB-53A4073A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B53B-98B7-466D-A814-9C9B71EC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4088-E800-4DAF-A984-8DAE34EF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5BFB-4A82-447C-8CB3-3DEEE882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4AD8-B28F-49F4-A8A7-BC897EB0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B966-7455-48D7-9CEA-89ABE4CF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E970-471F-45A9-B0F5-6CB82E8D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79EE-8A30-4750-9164-0D67DA84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0028-FA3B-41B8-973D-218691F1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1C74-74D2-484F-ABE7-B0E3A8A8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0DE1-1512-4101-B8AA-FDD0AD85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7D28-8459-48E2-8FBC-7D030A4A2A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les of Interface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38080" y="1981080"/>
            <a:ext cx="83059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 design is partly an art; there are general principle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istency -- in appearance, controls, and func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edback -- what is the computer system is doing?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y does the user see certain results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s should be able to interrupt or reverse acti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ror handling should be simple and easy to comprehen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killed users offered shortcut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ginners have simple, well-defined opti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he user should feel in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17_U Kyaw Naing.mp3" descr=""/>
          <p:cNvPicPr/>
          <p:nvPr/>
        </p:nvPicPr>
        <p:blipFill>
          <a:blip r:embed="rId1"/>
          <a:stretch/>
        </p:blipFill>
        <p:spPr>
          <a:xfrm>
            <a:off x="7596360" y="458136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576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56:52Z</dcterms:created>
  <dc:creator>ukyawnaing</dc:creator>
  <dc:description/>
  <dc:language>en-US</dc:language>
  <cp:lastModifiedBy>ds0929</cp:lastModifiedBy>
  <dcterms:modified xsi:type="dcterms:W3CDTF">2013-06-08T14:46:52Z</dcterms:modified>
  <cp:revision>4</cp:revision>
  <dc:subject/>
  <dc:title>Slide 1</dc:title>
</cp:coreProperties>
</file>