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57F-1AB8-4C69-9AA6-E1A4A455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25C-D781-4C71-9F1D-049DC90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6BD-05F1-43D7-AD75-BD9A0153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B3D-B1F5-4527-9086-D4996337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4CE-B4F5-43AE-9FF5-B482FC55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EAC-0488-40A8-84E4-23EA2BEE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2A0-D03C-4EBC-98B8-9DCC02CF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339-F41D-4E19-AAAB-FE71F71E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D39-FC1D-45A6-9462-E13592F9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C7F-51A4-4DBE-B9CA-3DA7F23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838-5848-4854-83A4-171600FC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A4D-5544-4631-A260-0E8C439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838-B213-4747-8974-07798EC1A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9640" y="2276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 known as C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Code Managers are tool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ve your developm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 as a single point of entry/exit when adding or updating developm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Cod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 Cod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10_U Kyaw Naing.mp3" descr=""/>
          <p:cNvPicPr/>
          <p:nvPr/>
        </p:nvPicPr>
        <p:blipFill>
          <a:blip r:embed="rId1"/>
          <a:stretch/>
        </p:blipFill>
        <p:spPr>
          <a:xfrm>
            <a:off x="738036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41:43Z</dcterms:created>
  <dc:creator>ukyawnaing</dc:creator>
  <dc:description/>
  <dc:language>en-US</dc:language>
  <cp:lastModifiedBy>ds0929</cp:lastModifiedBy>
  <dcterms:modified xsi:type="dcterms:W3CDTF">2013-06-08T14:44:21Z</dcterms:modified>
  <cp:revision>3</cp:revision>
  <dc:subject/>
  <dc:title>Slide 1</dc:title>
</cp:coreProperties>
</file>