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071-43AA-4A74-B332-5D6197FE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BE6-4DD0-4BE6-A440-1969DA43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D51-4E9D-4455-979E-AC5FBF51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2E9-42DB-4C1A-8CD0-07827A33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FF1-DC08-479F-B911-BEC7FB5B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379-EE2E-4650-AA72-DF8455B5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ED8-10E0-4747-87F1-A1F90FE7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DA3-0342-4A2B-9394-56802908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82F-182F-4E9B-B164-E4F270B4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5FB-C3A6-4CF7-9481-FA109891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6E8-0D83-4EFD-BB4E-E913082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140-5C84-461C-A927-397F856D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26F4-B1B9-4959-B729-12F1FD2F3E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Waterfall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09040" y="1973160"/>
            <a:ext cx="1488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9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001_A_005_U Kyaw Naing.mp3" descr=""/>
          <p:cNvPicPr/>
          <p:nvPr/>
        </p:nvPicPr>
        <p:blipFill>
          <a:blip r:embed="rId1"/>
          <a:stretch/>
        </p:blipFill>
        <p:spPr>
          <a:xfrm>
            <a:off x="795672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43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2:16Z</dcterms:created>
  <dc:creator>Administrator</dc:creator>
  <dc:description/>
  <dc:language>en-US</dc:language>
  <cp:lastModifiedBy>ds0929</cp:lastModifiedBy>
  <dcterms:modified xsi:type="dcterms:W3CDTF">2013-06-08T09:09:00Z</dcterms:modified>
  <cp:revision>5</cp:revision>
  <dc:subject/>
  <dc:title>PowerPoint Presentation</dc:title>
</cp:coreProperties>
</file>