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935-59CC-4D6C-8C1C-5AA40837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FED-8A44-4018-8F05-76FB08EB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BF3-9AAF-4BEB-8424-220649DA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D67-3B71-49FD-8C1B-0769D630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730-CAC0-48CE-A47B-5A92F47B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D0B-D271-47F8-A708-D6B812BF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D9D-77F9-4527-965E-65798701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755-866A-454A-BDFF-074CE382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034-9C84-410A-B042-7E1DCC9C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845-EBD8-4E68-99A5-812BC8E3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B93-796A-40A0-981B-CFC4EE7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A91-9834-4DAE-940B-6B60702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FE8C-FBFD-4048-ACDB-C5AEE1C5F6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acts and Lic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2286000"/>
            <a:ext cx="76201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ntracts allow intellectual property to be sold or licen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ise in exchange for adequate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ten document with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manent or temporary, whole or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lusive or non-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ination, problems and difficu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s and conditions as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forceable by cou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3_U Kyaw Naing.mp3" descr=""/>
          <p:cNvPicPr/>
          <p:nvPr/>
        </p:nvPicPr>
        <p:blipFill>
          <a:blip r:embed="rId1"/>
          <a:stretch/>
        </p:blipFill>
        <p:spPr>
          <a:xfrm>
            <a:off x="7308720" y="43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57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8:11Z</dcterms:created>
  <dc:creator>ukyawnaing</dc:creator>
  <dc:description/>
  <dc:language>en-US</dc:language>
  <cp:lastModifiedBy>ds0929</cp:lastModifiedBy>
  <dcterms:modified xsi:type="dcterms:W3CDTF">2013-06-08T14:41:08Z</dcterms:modified>
  <cp:revision>3</cp:revision>
  <dc:subject/>
  <dc:title>Slide 1</dc:title>
</cp:coreProperties>
</file>