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D13-5421-4987-A00F-B7771669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478-B3DF-4648-AD18-2EFF5BAE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929-C975-4AE4-96B9-7F46A1B2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D4F-36E4-49BA-B49B-AF719A9F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C29-B9A7-481B-A33E-62DB8041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00A-8F2F-4951-B201-9F8D4AC8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480-A03E-4F9C-A765-FF158CFE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705-1E46-4925-B869-744B6AD2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75E-E663-44D4-A150-3CEE7E66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3A7-16BC-4178-BD49-A553B250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DB7-14DC-463F-9796-2F101157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6A4-DF03-4081-B814-699F5B6A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0F54-5244-4CC7-A484-BF810C525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y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database of source code, documentation, 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stored only once - all other versions are diffs of that one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a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the latest version of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need old versions of the tools to build old versions of th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s software is rebuilt exactly as the customer receive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u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else you might want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ies ship several products from the same source base (ie Win NT and  Windows 2000 versions of MS Off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cking down bugs you want to examine the code as it was when the product shipp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eople can work on the same source base without coll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Locks individual files so only one person at a time can modify it *OR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Allows multiple people to modify a source file and the system will automatically merge the changes (usu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son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fairly well if developers work on different areas of the project and don’t conflict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 People forget to unlock files when they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 People work around locking by editing a private copy and checking in when the file is finally unlocked - easy to goof and los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ople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committing changes, each user merges their copy with the latest copy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rmally done automatically by the system and usually works, but you should not blindly accept the result of the 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all the files in the source base that make up a product at each mil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fore and just after a major change (eg. changing several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in the database has a vers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ranch off the version tree to allow separate development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 main path (trunk) for the next major version and branches off of shipped versions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>
            <a:lum contrast="6000"/>
          </a:blip>
          <a:srcRect l="43550" t="30092" r="19357" b="23622"/>
          <a:stretch/>
        </p:blipFill>
        <p:spPr>
          <a:xfrm>
            <a:off x="5486400" y="4800600"/>
            <a:ext cx="210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, typically create a branch in the version tree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update: fix a defect in the latest version and then merge the changes (often by hand) into the maintenance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reate personal versions so you can make a change against a stable source base and then merge in the latest vers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03:21:43Z</dcterms:created>
  <dc:creator>Ken Hopkinson</dc:creator>
  <dc:description/>
  <dc:language>en-US</dc:language>
  <cp:lastModifiedBy>ukyawnaing</cp:lastModifiedBy>
  <dcterms:modified xsi:type="dcterms:W3CDTF">2013-04-04T01:49:37Z</dcterms:modified>
  <cp:revision>10</cp:revision>
  <dc:subject/>
  <dc:title>Source Code Management AKA Configuration Management Or How I learned to Stop Worrying (As Much) and Hate My Co-workers Less</dc:title>
</cp:coreProperties>
</file>