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C7C-0867-45A6-8426-C9625ACB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7E2-7C71-405F-89CD-309CF3FB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3BF-874B-4FB1-BE7E-44CC50C5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AA0-CAD8-44B6-822F-2945D0EE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0C2-36E2-40B3-9C96-FD2426F2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FA3-DF29-4373-9473-29E604A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C1A-4B0C-4611-9DE0-E0A1EDA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7F4-8ED4-4FD5-BA01-D3392D5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646-5047-4BEA-8DA0-F2AD2B1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CD8-3DF3-4894-96C2-A6EFA04F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93F-91AC-4D98-8588-A69D05A8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197-8F7C-433F-981E-AE82ACAA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F486-E1CC-45A9-8E65-2E46974D75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views with Cl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209680"/>
            <a:ext cx="7696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lients may have only a vague concept of requi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pare before you meet with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 full 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f you don't understand, delve 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mall group meetings are often most eff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s often confuse the current system with the underlying require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7:32Z</dcterms:created>
  <dc:creator>Administrator</dc:creator>
  <dc:description/>
  <dc:language>en-US</dc:language>
  <cp:lastModifiedBy>ds0929</cp:lastModifiedBy>
  <dcterms:modified xsi:type="dcterms:W3CDTF">2013-06-08T09:20:50Z</dcterms:modified>
  <cp:revision>3</cp:revision>
  <dc:subject/>
  <dc:title>PowerPoint Presentation</dc:title>
</cp:coreProperties>
</file>