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0E3-2CB6-4AC7-94F7-1869D28F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912-BB05-4324-AD08-ABFE183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3BA-5DCF-4EE5-9461-036A2C00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602-13B5-4C1B-8147-D42C87B3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6D0-9C6E-4EF5-B3EC-B3D1E65B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A28-E247-4318-AB63-7F072792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955D-C0C8-4882-AD1F-58C6D83A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A15-02EA-4FD6-8767-A84830A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DCD-502D-4A9A-A3B0-357FDA29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ECE-CA54-415E-BB91-BB13319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13D-97A5-4CF0-A771-DDC4B14D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831-F3C4-48C1-8ED0-707AE17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6F84-8544-4A4A-833B-D53E6FCAE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rade Secrets and Non-Disclosure Agree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209680"/>
            <a:ext cx="815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Trade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... information, including a formula, pattern, compilation, program, device, method, technique, or process that derives independent economic value from not being generally known and not being readily ascertainable and is subject to reasonable efforts to maintain secrecy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iform Trade Secrets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Non-Disclosure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al agreement not to disclose trade secr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6_U Kyaw Naing.mp3" descr=""/>
          <p:cNvPicPr/>
          <p:nvPr/>
        </p:nvPicPr>
        <p:blipFill>
          <a:blip r:embed="rId1"/>
          <a:stretch/>
        </p:blipFill>
        <p:spPr>
          <a:xfrm>
            <a:off x="702000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9:31Z</dcterms:created>
  <dc:creator>ukyawnaing</dc:creator>
  <dc:description/>
  <dc:language>en-US</dc:language>
  <cp:lastModifiedBy>ds0929</cp:lastModifiedBy>
  <dcterms:modified xsi:type="dcterms:W3CDTF">2013-06-08T14:42:15Z</dcterms:modified>
  <cp:revision>3</cp:revision>
  <dc:subject/>
  <dc:title>Slide 1</dc:title>
</cp:coreProperties>
</file>