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AFA-0F05-4D53-8BC4-4AA98921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2A6-D9F7-4019-BB81-EA579BD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FCA-8A8B-4A06-8409-48C018C6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8F3-E010-46F1-B42D-4CA744B1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C0A-1660-48C7-B8DE-62BA5987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9E4-1FDA-4DA1-BBA7-EFBD4C1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11C-6CA7-488C-A8D3-49D2AF9D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1D2-D604-476F-9119-B7519B0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DD9-9A9C-40F4-9DEF-E4B6598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8C4-C130-47F6-B98F-BACA220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5BB-29D9-4986-9034-992DD7A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1FF-50EE-4795-8857-A97F34F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8C54-0A7A-4F7B-9AB8-DC0B31096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equirement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43" name="Oval 3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4"/>
            <p:cNvSpPr/>
            <p:nvPr/>
          </p:nvSpPr>
          <p:spPr>
            <a:xfrm>
              <a:off x="-68400" y="214632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easibil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ud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14"/>
          <p:cNvGrpSpPr/>
          <p:nvPr/>
        </p:nvGrpSpPr>
        <p:grpSpPr>
          <a:xfrm>
            <a:off x="1882800" y="2119320"/>
            <a:ext cx="3733920" cy="838080"/>
            <a:chOff x="1882800" y="2119320"/>
            <a:chExt cx="3733920" cy="838080"/>
          </a:xfrm>
        </p:grpSpPr>
        <p:sp>
          <p:nvSpPr>
            <p:cNvPr id="46" name="Oval 6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9"/>
            <p:cNvSpPr/>
            <p:nvPr/>
          </p:nvSpPr>
          <p:spPr>
            <a:xfrm>
              <a:off x="1882800" y="21636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5"/>
          <p:cNvGrpSpPr/>
          <p:nvPr/>
        </p:nvGrpSpPr>
        <p:grpSpPr>
          <a:xfrm>
            <a:off x="4267080" y="2895480"/>
            <a:ext cx="2514600" cy="838080"/>
            <a:chOff x="4267080" y="2895480"/>
            <a:chExt cx="2514600" cy="838080"/>
          </a:xfrm>
        </p:grpSpPr>
        <p:sp>
          <p:nvSpPr>
            <p:cNvPr id="49" name="Oval 7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10"/>
            <p:cNvSpPr/>
            <p:nvPr/>
          </p:nvSpPr>
          <p:spPr>
            <a:xfrm>
              <a:off x="4267080" y="291744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6553080" y="3505320"/>
            <a:ext cx="2440080" cy="837720"/>
            <a:chOff x="6553080" y="3505320"/>
            <a:chExt cx="2440080" cy="837720"/>
          </a:xfrm>
        </p:grpSpPr>
        <p:sp>
          <p:nvSpPr>
            <p:cNvPr id="52" name="Oval 8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6553080" y="3530520"/>
              <a:ext cx="24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189000" y="3619440"/>
            <a:ext cx="1904760" cy="64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Feas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546280" y="400860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343400" y="426708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6337440" y="5765760"/>
            <a:ext cx="2438280" cy="64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Specificat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124080" y="5791320"/>
            <a:ext cx="2057400" cy="6426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7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8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30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31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32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3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4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6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7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001_A_014_U Kyaw Naing.mp3" descr=""/>
          <p:cNvPicPr/>
          <p:nvPr/>
        </p:nvPicPr>
        <p:blipFill>
          <a:blip r:embed="rId1"/>
          <a:stretch/>
        </p:blipFill>
        <p:spPr>
          <a:xfrm>
            <a:off x="7956720" y="2708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68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9:13Z</dcterms:created>
  <dc:creator>Administrator</dc:creator>
  <dc:description/>
  <dc:language>en-US</dc:language>
  <cp:lastModifiedBy>ds0929</cp:lastModifiedBy>
  <dcterms:modified xsi:type="dcterms:W3CDTF">2013-06-08T09:15:05Z</dcterms:modified>
  <cp:revision>5</cp:revision>
  <dc:subject/>
  <dc:title>PowerPoint Presentation</dc:title>
</cp:coreProperties>
</file>