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AE7-CEC0-42B0-8CEF-5CFB71ED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139-F6D4-488C-830A-23629DB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95C-8578-4164-B35F-D16BFACD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F95-05F7-4255-8E36-E8064CB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2C5-F14F-48A5-BDF8-8F081B78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645-E73A-4708-9B79-CCE84F7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710-C838-4D3C-AF84-707D485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43B-1A37-4D3E-B527-BA9DA23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BA6-F882-4F5F-94B6-493854E6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A0F-720E-4140-9895-1F36F21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330-51F1-41A8-A22E-EE99BE2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CC8-5C5C-48A2-9E9B-6A5FE38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721D-0B54-453C-9AA0-E03EBABC0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3808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Specification of Programming Languag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2057400"/>
            <a:ext cx="8534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number&gt; ::=  &lt;unsigned integer&gt; | &lt;unsigned rea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::=  &lt;digit&gt; {&lt;digit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real&gt; ::= &lt;unsigned integer&gt; . &lt;digit&gt; {&lt;digit&gt;}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. &lt;digit&gt; {&lt;digit&gt;} E &lt;scale factor&gt;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unsigned integer&gt; E &lt;scale facto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ale factor&gt; ::= &lt;unsigned integer&gt; | &lt;sign&gt; &lt;unsigned integ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ign&gt; ::= + 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scal number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4_U Kyaw Naing.mp3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6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50:18Z</dcterms:created>
  <dc:creator>ukyawnaing</dc:creator>
  <dc:description/>
  <dc:language>en-US</dc:language>
  <cp:lastModifiedBy>ds0929</cp:lastModifiedBy>
  <dcterms:modified xsi:type="dcterms:W3CDTF">2013-06-08T14:45:37Z</dcterms:modified>
  <cp:revision>3</cp:revision>
  <dc:subject/>
  <dc:title>Slide 1</dc:title>
</cp:coreProperties>
</file>