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297-84E4-4848-BF11-3D200C43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C4B-128F-4787-B0A5-75783D08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9E1-7075-4073-9F25-7C1F910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FFC-E98E-4627-B868-CF3BBD27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611-278C-4C30-A574-DF6A529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ADD-8E97-4827-AB67-79BD997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AD8-5462-4A70-B4F9-3DD2FE7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BBF-B359-4076-9E01-C92E76F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4D5-A552-4804-BD92-035B52A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B73-83EB-4EE7-A94F-9245C2C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D86-21D3-4A58-A88C-A6290CC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AC2-20C6-45F0-BFC8-E6B5343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10BE-CB36-4499-B07A-92F6F45F9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essional Responsibilit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057400"/>
            <a:ext cx="83822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ganizations put trust in software develop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ence:  Software that does not work effectively can destroy an organiz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fidentiality:  Software developers and systems administrators may have access to highly confidential information (e.g., trade secrets, personal dat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al environment:  Software exists in a complex legal environment (e.g., intellectual property, obscen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ble use and misuse: Computer abuse can paralyze an organization (e.g., the Internet wor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3_U Kyaw Naing.mp3" descr=""/>
          <p:cNvPicPr/>
          <p:nvPr/>
        </p:nvPicPr>
        <p:blipFill>
          <a:blip r:embed="rId1"/>
          <a:stretch/>
        </p:blipFill>
        <p:spPr>
          <a:xfrm>
            <a:off x="7596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4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39:28Z</dcterms:created>
  <dc:creator>Administrator</dc:creator>
  <dc:description/>
  <dc:language>en-US</dc:language>
  <cp:lastModifiedBy>ds0929</cp:lastModifiedBy>
  <dcterms:modified xsi:type="dcterms:W3CDTF">2013-06-08T09:07:14Z</dcterms:modified>
  <cp:revision>4</cp:revision>
  <dc:subject/>
  <dc:title>PowerPoint Presentation</dc:title>
</cp:coreProperties>
</file>