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762A-8DDA-4C6B-A557-9A7AE0F2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945-9717-4EB9-AABE-7DCB905F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EC3-8E26-45DD-9077-51CE8315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799-B990-48C5-BFE0-96E3B9F6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F3C-289A-4E5A-974F-85FB60C2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BD9-68C4-4E7A-9FB3-8A54ACE3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3D1-F0DB-46A9-A850-DFE9E608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ADE-A9BC-4C5F-B7F4-E7A3E8C0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CF0-863B-4513-8B15-70E7EA05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9FF-8CF0-4A6B-B5BE-838B2DD4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1BC-03B7-4C57-A3C5-048CF1F4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0C3-5599-4D13-8D34-84B67879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E0DD-713E-41C4-910E-13C02AFAA2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85800" y="1905120"/>
            <a:ext cx="7467480" cy="36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sons for document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bility  (e.g., project plan, interim re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support  (e.g., user manu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m communication (e.g., interface specificati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 and evolution (e.g., requirements)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racteristics of document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urate and kept curr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opriate for aud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ed online (usual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e but professional in style and appear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ocumentation is expensive --&gt; Quality not volu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19_U Kyaw Naing.mp3" descr=""/>
          <p:cNvPicPr/>
          <p:nvPr/>
        </p:nvPicPr>
        <p:blipFill>
          <a:blip r:embed="rId1"/>
          <a:stretch/>
        </p:blipFill>
        <p:spPr>
          <a:xfrm>
            <a:off x="7524720" y="4581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51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 of 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447920" y="2286000"/>
            <a:ext cx="58672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eb 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 context (e.g., copyright notic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54:59Z</dcterms:created>
  <dc:creator>Administrator</dc:creator>
  <dc:description/>
  <dc:language>en-US</dc:language>
  <cp:lastModifiedBy>ds0929</cp:lastModifiedBy>
  <dcterms:modified xsi:type="dcterms:W3CDTF">2013-06-08T09:18:17Z</dcterms:modified>
  <cp:revision>5</cp:revision>
  <dc:subject/>
  <dc:title>PowerPoint Presentation</dc:title>
</cp:coreProperties>
</file>