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701-9C39-4F18-B58C-AEAF428A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96A-B66C-49B6-A309-3CFEFA8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0AB-377F-47CE-8C8E-34DA8B70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622-05AB-49C4-B6E9-AC9F145D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773-04A6-45F8-9B32-810DCAC3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3A9-B50D-4F3A-B392-A4064AC8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B98-FAA5-44E4-8DBC-3EA14EC0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2BE-B240-4D15-8DF0-8D4C1F34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BD4-D3FB-4BF5-AEC3-2539A0CB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119-F6E5-4BF0-AEC4-348DB011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CBF-ED7F-4D0B-B4FA-2E0E6A7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0DC-311C-460E-908F-18DA55F6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F1FB-8A09-4216-8215-CC37E3AD45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Trade Secrets and Non-Disclosure Agreemen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209680"/>
            <a:ext cx="8153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504d"/>
                </a:solidFill>
                <a:latin typeface="Calibri"/>
              </a:rPr>
              <a:t>Trade Sec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... information, including a formula, pattern, compilation, program, device, method, technique, or process that derives independent economic value from not being generally known and not being readily ascertainable and is subject to reasonable efforts to maintain secrecy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iform Trade Secrets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504d"/>
                </a:solidFill>
                <a:latin typeface="Calibri"/>
              </a:rPr>
              <a:t>Non-Disclosur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gal agreement not to disclose trade secr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6_U Kyaw Naing.mp3" descr=""/>
          <p:cNvPicPr/>
          <p:nvPr/>
        </p:nvPicPr>
        <p:blipFill>
          <a:blip r:embed="rId1"/>
          <a:stretch/>
        </p:blipFill>
        <p:spPr>
          <a:xfrm>
            <a:off x="702000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04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9:31Z</dcterms:created>
  <dc:creator>ukyawnaing</dc:creator>
  <dc:description/>
  <dc:language>en-US</dc:language>
  <cp:lastModifiedBy>ds0929</cp:lastModifiedBy>
  <dcterms:modified xsi:type="dcterms:W3CDTF">2013-06-08T14:42:15Z</dcterms:modified>
  <cp:revision>3</cp:revision>
  <dc:subject/>
  <dc:title>Slide 1</dc:title>
</cp:coreProperties>
</file>