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9EA-7C60-4D4A-A989-C1C61C29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639-084D-4613-AAB1-490D2554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B1C-4000-4DC8-B483-FA1131C3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C86-13E9-4FA7-990A-E10F61B4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D9F2-1287-4E03-864D-C1C4EA1A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B10-46A8-4C7D-9215-204F8E34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C11-C714-4A1E-8D74-7B8119FE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3BD-69DA-4A85-B427-E33229AF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034-B907-496E-AD5D-4BE34826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5DE-7725-4DAF-B3F8-E354BC9A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6AD-263E-43CB-B12E-F6B15104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3A7-BD2F-4DE8-9286-7CFCEB36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1909-DD4B-425E-A305-A1727CD004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14400" y="2286000"/>
            <a:ext cx="7924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functional desig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, determines the functions that are offered to the u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ction of parts of a digit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arching a list or sorting th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ipulation of objects on a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n or z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18_U Kyaw Naing.mp3" descr=""/>
          <p:cNvPicPr/>
          <p:nvPr/>
        </p:nvPicPr>
        <p:blipFill>
          <a:blip r:embed="rId1"/>
          <a:stretch/>
        </p:blipFill>
        <p:spPr>
          <a:xfrm>
            <a:off x="738036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987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7:23Z</dcterms:created>
  <dc:creator>ukyawnaing</dc:creator>
  <dc:description/>
  <dc:language>en-US</dc:language>
  <cp:lastModifiedBy>ds0929</cp:lastModifiedBy>
  <dcterms:modified xsi:type="dcterms:W3CDTF">2013-06-08T14:47:16Z</dcterms:modified>
  <cp:revision>5</cp:revision>
  <dc:subject/>
  <dc:title>Slide 1</dc:title>
</cp:coreProperties>
</file>