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5D0-0C1F-432E-B5AB-F55169D6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C2E-5D52-4F54-9615-4A16C2E9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F73-D5E0-4AEF-B051-FC7345D2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0FB-8BC7-4734-95E9-1A51C113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6C9-D55B-4656-B858-0A960392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014-CBC5-422F-A401-2FDC2F6C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7E5-D782-49F8-9BC9-BA98646A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736-145D-44EB-B913-B944668C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128-E8BD-4C75-A320-E346040F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1D8-5A79-47E3-9089-F5EE8316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C7D-5DF3-4B3A-B357-898066D9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36E-C65A-4412-AFD8-045D9EAC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87BE-E86C-4159-BC6C-BCC2108871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492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Requirements Analysis v. System Design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3520" y="2286000"/>
            <a:ext cx="7848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ilemm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analysis should make minimal assumptions about the system desig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the requirements definition must be consistent with computing technology and the resources avail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ractice, analysis and design are interwoven.  However,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o not to allow the analysis tools to prejudge the system desig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23_U Kyaw Naing.mp3" descr=""/>
          <p:cNvPicPr/>
          <p:nvPr/>
        </p:nvPicPr>
        <p:blipFill>
          <a:blip r:embed="rId1"/>
          <a:stretch/>
        </p:blipFill>
        <p:spPr>
          <a:xfrm>
            <a:off x="702000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84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9:39Z</dcterms:created>
  <dc:creator>Administrator</dc:creator>
  <dc:description/>
  <dc:language>en-US</dc:language>
  <cp:lastModifiedBy>ds0929</cp:lastModifiedBy>
  <dcterms:modified xsi:type="dcterms:W3CDTF">2013-06-08T09:20:43Z</dcterms:modified>
  <cp:revision>4</cp:revision>
  <dc:subject/>
  <dc:title>PowerPoint Presentation</dc:title>
</cp:coreProperties>
</file>