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B74-5E04-4FFC-872B-3DD88B23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704-97BF-4FE0-855D-AAF168B3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17A-65D1-4E63-87D7-57A12116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138-61B5-4E64-9CA9-027AD59C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012-150F-4FCE-94E5-A3C12F4A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137-F7CE-4A35-9069-C3A2DE15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ADD-F1DB-456C-B9EA-BBA60074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18F-37FD-477D-9CB8-BEB5F2CD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E18-555B-47A3-B8C2-727B6620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EAE-04D4-4A5C-BABC-A937F40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B92-54B0-402E-A8E2-C1A6352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782-0348-4F7F-A661-6756AB8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CE6-4EE1-4A9C-9EAA-CE2BFA566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ject Plann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1905120"/>
            <a:ext cx="8001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itical Path Method, Gantt charts, Activity bar charts, etc. are roughly equival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methods are best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 is updated regularly (e.g., month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ructure of the project is well underst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ime estimates are rel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 do not shar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[Critical Path Method is excellent for large construction projects.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6_U Kyaw Naing.mp3" descr=""/>
          <p:cNvPicPr/>
          <p:nvPr/>
        </p:nvPicPr>
        <p:blipFill>
          <a:blip r:embed="rId1"/>
          <a:stretch/>
        </p:blipFill>
        <p:spPr>
          <a:xfrm>
            <a:off x="730872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50:08Z</dcterms:created>
  <dc:creator>Administrator</dc:creator>
  <dc:description/>
  <dc:language>en-US</dc:language>
  <cp:lastModifiedBy>ds0929</cp:lastModifiedBy>
  <dcterms:modified xsi:type="dcterms:W3CDTF">2013-06-08T09:16:19Z</dcterms:modified>
  <cp:revision>5</cp:revision>
  <dc:subject/>
  <dc:title>PowerPoint Presentation</dc:title>
</cp:coreProperties>
</file>