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6A4-2C17-4647-831E-B907D569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6FF-3BDA-4420-AB7A-51FDA397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932-24EE-4A59-BF7A-F536DFCB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3044-1EB7-4C98-B546-378BEE6C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4480-F140-43D5-B5F6-ACE9D4C1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3C8-F723-4A77-B59A-91B2679E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16F-1C3B-46DD-946E-FBD86D52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C4E9-2EDF-44E3-A05C-C14F147F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68A-15D7-466F-931E-9646797D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F1A-9039-461C-B2C3-823A1CB6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A78-4F48-4D43-9F7A-99FB3A17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03E-AE21-4686-BB08-D9D41BCA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2C7C-0BAF-492F-99E3-D36AD3824E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should be in the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ource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Docu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Build 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Often need old versions of the tools to build old versions of th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nsures software is rebuilt exactly as the customer received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est Sui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nything else you might want l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11_U Kyaw Naing.mp3" descr=""/>
          <p:cNvPicPr/>
          <p:nvPr/>
        </p:nvPicPr>
        <p:blipFill>
          <a:blip r:embed="rId1"/>
          <a:stretch/>
        </p:blipFill>
        <p:spPr>
          <a:xfrm>
            <a:off x="8172360" y="558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728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42:42Z</dcterms:created>
  <dc:creator>ukyawnaing</dc:creator>
  <dc:description/>
  <dc:language>en-US</dc:language>
  <cp:lastModifiedBy>ds0929</cp:lastModifiedBy>
  <dcterms:modified xsi:type="dcterms:W3CDTF">2013-06-08T14:44:48Z</dcterms:modified>
  <cp:revision>3</cp:revision>
  <dc:subject/>
  <dc:title>Slide 1</dc:title>
</cp:coreProperties>
</file>