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B72-602E-4960-9AC5-B84F3F95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1FC-E085-4E79-BA81-F5D2BA4F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929-4173-4AAF-B430-7CFBB418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93D-0E45-466C-9FD7-D1F377B3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A68-E1EE-4C97-9BE1-BA135379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C32-D1BE-4527-9AEC-65C2FA1F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6C5-3429-4F35-AB33-5E9E2AB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450-6B1E-4335-B95A-8E6E343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EAA-F691-4BFC-96A4-06AC516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F47-4669-42E9-A319-5CC65827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6E5-92C7-41CA-8574-1DA02E3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15E-BA66-425D-A6F9-A1416756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C965-B22F-4180-8AFB-65B428128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609480" y="1143000"/>
            <a:ext cx="76201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2"/>
          <p:cNvSpPr/>
          <p:nvPr/>
        </p:nvSpPr>
        <p:spPr>
          <a:xfrm flipH="1">
            <a:off x="3952800" y="3594240"/>
            <a:ext cx="57960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Line 3"/>
          <p:cNvSpPr/>
          <p:nvPr/>
        </p:nvSpPr>
        <p:spPr>
          <a:xfrm>
            <a:off x="942840" y="4219560"/>
            <a:ext cx="0" cy="56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945720" y="2673360"/>
            <a:ext cx="180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936720" y="1158840"/>
            <a:ext cx="1440" cy="13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6"/>
          <p:cNvSpPr/>
          <p:nvPr/>
        </p:nvSpPr>
        <p:spPr>
          <a:xfrm flipH="1" flipV="1">
            <a:off x="3346560" y="6335280"/>
            <a:ext cx="1025280" cy="324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1390320" y="6356520"/>
            <a:ext cx="1025640" cy="288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8"/>
          <p:cNvSpPr/>
          <p:nvPr/>
        </p:nvSpPr>
        <p:spPr>
          <a:xfrm>
            <a:off x="6040440" y="2649600"/>
            <a:ext cx="1805040" cy="4874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9"/>
          <p:cNvSpPr/>
          <p:nvPr/>
        </p:nvSpPr>
        <p:spPr>
          <a:xfrm flipV="1">
            <a:off x="5584680" y="1208160"/>
            <a:ext cx="2310120" cy="14032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842000" y="3478320"/>
            <a:ext cx="3284280" cy="12808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618080" y="3575160"/>
            <a:ext cx="1392120" cy="1233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4602240" y="1130400"/>
            <a:ext cx="0" cy="49032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2297160" y="3595680"/>
            <a:ext cx="2106720" cy="1238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2057040" y="3514680"/>
            <a:ext cx="2011320" cy="60480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610160" y="2662200"/>
            <a:ext cx="0" cy="73836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4600440" y="1846440"/>
            <a:ext cx="0" cy="64908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5229360" y="1166760"/>
            <a:ext cx="893520" cy="635040"/>
          </a:xfrm>
          <a:prstGeom prst="line">
            <a:avLst/>
          </a:prstGeom>
          <a:ln w="572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2152440" y="1801800"/>
            <a:ext cx="2509560" cy="77940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31920" y="2379600"/>
            <a:ext cx="186336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Storage Structur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n Unix files, by aggrega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304920" y="3833640"/>
            <a:ext cx="18586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ex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ncluding pre-process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257400" y="4714920"/>
            <a:ext cx="229608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merican Memory User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trieval, navigation, &amp; displ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025880" y="2459160"/>
            <a:ext cx="208260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bject Administration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998160" y="3348000"/>
            <a:ext cx="86796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023000" y="1616040"/>
            <a:ext cx="1259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DLP Work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cking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2378160" y="6208560"/>
            <a:ext cx="107244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ndle-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224640" y="71748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4085280" y="71748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nv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1982160" y="717480"/>
            <a:ext cx="139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idge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or repository t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5733360" y="717480"/>
            <a:ext cx="121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LP col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480240" y="64008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334640" y="64008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7468560" y="4714920"/>
            <a:ext cx="1331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S OPAC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5002560" y="4714920"/>
            <a:ext cx="20721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ser Interf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.g.  RLG, OCLC, DLF part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445880" y="717480"/>
            <a:ext cx="132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7810200" y="3014640"/>
            <a:ext cx="352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266120" y="5884920"/>
            <a:ext cx="140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le assig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eg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3490560" y="60418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le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1114200" y="5618160"/>
            <a:ext cx="17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pporting infra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488520" y="96840"/>
            <a:ext cx="549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RAF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VIEW OF ITS SUPPO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NDLP PRODUCTION AND DELIVERY OF AMERICAN MEM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3108960" y="4714920"/>
            <a:ext cx="16210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user interface pl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bjects/col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001_A_015_U Kyaw Naing.mp3" descr=""/>
          <p:cNvPicPr/>
          <p:nvPr/>
        </p:nvPicPr>
        <p:blipFill>
          <a:blip r:embed="rId1"/>
          <a:stretch/>
        </p:blipFill>
        <p:spPr>
          <a:xfrm>
            <a:off x="6372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2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9:46Z</dcterms:created>
  <dc:creator>Administrator</dc:creator>
  <dc:description/>
  <dc:language>en-US</dc:language>
  <cp:lastModifiedBy>ds0929</cp:lastModifiedBy>
  <dcterms:modified xsi:type="dcterms:W3CDTF">2013-06-08T09:15:35Z</dcterms:modified>
  <cp:revision>5</cp:revision>
  <dc:subject/>
  <dc:title>PowerPoint Presentation</dc:title>
</cp:coreProperties>
</file>