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388-F200-4DA8-8EF6-69E801EE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137-59EE-4131-B622-D7CC7942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832-8E2B-4B4C-82C0-D3DC7C06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DB0-DD24-48FE-8777-059CEBAD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DBC-9657-4489-954D-5ADB8291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1D2-26C9-419E-AE14-013EA495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46D-F604-4B81-86B4-47FCFF64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3E6-559E-41D3-A9BC-8B3471F3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469-D3DE-44BA-9B6E-402AFEC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AA9-39BF-4EBE-9A56-EFAD063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866-2626-48DC-9A2D-894C2F77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33A-C9EB-4F35-843E-AE31C8E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8E8B-FFC0-40DF-A76B-9891A68C96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219320" y="2590920"/>
            <a:ext cx="7315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re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rived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ity of the author's 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scrimination against persons or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9_U Kyaw Naing.mp3" descr=""/>
          <p:cNvPicPr/>
          <p:nvPr/>
        </p:nvPicPr>
        <p:blipFill>
          <a:blip r:embed="rId1"/>
          <a:stretch/>
        </p:blipFill>
        <p:spPr>
          <a:xfrm>
            <a:off x="7093080" y="3716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23880" y="2895480"/>
            <a:ext cx="7315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iscrimination against fields of ende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ion of 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ense must not be specific to 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ense must not contaminate othe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504d"/>
                </a:solidFill>
                <a:uFillTx/>
                <a:latin typeface="Calibri"/>
              </a:rPr>
              <a:t>http://www.opensource.org/osd.htm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0:43Z</dcterms:created>
  <dc:creator>ukyawnaing</dc:creator>
  <dc:description/>
  <dc:language>en-US</dc:language>
  <cp:lastModifiedBy>ds0929</cp:lastModifiedBy>
  <dcterms:modified xsi:type="dcterms:W3CDTF">2013-06-08T14:43:58Z</dcterms:modified>
  <cp:revision>4</cp:revision>
  <dc:subject/>
  <dc:title>Slide 1</dc:title>
</cp:coreProperties>
</file>