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25F-1BAF-4035-A251-01E13D69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FBC-4232-40D5-BEAE-100139D1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70A-1C11-4A88-B1CA-39E4B735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DCF-9443-44E6-89A7-86986450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193-62CE-4676-A7D0-3CD04F5D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DC7-93F3-495B-973B-69074E8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720-8A96-4E27-904D-A8DC3F8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A3D-9A28-448D-9785-3C5DE982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630-6D19-443B-B1FD-D36B928E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DF0-32B9-4BAE-B12C-511C2816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E4B-86F2-42F3-84CA-AA0BFCC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257-85DF-4E18-897E-A1EC089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D56-FB01-4DF7-BF93-AC48F6239A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d 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66680" y="2209680"/>
            <a:ext cx="7086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ata and metada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tored by the computer system enable the functions and th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esktop metaphor has the concept of associating a file with an application.  This requires a file type to be stored with each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extension to filename (Windows and Unix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 resource fork (Macint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validation often requires that a user interface has access to a database (e.g., names and addre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9_U Kyaw Naing.mp3" descr=""/>
          <p:cNvPicPr/>
          <p:nvPr/>
        </p:nvPicPr>
        <p:blipFill>
          <a:blip r:embed="rId1"/>
          <a:stretch/>
        </p:blipFill>
        <p:spPr>
          <a:xfrm>
            <a:off x="7524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1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7:46Z</dcterms:created>
  <dc:creator>ukyawnaing</dc:creator>
  <dc:description/>
  <dc:language>en-US</dc:language>
  <cp:lastModifiedBy>ds0929</cp:lastModifiedBy>
  <dcterms:modified xsi:type="dcterms:W3CDTF">2013-06-08T14:47:44Z</dcterms:modified>
  <cp:revision>3</cp:revision>
  <dc:subject/>
  <dc:title>Slide 1</dc:title>
</cp:coreProperties>
</file>