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B38-9E41-4B5D-AE71-0A9E38B3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47A-0839-4642-A414-794E778A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6AB-F2BE-422A-9F87-B4395F6C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02C-9166-47A2-8C8E-E3D65562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255-CA3C-4241-ADD0-19A87B58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BB4-7328-4696-8DD6-B18719B4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3D1-40DD-4328-81C9-3D95D20B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021-11BF-4FCE-9D12-2822B70E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5CD-489B-4244-BEFC-96592C60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362-28BA-4DF8-8C0F-3236DD8E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0A1-624B-49AD-872E-8D37928A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317-1736-40DC-9F1E-22B187CA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D77C-31A9-4373-B8FA-50B3A6CDE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Procedural Models: Pseudo-co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20574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ample:  Check project project pl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14400" y="2590920"/>
            <a:ext cx="784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eck_pla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e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 (date_time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ue_date_tim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(too_lat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 (client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rror (no_cli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 (team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_tea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_tea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(bad_te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(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en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ad_report (re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comments (text), comments (grade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se 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rror(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24_U Kyaw Naing.mp3" descr=""/>
          <p:cNvPicPr/>
          <p:nvPr/>
        </p:nvPicPr>
        <p:blipFill>
          <a:blip r:embed="rId1"/>
          <a:stretch/>
        </p:blipFill>
        <p:spPr>
          <a:xfrm>
            <a:off x="730872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6:00:01Z</dcterms:created>
  <dc:creator>Administrator</dc:creator>
  <dc:description/>
  <dc:language>en-US</dc:language>
  <cp:lastModifiedBy>ds0929</cp:lastModifiedBy>
  <dcterms:modified xsi:type="dcterms:W3CDTF">2013-06-08T09:21:17Z</dcterms:modified>
  <cp:revision>4</cp:revision>
  <dc:subject/>
  <dc:title>PowerPoint Presentation</dc:title>
</cp:coreProperties>
</file>