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6C1-6073-40DE-9AC8-EE0126F5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777-FE61-48BB-9D3F-300F2875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CC3-A2EE-41D3-8A22-B7E76204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9D7A-AD54-47C2-8207-73B6FC15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6AC-D540-42A6-B0A0-767B7572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DE2-FCC4-4C4E-92D8-8B9748FF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45C-8138-4B80-8D5C-F24E6F41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C66-125A-43DE-A715-8EDDC05A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C99-FB09-49CE-8DD1-DDFFE7E9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913-9247-4D43-BF3E-13A14A3E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5F9-BE29-4C18-A6BF-E586B4C7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8D8-FB8A-4BD5-B234-ADD2F3DC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7CB9-6952-445C-A6EB-D025331828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Requirements Definition and Analysi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2800" y="1973160"/>
            <a:ext cx="148824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676520" y="2971800"/>
            <a:ext cx="2209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95640" y="3916440"/>
            <a:ext cx="2362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Unit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114880" y="4910040"/>
            <a:ext cx="2133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67480" y="588636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9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6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20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21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22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23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8:02Z</dcterms:created>
  <dc:creator>Administrator</dc:creator>
  <dc:description/>
  <dc:language>en-US</dc:language>
  <cp:lastModifiedBy>ds0929</cp:lastModifiedBy>
  <dcterms:modified xsi:type="dcterms:W3CDTF">2013-06-08T07:42:22Z</dcterms:modified>
  <cp:revision>4</cp:revision>
  <dc:subject/>
  <dc:title>PowerPoint Presentation</dc:title>
</cp:coreProperties>
</file>