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0960-0A6B-40F5-8C39-5B586EEDE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F8DE-2014-4229-832C-89FDBF5C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422B-9B9C-4566-BF8C-FB54B421A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295D-6FC2-4A5B-A5F7-C72733837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032C-9A55-4CA0-8698-3D00CAE9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DBEF-C3C5-4E43-83BF-187DDD9B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62BF-CEEC-4C45-8511-7701EA7B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B34B-E04B-400F-B1C3-3AA242CA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A231-596E-4192-8024-4EEC2727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CB28-C015-47BF-8E3F-FA8DCF29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4D9A-AA0D-4198-9309-83896981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22D2-E115-4614-A8F6-227D7DB9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713C-27CC-41F4-8BFC-047F2FA5F8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304920" y="304920"/>
            <a:ext cx="8305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alibri"/>
              </a:rPr>
              <a:t>Observations about Software Processes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609480" y="2514600"/>
            <a:ext cx="807732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pleted projects should look like the Waterfall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but ...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 development process is always partly evolutionar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isk is lowered by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Prototyp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key compon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viding into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pha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llowing a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visibl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ftware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ing use of reusable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compon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001_A_009_U Kyaw Naing.mp3" descr=""/>
          <p:cNvPicPr/>
          <p:nvPr/>
        </p:nvPicPr>
        <p:blipFill>
          <a:blip r:embed="rId1"/>
          <a:stretch/>
        </p:blipFill>
        <p:spPr>
          <a:xfrm>
            <a:off x="7020000" y="4581360"/>
            <a:ext cx="24444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5216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5:45:26Z</dcterms:created>
  <dc:creator>Administrator</dc:creator>
  <dc:description/>
  <dc:language>en-US</dc:language>
  <cp:lastModifiedBy>ds0929</cp:lastModifiedBy>
  <dcterms:modified xsi:type="dcterms:W3CDTF">2013-06-08T09:12:25Z</dcterms:modified>
  <cp:revision>5</cp:revision>
  <dc:subject/>
  <dc:title>PowerPoint Presentation</dc:title>
</cp:coreProperties>
</file>