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D459-08C6-4C03-8B94-34167755D6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3526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able Systems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on and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eanroom Softwa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133720"/>
            <a:ext cx="815328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velopment process that aims to develop zero-defect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development with customer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ed programming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always better to prevent defects than to remove them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four color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and Dynamic Ver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590920"/>
            <a:ext cx="7620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tic verific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echniques of verification that do not include execution of the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manual or use computer t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ynamic ver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oftware with trial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bug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move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Validation &amp; Ver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362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d out throughout the software development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320040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on &amp;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47242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4724280"/>
            <a:ext cx="1981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4724280"/>
            <a:ext cx="1981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4724280"/>
            <a:ext cx="1981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8680" y="4989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38920" y="49766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057400" y="3733920"/>
            <a:ext cx="1447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8098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2800" y="504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Verification: Program Insp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209680"/>
            <a:ext cx="8153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views whose objective is to detect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may be read or reviewed line by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 to 250 lines of code in 2 hour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hecklist of common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eam commitment, e.g., trained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effective that it can replace unit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pection Checklist:  Common Err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201760"/>
            <a:ext cx="86853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itialization, constants, array bounds, character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rol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ditions, loop termination, compound statements, case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put/output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ll inputs used; all outputs assigned a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arameter numbers, types, and order; structures and sha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orage management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odification of links, allocation and de-allocation of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ossible errors, error hand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Analysis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133720"/>
            <a:ext cx="7924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 analyz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an the source of a progra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ults and anomalies (e.g., Lint for C program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low: loops with multiple exit or entry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use: Undeclared or uninitialized variables, unused variables, multiple assignments, array b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faults: Parameter mismatches, non-use of functions results, uncall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management:  Unassigned pointers, pointer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Analysis Tools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666880"/>
            <a:ext cx="82296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reference table: Shows every use of a variable, procedure, objec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flow analysis: Identifies input variables on which an  output dep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analysis: Identifies all possible paths through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13372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ing can never prove that a system is correct.  It can only show that (a) a system is correct in a special case, or (b) that it has a fau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bjective of testing is to find 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is never compreh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is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ing and Debug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133720"/>
            <a:ext cx="777240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ing is most effective if divided into s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t te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various levels of gran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 by the 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is on accuracy of actual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stem and sub-syste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tri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is on integration an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ceptance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real data in realistic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is on meeting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eptance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590920"/>
            <a:ext cx="7239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pha Test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lients operate the system in a realistic but non-produc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ta Test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lients operate the system in a carefully monitored produc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allel Test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lients operate new system alongside old production system with same data and compar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54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nal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code, demonstration of operation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ent should be present at final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Testing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209680"/>
            <a:ext cx="7772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ystem and Acceptance Testing is a major part of a softwar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quires time on th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require substantial investment in datasets, equipment, and test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testing requires good peop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and client reports are important parts of tes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is the definition of "done"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ing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133720"/>
            <a:ext cx="792504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om-up testing.  Each unit is tested with its own 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-down testing.  Large components are teste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mmy stu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-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and management demonst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 testing.  Tests the system at and beyond its lim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 C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33720"/>
            <a:ext cx="7696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st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pecific tests that are chosen because they are likely to find 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cases are chosen to balance expense against chance of finding serious 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 chosen by the development team are effectiv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known vulnerable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 chosen by experienced outsiders and clients will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in finding gaps left by the develo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 chosen by inexperienced users will find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 Case Selection: Coverage of In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209680"/>
            <a:ext cx="73152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ive is to test all classes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of data -- major categories of transaction and data in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nell example: (undergraduate, graduate, transfer, ...) by (college, school, program, ...) by (standing) by (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s of data -- typical values, extr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lid data, reversals, and special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 Case Selection: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209680"/>
            <a:ext cx="784872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ive is to test all functions of each compute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s through the computer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flo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at every path is executed at least o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program analy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number of times each path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 or colo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ot be used with time critica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Flow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2666880"/>
            <a:ext cx="76212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809880"/>
            <a:ext cx="76212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3809880"/>
            <a:ext cx="76176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029200"/>
            <a:ext cx="7617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18960" y="30481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30481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19112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133360" y="419112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562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2514600"/>
            <a:ext cx="7617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3733920"/>
            <a:ext cx="7617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029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029200" y="26665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-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xing B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09680"/>
            <a:ext cx="75438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 the 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ittent --&gt; repe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example --&gt; simpl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e 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ving the Bugs A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209680"/>
            <a:ext cx="76964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xing bugs is an error-prone proc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 fix a bug, fix it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fixes need static and dynamic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all tests that have the slightest relevance (regression 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ugs have a habit of return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bug is fixed, add the failure case to the test suite for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gression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438280"/>
            <a:ext cx="7238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d to modified software to provide confidence that modifications behave as intended and do not adversely affect the behavior of unmodified co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technique is to repeat entire testing process after every change, however sm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Time Softwa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209680"/>
            <a:ext cx="73911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ing and debugging need special tools and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s, etc., can not  be used to test real tim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of environment may be needed to test interfaces -- e.g., adjustable clock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purpose tools may not b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ensive Program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133720"/>
            <a:ext cx="7848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rphy's Law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ything can go wrong, it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fensive Programm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code is incorporated to check system state 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assumptions are tested explici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Engineering for Real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cial characteristics of real time computing require extra attention to good software engineering princi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alysis and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haustive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oic programming will fai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Notable B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209680"/>
            <a:ext cx="7696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-in function in Fortran compiler (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ese microcode for Honeywell DPS virtual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crofilm plotter with the missing byte (1:10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n 3 page fault that IBM paid to 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handed rotation in the graphics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Good people work around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best people track them down and fix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ensive Programming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438280"/>
            <a:ext cx="7086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rtion chec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debugging code into program with a switch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values a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hecking codes in data, e.g., checksum or h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2133720"/>
            <a:ext cx="66294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ult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systems with the objective of creating fault-fre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systems that continue to operate when faults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ult detection (testing and valid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 faults before the system is put into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438280"/>
            <a:ext cx="6933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ic Tech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rror continue with next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rs and timeout in network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orrecting codes i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 block tables on disk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and backward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 all errors for quali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514600"/>
            <a:ext cx="80773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ckward Recov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system state at specific events (checkpoints).  After failure, recreate state at last check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checkpoints with system log that allows transactions from last checkpoint to be repeated auto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228600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l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ag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-version programming -- Execute independent implementation in parallel, compare results, accept the most prob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3240" y="426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lidation and Ver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362320"/>
            <a:ext cx="7391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lid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we building the right produ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ific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we building the product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it is sometimes difficult to distinguish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's not a bug.  That's a featu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1-08T23:31:00Z</dcterms:modified>
  <cp:revision>415</cp:revision>
  <dc:subject/>
  <dc:title>Digital Library Architecture- Key Principles </dc:title>
</cp:coreProperties>
</file>