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EB7-607A-4270-A61D-24429E64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CB2-74F9-4DE6-9E70-BBA6AEA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6A4-0028-4FE9-8F8C-52C9BCBE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0BC-8EB5-4347-AC26-26C04122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A39-BCCA-4FFA-819D-8396D45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9EE-5CCC-4502-93BB-7EA8BBBE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F97-C9C7-443E-BC20-4B51803C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F2B-1721-4DC0-9B00-CE547575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5BC-F2D1-4274-AEF4-F722F56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FC1-F32F-46F2-8B8E-9575196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431-29EC-4D95-BB22-9B52501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C05-CE35-4512-90B3-1CE9392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FFE-E4AB-40CA-818B-776FCAF98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Interfac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98108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 design is partly an art; there are general principl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stency -- in appearance, controls, and fun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 -- what is the computer system is doing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does the user see certain result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 should be able to interrupt or reverse ac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handling should be simple and easy to comprehe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ed users offered shortcu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ners have simple, well-defined op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 user should feel i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7_U Kyaw Naing.mp3" descr=""/>
          <p:cNvPicPr/>
          <p:nvPr/>
        </p:nvPicPr>
        <p:blipFill>
          <a:blip r:embed="rId1"/>
          <a:stretch/>
        </p:blipFill>
        <p:spPr>
          <a:xfrm>
            <a:off x="759636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57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6:52Z</dcterms:created>
  <dc:creator>ukyawnaing</dc:creator>
  <dc:description/>
  <dc:language>en-US</dc:language>
  <cp:lastModifiedBy>ds0929</cp:lastModifiedBy>
  <dcterms:modified xsi:type="dcterms:W3CDTF">2013-06-08T14:46:52Z</dcterms:modified>
  <cp:revision>4</cp:revision>
  <dc:subject/>
  <dc:title>Slide 1</dc:title>
</cp:coreProperties>
</file>