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BEB-0196-4F43-B627-D8413B17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F03-72AD-4084-8F92-8B39A2F6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366-145B-4903-AAF7-C215A52C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A7D-BEB9-41D2-A4F3-59F8D107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3C2-331E-4450-821A-C38EFD3B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427-BD9F-4BDE-AEFD-3092CD0D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A98-B441-4648-BD0B-228164B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5FF-0D60-41B8-9035-444C2EE6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EE1-816E-44DA-B9B4-7D868CE0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9F8-23CE-4BFE-9653-0361EA7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3CA-EAD5-4120-ACE4-376AD76A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415-3DFC-4E17-83D0-8A469E88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ADAC-1FD8-407F-9435-AF1188301D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Requirements Definition and Analysi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2800" y="1973160"/>
            <a:ext cx="148824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76520" y="2971800"/>
            <a:ext cx="2209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95640" y="3916440"/>
            <a:ext cx="236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Unit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114880" y="491004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67480" y="58863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20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22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3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001_A_021_U Kyaw Naing.mp3" descr=""/>
          <p:cNvPicPr/>
          <p:nvPr/>
        </p:nvPicPr>
        <p:blipFill>
          <a:blip r:embed="rId1"/>
          <a:stretch/>
        </p:blipFill>
        <p:spPr>
          <a:xfrm>
            <a:off x="7451640" y="378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6:28Z</dcterms:created>
  <dc:creator>Administrator</dc:creator>
  <dc:description/>
  <dc:language>en-US</dc:language>
  <cp:lastModifiedBy>ds0929</cp:lastModifiedBy>
  <dcterms:modified xsi:type="dcterms:W3CDTF">2013-06-08T09:19:04Z</dcterms:modified>
  <cp:revision>4</cp:revision>
  <dc:subject/>
  <dc:title>PowerPoint Presentation</dc:title>
</cp:coreProperties>
</file>