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948-22C5-4D03-B492-E349FB1B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75B-58D9-4BE7-88CC-EFB9C87A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48F-57B5-40C8-B0CE-06F961C3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50E-9642-453B-A75A-74E310FD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BA1-76B5-4521-821A-A1ACA4F1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CFD-AD97-4C46-8DF4-B1FAD726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F6F-4F9E-4759-99A6-E8613240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647-92AC-47BB-9D92-E22D5FB4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AC7-0BA2-4A43-BB0D-3FC9F687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0AE-DBFF-45E6-8D0C-B1822610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B58-22D2-4FF8-8C14-7497BD9D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465-5735-4B42-9FCD-56CA1763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9238-F8FC-45DC-A3A2-441172E8E9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05120" y="2209680"/>
            <a:ext cx="48006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pyright a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s for 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cts and lic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ir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ingement (conta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ternational 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al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2_U Kyaw Naing.mp3" descr=""/>
          <p:cNvPicPr/>
          <p:nvPr/>
        </p:nvPicPr>
        <p:blipFill>
          <a:blip r:embed="rId1"/>
          <a:stretch/>
        </p:blipFill>
        <p:spPr>
          <a:xfrm>
            <a:off x="6948360" y="43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81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ftware Pa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85800" y="259092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be: non-obvious, novel, us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 years from award (20 years from 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or quality of examining can lead to broad patents for routine computing concep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tional 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pyright applies to the expression of ideas, patents to the ideas themsel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7:39Z</dcterms:created>
  <dc:creator>ukyawnaing</dc:creator>
  <dc:description/>
  <dc:language>en-US</dc:language>
  <cp:lastModifiedBy>ds0929</cp:lastModifiedBy>
  <dcterms:modified xsi:type="dcterms:W3CDTF">2013-06-08T14:40:46Z</dcterms:modified>
  <cp:revision>3</cp:revision>
  <dc:subject/>
  <dc:title>Slide 1</dc:title>
</cp:coreProperties>
</file>