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ADA3-BF7C-4400-AB4D-C2DF4D5F9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D4BA-C7CE-4EBC-84AA-C77570982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C3BF-F433-4421-9DA4-777651BAE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1473-D7E9-45B9-9441-1AB3F07E7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9B20-A8DD-4A5D-B4EB-22ABD0929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D229-084B-4923-848A-0D6D8A5E3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E021-3947-4FAD-AAC1-2ABB522B6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195D-497A-4C11-AF61-DDB5BA2A7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7CC9-4540-4FCE-BE2A-344387470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733B-DEBB-4FB8-AEB2-14BF20AD5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AA08-4984-4C07-8DCE-F68C45300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F5A6-17BB-4D80-BAEE-A78C4E0A9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36AD7-6175-483B-858B-FDE86360BBD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Feedback in the Waterfall Mod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509040" y="1973160"/>
            <a:ext cx="148824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quirem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fini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1676520" y="2971800"/>
            <a:ext cx="22096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ystem 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ftware desig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3095640" y="3916440"/>
            <a:ext cx="23623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gramm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d Unit Test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5114880" y="4910040"/>
            <a:ext cx="21337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gration 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ystem Test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6567480" y="5886360"/>
            <a:ext cx="20574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ion 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intena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Line 8"/>
          <p:cNvSpPr/>
          <p:nvPr/>
        </p:nvSpPr>
        <p:spPr>
          <a:xfrm>
            <a:off x="2209680" y="2362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Line 9"/>
          <p:cNvSpPr/>
          <p:nvPr/>
        </p:nvSpPr>
        <p:spPr>
          <a:xfrm>
            <a:off x="388620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Line 10"/>
          <p:cNvSpPr/>
          <p:nvPr/>
        </p:nvSpPr>
        <p:spPr>
          <a:xfrm>
            <a:off x="5486400" y="4343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Line 11"/>
          <p:cNvSpPr/>
          <p:nvPr/>
        </p:nvSpPr>
        <p:spPr>
          <a:xfrm>
            <a:off x="7259760" y="53560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Line 12"/>
          <p:cNvSpPr/>
          <p:nvPr/>
        </p:nvSpPr>
        <p:spPr>
          <a:xfrm>
            <a:off x="2895480" y="23623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Line 13"/>
          <p:cNvSpPr/>
          <p:nvPr/>
        </p:nvSpPr>
        <p:spPr>
          <a:xfrm>
            <a:off x="4602240" y="3438360"/>
            <a:ext cx="4680" cy="465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Line 14"/>
          <p:cNvSpPr/>
          <p:nvPr/>
        </p:nvSpPr>
        <p:spPr>
          <a:xfrm>
            <a:off x="6172200" y="4343400"/>
            <a:ext cx="46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Line 15"/>
          <p:cNvSpPr/>
          <p:nvPr/>
        </p:nvSpPr>
        <p:spPr>
          <a:xfrm>
            <a:off x="7940520" y="5372280"/>
            <a:ext cx="5040" cy="525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Line 16"/>
          <p:cNvSpPr/>
          <p:nvPr/>
        </p:nvSpPr>
        <p:spPr>
          <a:xfrm flipH="1">
            <a:off x="914040" y="6400800"/>
            <a:ext cx="5638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Line 20"/>
          <p:cNvSpPr/>
          <p:nvPr/>
        </p:nvSpPr>
        <p:spPr>
          <a:xfrm flipV="1">
            <a:off x="914400" y="2808000"/>
            <a:ext cx="1440" cy="3592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Line 21"/>
          <p:cNvSpPr/>
          <p:nvPr/>
        </p:nvSpPr>
        <p:spPr>
          <a:xfrm flipV="1">
            <a:off x="2438280" y="3809520"/>
            <a:ext cx="0" cy="2590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Line 22"/>
          <p:cNvSpPr/>
          <p:nvPr/>
        </p:nvSpPr>
        <p:spPr>
          <a:xfrm flipV="1">
            <a:off x="4114800" y="472392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Line 23"/>
          <p:cNvSpPr/>
          <p:nvPr/>
        </p:nvSpPr>
        <p:spPr>
          <a:xfrm flipV="1">
            <a:off x="5867280" y="5714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001_A_007_U Kyaw Naing.mp3" descr=""/>
          <p:cNvPicPr/>
          <p:nvPr/>
        </p:nvPicPr>
        <p:blipFill>
          <a:blip r:embed="rId1"/>
          <a:stretch/>
        </p:blipFill>
        <p:spPr>
          <a:xfrm>
            <a:off x="7236000" y="3860640"/>
            <a:ext cx="24444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24608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3T05:43:49Z</dcterms:created>
  <dc:creator>Administrator</dc:creator>
  <dc:description/>
  <dc:language>en-US</dc:language>
  <cp:lastModifiedBy>ds0929</cp:lastModifiedBy>
  <dcterms:modified xsi:type="dcterms:W3CDTF">2013-06-08T09:10:51Z</dcterms:modified>
  <cp:revision>5</cp:revision>
  <dc:subject/>
  <dc:title>PowerPoint Presentation</dc:title>
</cp:coreProperties>
</file>