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D03-20B8-45E8-AE79-CFDFE74A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414-7FFE-405B-B141-859A12E1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B33-8770-4C9B-85D2-1BC9F65F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D8D-3A5F-4025-BD9F-2F4D0C09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154-81E4-42AA-926B-30A1B814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0A8-68B0-48D6-9A37-4B4B99DA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AE5-C41B-460C-8F95-D4D10DA8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AA2-B7E7-4772-A384-F9DDD879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B93-7677-4652-9BC6-C573C267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CD6-C3E1-4FD0-AA78-37B873E8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089-CF32-47B1-9C68-6FFE107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DFB-D87D-45BC-AB4A-2D6EF66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D7B7-D181-451A-8340-EED28609C6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to Minimize Ris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143000" y="2286000"/>
            <a:ext cx="746748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S 501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everal target levels of functionality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quired, desirable, op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isible software process: intermediate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ood communication within team and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ing Assist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Good processes lead to good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Good processes reduce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828800" y="5181480"/>
            <a:ext cx="5867280" cy="990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11_U Kyaw Naing.mp3" descr=""/>
          <p:cNvPicPr/>
          <p:nvPr/>
        </p:nvPicPr>
        <p:blipFill>
          <a:blip r:embed="rId1"/>
          <a:stretch/>
        </p:blipFill>
        <p:spPr>
          <a:xfrm>
            <a:off x="8172360" y="393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7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7:22Z</dcterms:created>
  <dc:creator>Administrator</dc:creator>
  <dc:description/>
  <dc:language>en-US</dc:language>
  <cp:lastModifiedBy>ds0929</cp:lastModifiedBy>
  <dcterms:modified xsi:type="dcterms:W3CDTF">2013-06-08T09:14:03Z</dcterms:modified>
  <cp:revision>5</cp:revision>
  <dc:subject/>
  <dc:title>PowerPoint Presentation</dc:title>
</cp:coreProperties>
</file>