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2E1D-B4C8-4EF2-915C-621E31338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6158-CB1E-45B9-9C7B-89BC8401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446C-15AC-4B6B-B316-8E5B0D678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3225-2B6A-45D3-ACBF-A63302DAC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1573-8D2E-4589-8756-CF93CA49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A26B-921B-43A0-B651-5ED5EA22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F6B3-700D-4EAF-BEDC-629E2175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BD24-2276-46E9-8ACC-9D23C68A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96EF-C3C8-4689-9753-4ED19AA7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EA39-4324-438F-83E2-0FD77E26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A47D-960F-43CF-A266-DD2EBB73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EB1F-4F28-4AC9-94A5-4AB35EEB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CF1E-3C43-47DA-9B08-911F32F35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y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 database of source code, documentation, build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file stored only once - all other versions are diffs of that one co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ake a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out the latest version of a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the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the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hould be in the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need old versions of the tools to build old versions of the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sures software is rebuilt exactly as the customer received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 Su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thing else you might want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sion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nies ship several products from the same source base (ie Win NT and  Windows 2000 versions of MS Off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racking down bugs you want to examine the code as it was when the product shipp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Sha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people can work on the same source base without colli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 Locks individual files so only one person at a time can modify it *OR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 Allows multiple people to modify a source file and the system will automatically merge the changes (usual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one person can work on a file at o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 fairly well if developers work on different areas of the project and don’t conflict of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1: People forget to unlock files when they are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2: People work around locking by editing a private copy and checking in when the file is finally unlocked - easy to goof and lose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people can work on a file at o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committing changes, each user merges their copy with the latest copy in the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normally done automatically by the system and usually works, but you should not blindly accept the result of the me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be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 all the files in the source base that make up a product at each milest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before and just after a major change (eg. changing several interfa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new version 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s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file in the database has a version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ranch off the version tree to allow separate development pa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ly a main path (trunk) for the next major version and branches off of shipped versions for mainte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>
            <a:lum contrast="6000"/>
          </a:blip>
          <a:srcRect l="43550" t="30092" r="19357" b="23622"/>
          <a:stretch/>
        </p:blipFill>
        <p:spPr>
          <a:xfrm>
            <a:off x="5486400" y="4800600"/>
            <a:ext cx="2103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new version ships, typically create a branch in the version tree for mainte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update: fix a defect in the latest version and then merge the changes (often by hand) into the maintenance ve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create personal versions so you can make a change against a stable source base and then merge in the latest version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7T03:21:43Z</dcterms:created>
  <dc:creator>Ken Hopkinson</dc:creator>
  <dc:description/>
  <dc:language>en-US</dc:language>
  <cp:lastModifiedBy>ukyawnaing</cp:lastModifiedBy>
  <dcterms:modified xsi:type="dcterms:W3CDTF">2013-04-04T01:49:37Z</dcterms:modified>
  <cp:revision>10</cp:revision>
  <dc:subject/>
  <dc:title>Source Code Management AKA Configuration Management Or How I learned to Stop Worrying (As Much) and Hate My Co-workers Less</dc:title>
</cp:coreProperties>
</file>