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F46-BDC0-486C-AFC8-7F6CF385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67A-F542-4B66-94B0-0B211294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009-1AE9-431E-81F9-EA4E75C9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9E9-2E13-443D-8ACB-1FDD9B25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9B8-3B85-44D9-902F-B89BFA71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FB9-E7AF-4AE0-BD84-9253A3E6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AFB-EBC3-41D9-8A9A-D712A3C1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868-6DDB-476B-93CC-A5F46A06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D9F-A946-439E-85B5-F2066695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410-128B-423D-B965-C8F4B0A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1EE-4422-4300-B510-5E5ACEAA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A08-37A5-4439-BC3E-86A46716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215F-AEEC-4CE1-94D4-E53CD9683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people can work on the same source base without colli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 Locks individual files so only one person at a time can modify it *OR*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) Allows multiple people to modify a source file and the system will automatically merge the changes (usually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71640" y="6922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2_U Kyaw Naing.mp3" descr=""/>
          <p:cNvPicPr/>
          <p:nvPr/>
        </p:nvPicPr>
        <p:blipFill>
          <a:blip r:embed="rId1"/>
          <a:stretch/>
        </p:blipFill>
        <p:spPr>
          <a:xfrm>
            <a:off x="730872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2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3:13Z</dcterms:created>
  <dc:creator>ukyawnaing</dc:creator>
  <dc:description/>
  <dc:language>en-US</dc:language>
  <cp:lastModifiedBy>ds0929</cp:lastModifiedBy>
  <dcterms:modified xsi:type="dcterms:W3CDTF">2013-06-08T14:45:12Z</dcterms:modified>
  <cp:revision>3</cp:revision>
  <dc:subject/>
  <dc:title>Multiple people can work on the same source base without colliding (1) Locks individual files so only one person at a time can modify it *OR* (2) Allows multiple people to modify a source file and the system will automatically merge the changes (usually) </dc:title>
</cp:coreProperties>
</file>