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F48-9814-4FCE-B79E-1F74FF6B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802-2163-443E-9086-4FFC2636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DB2-61BC-48A8-995E-8912D27C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724-9CAA-46E5-837A-2E37129F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EAC-26D6-4467-AA87-4A8603D0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E99-10EB-4F3D-9B5F-46E3798B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3DA7-4B02-4A92-899D-584E4E8C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FE3-95C3-42D7-8BD8-9D0CDB3D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7CF-472A-4000-9BA5-0B501E4B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C45-4381-400A-B286-03B696C2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5E3-B879-4911-BF36-EE02541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556-DA64-45B3-B97A-E7B4D1D9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F480-3832-4EA6-8B4C-AAE737CD4C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dicting System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2120" y="19810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828800" y="2743200"/>
            <a:ext cx="6095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hematica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ect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ll require detailed understanding of the interaction between software and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01_A_021_U Kyaw Naing.mp3" descr=""/>
          <p:cNvPicPr/>
          <p:nvPr/>
        </p:nvPicPr>
        <p:blipFill>
          <a:blip r:embed="rId1"/>
          <a:stretch/>
        </p:blipFill>
        <p:spPr>
          <a:xfrm>
            <a:off x="673272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68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9:13Z</dcterms:created>
  <dc:creator>ukyawnaing</dc:creator>
  <dc:description/>
  <dc:language>en-US</dc:language>
  <cp:lastModifiedBy>ds0929</cp:lastModifiedBy>
  <dcterms:modified xsi:type="dcterms:W3CDTF">2013-06-08T14:48:29Z</dcterms:modified>
  <cp:revision>3</cp:revision>
  <dc:subject/>
  <dc:title>Slide 1</dc:title>
</cp:coreProperties>
</file>