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CDB-87AD-4905-9575-C5EC9FBB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CD8-27D8-4580-8AD1-1CFDD9F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185-7BC8-41E4-9F6F-81FD62B6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C9A-B5E4-47FB-B578-CD7266BE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7EB-B984-4508-B900-683C987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218-A26E-40CB-8C81-D3524F9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E6B-4074-4B74-B3A6-CFDC9F9A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8C2-9750-450B-9124-D3E69F1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361-83B3-40C7-9400-B080673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870-EE1A-42C8-84E9-8E53AAFD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B43-0C6E-49AA-92EF-EBA9972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8A0-9CC1-4C31-B20A-CEBDF7A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3FE8-9F97-47E0-B348-2942BEC37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uter Systems and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2438280"/>
            <a:ext cx="8001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performance, reliability and predictability of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puter systems and network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is crucial to us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taneous for mouse tracking and echo of key 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seconds for sim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 Pipelined algorithm for the Mercury page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of Service for real tim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20_U Kyaw Naing.mp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8:23Z</dcterms:created>
  <dc:creator>ukyawnaing</dc:creator>
  <dc:description/>
  <dc:language>en-US</dc:language>
  <cp:lastModifiedBy>ds0929</cp:lastModifiedBy>
  <dcterms:modified xsi:type="dcterms:W3CDTF">2013-06-08T14:48:05Z</dcterms:modified>
  <cp:revision>3</cp:revision>
  <dc:subject/>
  <dc:title>Slide 1</dc:title>
</cp:coreProperties>
</file>