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AF9-86C7-4C26-9985-12C9B127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665-4822-4669-A35C-D7E483A5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672-B122-4DC3-9BD7-6835D6B5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76B-41AB-4055-A125-BC9472CE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B97-7B95-450C-9C59-3EC64DB1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2FD-DBB9-442B-BB3F-02F3D221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B09-D0D8-458D-B450-272EB5E0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B27-F323-4FEB-8BF1-6794556D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A22-6AAB-4CBA-9C4D-AD84AF76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7E2-C417-4502-BE9B-7984C3C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1D5-A6C6-43F9-BA58-C366C25E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BFE-D653-4C73-A2CB-0E97710E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CCCC-F708-4433-B698-F10280CB1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uter Systems and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2438280"/>
            <a:ext cx="8001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performance, reliability and predictability of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mputer systems and network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is crucial to us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taneous for mouse tracking and echo of key 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seconds for simpl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 Pipelined algorithm for the Mercury page tu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lity of Service for real tim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20_U Kyaw Naing.mp3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4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8:23Z</dcterms:created>
  <dc:creator>ukyawnaing</dc:creator>
  <dc:description/>
  <dc:language>en-US</dc:language>
  <cp:lastModifiedBy>ds0929</cp:lastModifiedBy>
  <dcterms:modified xsi:type="dcterms:W3CDTF">2013-06-08T14:48:05Z</dcterms:modified>
  <cp:revision>3</cp:revision>
  <dc:subject/>
  <dc:title>Slide 1</dc:title>
</cp:coreProperties>
</file>