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523-9317-4CB1-BE68-1C645FE3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C05-B383-440C-B489-1D610D47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1BD-07B7-4468-A904-113EC219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F0D-35D1-491C-BF8F-87503B85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F6F-ADB7-4F24-A533-44614DD3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B4E-72CC-4F39-AD4F-93DFA73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4FA-64A0-4E67-A0D7-AD311FF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357-E7D2-479A-BF76-62EF8D1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E7C-7E65-4248-8F34-AD4A61B9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BDE-F499-481D-B4C9-68A229F2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3A7-725C-420B-9CED-3DD2B31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B60-0575-48D2-8CD2-03C73AE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3681-5EB0-40DB-90EA-B6C0C5AEA1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447920" y="2209680"/>
            <a:ext cx="7010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Queueing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estimates of congestion can be made for single-server queues w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ls that are independent, random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oisson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times that follow families of distrib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.g., negative exponential, gam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of the results can be extended to multi-server que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22_U Kyaw Naing.mp3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3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9:36Z</dcterms:created>
  <dc:creator>ukyawnaing</dc:creator>
  <dc:description/>
  <dc:language>en-US</dc:language>
  <cp:lastModifiedBy>ds0929</cp:lastModifiedBy>
  <dcterms:modified xsi:type="dcterms:W3CDTF">2013-06-08T14:48:53Z</dcterms:modified>
  <cp:revision>3</cp:revision>
  <dc:subject/>
  <dc:title>Slide 1</dc:title>
</cp:coreProperties>
</file>