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87F-03F0-4345-8C21-E796DC39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DE4-ABE1-46CD-914A-F61F3BAB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398-09CF-4E73-AD2A-BF0DA1B7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C78-90EE-4B06-95BA-CCDDD9E6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E16-91AB-4FFE-BC17-1B907BC3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1BE-EE4F-4863-9818-39CA8806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CB6-BEBF-4FDB-B0A2-1850BAAC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87F-4D92-4FA8-ACE3-534A4EE3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C2A-16F9-43D7-910D-537D207D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085-949A-426F-8C98-6D8E66B8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421-E990-4D10-8C5B-0E5F4131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07C-A0BA-4A20-A682-328D45F3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4219-B309-4C0F-8968-A1B2135772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and Meta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66680" y="2209680"/>
            <a:ext cx="7086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ata and metadat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stored by the computer system enable the functions and th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esktop metaphor has the concept of associating a file with an application.  This requires a file type to be stored with each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extension to filename (Windows and Unix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resource fork (Macint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validation often requires that a user interface has access to a database (e.g., names and addre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9_U Kyaw Naing.mp3" descr=""/>
          <p:cNvPicPr/>
          <p:nvPr/>
        </p:nvPicPr>
        <p:blipFill>
          <a:blip r:embed="rId1"/>
          <a:stretch/>
        </p:blipFill>
        <p:spPr>
          <a:xfrm>
            <a:off x="7524720" y="551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18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7:46Z</dcterms:created>
  <dc:creator>ukyawnaing</dc:creator>
  <dc:description/>
  <dc:language>en-US</dc:language>
  <cp:lastModifiedBy>ds0929</cp:lastModifiedBy>
  <dcterms:modified xsi:type="dcterms:W3CDTF">2013-06-08T14:47:44Z</dcterms:modified>
  <cp:revision>3</cp:revision>
  <dc:subject/>
  <dc:title>Slide 1</dc:title>
</cp:coreProperties>
</file>