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9BF-2439-4B4F-A0F5-08C464CE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565-FFF3-4D30-9BCF-C399CEA5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A0E-21F0-4B0E-B85E-A01D6AD3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C5D-9016-48C6-9AC5-D7691607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F97-37A3-4F83-A07D-87DE7F36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3DE-DF97-49E5-AC92-AD2CCF79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E6A-DCE9-4CD1-8467-E95691B0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B06-FE36-4347-9A6D-86BDF54F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7D7-352D-4145-AE6D-67E3E59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6BB-A18B-4598-86DC-D11ACB9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17E-7FF5-46C6-B4B7-07CB247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457-1299-468E-9A5E-3A932BD3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3C39-7A3A-4CAA-8C94-7D86C346F5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ject Plann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1905120"/>
            <a:ext cx="8001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itical Path Method, Gantt charts, Activity bar charts, etc. are roughly equival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methods are best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 is updated regularly (e.g., month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ructure of the project is well underst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ime estimates are rel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 do not shar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[Critical Path Method is excellent for large construction projects.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6_U Kyaw Naing.mp3" descr=""/>
          <p:cNvPicPr/>
          <p:nvPr/>
        </p:nvPicPr>
        <p:blipFill>
          <a:blip r:embed="rId1"/>
          <a:stretch/>
        </p:blipFill>
        <p:spPr>
          <a:xfrm>
            <a:off x="7308720" y="537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0:08Z</dcterms:created>
  <dc:creator>Administrator</dc:creator>
  <dc:description/>
  <dc:language>en-US</dc:language>
  <cp:lastModifiedBy>ds0929</cp:lastModifiedBy>
  <dcterms:modified xsi:type="dcterms:W3CDTF">2013-06-08T09:16:19Z</dcterms:modified>
  <cp:revision>5</cp:revision>
  <dc:subject/>
  <dc:title>PowerPoint Presentation</dc:title>
</cp:coreProperties>
</file>