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A8B6-F0B4-4FC9-BC74-620E3118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FF09-4D5C-4479-AAD0-B4125B66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D64-7E50-4D26-9818-C962F832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1E5-0BCC-420E-AF79-4A5D87D7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AD8-0E5D-48E6-B10A-ADB96C0E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8E9-24B8-48E3-8AD3-E5E0972C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66C-B907-40AD-9C7C-4D12C455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383-7E01-4FFE-895B-BD374F76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7B5-697D-4DC2-B951-F945CBA4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92C-4742-4F86-8839-74433B77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48C-7A5B-4DE8-A07A-E8DE7FD3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961C-E28D-4487-AC11-6308405D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06CB-83C9-4B9E-BDEC-712307E64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y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database of source code, documentation, build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file stored only once - all other versions are diffs of that one c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ke a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out the latest version of a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h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be in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need old versions of the tools to build old versions of th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s software is rebuilt exactly as the customer received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Su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thing else you might want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sion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nies ship several products from the same source base (ie Win NT and  Windows 2000 versions of MS Off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racking down bugs you want to examine the code as it was when the product shipp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Sh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people can work on the same source base without colli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 Locks individual files so only one person at a time can modify it *OR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 Allows multiple people to modify a source file and the system will automatically merge the changes (usual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person can work on a file at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fairly well if developers work on different areas of the project and don’t conflict o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1: People forget to unlock files when they ar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2: People work around locking by editing a private copy and checking in when the file is finally unlocked - easy to goof and los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people can work on a file at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committing changes, each user merges their copy with the latest copy in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normally done automatically by the system and usually works, but you should not blindly accept the result of the m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e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all the files in the source base that make up a product at each miles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before and just after a major change (eg. changing several interfa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new version 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s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file in the database has a versio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ranch off the version tree to allow separate development pa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a main path (trunk) for the next major version and branches off of shipped versions for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>
            <a:lum contrast="6000"/>
          </a:blip>
          <a:srcRect l="43550" t="30092" r="19357" b="23622"/>
          <a:stretch/>
        </p:blipFill>
        <p:spPr>
          <a:xfrm>
            <a:off x="5486400" y="4800600"/>
            <a:ext cx="2103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new version ships, typically create a branch in the version tree for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update: fix a defect in the latest version and then merge the changes (often by hand) into the maintenance 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reate personal versions so you can make a change against a stable source base and then merge in the latest version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7T03:21:43Z</dcterms:created>
  <dc:creator>Ken Hopkinson</dc:creator>
  <dc:description/>
  <dc:language>en-US</dc:language>
  <cp:lastModifiedBy>ukyawnaing</cp:lastModifiedBy>
  <dcterms:modified xsi:type="dcterms:W3CDTF">2013-04-04T01:49:37Z</dcterms:modified>
  <cp:revision>10</cp:revision>
  <dc:subject/>
  <dc:title>Source Code Management AKA Configuration Management Or How I learned to Stop Worrying (As Much) and Hate My Co-workers Less</dc:title>
</cp:coreProperties>
</file>