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6A94-836B-4AC4-A4AB-7EE6976C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BC7C-9EAA-458B-9A0D-C3A95C39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17E0-9417-4F58-8DAC-DD5DD8F6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52AC-20E7-4801-81B2-F6706F2B5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575E-5C81-4F05-A4AA-944B213C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3ABB-4001-4EB9-9EA0-AA6447DF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057A-A755-4C95-A2A4-6F0BAB47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4EC8-F0B6-4533-940A-E1B990E6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5E29-EDA0-4704-89AF-4867AA94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E55A-4553-48C3-B090-95CD0F44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20AA-E03C-4197-981B-F0E8E6B2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9A8E-5900-477A-B2C5-956A554F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D8FD-E416-4B51-9BEE-FCF62A4B6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y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 database of source code, documentation, build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file stored only once - all other versions are diffs of that one co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ake a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out the latest version of a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the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the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hould be in the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need old versions of the tools to build old versions of the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ures software is rebuilt exactly as the customer received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Su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thing else you might want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sion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nies ship several products from the same source base (ie Win NT and  Windows 2000 versions of MS Off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racking down bugs you want to examine the code as it was when the product shipp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Sha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people can work on the same source base without colli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 Locks individual files so only one person at a time can modify it *OR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 Allows multiple people to modify a source file and the system will automatically merge the changes (usual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one person can work on a file at o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 fairly well if developers work on different areas of the project and don’t conflict of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1: People forget to unlock files when they ar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2: People work around locking by editing a private copy and checking in when the file is finally unlocked - easy to goof and lose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people can work on a file at o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committing changes, each user merges their copy with the latest copy in the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normally done automatically by the system and usually works, but you should not blindly accept the result of the me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be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all the files in the source base that make up a product at each milest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before and just after a major change (eg. changing several interfa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new version 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s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file in the database has a version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ranch off the version tree to allow separate development pa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 a main path (trunk) for the next major version and branches off of shipped versions for mainte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>
            <a:lum contrast="6000"/>
          </a:blip>
          <a:srcRect l="43550" t="30092" r="19357" b="23622"/>
          <a:stretch/>
        </p:blipFill>
        <p:spPr>
          <a:xfrm>
            <a:off x="5486400" y="4800600"/>
            <a:ext cx="2103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new version ships, typically create a branch in the version tree for mainte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update: fix a defect in the latest version and then merge the changes (often by hand) into the maintenance ve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create personal versions so you can make a change against a stable source base and then merge in the latest version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7T03:21:43Z</dcterms:created>
  <dc:creator>Ken Hopkinson</dc:creator>
  <dc:description/>
  <dc:language>en-US</dc:language>
  <cp:lastModifiedBy>ukyawnaing</cp:lastModifiedBy>
  <dcterms:modified xsi:type="dcterms:W3CDTF">2013-04-04T01:49:37Z</dcterms:modified>
  <cp:revision>10</cp:revision>
  <dc:subject/>
  <dc:title>Source Code Management AKA Configuration Management Or How I learned to Stop Worrying (As Much) and Hate My Co-workers Less</dc:title>
</cp:coreProperties>
</file>