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CF94-1E44-4641-AE97-04F1AFAC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3E02-CA20-4350-ABC2-C82B9171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0E9E-3180-4690-8BEC-4D5FD9992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851E-6BF4-4599-81DE-2B8D5F34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49CB-E98E-48C1-9455-DA2EFFED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6BF2-6C43-4FD2-A718-DFBC9198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1744-CA41-4140-99AA-97F1DD5F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DE4B-15BE-4B6C-B0D0-7C22B8A5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7A8D-065B-43F5-927F-AA66D5BB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7940-83A5-4262-A96B-9BF4CBED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0D4F-C6E2-4BD7-ACB5-8D1DBA31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73B2-6AF3-479C-84CA-A76694BF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5BE9-85F2-4E9F-B9FA-5E0A98E73C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tracts and Lic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14400" y="2286000"/>
            <a:ext cx="762012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Contracts allow intellectual property to be sold or licen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ise in exchange for adequate consi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ten document with 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manent or temporary, whole or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clusive or non-ex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mination, problems and difficul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ms and conditions as ag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forceable by cou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03_U Kyaw Naing.mp3" descr=""/>
          <p:cNvPicPr/>
          <p:nvPr/>
        </p:nvPicPr>
        <p:blipFill>
          <a:blip r:embed="rId1"/>
          <a:stretch/>
        </p:blipFill>
        <p:spPr>
          <a:xfrm>
            <a:off x="7308720" y="43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571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38:11Z</dcterms:created>
  <dc:creator>ukyawnaing</dc:creator>
  <dc:description/>
  <dc:language>en-US</dc:language>
  <cp:lastModifiedBy>ds0929</cp:lastModifiedBy>
  <dcterms:modified xsi:type="dcterms:W3CDTF">2013-06-08T14:41:08Z</dcterms:modified>
  <cp:revision>3</cp:revision>
  <dc:subject/>
  <dc:title>Slide 1</dc:title>
</cp:coreProperties>
</file>