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44B-ACD9-4BB4-8839-3C969DB3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A96-043E-48EE-B546-FCEF3A31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34A-4FC7-4CDA-8F38-14786393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5EC-FDE2-4524-8A54-D68A82CD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CE9-7611-464D-A367-CF6BA437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06A-C459-488F-9A7B-97BC5324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3B7-007D-443F-B52A-6506294D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1C2-8076-4C41-874B-2C43961F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8EE-0EDF-4BAD-AD9E-C4C57EA2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041-00E8-471C-BDE6-4C0DB4F5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14B-197E-425D-B166-4A06B49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8F4-AA44-405F-873B-5C6380CC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D946-196B-4373-9D8E-B708E2295C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people can work on the same source base without colli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) Locks individual files so only one person at a time can modify it *OR*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) Allows multiple people to modify a source file and the system will automatically merge the changes (usually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71640" y="6922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2_U Kyaw Naing.mp3" descr=""/>
          <p:cNvPicPr/>
          <p:nvPr/>
        </p:nvPicPr>
        <p:blipFill>
          <a:blip r:embed="rId1"/>
          <a:stretch/>
        </p:blipFill>
        <p:spPr>
          <a:xfrm>
            <a:off x="730872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20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43:13Z</dcterms:created>
  <dc:creator>ukyawnaing</dc:creator>
  <dc:description/>
  <dc:language>en-US</dc:language>
  <cp:lastModifiedBy>ds0929</cp:lastModifiedBy>
  <dcterms:modified xsi:type="dcterms:W3CDTF">2013-06-08T14:45:12Z</dcterms:modified>
  <cp:revision>3</cp:revision>
  <dc:subject/>
  <dc:title>Multiple people can work on the same source base without colliding (1) Locks individual files so only one person at a time can modify it *OR* (2) Allows multiple people to modify a source file and the system will automatically merge the changes (usually) </dc:title>
</cp:coreProperties>
</file>