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82EE-0F67-4F08-B052-6CF07A3D8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05D4-E297-4270-962E-0E9525329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9E49-1304-4A94-8CFA-586C59FC1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0F47-7C61-4A88-A354-E52516FE4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156E-4505-4CFD-8E5E-E25C149D7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9AF0-75E7-44DD-B335-047A4EBB1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296F-D9E6-491C-8554-87F5A8F9E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08A6-A3AA-4FA5-AC0F-70B78FB81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0B95-DA8C-48D3-89D1-89CC8403A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A0B0-45DF-43CD-A830-D53593EE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0A44-02E2-4441-9A6C-683CC9B67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5CF2-A249-4787-B1B8-001163FA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F6F50-8AE1-4E73-A8A6-76503D35602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7621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Calibri"/>
              </a:rPr>
              <a:t>Characteristics of Software Products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1295280" y="1981080"/>
            <a:ext cx="6782040" cy="319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ral characteristic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intain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pend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fficienc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ood software products require good programming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ut 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gramming quality is the means to the end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ot the en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tself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Example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DEC's optical scan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001_A_001_U Kyaw Naing.mp3" descr=""/>
          <p:cNvPicPr/>
          <p:nvPr/>
        </p:nvPicPr>
        <p:blipFill>
          <a:blip r:embed="rId1"/>
          <a:stretch/>
        </p:blipFill>
        <p:spPr>
          <a:xfrm>
            <a:off x="7524720" y="5589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1248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Variety of Software Produ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685800" y="2286000"/>
            <a:ext cx="80773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ftware products are very vari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  Client requirements are very differ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  There is no standard process for software engineer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  There is no best language, operating system, platform, database system, development environment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skilled software developer knows about a wide variety of approaches, methods, tools.  Th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raft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f software engineering is to select appropriate methods for each project and apply them effectivel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001_A_002_U Kyaw Naing.mp3" descr=""/>
          <p:cNvPicPr/>
          <p:nvPr/>
        </p:nvPicPr>
        <p:blipFill>
          <a:blip r:embed="rId1"/>
          <a:stretch/>
        </p:blipFill>
        <p:spPr>
          <a:xfrm>
            <a:off x="7164360" y="551664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43712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5:38:18Z</dcterms:created>
  <dc:creator>Administrator</dc:creator>
  <dc:description/>
  <dc:language>en-US</dc:language>
  <cp:lastModifiedBy>ds0929</cp:lastModifiedBy>
  <dcterms:modified xsi:type="dcterms:W3CDTF">2013-06-08T09:06:34Z</dcterms:modified>
  <cp:revision>5</cp:revision>
  <dc:subject/>
  <dc:title>PowerPoint Presentation</dc:title>
</cp:coreProperties>
</file>