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9FA-F5BD-457B-885A-DF469E8B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8FB-ED7E-44E2-8F64-00686C3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741-8A9D-4A9A-8EA2-3F7AE9EA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EF1-1ABA-443A-BFA7-8785B1D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E2F-BD24-4B97-8906-588A1824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5D4-C85C-43C2-8E39-48BBA2CA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4A3-BB15-49E0-82DA-F982383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DCA-08E2-4CDA-A284-617498E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E2C-069F-449D-97F3-C3641DF4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106-BEA9-42A8-AC14-5E2AD3D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1F1-6807-4023-B26F-BFF579E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904-5505-4C8C-A414-A13CB65A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D75-4345-418C-88BD-73CB556BA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The Software Process (Simplified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622320" y="2590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32448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5268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095880" y="5334120"/>
            <a:ext cx="2362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32767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38088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sibility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2971800" y="2362320"/>
            <a:ext cx="26668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27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8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9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30"/>
          <p:cNvSpPr/>
          <p:nvPr/>
        </p:nvSpPr>
        <p:spPr>
          <a:xfrm>
            <a:off x="4419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3124080" y="388620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3124080" y="541008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228600" y="2209680"/>
            <a:ext cx="2362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2895480" y="2133720"/>
            <a:ext cx="30481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001_A_004_U Kyaw Naing.mp3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91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1:24Z</dcterms:created>
  <dc:creator>Administrator</dc:creator>
  <dc:description/>
  <dc:language>en-US</dc:language>
  <cp:lastModifiedBy>ds0929</cp:lastModifiedBy>
  <dcterms:modified xsi:type="dcterms:W3CDTF">2013-06-08T09:07:56Z</dcterms:modified>
  <cp:revision>4</cp:revision>
  <dc:subject/>
  <dc:title>PowerPoint Presentation</dc:title>
</cp:coreProperties>
</file>