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5D6-1BB0-4A37-8D55-CDDB9B0E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D13-4444-4C89-A8FB-02A15D7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CB8-327D-4434-B20A-918F02A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29D-9BFE-4B3C-A778-B74CDFDE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8BA-49D0-4D4B-ADAD-CAEB7E7B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3AB-879E-4434-A065-E210E2D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1C6-8797-49FE-9F28-B5ECBE7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237-C00F-44B6-B784-69ED1E6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AF0-41CF-46C1-8D82-BFCE6BBF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32B-8BD7-431C-9AF5-346D6D6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61C-D6AE-4FB6-94F6-4028791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19D-68C5-437B-86B7-AF652F2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83BD-8397-4671-BF62-649A970F4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ource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cu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uild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ften need old versions of the tools to build old versions of th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nsures software is rebuilt exactly as the customer received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st Su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nything else you might want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1_U Kyaw Naing.mp3" descr=""/>
          <p:cNvPicPr/>
          <p:nvPr/>
        </p:nvPicPr>
        <p:blipFill>
          <a:blip r:embed="rId1"/>
          <a:stretch/>
        </p:blipFill>
        <p:spPr>
          <a:xfrm>
            <a:off x="8172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2:42Z</dcterms:created>
  <dc:creator>ukyawnaing</dc:creator>
  <dc:description/>
  <dc:language>en-US</dc:language>
  <cp:lastModifiedBy>ds0929</cp:lastModifiedBy>
  <dcterms:modified xsi:type="dcterms:W3CDTF">2013-06-08T14:44:48Z</dcterms:modified>
  <cp:revision>3</cp:revision>
  <dc:subject/>
  <dc:title>Slide 1</dc:title>
</cp:coreProperties>
</file>