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45E3-CE96-411B-8748-CFAA2C654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0BC6-5B79-41B2-AB9E-F3C7C68C4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7343-ACF9-477D-B056-5422D46F0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DC0D-A2F0-4D0D-89F3-FB15C3FA2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EED4-CEB6-4456-8EA7-DF551FFE7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A7A7-8DA8-4ACE-8E18-9B70876C9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A984-2C0B-4D0C-9424-C8426BFBA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1E4B-2A75-490D-B5F4-BEB0598ED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90A3-AFBF-495B-AB19-EDCA8E600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E9F2-61A0-438F-AD25-F6A322344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A031-AA8E-492F-8775-24B2ACB93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E53A-4265-4E27-BD2F-EEF890739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4F2DB-C0FE-4C42-97A7-A666F06568F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pyr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905120" y="2209680"/>
            <a:ext cx="4800600" cy="32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Copyright a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orks for h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tracts and lice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rst 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air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fringement (contamin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International differ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ral r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pyright reg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001_A_002_U Kyaw Naing.mp3" descr=""/>
          <p:cNvPicPr/>
          <p:nvPr/>
        </p:nvPicPr>
        <p:blipFill>
          <a:blip r:embed="rId1"/>
          <a:stretch/>
        </p:blipFill>
        <p:spPr>
          <a:xfrm>
            <a:off x="6948360" y="43657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8176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76212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oftware Pa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685800" y="2590920"/>
            <a:ext cx="78487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ould be: non-obvious, novel, use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7 years from award (20 years from applic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or quality of examining can lead to broad patents for routine computing concep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national differ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Copyright applies to the expression of ideas, patents to the ideas themselv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4T01:37:39Z</dcterms:created>
  <dc:creator>ukyawnaing</dc:creator>
  <dc:description/>
  <dc:language>en-US</dc:language>
  <cp:lastModifiedBy>ds0929</cp:lastModifiedBy>
  <dcterms:modified xsi:type="dcterms:W3CDTF">2013-06-08T14:40:46Z</dcterms:modified>
  <cp:revision>3</cp:revision>
  <dc:subject/>
  <dc:title>Slide 1</dc:title>
</cp:coreProperties>
</file>