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50B-7E05-4C60-B371-82D7D464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3C2-AD99-466C-A08C-5B0110C3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CE2-2D7E-41CD-B281-A815D212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F7C-8C77-4F4C-B7B3-FE017FD7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9A6-93F6-485E-AD65-9A0EC4E8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0D4-CFEA-4728-BE0A-812137AC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484-6FB0-480C-8510-94671BFE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4E5-8D5B-4D8E-B51F-8A257439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AA9-B680-40CB-89EA-6DB759CA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699-BCE4-4423-8896-FC4318E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982-A24F-4850-B6E6-E69CFD94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45E-1896-4B04-81A7-05DF192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6EC2-98A3-440A-86F3-63E57C4D7D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The Software Process (Simplified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622320" y="25909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324480" y="5410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35268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095880" y="5334120"/>
            <a:ext cx="23623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3276720" y="4114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380880" y="2286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asibility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2971800" y="2362320"/>
            <a:ext cx="26668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27"/>
          <p:cNvSpPr/>
          <p:nvPr/>
        </p:nvSpPr>
        <p:spPr>
          <a:xfrm>
            <a:off x="25909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28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9"/>
          <p:cNvSpPr/>
          <p:nvPr/>
        </p:nvSpPr>
        <p:spPr>
          <a:xfrm>
            <a:off x="44197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30"/>
          <p:cNvSpPr/>
          <p:nvPr/>
        </p:nvSpPr>
        <p:spPr>
          <a:xfrm>
            <a:off x="4419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3124080" y="3886200"/>
            <a:ext cx="26672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3124080" y="5410080"/>
            <a:ext cx="26672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228600" y="2209680"/>
            <a:ext cx="2362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2895480" y="2133720"/>
            <a:ext cx="30481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001_A_004_U Kyaw Naing.mp3" descr=""/>
          <p:cNvPicPr/>
          <p:nvPr/>
        </p:nvPicPr>
        <p:blipFill>
          <a:blip r:embed="rId1"/>
          <a:stretch/>
        </p:blipFill>
        <p:spPr>
          <a:xfrm>
            <a:off x="7667640" y="378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491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1:24Z</dcterms:created>
  <dc:creator>Administrator</dc:creator>
  <dc:description/>
  <dc:language>en-US</dc:language>
  <cp:lastModifiedBy>ds0929</cp:lastModifiedBy>
  <dcterms:modified xsi:type="dcterms:W3CDTF">2013-06-08T09:07:56Z</dcterms:modified>
  <cp:revision>4</cp:revision>
  <dc:subject/>
  <dc:title>PowerPoint Presentation</dc:title>
</cp:coreProperties>
</file>