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660-512E-435F-8FC8-8EB9E8E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CE1-4882-4549-A89D-372CC81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04F-BEC7-4C98-A108-D44ABA78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1A0-51A0-4B05-A777-63B5EB49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3D3-E65F-4765-B0B7-668421D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B4B-19FE-45A3-B6F6-FAB07C96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A32-10D1-4BC1-A4AA-7D61272C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9DA-689C-44F7-9C74-52A8C79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EB0-06D7-4341-AE9D-9AE2DE7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D38-D311-46D9-A06F-EFD68FE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201-2311-4374-ADDF-04E50A6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40C-82EA-4565-9FDB-A2CEC70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1EC1-C517-412A-B62D-0DC4C0A9F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views with Cl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209680"/>
            <a:ext cx="7696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lients may have only a vague concept of requi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pare before you meet with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 full n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f you don't understand, delve 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mall group meetings are often most eff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s often confuse the current system with the underlying require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7:32Z</dcterms:created>
  <dc:creator>Administrator</dc:creator>
  <dc:description/>
  <dc:language>en-US</dc:language>
  <cp:lastModifiedBy>ds0929</cp:lastModifiedBy>
  <dcterms:modified xsi:type="dcterms:W3CDTF">2013-06-08T09:20:50Z</dcterms:modified>
  <cp:revision>3</cp:revision>
  <dc:subject/>
  <dc:title>PowerPoint Presentation</dc:title>
</cp:coreProperties>
</file>