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987-6DBD-4BA9-877C-71027D60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FA7E-E1AB-482E-841C-9797990F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17D-578F-49FD-96CA-0E123F42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8302-9750-437C-B8E3-96BA01D9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8B9-75A3-420A-B8F7-593150A2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F0B-FF9D-418B-AA55-C34475F8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0CA-1152-49D2-A0C0-68EF4ABF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C7C-DC26-4A21-BAAF-00A60608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8AC-F43B-420C-A71A-F9A0BE5A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172-D6A4-4D87-A954-71325081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30B-8EBE-4D83-BD40-0D63ECDE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1B6-3439-4043-8149-C1AF0EFC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B351-422A-4A39-AE1A-F53819B9D3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33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rivative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33520" y="2133720"/>
            <a:ext cx="78483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en software is derived from other softw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code is owned by new 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ditions that apply to old code apply to derive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write S, which is derived from A, B, C and D, you can not distribute or licenses S unless you have right to distribute each of A, B, C and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o create a software product, you must hav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ocumented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rights to use every compo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04_U Kyaw Naing.mp3" descr=""/>
          <p:cNvPicPr/>
          <p:nvPr/>
        </p:nvPicPr>
        <p:blipFill>
          <a:blip r:embed="rId1"/>
          <a:stretch/>
        </p:blipFill>
        <p:spPr>
          <a:xfrm>
            <a:off x="774072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636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38:32Z</dcterms:created>
  <dc:creator>ukyawnaing</dc:creator>
  <dc:description/>
  <dc:language>en-US</dc:language>
  <cp:lastModifiedBy>ds0929</cp:lastModifiedBy>
  <dcterms:modified xsi:type="dcterms:W3CDTF">2013-06-08T14:41:29Z</dcterms:modified>
  <cp:revision>3</cp:revision>
  <dc:subject/>
  <dc:title>Slide 1</dc:title>
</cp:coreProperties>
</file>