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688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6400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593D-1D48-41EE-83FC-8CEA65C250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352680"/>
            <a:ext cx="5410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able System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nciples for Dependable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2666880"/>
            <a:ext cx="77724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-quality has to be built-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 Each stage of development must be done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 Testing and correction does not lead to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 Changes should be incorporated into th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lity Management Proc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2286000"/>
            <a:ext cx="6705360" cy="38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ump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processes lead to good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importance of rout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terminolog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requirements, specification, desig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standards (naming convention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and external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ing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lity Management Proc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2438280"/>
            <a:ext cx="67816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ange manag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code management and vers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king of change requests and bug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 for changing requirements specifications, designs and other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sign and Code Revie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2438280"/>
            <a:ext cx="83055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agues review each other's wo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applied to any stage of softwar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formal or inf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veloper provides colleagues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ation (e.g., specification or design), or code lis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s through the work while answering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effective when developer and reviewers prepare w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nefits of Design and Code Revie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905120"/>
            <a:ext cx="7086600" cy="43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nef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 eyes spot mistakes, suggest impro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agues share expertise; helps with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ccasion to tidy loose 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patibilities between modules can be iden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s scheduling and management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damental requir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ior team members must show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helpful, not threat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cess (Plan) Revie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2057400"/>
            <a:ext cx="73915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c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view progress against plan (formal or inform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djust plan (schedule, team assignments, functionality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act on qua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quality systems usually result from plans that are demanding but real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od people like to be stretched and to work hard, but must not be pressed beyond their capabi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istical T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438280"/>
            <a:ext cx="7925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the operational profile of th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or generate a profile of tes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test data to system, record failure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statistical values of metrics under test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istical T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2209680"/>
            <a:ext cx="8229600" cy="37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test with very large numbers of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test with extreme cases (high loads, restarts, disrup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repeat after system mod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ertainty in operational profile (unlikely inpu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never prove high 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Dartmouth Time Sharing (198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2133720"/>
            <a:ext cx="8534160" cy="42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central computer serves the entire campus.  Any failure is seri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.   Gather data on every fail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years of data in a simple data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failure analyz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(defau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(e.g., power, air conditio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(e.g., operator err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Dartmouth Time Sharing (198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2209680"/>
            <a:ext cx="7315200" cy="38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.  Analyze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ly, monthly, and annual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failures and interru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time to 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of trends by component, 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ure rates of disk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 failures after power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es caused by software bugs in each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47920" y="5257800"/>
            <a:ext cx="22860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572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209680"/>
            <a:ext cx="79246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due tomorrow at 5 p.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oup design with individual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s Wednesday through Fri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ry group member must present during the sem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Dartmouth Time Sharing (198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5909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.  Invest resources where benefit will be maximum, 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ly shut down after power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 order for software impro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d procedures for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ment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ctors for Fault Free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905120"/>
            <a:ext cx="83059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se, unambiguou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ult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that expects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ach to software design and implementation th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des complex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.g., structured design, object-oriented programm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ftware too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restrict or detect errors (e.g., strongly typed languages, source control systems, debugg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ming sty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emphasizes simplicity, readability, and avoidance of dangerous constr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cremen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ror Avoid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2209680"/>
            <a:ext cx="640080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isky programming constr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ing-point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l are valuable in certain circumstances, but should be used with discr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fensive Program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2133720"/>
            <a:ext cx="7848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rphy's Law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ything can go wrong, it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fensive Programm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t code is incorporated to check system state after mod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 assumptions are tested explici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fensive Programming 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2438280"/>
            <a:ext cx="70866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ab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rtion chec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debugging code into program with a switch to display values a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checking codes in data, e.g., checksum or h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Notable Bu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2209680"/>
            <a:ext cx="76964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t-in function in Fortran compiler (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anese microcode for Honeywell DPS virtual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crofilm plotter with the missing byte (1:102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n 3 page fault that IBM paid to 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handed rotation in the graphics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Good people work around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he best people track them down and fix th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ftware Reli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133720"/>
            <a:ext cx="7696080" cy="45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ilur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oftware does not deliver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ice expected by the us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.g., mistake in requirem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ul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gramming or design error whereby the delivered system does no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form to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liabilit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bability of a failure occurring in operational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ceived reliabilit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pends up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of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n of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liability Metr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2209680"/>
            <a:ext cx="632484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of failure on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failure occurrence (failure intens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time between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ility (up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time to 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ypothetical 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rs are safer than airplane in accidents (failures) per hour, but less safe in failures per m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liability Metrics for Distributed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286000"/>
            <a:ext cx="84582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aditional metrics are hard to apply in multi-component sys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big network, at a given moment something will be gi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uble, but very few users will se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ystem that has excellent average reliability may g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ible service to certain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so many components that system administra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y on automatic reporting systems to identify problem ar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Perception of Reli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7724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A personal computer that crashes frequently v. a machine that is out of service for two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A database system that crashes frequently but comes back quickly with no loss of data v. a system that fails once in three years but data has to be restored from back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A system that does not fail but has unpredictable periods when it runs very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st of Improved Reli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22096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480060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4419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37840" y="-1296360"/>
            <a:ext cx="5629680" cy="563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6211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62118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400800" y="21337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343400" y="21337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4876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4800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54864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you spend your money on new functionality or improved reliabil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pecification of System Reli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9810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ATM card r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743200"/>
            <a:ext cx="853452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ilure 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an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ystem fails to ope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er 1,000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corrup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with any card -- re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ystem can not re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in 1,000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corrup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an undamaged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up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A pattern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 corru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743200"/>
            <a:ext cx="845820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27432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27432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2004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41911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5105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nciples for Dependable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2096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2971800"/>
            <a:ext cx="777240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uman mind can encompass only limited complex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 Comprehe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 Simpl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 Partitioning of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9-09-14T17:00:20Z</cp:lastPrinted>
  <dcterms:modified xsi:type="dcterms:W3CDTF">2000-11-07T19:49:34Z</dcterms:modified>
  <cp:revision>392</cp:revision>
  <dc:subject/>
  <dc:title>Digital Library Architecture- Key Principles </dc:title>
</cp:coreProperties>
</file>