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0FD2-65EE-4B4A-BD0B-15327A37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B06B-6A15-40AA-85E3-63D4EB14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35C0-A9A7-4EC1-A5D5-BA96D304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6E9D-AEAB-4EDC-B288-8F1E117D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D6CC-117C-4D89-B153-6BD2F99F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9CB-C083-49A3-A96B-B2E2731B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9C08-1E5D-4087-8DE5-7E1E593B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9F83-AACD-4C46-A6E7-16E7E9E0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38E-FF3F-49FA-99FC-011852BC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70A-CA4A-4672-BAE9-54AC9436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0362-C001-4D52-8087-9C943970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AC18-EC70-4484-8F09-83CEA18B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783B-996C-4896-AF60-FB527DF728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ctional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14400" y="2286000"/>
            <a:ext cx="79246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h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functional desig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, determines the functions that are offered to the u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lection of parts of a digital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arching a list or sorting th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ipulation of objects on a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n or z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18_U Kyaw Naing.mp3" descr=""/>
          <p:cNvPicPr/>
          <p:nvPr/>
        </p:nvPicPr>
        <p:blipFill>
          <a:blip r:embed="rId1"/>
          <a:stretch/>
        </p:blipFill>
        <p:spPr>
          <a:xfrm>
            <a:off x="7380360" y="458136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987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57:23Z</dcterms:created>
  <dc:creator>ukyawnaing</dc:creator>
  <dc:description/>
  <dc:language>en-US</dc:language>
  <cp:lastModifiedBy>ds0929</cp:lastModifiedBy>
  <dcterms:modified xsi:type="dcterms:W3CDTF">2013-06-08T14:47:16Z</dcterms:modified>
  <cp:revision>5</cp:revision>
  <dc:subject/>
  <dc:title>Slide 1</dc:title>
</cp:coreProperties>
</file>