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B8D-E55D-42B3-8723-85B43922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9F3-B142-46D0-9D73-D6649587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10B-F0D9-483B-AFE6-621CB7B2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A8E-0414-4F75-B40E-1D35C2ED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464-672F-43B0-BFE4-62979113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E9D-DD03-449C-839D-E22E886D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90D-81A2-4CC7-A3C2-29C1DC01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C15-00DF-4080-BF05-901097C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A79-1936-46AA-B0CE-A4FF7543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A46-F2BA-411A-95D4-729D92E0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AF0-8065-42F5-BDD7-55AD5B4C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38B-CD96-4A4D-B37C-75875C01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0194-5FEA-4BB5-BD15-11397A3A15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edback in the Waterfall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09040" y="1973160"/>
            <a:ext cx="1488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76520" y="2971800"/>
            <a:ext cx="2209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95640" y="3916440"/>
            <a:ext cx="2362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Unit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114880" y="491004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67480" y="58863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20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21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22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3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001_A_007_U Kyaw Naing.mp3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460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3:49Z</dcterms:created>
  <dc:creator>Administrator</dc:creator>
  <dc:description/>
  <dc:language>en-US</dc:language>
  <cp:lastModifiedBy>ds0929</cp:lastModifiedBy>
  <dcterms:modified xsi:type="dcterms:W3CDTF">2013-06-08T09:10:51Z</dcterms:modified>
  <cp:revision>5</cp:revision>
  <dc:subject/>
  <dc:title>PowerPoint Presentation</dc:title>
</cp:coreProperties>
</file>