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B95-39B2-40E6-906B-12FD5E41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98A-3811-4906-944B-B3FEC9B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0E0-82EE-4AD6-8C24-08E8F774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10B-EBFC-4955-B244-B0373469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D91-52DF-4728-85BA-EEFD30A0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E25-B369-4F44-8B0E-463F4F30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DBF-2610-41E0-8E51-7951AEA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8E3-23AC-4D27-963D-11A07AED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DE4-11E9-44F6-9AC6-53BA6E98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F7B-86AE-4706-A01F-6F164D20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BF9-39FB-4B26-9016-1FF033A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9FE-4331-4FF0-B4CD-A87AA02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0527-7A42-447F-A9EF-41E5089B1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y Person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286000"/>
            <a:ext cx="77724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computing, not all people are equ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est are at least 5 times more produ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are too difficult for every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dding more people adds communications complex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activities need a single m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imes, the elapsed time for an activity can not be shorten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 happens to the project if a key person is sick or quit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8_U Kyaw Naing.mp3" descr=""/>
          <p:cNvPicPr/>
          <p:nvPr/>
        </p:nvPicPr>
        <p:blipFill>
          <a:blip r:embed="rId1"/>
          <a:stretch/>
        </p:blipFill>
        <p:spPr>
          <a:xfrm>
            <a:off x="774072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513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rt-up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2209680"/>
            <a:ext cx="7620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n a big project, the start-up time is typically three to six month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nel have to complete previous projects (fatigue) or recrui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ware and software has to be acquired and install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 have to learn new domain areas and software (slow whil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s may not be rea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2:37Z</dcterms:created>
  <dc:creator>Administrator</dc:creator>
  <dc:description/>
  <dc:language>en-US</dc:language>
  <cp:lastModifiedBy>ds0929</cp:lastModifiedBy>
  <dcterms:modified xsi:type="dcterms:W3CDTF">2013-06-08T09:17:41Z</dcterms:modified>
  <cp:revision>4</cp:revision>
  <dc:subject/>
  <dc:title>PowerPoint Presentation</dc:title>
</cp:coreProperties>
</file>