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20C-6EAF-49FB-A4B3-6480D92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DB5-AB33-4F35-9BC5-5E70AAE0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04C-6DF1-44D1-99A7-E4A85C0A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46A-6F5E-4127-9668-46F18714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561-0422-4A44-8B26-A83A47B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187-73E3-463F-B8DA-C1C5B470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228-47FF-4DA4-9439-E7FDF80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84A-512E-4ABF-B0BD-6F58986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A54-E9BC-4930-BF01-1E4A74C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49A-144F-44E7-AF74-5182B06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D57-8E1F-49E8-86FD-FCAA3898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467-C755-4100-B64B-97B49CB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5D3-B5CB-41C8-8349-914988D8E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Distributed Objects and the System Life-Cyc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2286000"/>
            <a:ext cx="7848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ll large systems change with tim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namic binding of objects combined with polymorph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mits the addition of extra object types, incre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, etc. to be loc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velopment environments change wit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bindings and IIOP permit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duction environments changes wit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 can be reused in different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6_U Kyaw Naing.mp3" descr=""/>
          <p:cNvPicPr/>
          <p:nvPr/>
        </p:nvPicPr>
        <p:blipFill>
          <a:blip r:embed="rId1"/>
          <a:stretch/>
        </p:blipFill>
        <p:spPr>
          <a:xfrm>
            <a:off x="7667640" y="414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for U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62120" y="2286000"/>
            <a:ext cx="815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 of a computer system is a combination of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ystems an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 from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nything e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6:02Z</dcterms:created>
  <dc:creator>ukyawnaing</dc:creator>
  <dc:description/>
  <dc:language>en-US</dc:language>
  <cp:lastModifiedBy>ds0929</cp:lastModifiedBy>
  <dcterms:modified xsi:type="dcterms:W3CDTF">2013-06-08T14:46:28Z</dcterms:modified>
  <cp:revision>4</cp:revision>
  <dc:subject/>
  <dc:title>Slide 1</dc:title>
</cp:coreProperties>
</file>