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310F-5B98-4334-BE70-FF91B216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1B3D-1E29-431D-82C7-F3697B46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F5AC-1139-4240-831D-DC7C1E84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58E8-66BE-4F4B-B9CA-F2824283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FDD3-E73D-4553-A005-FB1CAAA8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9FFC-C139-4A09-9B5C-1610894A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2AEA-CF5C-44A9-B1B0-0A3980DA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830B-43F6-46FB-8204-E6A1501E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320D-618A-410D-8779-43F17BB8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677-1BF6-4920-A56B-71BCBF8D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A684-1215-4350-8CEA-15FB8F1D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8A8F-88CF-4DC2-9C02-CC06342A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6C9C-88FF-40F6-B60D-01A683622F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Requirements Definition and Analysis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532800" y="1973160"/>
            <a:ext cx="1488240" cy="642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676520" y="2971800"/>
            <a:ext cx="2209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ftware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095640" y="3916440"/>
            <a:ext cx="2362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Unit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5114880" y="4910040"/>
            <a:ext cx="2133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567480" y="5886360"/>
            <a:ext cx="2057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ion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8"/>
          <p:cNvSpPr/>
          <p:nvPr/>
        </p:nvSpPr>
        <p:spPr>
          <a:xfrm>
            <a:off x="220968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9"/>
          <p:cNvSpPr/>
          <p:nvPr/>
        </p:nvSpPr>
        <p:spPr>
          <a:xfrm>
            <a:off x="388620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548640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7259760" y="5356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289548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4602240" y="3438360"/>
            <a:ext cx="4680" cy="46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6172200" y="4343400"/>
            <a:ext cx="46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7940520" y="5372280"/>
            <a:ext cx="5040" cy="52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16"/>
          <p:cNvSpPr/>
          <p:nvPr/>
        </p:nvSpPr>
        <p:spPr>
          <a:xfrm flipH="1">
            <a:off x="914040" y="64008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20"/>
          <p:cNvSpPr/>
          <p:nvPr/>
        </p:nvSpPr>
        <p:spPr>
          <a:xfrm flipV="1">
            <a:off x="914400" y="2808000"/>
            <a:ext cx="1440" cy="359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21"/>
          <p:cNvSpPr/>
          <p:nvPr/>
        </p:nvSpPr>
        <p:spPr>
          <a:xfrm flipV="1">
            <a:off x="2438280" y="38095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22"/>
          <p:cNvSpPr/>
          <p:nvPr/>
        </p:nvSpPr>
        <p:spPr>
          <a:xfrm flipV="1">
            <a:off x="4114800" y="47239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23"/>
          <p:cNvSpPr/>
          <p:nvPr/>
        </p:nvSpPr>
        <p:spPr>
          <a:xfrm flipV="1">
            <a:off x="58672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001_A_021_U Kyaw Naing.mp3" descr=""/>
          <p:cNvPicPr/>
          <p:nvPr/>
        </p:nvPicPr>
        <p:blipFill>
          <a:blip r:embed="rId1"/>
          <a:stretch/>
        </p:blipFill>
        <p:spPr>
          <a:xfrm>
            <a:off x="7451640" y="3789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912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56:28Z</dcterms:created>
  <dc:creator>Administrator</dc:creator>
  <dc:description/>
  <dc:language>en-US</dc:language>
  <cp:lastModifiedBy>ds0929</cp:lastModifiedBy>
  <dcterms:modified xsi:type="dcterms:W3CDTF">2013-06-08T09:19:04Z</dcterms:modified>
  <cp:revision>4</cp:revision>
  <dc:subject/>
  <dc:title>PowerPoint Presentation</dc:title>
</cp:coreProperties>
</file>