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071-DAA9-42A1-9F82-1DBBF903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C9A-8892-4539-9B90-14135A1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81F-4E58-4553-8AFF-884D18C4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4F9-F161-41C9-8522-EED207FC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EF5-BBA5-4E7C-96F0-038B31E2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4DE-6579-409D-BB9F-4FF7BC45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C9D-529D-4E70-B79C-6716407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A78-4074-4E7C-8F80-42AC592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8A2-206A-408E-BEA1-C5333771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F4D-4B48-411A-8E27-0AEE9AA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598-591A-4CA1-8999-B39CE23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C52-B2A9-4F82-9DD6-812ECDC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8D7A-93BA-49DA-AFDB-48549AA33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905120"/>
            <a:ext cx="746748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s for document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ility  (e.g., project plan, interim re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support  (e.g., user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communication (e.g., interface specific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and evolution (e.g., requirements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stics of document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urate and kept cur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priate fo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ed online (usual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 but professional in style and appea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cumentation is expensive --&gt; Quality not volu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9_U Kyaw Naing.mp3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5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 of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447920" y="2286000"/>
            <a:ext cx="5867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 context (e.g., copyright notic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4:59Z</dcterms:created>
  <dc:creator>Administrator</dc:creator>
  <dc:description/>
  <dc:language>en-US</dc:language>
  <cp:lastModifiedBy>ds0929</cp:lastModifiedBy>
  <dcterms:modified xsi:type="dcterms:W3CDTF">2013-06-08T09:18:17Z</dcterms:modified>
  <cp:revision>5</cp:revision>
  <dc:subject/>
  <dc:title>PowerPoint Presentation</dc:title>
</cp:coreProperties>
</file>