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CDD-7DD2-47B9-8682-AF9B5FD1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51A-6295-4682-837F-CFE9408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DB0-A57D-454B-87BF-8DEC9BC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46D-8C3D-4432-BA1B-4A7B9BD2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C27-236E-4A23-9F69-DA85D126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534-68A8-48C7-AC13-3DA536D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ED2-FEC1-4C43-A80B-872E1027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FEA-F755-4E05-8457-C915334E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381-8AEC-497C-80F4-78CC473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D4E-491C-4341-9F0F-8EFBFF5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197-E06B-435E-8915-E992072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805-6180-4540-A509-667EAAD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143E-B6C7-494A-9640-E313DFC30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219320" y="2590920"/>
            <a:ext cx="7315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iv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ity of the author's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scrimination against persons o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1"/>
          <a:stretch/>
        </p:blipFill>
        <p:spPr>
          <a:xfrm>
            <a:off x="7093080" y="3716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3880" y="2895480"/>
            <a:ext cx="7315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scrimination against fields of ende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 must not be specific to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 must not contaminate oth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504d"/>
                </a:solidFill>
                <a:uFillTx/>
                <a:latin typeface="Calibri"/>
              </a:rPr>
              <a:t>http://www.opensource.org/osd.htm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0:43Z</dcterms:created>
  <dc:creator>ukyawnaing</dc:creator>
  <dc:description/>
  <dc:language>en-US</dc:language>
  <cp:lastModifiedBy>ds0929</cp:lastModifiedBy>
  <dcterms:modified xsi:type="dcterms:W3CDTF">2013-06-08T14:43:58Z</dcterms:modified>
  <cp:revision>4</cp:revision>
  <dc:subject/>
  <dc:title>Slide 1</dc:title>
</cp:coreProperties>
</file>