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437-CCC2-43D9-9516-A3F3A7EF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FCA-9363-4D01-87F6-11677FBE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17C-C5B5-455A-B6E7-64A930EA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868-ED69-4C95-B7EA-934A2FFB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C4A-FEA0-44CF-AB1B-A536D06E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116-46FC-46D9-A5B5-BA7818C2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0B1-4AA9-4C6E-BBF0-78919542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14E-AF9F-4CE5-8E12-514B8001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CC0-1C8D-41DE-8FD0-4A8A5A33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61E-A159-4D8B-821E-AF72BA6A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D8B-3D13-4BFE-A941-528A9CD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A4B-073F-4D2C-B7B0-CB12B27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3BCC-E121-41A1-AA9A-ED5EECF09A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92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Requirements Analysis v. System Design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2286000"/>
            <a:ext cx="784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ilemm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analysis should make minimal assumptions about the system desig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the requirements definition must be consistent with computing technology and the resources avail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ractice, analysis and design are interwoven.  However,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o not to allow the analysis tools to prejudge the system desig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3_U Kyaw Naing.mp3" descr=""/>
          <p:cNvPicPr/>
          <p:nvPr/>
        </p:nvPicPr>
        <p:blipFill>
          <a:blip r:embed="rId1"/>
          <a:stretch/>
        </p:blipFill>
        <p:spPr>
          <a:xfrm>
            <a:off x="7020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4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9:39Z</dcterms:created>
  <dc:creator>Administrator</dc:creator>
  <dc:description/>
  <dc:language>en-US</dc:language>
  <cp:lastModifiedBy>ds0929</cp:lastModifiedBy>
  <dcterms:modified xsi:type="dcterms:W3CDTF">2013-06-08T09:20:43Z</dcterms:modified>
  <cp:revision>4</cp:revision>
  <dc:subject/>
  <dc:title>PowerPoint Presentation</dc:title>
</cp:coreProperties>
</file>