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D21-35B2-4BDF-A0B0-47EE47EA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C00-5DB5-45BD-97FA-00762F77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9B7-2055-4048-B876-59F5E4A0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532-BCCC-4109-8BCE-661B14E7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B13-221D-40A2-932E-D630F269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BC1-0569-4D12-808B-96FA3437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82D-FAD3-434D-8875-EF6F2650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086-9198-47D5-ABD6-BB511722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059-8E62-4AD2-8837-0FE7118F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944-9E94-4618-B73F-AA35A92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8F1-3847-42AF-9E1B-6E6C66E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5A3-20E6-45EA-8840-5B05DB1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E8B6-0020-43CA-9B48-29D29DB29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essional Responsibilit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057400"/>
            <a:ext cx="83822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ganizations put trust in software develop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ence:  Software that does not work effectively can destroy an organiz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fidentiality:  Software developers and systems administrators may have access to highly confidential information (e.g., trade secrets, personal dat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gal environment:  Software exists in a complex legal environment (e.g., intellectual property, obscen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able use and misuse: Computer abuse can paralyze an organization (e.g., the Internet wor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3_U Kyaw Naing.mp3" descr=""/>
          <p:cNvPicPr/>
          <p:nvPr/>
        </p:nvPicPr>
        <p:blipFill>
          <a:blip r:embed="rId1"/>
          <a:stretch/>
        </p:blipFill>
        <p:spPr>
          <a:xfrm>
            <a:off x="759636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4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39:28Z</dcterms:created>
  <dc:creator>Administrator</dc:creator>
  <dc:description/>
  <dc:language>en-US</dc:language>
  <cp:lastModifiedBy>ds0929</cp:lastModifiedBy>
  <dcterms:modified xsi:type="dcterms:W3CDTF">2013-06-08T09:07:14Z</dcterms:modified>
  <cp:revision>4</cp:revision>
  <dc:subject/>
  <dc:title>PowerPoint Presentation</dc:title>
</cp:coreProperties>
</file>