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117-204C-4966-BA61-0305C8EF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C0A-EAE1-4282-9612-403CF67C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7A6-8663-4814-9C5B-635C27BC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CA7-B16A-420E-9CDF-0B36D5A1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6C2C-93FB-43C8-B919-0882B4CC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296-FE82-44E1-8F3C-15A5CFF0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0C4-B086-4AB7-8C48-DEDF2462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B23-5F30-4655-95E1-D59D8CA9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046-6BFF-4D2A-B833-7639C29E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06E-F561-47D7-BBD8-740A9F48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F1A-A096-435C-880F-C5EE3A3F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82C-7341-4D29-BBEC-E2C39D5D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ACAD-DB11-41CE-A5F1-2898DAF935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05120" y="2362320"/>
            <a:ext cx="57150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asions of priva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priation of name or lik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reasonable pub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se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e very careful about collecting personal data without the knowledge of the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5_U Kyaw Naing.mp3" descr=""/>
          <p:cNvPicPr/>
          <p:nvPr/>
        </p:nvPicPr>
        <p:blipFill>
          <a:blip r:embed="rId1"/>
          <a:stretch/>
        </p:blipFill>
        <p:spPr>
          <a:xfrm>
            <a:off x="7524720" y="566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7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38:59Z</dcterms:created>
  <dc:creator>ukyawnaing</dc:creator>
  <dc:description/>
  <dc:language>en-US</dc:language>
  <cp:lastModifiedBy>ds0929</cp:lastModifiedBy>
  <dcterms:modified xsi:type="dcterms:W3CDTF">2013-06-08T14:41:53Z</dcterms:modified>
  <cp:revision>3</cp:revision>
  <dc:subject/>
  <dc:title>Slide 1</dc:title>
</cp:coreProperties>
</file>