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AB5-CCE4-4A2A-BDCE-0F7F3138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767-937F-4DB1-9722-AE4154C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275-5B4F-40F1-B8EF-45C378E5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DA9-475F-4BFB-ADB5-CCCEDA11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40C-403A-47C4-BE76-3C7DDBC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B9C-EC57-47CA-9E67-32FE50C7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663-91CC-4692-B716-B12A205C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1F9-0F0E-4890-9678-D9FC52F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C5F-EDC9-42FA-A1DB-0B1DEBD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6BA-3860-46A5-85D9-8CB3174C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80D-E381-4BB3-9FFA-9055A0F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B7D-6626-472E-97EC-E41F222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6F97-54E2-4168-AA10-AE1071304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 Person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2286000"/>
            <a:ext cx="77724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computing, not all people are equa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est are at least 5 times more produ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are too difficult for every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dding more people adds communications complex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activities need a single m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, the elapsed time for an activity can not be shorten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happens to the project if a key person is sick or quit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8_U Kyaw Naing.mp3" descr=""/>
          <p:cNvPicPr/>
          <p:nvPr/>
        </p:nvPicPr>
        <p:blipFill>
          <a:blip r:embed="rId1"/>
          <a:stretch/>
        </p:blipFill>
        <p:spPr>
          <a:xfrm>
            <a:off x="774072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513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rt-up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220968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n a big project, the start-up time is typically three to six month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onnel have to complete previous projects (fatigue) or recrui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ware and software has to be acquired and install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have to learn new domain areas and software (slow whil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s may not be rea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2:37Z</dcterms:created>
  <dc:creator>Administrator</dc:creator>
  <dc:description/>
  <dc:language>en-US</dc:language>
  <cp:lastModifiedBy>ds0929</cp:lastModifiedBy>
  <dcterms:modified xsi:type="dcterms:W3CDTF">2013-06-08T09:17:41Z</dcterms:modified>
  <cp:revision>4</cp:revision>
  <dc:subject/>
  <dc:title>PowerPoint Presentation</dc:title>
</cp:coreProperties>
</file>