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B02-7D46-40B4-A106-C9218E78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227-CBAD-4677-97B9-0E693F55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EB1-F68A-40EF-B8B0-372B95C1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A5A-2D64-4B83-BA33-F1D46D80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50D-CA67-4D15-9E4E-B8EA0F55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90FE-6AFC-409E-A461-D87248BE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424A-2A1A-4C8B-AAAE-1257D9B9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398-062B-4385-A2C5-0E8139C4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5B7-6FA7-47C5-8BC1-2D46E3F6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8F30-07EB-4BC2-B19C-9D4057EE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548-559D-4AFE-BCFC-C6116011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0E9-C17F-4716-AF8C-627C4703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5E41-0DC4-4F03-94B7-941196B5F0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thematica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447920" y="2209680"/>
            <a:ext cx="70102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Queueing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estimates of congestion can be made for single-server queues w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rivals that are independent, random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Poisson pro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ice times that follow families of distribu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e.g., negative exponential, gam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y of the results can be extended to multi-server que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22_U Kyaw Naing.mp3" descr=""/>
          <p:cNvPicPr/>
          <p:nvPr/>
        </p:nvPicPr>
        <p:blipFill>
          <a:blip r:embed="rId1"/>
          <a:stretch/>
        </p:blipFill>
        <p:spPr>
          <a:xfrm>
            <a:off x="7596360" y="5300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438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59:36Z</dcterms:created>
  <dc:creator>ukyawnaing</dc:creator>
  <dc:description/>
  <dc:language>en-US</dc:language>
  <cp:lastModifiedBy>ds0929</cp:lastModifiedBy>
  <dcterms:modified xsi:type="dcterms:W3CDTF">2013-06-08T14:48:53Z</dcterms:modified>
  <cp:revision>3</cp:revision>
  <dc:subject/>
  <dc:title>Slide 1</dc:title>
</cp:coreProperties>
</file>