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C53-EE0A-43BE-ACBF-1297D25A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A19-768D-44FA-8E95-A210FEC5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FE8-61A7-4B8B-88BD-33707B2B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AA1-2995-4873-BE7C-DA06D12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7F9-16A8-426F-AD2D-D3425CE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BAA-39F7-4ED2-A53B-D447C62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2C7-637B-4013-A935-F48B737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505-A267-4F8A-9968-5CEC53A2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07E-A84F-4FB4-96B0-3381F8F4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6F4-21E2-4D36-A303-34AE9B49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39E-2BDB-4BFB-B4AF-7F28580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A44-6C71-44FE-895C-A197A9C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90A-5E68-46E7-9491-44DD9DDD4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1981080"/>
            <a:ext cx="7772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beginning a project, a short, low-cost study to </a:t>
            </a:r>
            <a:r>
              <a:rPr b="1" lang="en-US" sz="1800" spc="-1" strike="noStrike">
                <a:solidFill>
                  <a:srgbClr val="cc0000"/>
                </a:solidFill>
                <a:latin typeface="Calibri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tential bene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ources need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ff, time, equipment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tential obsta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alibri"/>
                <a:ea typeface="Times New Roman"/>
              </a:rPr>
              <a:t>Where are the risks?  How can they be minimiz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0_U Kyaw Naing.mp3" descr=""/>
          <p:cNvPicPr/>
          <p:nvPr/>
        </p:nvPicPr>
        <p:blipFill>
          <a:blip r:embed="rId1"/>
          <a:stretch/>
        </p:blipFill>
        <p:spPr>
          <a:xfrm>
            <a:off x="7308720" y="40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00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5:46:18Z</dcterms:created>
  <dc:creator>Administrator</dc:creator>
  <dc:description/>
  <dc:language>en-US</dc:language>
  <cp:lastModifiedBy>ds0929</cp:lastModifiedBy>
  <dcterms:modified xsi:type="dcterms:W3CDTF">2013-06-08T09:13:15Z</dcterms:modified>
  <cp:revision>5</cp:revision>
  <dc:subject/>
  <dc:title>PowerPoint Presentation</dc:title>
</cp:coreProperties>
</file>