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3DB1-B20A-472D-9801-ED3B63804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nroom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815328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ment process that aims to develop zero-defec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development with custom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rogramming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always better to prevent defects than to remove them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four colo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d Dynamic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590920"/>
            <a:ext cx="7620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c 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chniques of verification that do not include execution of th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manual or use computer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ynamic ver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oftware with tri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ug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mov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alidation &amp;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out throughout the software developmen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0040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&amp;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724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724280"/>
            <a:ext cx="1981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8680" y="4989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8920" y="4976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7400" y="37339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8098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504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erification: Program Insp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09680"/>
            <a:ext cx="815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views whose objective is to detect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may be read or reviewed line by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to 250 lines of code in 2 hour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ecklist of common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eam commitment, e.g., traine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effective that it can replace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pection Checklist:  Comm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1760"/>
            <a:ext cx="8685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itialization, constants, array bounds, 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, loop termination, compound statements, cas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/outpu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ll inputs used; all outputs assigned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arameter numbers, types, and order; structures and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rage managemen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odification of links, allocation and de-allocation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ssible errors, error hand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analyz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 the source of a progra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 and anomalies (e.g., Lint for C program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low: loops with multiple exit or entry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: Undeclared or uninitialized variables, unused variables, multiple assignments, array b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faults: Parameter mismatches, non-use of functions results, uncall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ment:  Unassigned pointers, point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666880"/>
            <a:ext cx="8229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reference table: Shows every use of a variable, procedure, objec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low analysis: Identifies input variables on which an  output dep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analysis: Identifies all possible paths through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1337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can never prove that a system is correct.  It can only show that (a) a system is correct in a special case, or (b) that it has a fa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 of testing is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never compreh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and Debug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777240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is most effective if divided into s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various levels of gran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by the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accuracy of actu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and sub-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r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integration an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real data in realistic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meeting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90920"/>
            <a:ext cx="7239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ph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realistic but non-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t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carefully monitored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llel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new system alongside old production system with same data and compa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code, demonstration of oper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 should be present at 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esting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7772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and Acceptance Testing is a major part of a softwar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quires time on th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require substantial investment in datasets, equipment, and tes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esting requires good peo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nd client reports are important parts of te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is the definition of "done"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33720"/>
            <a:ext cx="792504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-up testing.  Each unit is tested with its own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down testing.  Large components are test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my stu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-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nd management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testing.  Tests the system at and beyond its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33720"/>
            <a:ext cx="7696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pecific tests that are chosen because they are likely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cases are chosen to balance expense against chance of finding serious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the development team are effectiv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known vulnerable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experienced outsiders and clients will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in finding gaps left by the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inexperienced users will find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Coverage of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09680"/>
            <a:ext cx="7315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classes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data -- major categories of transaction and data in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ll example: (undergraduate, graduate, transfer, ...) by (college, school, program, ...) by (standing) by 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of data -- typical values, extr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data, reversals, and special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209680"/>
            <a:ext cx="784872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functions of each comput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s through the comput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every path is executed at least o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number of times each path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or colo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be used with time critica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666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809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09880"/>
            <a:ext cx="7617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0292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18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3048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1911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133360" y="419112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25146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73392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029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29200" y="26665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-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ing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ittent --&gt; repe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example --&gt; 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ing the Bugs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209680"/>
            <a:ext cx="7696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xing bugs is an error-prone proc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fix a bug, fix it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fixes need static and dynamic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all tests that have the slightest relevance (regression 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gs have a habit of retur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ug is fixed, add the failure case to the test suite for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ression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43828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modified software to provide confidence that modifications behave as intended and do not adversely affect the behavior of unmodified co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technique is to repeat entire testing process after every change, however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Tim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209680"/>
            <a:ext cx="7391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and debugging need special tools an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s, etc., can not  be used to test real tim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of environment may be needed to test interfaces -- e.g., adjustable clock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urpose tools may no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Engineering for Real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cial characteristics of real time computing require extra attention to good software engineering princi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haustiv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oic programming will fai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133720"/>
            <a:ext cx="6629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with the objective of creating fault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that continue to operate when fault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detection (testing and val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faults before the system is put into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4382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ic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rror continue with nex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s and timeout in network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rrecting codes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block tables on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and backward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 all errors for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51460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ward Recov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ystem state at specific events (checkpoints).  After failure, recreate state at last check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checkpoints with system log that allows transactions from last checkpoint to be repeated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28600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l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-version programming -- Execute independent implementation in parallel, compare results, accept the most prob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42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3623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id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right produ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product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it is sometimes difficult to distinguish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's not a bug.  That's a fe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8T23:31:00Z</dcterms:modified>
  <cp:revision>415</cp:revision>
  <dc:subject/>
  <dc:title>Digital Library Architecture- Key Principles </dc:title>
</cp:coreProperties>
</file>