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560D-16B4-482A-B061-7587E76C7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8AB0-72AF-464E-8D08-9E19DC91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8928-E5A5-4C2B-BEE2-0DB33D9C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FF7F-F740-49D6-BCDC-A8FF6CC49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4C61-3932-4578-AA77-5BF603C2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F4B7-8092-48E0-AED2-88D5DA36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2053-0549-4990-9CAD-9C96580C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3A5E-A918-4516-9EAC-C852DE50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6E32-7AE4-4156-AF9A-08F6BB11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9E64-7F39-48BD-A23C-464999A5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FC21-1068-4FE5-926D-5F40548A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0A85-8113-44B4-9795-E81E0393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0A98-8DF2-4F30-AE87-EBAF276719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60240" y="412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ystem and Softwar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14400" y="2590920"/>
            <a:ext cx="72388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ystem desig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Partition the requirements to hardware or software systems.  Establishes an overall system archite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oftware desig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present the software system functions in a form that can be transformed into one or more executable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fied Modeling Language (UM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01_A_006_U Kyaw Naing.mp3" descr=""/>
          <p:cNvPicPr/>
          <p:nvPr/>
        </p:nvPicPr>
        <p:blipFill>
          <a:blip r:embed="rId1"/>
          <a:stretch/>
        </p:blipFill>
        <p:spPr>
          <a:xfrm>
            <a:off x="7020000" y="4869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1616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43:12Z</dcterms:created>
  <dc:creator>Administrator</dc:creator>
  <dc:description/>
  <dc:language>en-US</dc:language>
  <cp:lastModifiedBy>ds0929</cp:lastModifiedBy>
  <dcterms:modified xsi:type="dcterms:W3CDTF">2013-06-08T09:10:01Z</dcterms:modified>
  <cp:revision>5</cp:revision>
  <dc:subject/>
  <dc:title>PowerPoint Presentation</dc:title>
</cp:coreProperties>
</file>