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1DA-DDB7-4579-80A9-E94D67C6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25D-3739-422E-8F69-71098419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725-D996-4908-AA1E-6DDBD0DB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A5D-D170-41F9-AD35-6C4FC934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2E8-3DA2-4F22-A3F0-40FDFEE7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C07-3C70-4A25-ABE3-B29060CD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D00-3387-4A61-BE64-E673AC1C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0AB-C16A-419E-9E03-BBEA41D5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A1C-CAA5-45C0-A14E-1B040AFD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4F5-2F8E-4FD9-9982-2203A0AC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061-D9A0-4F9E-BE77-319771F4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69D-3CB7-4080-B155-0AFC782F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8DA1-3B7E-4DBC-B2E5-D5A2006E2C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Characteristics of Software Product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95280" y="1981080"/>
            <a:ext cx="678204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l character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end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software products require good programming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t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ing quality is the means to the end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 the 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tsel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DEC's optical sca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1_U Kyaw Naing.mp3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4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ariety of Software Produ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85800" y="2286000"/>
            <a:ext cx="80773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products are very var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  Client requirements are very diffe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  There is no standard process for software engine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  There is no best language, operating system, platform, database system, development environment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killed software developer knows about a wide variety of approaches, methods, tools. 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af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oftware engineering is to select appropriate methods for each project and apply them effective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001_A_002_U Kyaw Naing.mp3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371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38:18Z</dcterms:created>
  <dc:creator>Administrator</dc:creator>
  <dc:description/>
  <dc:language>en-US</dc:language>
  <cp:lastModifiedBy>ds0929</cp:lastModifiedBy>
  <dcterms:modified xsi:type="dcterms:W3CDTF">2013-06-08T09:06:34Z</dcterms:modified>
  <cp:revision>5</cp:revision>
  <dc:subject/>
  <dc:title>PowerPoint Presentation</dc:title>
</cp:coreProperties>
</file>