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935A-9DEB-4B83-9023-472DF1702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E0DC-BB6E-4C64-8F1B-FF91CDE4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EBD2-DDF1-42AA-B5CB-1648B123F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3332-2AC6-42F1-BBCA-F9EDFE64D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192F-2F20-4A9E-A5BE-88179DCA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0C8D-8ED8-4F10-B57C-79B96553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CE4C-26DC-4557-875B-6B2A95DC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0A3E-AD42-4B04-9337-C33BBBAB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A208-064C-43C1-9B60-5E6A107E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76C7-26AA-4E7C-AF74-F6666D1F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2039-A2E1-4A29-9E35-9A8E1348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B0F0-91A9-4F5F-AB59-17087100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4347-FD76-4A0D-978B-150B87712E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7621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iv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905120" y="2362320"/>
            <a:ext cx="571500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vasions of privac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r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ropriation of name or lik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reasonable publ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lse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Be very careful about collecting personal data without the knowledge of the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001_A_005_U Kyaw Naing.mp3" descr=""/>
          <p:cNvPicPr/>
          <p:nvPr/>
        </p:nvPicPr>
        <p:blipFill>
          <a:blip r:embed="rId1"/>
          <a:stretch/>
        </p:blipFill>
        <p:spPr>
          <a:xfrm>
            <a:off x="7524720" y="5661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5776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1:38:59Z</dcterms:created>
  <dc:creator>ukyawnaing</dc:creator>
  <dc:description/>
  <dc:language>en-US</dc:language>
  <cp:lastModifiedBy>ds0929</cp:lastModifiedBy>
  <dcterms:modified xsi:type="dcterms:W3CDTF">2013-06-08T14:41:53Z</dcterms:modified>
  <cp:revision>3</cp:revision>
  <dc:subject/>
  <dc:title>Slide 1</dc:title>
</cp:coreProperties>
</file>