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621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44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901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77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621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901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77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44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99"/>
              </a:buClr>
              <a:buFont typeface="Web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35040" y="1752480"/>
            <a:ext cx="7458120" cy="2286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6880" y="6858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204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CS 501: Software Engineering</a:t>
            </a:r>
            <a:br>
              <a:rPr sz="3600"/>
            </a:b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Fall 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828800" y="3581280"/>
            <a:ext cx="5410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cture 2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Engineering as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745812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2K Valid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2133720"/>
            <a:ext cx="7543800" cy="43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quest from Library of Congress to confirm that our code is Y2K complia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code is f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.  but it depends on ... which depends on 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.  Our cod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quest from DARPA to confirm that our code is Y2K complia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's been validated by another part of the US gover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echnical Strateg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2286000"/>
            <a:ext cx="7543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ace noncompliant applications with compliant o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.g., new versions of packag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air noncompliant applications (e.g., in-hou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te noncompliant programs on an as-need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k the data exchange between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code inter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ew Bu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90720" y="2438280"/>
            <a:ext cx="75438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t's not broke don't fix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 billion lines of code checked (often automatic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 million new bugs introduced accident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? security holes, errors, etc. introduced accidentally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iber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s all the Money Going to Y2K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2209680"/>
            <a:ext cx="77724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2K as a great excuse to have the computing budget increa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grade the opera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ace the old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l something to your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boss will turn turn a request for Y2K fund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systems administrators will not install Y2K upgrad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fitee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76520" y="2666880"/>
            <a:ext cx="6172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 gold, wood stoves, bottled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2K specia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ndits, consultants, wri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gious cr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inal Thoughts on Y2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95280" y="2209680"/>
            <a:ext cx="746784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reate computer systems that are more complex than our understanding of th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over estimate our ability to valid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nder estimate our ability to adapt and resp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ftware engineering usually thinks of systems as independ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the long-term benefit of the Y2K problem be a greater understanding of how software systems interact with each other and with our social syste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Need for Software Enginee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33720" y="2286000"/>
            <a:ext cx="35812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 as a produ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 Awkward to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 Full of err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 No chance to try it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 No guarant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ot much of a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Engineeri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Engineeri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66680" y="2514600"/>
            <a:ext cx="7086600" cy="32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fession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 creating cost-effective solution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 to practical problem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 by applying scientific knowledg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 and established practice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 building thing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nd taking responsibility for them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rafts, Science, Enginee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60240" y="2697120"/>
            <a:ext cx="11430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66680" y="3276720"/>
            <a:ext cx="221004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3429000"/>
            <a:ext cx="3808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271680" y="2687760"/>
            <a:ext cx="221004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276720" y="382896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71680" y="4305240"/>
            <a:ext cx="229104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89640" y="339732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3657600"/>
            <a:ext cx="304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62320" y="2552760"/>
            <a:ext cx="60948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90720" y="3429000"/>
            <a:ext cx="4572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53080" y="3195720"/>
            <a:ext cx="2133720" cy="144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270400" y="2828880"/>
            <a:ext cx="228600" cy="7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70560" y="2560680"/>
            <a:ext cx="2209680" cy="831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253120" y="3846600"/>
            <a:ext cx="53316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67320" y="2484360"/>
            <a:ext cx="2438280" cy="3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91520" y="2438280"/>
            <a:ext cx="45720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97160" y="32464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78040" y="4389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30520" y="3780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87720" y="27129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27600" y="343836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632448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: Shaw and Gar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2819520"/>
            <a:ext cx="53352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minist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1447920" y="5257800"/>
            <a:ext cx="228600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45720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286000"/>
            <a:ext cx="670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2362320"/>
            <a:ext cx="762012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rly examination:  send email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semary@cs.cornell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rafts, Science, Enginee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0" y="2286000"/>
            <a:ext cx="9143640" cy="4266360"/>
            <a:chOff x="0" y="2286000"/>
            <a:chExt cx="9143640" cy="4266360"/>
          </a:xfrm>
        </p:grpSpPr>
        <p:sp>
          <p:nvSpPr>
            <p:cNvPr id="106" name=""/>
            <p:cNvSpPr/>
            <p:nvPr/>
          </p:nvSpPr>
          <p:spPr>
            <a:xfrm>
              <a:off x="100440" y="3554640"/>
              <a:ext cx="2922120" cy="17294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20520" y="3785040"/>
              <a:ext cx="503640" cy="92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16080" y="2663280"/>
              <a:ext cx="2922120" cy="17294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022560" y="4390560"/>
              <a:ext cx="2921760" cy="17294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16080" y="5053320"/>
              <a:ext cx="3029400" cy="149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949000" y="3737160"/>
              <a:ext cx="2921760" cy="17294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44680" y="4131000"/>
              <a:ext cx="403200" cy="46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003840" y="2459160"/>
              <a:ext cx="805680" cy="12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3785040"/>
              <a:ext cx="604440" cy="161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165000" y="3432240"/>
              <a:ext cx="2821320" cy="219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659200" y="2876760"/>
              <a:ext cx="302040" cy="112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23800" y="2471040"/>
              <a:ext cx="2921760" cy="12589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636160" y="4397400"/>
              <a:ext cx="704880" cy="126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919480" y="2355480"/>
              <a:ext cx="3224160" cy="47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463960" y="2286000"/>
              <a:ext cx="604440" cy="196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37120" y="3508920"/>
              <a:ext cx="251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du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040760" y="5238720"/>
              <a:ext cx="141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raf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358440" y="4316400"/>
              <a:ext cx="241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mmerci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962880" y="2701440"/>
              <a:ext cx="181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cie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312240" y="3912480"/>
              <a:ext cx="2518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fession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80880" y="632448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: Shaw and Gar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733920" y="182880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66"/>
                </a:solidFill>
                <a:latin typeface="Times New Roman"/>
              </a:rPr>
              <a:t>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66"/>
                </a:solidFill>
                <a:latin typeface="Times New Roman"/>
              </a:rPr>
              <a:t>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124080"/>
            <a:ext cx="5335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00800" y="28195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66"/>
                </a:solidFill>
                <a:latin typeface="Times New Roman"/>
              </a:rPr>
              <a:t>compiler co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24080" y="350532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66"/>
                </a:solidFill>
                <a:latin typeface="Times New Roman"/>
              </a:rPr>
              <a:t>software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66"/>
                </a:solidFill>
                <a:latin typeface="Times New Roman"/>
              </a:rPr>
              <a:t>method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ftware Engineering as Engineeri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47920" y="2666880"/>
            <a:ext cx="62481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craft -- part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bryonic scientific b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olving body of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flux for the apparatus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 (e.g., accredit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exas and the A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220968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3880" y="2362320"/>
            <a:ext cx="670572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process leads to good softw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imits of heroic eff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ize risk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ble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 v. time v.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mportance of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quirements, requirements, requirement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Y2K Problem: Saving Mem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666880"/>
            <a:ext cx="8305920" cy="19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1967 memory cost $1 per 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ir Force used single digit d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2-digit dates saved 1% of memory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vings over 20 years $16 to $24 million per giga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Y2K Problem: Saving Mem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2286000"/>
            <a:ext cx="8305560" cy="28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1980s, memory was much  cheaper, but 2-digit dates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re standard.  Why incur the cost of changing standard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70 The mortgage indust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90 The Social Security Indu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d towards 4-digit da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n January 1, 2000 2-digit dates stopped work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re's the Proble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2209680"/>
            <a:ext cx="7086600" cy="34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imple bu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s of the  form 19xx have been encoded 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imple fi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every occurrence of the 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y th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here's the proble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ind Every Occurrence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1981080"/>
            <a:ext cx="7619760" cy="45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computers do we u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bedded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al de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programs do they r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-house develop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ages and libr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mware, microcode, 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 wrote this progr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re is the source co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re's the Proble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362320"/>
            <a:ext cx="7620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rs fail everyday.  What's special about this bu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f they all fail at the same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f we lose telephone, electricity, radio, etc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ffic signals, elevator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greatest worry was uncertain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cial Conseque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2133720"/>
            <a:ext cx="73915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rry creates its own proble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-Mart forecast lower profits in Q1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islation to limit law su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portunities for computer fraud and sabo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ing part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rganizational Proced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2133720"/>
            <a:ext cx="723888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tr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do no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buy insu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reaucra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fill in forms that programs are compl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on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hire Y2K specia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it your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in-house computing 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2T18:43:44Z</dcterms:created>
  <dc:creator>payette</dc:creator>
  <dc:description/>
  <dc:language>en-US</dc:language>
  <cp:lastModifiedBy> </cp:lastModifiedBy>
  <cp:lastPrinted>1999-09-14T17:00:20Z</cp:lastPrinted>
  <dcterms:modified xsi:type="dcterms:W3CDTF">2000-11-30T17:54:36Z</dcterms:modified>
  <cp:revision>300</cp:revision>
  <dc:subject/>
  <dc:title>Digital Library Architecture- Key Principles </dc:title>
</cp:coreProperties>
</file>