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FE61-CBD1-4799-BA00-C42143E2C6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204E-867A-454F-936F-B529D82AB6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B65D-CC6B-4B3C-A5AA-F68009F860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4313-D70D-4451-ACD8-71D86DD77C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7C35-47F5-4A55-ADB7-673C733CF2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F6B2-738E-4DCD-B29A-D801CD179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DD1-8718-4CB3-87C8-118E2EF402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AFF-4118-41A7-A1C7-2ECC2CD15D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BC0F-7BFE-456A-9ADF-A0688F3816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00D-4448-4BD0-9554-323639CC13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79C-61C1-43B9-A6B9-5DF8DD80FC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6B3-84EA-4334-BBFA-D8488BADD3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D3A-152C-475F-86D0-19677F0333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2F75-8CCF-46C5-B944-6A063FD5E9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0ACB-2231-44F4-A22E-970BBC719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948A-FD5B-4670-9D93-7E04406F2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507A-0A96-4E60-9144-D950253BD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469B-D025-4867-B098-E87107371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B30E-6A6A-45EF-B96A-6324BF42C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7679-4FAB-436F-A7F7-98DC26BA2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827A-4CB1-423F-A780-EC493C6A5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C20D-2C6A-4CBD-B4A6-64AF7038A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8921-582B-4672-88F4-2D52BD991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989F-9347-43E5-A0C7-1AC5C4DC1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4044-0E72-45CA-BFEB-D60D13A58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2CCB-7B47-467E-96BF-417E219B6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AAC8319-C111-4A0E-9B70-B1E763C4A3D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4572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919EFF9-8FAF-4657-A75D-739714CDE76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267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imes New Roman"/>
              </a:rPr>
              <a:t>E-commerce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343400" y="4662360"/>
            <a:ext cx="34290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enneth C. Laud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arol Guercio Tra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308480" y="1995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usiness. technology. soci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336920" y="256392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ifth Ed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23" descr="C:\Documents and Settings\Carol\My Documents\E-commerceBooks\E-commerce4E\Covers\EC4e.JPG"/>
          <p:cNvPicPr/>
          <p:nvPr/>
        </p:nvPicPr>
        <p:blipFill>
          <a:blip r:embed="rId1"/>
          <a:stretch/>
        </p:blipFill>
        <p:spPr>
          <a:xfrm>
            <a:off x="228600" y="1495440"/>
            <a:ext cx="39625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EC-5 - Fig-5"/>
          <p:cNvPicPr/>
          <p:nvPr/>
        </p:nvPicPr>
        <p:blipFill>
          <a:blip r:embed="rId1"/>
          <a:stretch/>
        </p:blipFill>
        <p:spPr>
          <a:xfrm>
            <a:off x="3332160" y="838080"/>
            <a:ext cx="5583240" cy="5639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365760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A Typical 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-commerce Transac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6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5, Page 27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151F534-8D1C-48D7-9912-1D0BAE40B8A6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624852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oncella, 200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90439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Vulnerable Points in an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6761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6, Page 27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B1F42BE-4351-47C6-A6A2-9EF859755B04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EC-5 - Fig-5"/>
          <p:cNvPicPr/>
          <p:nvPr/>
        </p:nvPicPr>
        <p:blipFill>
          <a:blip r:embed="rId1"/>
          <a:stretch/>
        </p:blipFill>
        <p:spPr>
          <a:xfrm>
            <a:off x="1265400" y="2133720"/>
            <a:ext cx="6613200" cy="4038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5720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oncella, 200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10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Most Common Security Threats in the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licious code (viruses, worms, Trojan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wanted programs (spyware, browser parasit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hishing/identity the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cking and cybervandali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edit card fraud/the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oofing (pharming)/spam (junk) Web si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S and DDoS att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niff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ider att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orly designed server and client soft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4722136-D42D-40E3-A30E-9E52911624C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Unwanted Progra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alled without user’s informed cons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wser parasi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n monitor and change settings of a user’s brows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ls for unwanted pop-up ad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y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n be used to obtain information, such as a user’s keystrokes, e-mail, IMs, etc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CDAD7991-7B12-46E1-BBF5-8BA85737D8EF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hishing and Identity Thef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y deceptive, online attempt by a third party to obtain confidential information for financial gain, e.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ail scam letter – most popular phishing attac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oofing legitimate financial institution’s Web 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information to commit fraudulent acts (access checking accounts), steal ident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of fastest growing forms of e-commerce crim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71D8639-CDC8-4B45-95CC-E61E6DBB69D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Hacking and Cybervandalism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ker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ividual who intends to gain access to computer systems beyond normal expectations. For example  hacking into msconfig or registry file to improve computer performanc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ybervandalism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ntionally disrupting, defacing, destroying Web 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s of hack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te ha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ack hats/Cracker: Hacker with criminal i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ey ha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B6CE9AA-00EA-4E5C-833C-16F6D3D4152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Credit Card Fraud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ear of stolen credit card information deters online purch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kers target credit card files and other customer information files on merchant servers; use stolen data to establish credit under false ident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companies at higher risk than offl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development: New identity verification mechanis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E4F7D8C-2108-4C9E-9A35-E995A2BA1B9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poofing (Pharming) and Spam (Junk) Web Sit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oofing (Pharming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srepresenting oneself by using fake e-mail addresses or masquerading as someone el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reatens integrity of site; authentic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am (Junk) Web si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domain names similar to legitimate one, redirect traffic to spammer-redirection domai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788B2BA-F1B6-4878-BA45-96D7CF19C356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Other Security Threa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iffing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vesdropping program that monitors information traveling over a network; enables hackers to steal proprietary information from anywhere on a networ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ider job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gle largest financial thre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orly designed server and client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 in complexity of software programs has contributed to increase in vulnerabilities that hackers can explo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CCA2582-CA0E-4548-B3A1-C84F98412F4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echnology Solution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Internet communications (encryptio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ng channels of communication (SSL, S-HTTP, VPN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networks (firewall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ng servers and client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0D194EE-B32C-4A2B-B7CA-08C8E0FBB45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4572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77156B28-A58B-453D-B617-57F86257518B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98600"/>
            <a:ext cx="9144000" cy="6359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14400" y="2209680"/>
            <a:ext cx="77724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14400" y="3200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Security and Payment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3276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ools Available to Achieve Site Security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8191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9, Page 284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C0F7A149-07F1-4E35-8964-7B52D3D5313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5" descr="EC-5 - Fig-5"/>
          <p:cNvPicPr/>
          <p:nvPr/>
        </p:nvPicPr>
        <p:blipFill>
          <a:blip r:embed="rId1"/>
          <a:stretch/>
        </p:blipFill>
        <p:spPr>
          <a:xfrm>
            <a:off x="3657600" y="914400"/>
            <a:ext cx="493236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rotecting Internet Communications: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plain text, data into cipher text that can’t be read by anyone other than sender and receiv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es stored information and information transmis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ssage integr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repudi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ED648DC-8826-4125-870E-D072540B417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ymmetric Key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so known as secret key encry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sender and receiver use same digital key to encrypt and decrypt messa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quires different set of keys for each transa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vanced Encryption Standard (AE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st widely used symmetric key encryp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s 128-, 192-, and 256-bit encryption key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standards use keys with up to 2,048 bi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BC95B8E6-663F-4D0B-B619-E2C2D3068D0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ublic Key Encryp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s two mathematically related digital keys: Public key (widely disseminated)  and Private key (kept secret by owner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h keys used to encrypt and decrypt mess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ce key used to encrypt message, same key cannot be used to decrypt mess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er uses recipient’s public key to encrypt message; recipient uses his/her private key to decrypt 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advantag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8A98740-3C64-4602-A941-CF7BADDBB71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81532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ublic Key Cryptography – A Simple Case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219320"/>
            <a:ext cx="7443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0, Page 28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65F91D8B-D75F-4D46-8900-044E3F0E6BA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EC-5 - Fig-5"/>
          <p:cNvPicPr/>
          <p:nvPr/>
        </p:nvPicPr>
        <p:blipFill>
          <a:blip r:embed="rId1"/>
          <a:stretch/>
        </p:blipFill>
        <p:spPr>
          <a:xfrm>
            <a:off x="457200" y="1752480"/>
            <a:ext cx="8248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7152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ublic Key Encryption using Digital Signatures and Hash Diges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sh function: Mathematical algorithm that produces fixed-length number (128 bits) called message or hash digest. Apply hash function on the message to create a 128 bit hash resul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sh digest and message encrypted with recipient’s public ke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tire cipher text then encrypted with sender’s private key – creating digital signature – for authenticity, nonrepudiation  (only sender could create digital signature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eiver uses sender public key to open the message to authenticate i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eiver then uses his/her private key to open the cypher text. Then the message is verified using hash result 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aknesses: Four keys: public and private for sender and receiver. S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DD023B3-8D77-41C8-9053-BCB5153A7B4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5" descr="EC-5 - Fig-5"/>
          <p:cNvPicPr/>
          <p:nvPr/>
        </p:nvPicPr>
        <p:blipFill>
          <a:blip r:embed="rId1"/>
          <a:stretch/>
        </p:blipFill>
        <p:spPr>
          <a:xfrm>
            <a:off x="1100160" y="1523880"/>
            <a:ext cx="6943680" cy="4648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Public Key Cryptography with Digital Signatures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666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1, Page 288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1A2D6D92-3C2E-4C08-A7CE-E00D9A8FDAB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121932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kness: slow, solution: Digital Envel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Envelop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es weaknesses of public key encryption (computationally slow, decreases transmission speed, increases processing time) and symmetric key encryption (faster, but less secure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s symmetric key encryption to encrypt document but public key encryption (asymmetric) to encrypt and send symmetric ke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D9F762E-BE87-4216-B548-333AB7880831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Public Key Cryptography: Creating a Digital Envelope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2, Page 29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00CF121-7158-4BF6-A793-6DE445760F2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2486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90201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Certificates and Public Key Infrastructure (PKI)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gital certificate includ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me of subject/compan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’s public ke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ertificate serial numb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iration date, issuance d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signature of certification authority (trusted third party institution) that issues certific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identify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ublic Key Infrastructure (PKI): CAs and digital certificate procedures that are accepted by all pa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C12F3BD-0F69-4FF7-AC1A-2D65A099EF2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Categories of Internet Crime Complaints Reported to IC3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pic>
        <p:nvPicPr>
          <p:cNvPr id="104" name="Content Placeholder 6" descr="EC5E_Figure5-01.tif"/>
          <p:cNvPicPr/>
          <p:nvPr/>
        </p:nvPicPr>
        <p:blipFill>
          <a:blip r:embed="rId1"/>
          <a:stretch/>
        </p:blipFill>
        <p:spPr>
          <a:xfrm>
            <a:off x="685800" y="2286000"/>
            <a:ext cx="7543800" cy="390852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F3D70ED-DD49-416B-A32D-08A5B21816F3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, Page 26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Digital Certificates and Certification Authorities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0666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3, Page 29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D74B532-8A03-417B-87F4-C4B2E759BA9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Limits to Encryption Solution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KI applies mainly to protecting messages in transi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KI is not effective against insid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ection of private keys by individuals may be haphaz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guarantee that verifying computer of merchant is sec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 are unregulated, self-selecting organiz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1418626B-244A-4D3F-B4B6-682A5724463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6040" y="685800"/>
            <a:ext cx="879192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73"/>
                </a:solidFill>
                <a:latin typeface="Georgia"/>
              </a:rPr>
              <a:t>Insight on Society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In Pursuit of E-mail Privacy</a:t>
            </a:r>
            <a:br>
              <a:rPr sz="3200"/>
            </a:br>
            <a:r>
              <a:rPr b="1" lang="en-US" sz="2800" spc="-1" strike="noStrike">
                <a:solidFill>
                  <a:srgbClr val="262673"/>
                </a:solidFill>
                <a:latin typeface="Georgia"/>
              </a:rPr>
              <a:t>Class Discussion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at are some of the current risks and problems with using e-mail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at are some of the technology solutions that have been developed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re these solutions compatible with modern law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der the benefits of a thorough business record retention policy. Do you agree that these benefits are worth giving up some control of your e-mail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ECDDFB7-196C-4FB9-867F-82426BA01C7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7915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ing Channels of Communication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e Sockets Layer (SSL)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ablishes a secure, negotiated client-server session in which URL of requested document, along with contents, is encryp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T Protocol: Requires digital certific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-HTTP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es a secure message-oriented communications protocol designed for use in conjunction with HTT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irtual Private Network (VPN)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ows remote users to securely access internal network via the Internet, using Point-to-Point Tunneling Protocol (PPT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2148791-EC9E-4EB5-B790-2C7BC546955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e Negotiated Sessions Using SSL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2189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4, Page 295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FA3BFB7F-E442-4CC9-A16A-D5F7114699DE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5" descr="EC-5 - Fig-5"/>
          <p:cNvPicPr/>
          <p:nvPr/>
        </p:nvPicPr>
        <p:blipFill>
          <a:blip r:embed="rId1"/>
          <a:stretch/>
        </p:blipFill>
        <p:spPr>
          <a:xfrm>
            <a:off x="647640" y="167652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01064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rotecting Networks: Firewalls and </a:t>
            </a:r>
            <a:br>
              <a:rPr sz="2800"/>
            </a:b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Proxy Servers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A0EF9D43-02A4-4E06-951B-7617DB9F92E4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5" descr="EC-5 - Fig-5"/>
          <p:cNvPicPr/>
          <p:nvPr/>
        </p:nvPicPr>
        <p:blipFill>
          <a:blip r:embed="rId1"/>
          <a:stretch/>
        </p:blipFill>
        <p:spPr>
          <a:xfrm>
            <a:off x="647640" y="1709640"/>
            <a:ext cx="7848720" cy="4538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Protecting Servers and Clien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erating system control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9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 and access control mechanis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ti-virus software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siest and least expensive way to prevent threats to system integr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quires daily upd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3C90DEC-1B05-40CA-A048-D2CAD19525A3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A Security Plan: Management Polici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sk assess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lementation pl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ity organ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ss contr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ion: Multi-fa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orization poli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uthorization management system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audi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59FFC172-019A-4061-8B1A-AB0D6FC65B20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949"/>
                </a:solidFill>
                <a:latin typeface="Georgia"/>
              </a:rPr>
              <a:t>Developing an E-commerce Security Plan</a:t>
            </a:r>
            <a:endParaRPr b="1" lang="en-US" sz="28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21896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6, Page 30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88FD2B5-2933-46EB-A343-45A4CE06566F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5" descr="EC-5 - Fig-5"/>
          <p:cNvPicPr/>
          <p:nvPr/>
        </p:nvPicPr>
        <p:blipFill>
          <a:blip r:embed="rId1"/>
          <a:stretch/>
        </p:blipFill>
        <p:spPr>
          <a:xfrm>
            <a:off x="1562040" y="1600200"/>
            <a:ext cx="601992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Role of Laws and Public Policy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 laws have given authorities tools and mechanisms for identifying, tracing, prosecuting cybercrimi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tional Information Infrastructure Protection Act of 1996: crea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National Infrastructure Protection Cent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A Patriot A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land Security A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RT Coordination Center – private gro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vernment policies and controls on encryption softw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ECD guidelin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CDC66ACA-DE40-459A-B949-3DC6AEA8A1F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73000"/>
            <a:ext cx="2819520" cy="25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ypes of Attacks Against Computer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E311E86-75B7-432B-83B5-A97E918CD90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34290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3, Page 2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Content Placeholder 8" descr="EC5E_Figure5-03.tif"/>
          <p:cNvPicPr/>
          <p:nvPr/>
        </p:nvPicPr>
        <p:blipFill>
          <a:blip r:embed="rId1"/>
          <a:stretch/>
        </p:blipFill>
        <p:spPr>
          <a:xfrm>
            <a:off x="3276720" y="828720"/>
            <a:ext cx="48006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ypes of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ing Transf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dit C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ed Valu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cumulating Bal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B49896B-CF7E-4364-8739-A28CDB01C7CC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392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-commerce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edit cards are dominant form of online payment, accounting for around 60% of online payments in 2008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e-commerce payment syste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walle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ash. Deposit money or  credit card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stored value payment systems. PayPal, Smartcards (contact and contacless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accumulating balance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checking: PayByChec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DFABDBFA-76B0-42C6-8143-EE43908DA9F5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Wallet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ks to emulate the functionality of traditional wall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important function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henticate consumer through use of digital certificates or other encryption metho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ore and transfer val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e payment process from consumer to merch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ly efforts to popularize have fail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est effort: Google Checko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6B42BA3E-DC57-451E-BCBE-42C21212F22A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Online Stored Value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it consumers to make instant, online payments to merchants and other individu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ed on value stored in a consumer’s bank, checking, or credit card accou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yPal most successful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art c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act smart cards: Require physical read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dex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actless smart cards: Use RFI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ZPa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ctopu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19B2E6B8-7BD6-4CA5-88C6-0B116D9B55F7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Accumulating Balance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ows users to make micropayments and purchases on the Web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rs accumulate a debit balance for which they are billed at the end of the mon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ista’s PaymentsPlu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sha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C47349FE-64FA-4D8F-898F-0B96D51BC8F8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867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Digital Checking Payment System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tends functionality of existing checking accounts for use as online shopping payment to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 PayByCheck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0B47D741-3AAB-4D5B-852E-ABCD6C976304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Wireless Payment Systems</a:t>
            </a:r>
            <a:br>
              <a:rPr sz="3200"/>
            </a:b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of mobile handsets as payment devices well-established in Europe, Japan, South Kore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panese mobile payment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oney (stored valu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bile debit car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bile credit car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s well established yet in U.S, but with growth in Wi-Fi and 3G cellular phone systems, this is beginning to 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3839EAA-67BA-474C-82EB-BA32F9FB5524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Electronic Billing Presentment and Payment (EBPP)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payment systems for monthly bil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0% of households in 2008 used some EBPP; expected to grow to 75% by 201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competing EBPP business model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ller-direct: Dominant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or: Third party aggregates consumer’s bi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models are supported by EBPP infrastructure provid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2864A11E-85DD-4F6D-935F-07FC01F97D8B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What Is Good E-commerce Security?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achieve highest degree of secur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technolog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ganizational policies and procedu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ustry standards and government la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facto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 value of mone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t of security vs. potential lo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ity often breaks at weakest lin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8DD34BD6-BB8E-4F10-B29B-851916ED11AB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8153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E-commerce Security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2640"/>
            <a:ext cx="744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4, Page 267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BCE0B2D4-4A6F-42B8-B64B-5EB5F20A7F19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EC-5 - Fig-5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949"/>
                </a:solidFill>
                <a:latin typeface="Georgia"/>
              </a:rPr>
              <a:t>Customer and Merchant Perspectives on the Different Dimensions of E-commerce Security</a:t>
            </a:r>
            <a:endParaRPr b="1" lang="en-US" sz="24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3880"/>
            <a:ext cx="7443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5.2, Page 268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977D2F64-87C9-4943-BD47-7CC6302933D2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85880" y="1866960"/>
            <a:ext cx="57816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The Tension Between Security and Other Values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vs. ease of u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999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more security measures added, the more difficult a site is to use, and the slower it beco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vs. desire of individuals to act anonymous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of technology by criminals to plan crimes or threaten nation-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4EE2515B-9FF1-4370-98A6-84DF62B482D5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45720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Georgia"/>
              </a:rPr>
              <a:t>Copyright © 2009 Pearson Education, Inc.  Publishing as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Georgia"/>
              </a:rPr>
              <a:t>Security Threats in the E-commerce Environment</a:t>
            </a:r>
            <a:endParaRPr b="1" lang="en-US" sz="3200" spc="-1" strike="noStrike">
              <a:solidFill>
                <a:srgbClr val="aa1949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e key points of vulnerability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unications pipel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0102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Georgia"/>
              </a:rPr>
              <a:t>Slide 5-</a:t>
            </a:r>
            <a:fld id="{E9CBC9CE-8501-48A6-A766-2E25C8951A1D}" type="slidenum">
              <a:rPr b="1" lang="en-US" sz="1200" spc="-1" strike="noStrike">
                <a:solidFill>
                  <a:srgbClr val="33339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/>
  <dc:description/>
  <dc:language>en-US</dc:language>
  <cp:lastModifiedBy>Dien Phan</cp:lastModifiedBy>
  <cp:lastPrinted>2002-04-12T18:43:07Z</cp:lastPrinted>
  <dcterms:modified xsi:type="dcterms:W3CDTF">2009-02-06T17:37:10Z</dcterms:modified>
  <cp:revision>282</cp:revision>
  <dc:subject/>
  <dc:title> </dc:title>
</cp:coreProperties>
</file>