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a1949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052D-FA21-4FFE-BF69-CAE1382F9A0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0FCF-49F0-47E6-AD59-4041342143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2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D32B-3922-4CBB-A398-3DD64864EE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C3AD-4250-4E64-BF4B-2222D0258F8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BA0A-46D8-4DB0-A47C-F7B1EF52F3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4E3F-51F1-4E03-A7C7-D079C4D780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5329-3F66-4F13-ACC6-858366BD388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26E1-E5A7-4FD3-85BC-A501DB6F07E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7DDA-B07A-4DBC-AD31-022DE2673E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2A61-3B0F-4FBA-9A45-603FC4573E2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497B-0B6A-4017-AE66-50FD5D1862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DC0E-E7E9-4CB8-BD44-CED0BB2DC92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466B-4D08-44E9-8C6A-EEA9B43643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23AB-AE77-4D33-90C7-6C7571F2AC5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12FEB-CCFA-4182-AAC3-C7D4CF372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884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20130-B7CF-42EC-8B78-C6D289EC30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884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884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6F306-C4F6-4FB7-849A-8C2D83465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884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884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884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7C38E-A6CB-47AF-B601-7DFF012EC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884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008C9-9598-4BC1-AE0C-2A3A4BB4E0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884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884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884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884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884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884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884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884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DD496-D4FF-4664-A17E-FE26C321A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E8E9A-62BE-406F-8F8B-1C9B5DCE4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551F0-AD95-4C47-91A3-0C1BDDE01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F703D-36A5-4AD1-AE3D-7DAE3F0E6F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884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4B63A-9468-486F-92C4-DDB7DD094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884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D4276-AA3B-47C2-B093-DD17940BC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884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E02B9-29E8-45FB-9D1A-D51BB8452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a1949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0C1A3A8A-55E9-4F86-B797-5BED35A6AD1D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a1949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Footer Placeholder 3"/>
          <p:cNvSpPr/>
          <p:nvPr/>
        </p:nvSpPr>
        <p:spPr>
          <a:xfrm>
            <a:off x="45720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0DDE4CD8-E6F4-44E0-AC3E-745D5EE0EEB2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4267080" y="1219320"/>
            <a:ext cx="58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f01"/>
                </a:solidFill>
                <a:latin typeface="Times New Roman"/>
              </a:rPr>
              <a:t>E-commerce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4343400" y="4662360"/>
            <a:ext cx="342900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Arial"/>
              </a:rPr>
              <a:t>Kenneth C. Laud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Arial"/>
              </a:rPr>
              <a:t>Carol Guercio Tra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4308480" y="19954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business. technology. socie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4336920" y="2563920"/>
            <a:ext cx="157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Fifth Edi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23" descr="C:\Documents and Settings\Carol\My Documents\E-commerceBooks\E-commerce4E\Covers\EC4e.JPG"/>
          <p:cNvPicPr/>
          <p:nvPr/>
        </p:nvPicPr>
        <p:blipFill>
          <a:blip r:embed="rId1"/>
          <a:stretch/>
        </p:blipFill>
        <p:spPr>
          <a:xfrm>
            <a:off x="228600" y="1495440"/>
            <a:ext cx="396252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5" descr="EC-5 - Fig-5"/>
          <p:cNvPicPr/>
          <p:nvPr/>
        </p:nvPicPr>
        <p:blipFill>
          <a:blip r:embed="rId1"/>
          <a:stretch/>
        </p:blipFill>
        <p:spPr>
          <a:xfrm>
            <a:off x="3332160" y="838080"/>
            <a:ext cx="5583240" cy="56390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3657600" cy="156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A Typical </a:t>
            </a:r>
            <a:br>
              <a:rPr sz="3200"/>
            </a:b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E-commerce Transaction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228600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5, Page 270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14C38AEA-11F4-4FE2-91DE-67D4090A614A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" y="624852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 Boncella, 2000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904392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Vulnerable Points in an E-commerce Environment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676160"/>
            <a:ext cx="7443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6, Page 271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E2248B17-02C5-4F03-A43D-7C22F26314F2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5" descr="EC-5 - Fig-5"/>
          <p:cNvPicPr/>
          <p:nvPr/>
        </p:nvPicPr>
        <p:blipFill>
          <a:blip r:embed="rId1"/>
          <a:stretch/>
        </p:blipFill>
        <p:spPr>
          <a:xfrm>
            <a:off x="1265400" y="2133720"/>
            <a:ext cx="6613200" cy="40384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457200" y="632448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 Boncella, 2000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029440" cy="10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Most Common Security Threats in the E-commerce Environment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licious code (viruses, worms, Trojans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wanted programs (spyware, browser parasites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hishing/identity thef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acking and cybervandalism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redit card fraud/thef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oofing (pharming)/spam (junk) Web sit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oS and DDoS attack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niff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sider attack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orly designed server and client softwar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7CA3E6E3-C787-4534-8109-E6BB375DD683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Unwanted Program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3716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stalled without user’s informed consen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rowser parasit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an monitor and change settings of a user’s browser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dwar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alls for unwanted pop-up ads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ywar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an be used to obtain information, such as a user’s keystrokes, e-mail, IMs, etc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5AE0D0DA-AE8D-40EC-85BC-555E062C6120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Phishing and Identity Theft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y deceptive, online attempt by a third party to obtain confidential information for financial gain, e.g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-mail scam letter – most popular phishing attack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oofing legitimate financial institution’s Web si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information to commit fraudulent acts (access checking accounts), steal identi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e of fastest growing forms of e-commerce crim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D0537A7A-6082-4ED7-A679-FD22B52DABA3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Hacking and Cybervandalism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acker: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dividual who intends to gain access to computer systems beyond normal expectations. For example  hacking into msconfig or registry file to improve computer performance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ybervandalism: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ntionally disrupting, defacing, destroying Web si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pes of hacke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ite ha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lack hats/Cracker: Hacker with criminal int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rey ha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A8F7EEA3-9632-4A88-BF49-1C1511A5BA3E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Credit Card Fraud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ear of stolen credit card information deters online purchas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ackers target credit card files and other customer information files on merchant servers; use stolen data to establish credit under false identi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line companies at higher risk than offlin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 development: New identity verification mechanism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3CE25308-7C35-484E-A56E-B56F2FBB186B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Spoofing (Pharming) and Spam (Junk) Web Site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9810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oofing (Pharming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isrepresenting oneself by using fake e-mail addresses or masquerading as someone el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24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reatens integrity of site; authenticit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am (Junk) Web sit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se domain names similar to legitimate one, redirect traffic to spammer-redirection domai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D354DAFF-9E79-4760-802D-41EA863C101C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Other Security Threat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niffing: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vesdropping program that monitors information traveling over a network; enables hackers to steal proprietary information from anywhere on a network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sider job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ingle largest financial threa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oorly designed server and client softwar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crease in complexity of software programs has contributed to increase in vulnerabilities that hackers can exploi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9E37BC66-05F9-4317-957D-BB57C8C0CA47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Technology Solution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tecting Internet communications (encryption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uring channels of communication (SSL, S-HTTP, VPNs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tecting networks (firewalls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tecting servers and clients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E6591E1C-53BB-4403-A69C-EDE9ADC56641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45720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93AF2CAB-28CA-4BD1-86B6-3786A4EDB4CD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498600"/>
            <a:ext cx="9144000" cy="6359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914400" y="2209680"/>
            <a:ext cx="77724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d050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914400" y="3200400"/>
            <a:ext cx="7848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nline Security and Payment Syste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32767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Tools Available to Achieve Site Security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28191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9, Page 284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DD0B1B9A-D3CF-4F43-97EA-A9018164AB20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5" descr="EC-5 - Fig-5"/>
          <p:cNvPicPr/>
          <p:nvPr/>
        </p:nvPicPr>
        <p:blipFill>
          <a:blip r:embed="rId1"/>
          <a:stretch/>
        </p:blipFill>
        <p:spPr>
          <a:xfrm>
            <a:off x="3657600" y="914400"/>
            <a:ext cx="4932360" cy="51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305920" cy="10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Protecting Internet Communications: Encryption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ncryp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forming plain text, data into cipher text that can’t be read by anyone other than sender and receiv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cures stored information and information transmiss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vides: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essage integrit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repudi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uthentic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fidentialit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84D18369-EA4C-4878-8777-2FBBBD6785A9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Symmetric Key Encryption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so known as secret key encryp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sender and receiver use same digital key to encrypt and decrypt messag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quires different set of keys for each transac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dvanced Encryption Standard (AES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st widely used symmetric key encryp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ses 128-, 192-, and 256-bit encryption key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ther standards use keys with up to 2,048 bi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351758ED-8CDD-46B0-BFF9-2181CBA7565B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Public Key Encryption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ses two mathematically related digital keys: Public key (widely disseminated)  and Private key (kept secret by owner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oth keys used to encrypt and decrypt messag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nce key used to encrypt message, same key cannot be used to decrypt messag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nder uses recipient’s public key to encrypt message; recipient uses his/her private key to decrypt i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sadvantages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083EDB0F-A89C-4D57-BAAA-FE990F5695DE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815320" cy="5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a1949"/>
                </a:solidFill>
                <a:latin typeface="Georgia"/>
              </a:rPr>
              <a:t>Public Key Cryptography – A Simple Case</a:t>
            </a:r>
            <a:endParaRPr b="1" lang="en-US" sz="28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6840" y="1219320"/>
            <a:ext cx="74437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10, Page 283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0665B0BA-01C1-4473-90A6-D621F651798A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5" descr="EC-5 - Fig-5"/>
          <p:cNvPicPr/>
          <p:nvPr/>
        </p:nvPicPr>
        <p:blipFill>
          <a:blip r:embed="rId1"/>
          <a:stretch/>
        </p:blipFill>
        <p:spPr>
          <a:xfrm>
            <a:off x="457200" y="1752480"/>
            <a:ext cx="82486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71524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Public Key Encryption using Digital Signatures and Hash Digest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ash function: Mathematical algorithm that produces fixed-length number (128 bits) called message or hash digest. Apply hash function on the message to create a 128 bit hash result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ash digest and message encrypted with recipient’s public key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tire cipher text then encrypted with sender’s private key – creating digital signature – for authenticity, nonrepudiation  (only sender could create digital signature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ceiver uses sender public key to open the message to authenticate it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ceiver then uses his/her private key to open the cypher text. Then the message is verified using hash result 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eaknesses: Four keys: public and private for sender and receiver. Slow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21036E2F-9338-40C4-8FFE-5D442846883C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5" name="Picture 5" descr="EC-5 - Fig-5"/>
          <p:cNvPicPr/>
          <p:nvPr/>
        </p:nvPicPr>
        <p:blipFill>
          <a:blip r:embed="rId1"/>
          <a:stretch/>
        </p:blipFill>
        <p:spPr>
          <a:xfrm>
            <a:off x="1100160" y="1523880"/>
            <a:ext cx="6943680" cy="46483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02944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949"/>
                </a:solidFill>
                <a:latin typeface="Georgia"/>
              </a:rPr>
              <a:t>Public Key Cryptography with Digital Signatures</a:t>
            </a:r>
            <a:endParaRPr b="1" lang="en-US" sz="24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1066680"/>
            <a:ext cx="7443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11, Page 288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F68EA009-6E0A-4551-8427-A546ACA4A748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1219320" y="6172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akness: slow, solution: Digital Envel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Digital Envelope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ddresses weaknesses of public key encryption (computationally slow, decreases transmission speed, increases processing time) and symmetric key encryption (faster, but less secure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s symmetric key encryption to encrypt document but public key encryption (asymmetric) to encrypt and send symmetric ke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A57DAF35-1053-42A1-81AC-45FC43260265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949"/>
                </a:solidFill>
                <a:latin typeface="Georgia"/>
              </a:rPr>
              <a:t>Public Key Cryptography: Creating a Digital Envelope</a:t>
            </a:r>
            <a:endParaRPr b="1" lang="en-US" sz="24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23880"/>
            <a:ext cx="7443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12, Page 290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6ADB0D6F-26AF-49E1-96EB-DAB0698A2965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Picture 1024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248680" cy="40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902016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Digital Certificates and Public Key Infrastructure (PKI)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gital certificate includes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ame of subject/compan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bject’s public ke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gital certificate serial numb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piration date, issuance d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gital signature of certification authority (trusted third party institution) that issues certific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ther identifying inform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ublic Key Infrastructure (PKI): CAs and digital certificate procedures that are accepted by all part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6AA72460-DA4D-4303-9A39-AEF738578E70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a1949"/>
                </a:solidFill>
                <a:latin typeface="Georgia"/>
              </a:rPr>
              <a:t>Categories of Internet Crime Complaints Reported to IC3</a:t>
            </a:r>
            <a:endParaRPr b="1" lang="en-US" sz="2800" spc="-1" strike="noStrike">
              <a:solidFill>
                <a:srgbClr val="aa1949"/>
              </a:solidFill>
              <a:latin typeface="Georgia"/>
            </a:endParaRPr>
          </a:p>
        </p:txBody>
      </p:sp>
      <p:pic>
        <p:nvPicPr>
          <p:cNvPr id="104" name="Content Placeholder 6" descr="EC5E_Figure5-01.tif"/>
          <p:cNvPicPr/>
          <p:nvPr/>
        </p:nvPicPr>
        <p:blipFill>
          <a:blip r:embed="rId1"/>
          <a:stretch/>
        </p:blipFill>
        <p:spPr>
          <a:xfrm>
            <a:off x="685800" y="2286000"/>
            <a:ext cx="7543800" cy="390852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2FC2F69B-982F-4940-AE02-02BC3C24CD7C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57200" y="1523880"/>
            <a:ext cx="7443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1, Page 26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02944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949"/>
                </a:solidFill>
                <a:latin typeface="Georgia"/>
              </a:rPr>
              <a:t>Digital Certificates and Certification Authorities</a:t>
            </a:r>
            <a:endParaRPr b="1" lang="en-US" sz="24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6840" y="1066680"/>
            <a:ext cx="7443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13, Page 291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D5628D4E-64FE-4EA4-8825-C431C4F614E7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Picture 6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553440" cy="496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Limits to Encryption Solution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KI applies mainly to protecting messages in transi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KI is not effective against inside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tection of private keys by individuals may be haphazar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 guarantee that verifying computer of merchant is secur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s are unregulated, self-selecting organizati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EBE6B894-D1F7-47D2-80C7-652E94162186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6040" y="685800"/>
            <a:ext cx="879192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73"/>
                </a:solidFill>
                <a:latin typeface="Georgia"/>
              </a:rPr>
              <a:t>Insight on Society</a:t>
            </a:r>
            <a:br>
              <a:rPr sz="3200"/>
            </a:b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In Pursuit of E-mail Privacy</a:t>
            </a:r>
            <a:br>
              <a:rPr sz="3200"/>
            </a:br>
            <a:r>
              <a:rPr b="1" lang="en-US" sz="2800" spc="-1" strike="noStrike">
                <a:solidFill>
                  <a:srgbClr val="262673"/>
                </a:solidFill>
                <a:latin typeface="Georgia"/>
              </a:rPr>
              <a:t>Class Discussion</a:t>
            </a:r>
            <a:endParaRPr b="1" lang="en-US" sz="28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09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What are some of the current risks and problems with using e-mail?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What are some of the technology solutions that have been developed?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re these solutions compatible with modern law?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Consider the benefits of a thorough business record retention policy. Do you agree that these benefits are worth giving up some control of your e-mail?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88128BB9-9205-48DA-A5B7-8D4276B32039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7915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Securing Channels of Communication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ure Sockets Layer (SSL):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stablishes a secure, negotiated client-server session in which URL of requested document, along with contents, is encrypte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T Protocol: Requires digital certific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-HTTP: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vides a secure message-oriented communications protocol designed for use in conjunction with HTTP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irtual Private Network (VPN):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lows remote users to securely access internal network via the Internet, using Point-to-Point Tunneling Protocol (PPT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97C1D3F4-9258-444D-A2FF-35BA560C5959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305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Secure Negotiated Sessions Using SSL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1218960"/>
            <a:ext cx="7443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14, Page 295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F445D4B7-CE89-4C99-97A9-72C819CACD2A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4" name="Picture 5" descr="EC-5 - Fig-5"/>
          <p:cNvPicPr/>
          <p:nvPr/>
        </p:nvPicPr>
        <p:blipFill>
          <a:blip r:embed="rId1"/>
          <a:stretch/>
        </p:blipFill>
        <p:spPr>
          <a:xfrm>
            <a:off x="647640" y="1676520"/>
            <a:ext cx="7848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7010640" cy="95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a1949"/>
                </a:solidFill>
                <a:latin typeface="Georgia"/>
              </a:rPr>
              <a:t>Protecting Networks: Firewalls and </a:t>
            </a:r>
            <a:br>
              <a:rPr sz="2800"/>
            </a:br>
            <a:r>
              <a:rPr b="1" lang="en-US" sz="2800" spc="-1" strike="noStrike">
                <a:solidFill>
                  <a:srgbClr val="aa1949"/>
                </a:solidFill>
                <a:latin typeface="Georgia"/>
              </a:rPr>
              <a:t>Proxy Servers</a:t>
            </a:r>
            <a:endParaRPr b="1" lang="en-US" sz="28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7792661C-D09E-4EB4-99D6-1DEC5B3C6729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8" name="Picture 5" descr="EC-5 - Fig-5"/>
          <p:cNvPicPr/>
          <p:nvPr/>
        </p:nvPicPr>
        <p:blipFill>
          <a:blip r:embed="rId1"/>
          <a:stretch/>
        </p:blipFill>
        <p:spPr>
          <a:xfrm>
            <a:off x="647640" y="1709640"/>
            <a:ext cx="7848720" cy="45388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Protecting Servers and Client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perating system controls: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29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uthentication and access control mechanism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ti-virus software: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siest and least expensive way to prevent threats to system integrit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quires daily updat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11FA2056-03A4-4F1A-A3EC-14E07175CAE1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A Security Plan: Management Policie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isk assessmen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urity polic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mplementation pla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curity organiz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ess contro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uthentication: Multi-fac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uthorization polic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Authorization management systems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urity audi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0F87ACC3-FDBE-4144-BDA5-A8FADBB3FCF7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029440" cy="5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a1949"/>
                </a:solidFill>
                <a:latin typeface="Georgia"/>
              </a:rPr>
              <a:t>Developing an E-commerce Security Plan</a:t>
            </a:r>
            <a:endParaRPr b="1" lang="en-US" sz="28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218960"/>
            <a:ext cx="7443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16, Page 300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FFDC3612-2C45-4E3C-9B6C-3B6B87A7FE87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Picture 5" descr="EC-5 - Fig-5"/>
          <p:cNvPicPr/>
          <p:nvPr/>
        </p:nvPicPr>
        <p:blipFill>
          <a:blip r:embed="rId1"/>
          <a:stretch/>
        </p:blipFill>
        <p:spPr>
          <a:xfrm>
            <a:off x="1562040" y="1600200"/>
            <a:ext cx="6019920" cy="482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The Role of Laws and Public Policy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w laws have given authorities tools and mechanisms for identifying, tracing, prosecuting cybercrimina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ational Information Infrastructure Protection Act of 1996: created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National Infrastructure Protection Center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SA Patriot Ac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meland Security Ac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ERT Coordination Center – private group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overnment policies and controls on encryption softwar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ECD guidelin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56EA2668-803C-4FC9-8A0B-5E67F85A5A8D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873000"/>
            <a:ext cx="2819520" cy="25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Types of Attacks Against Computer System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29594ED1-72E8-4B3C-9D01-8C6DC1CF3EC6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57200" y="3429000"/>
            <a:ext cx="2438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3, Page 26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Content Placeholder 8" descr="EC5E_Figure5-03.tif"/>
          <p:cNvPicPr/>
          <p:nvPr/>
        </p:nvPicPr>
        <p:blipFill>
          <a:blip r:embed="rId1"/>
          <a:stretch/>
        </p:blipFill>
        <p:spPr>
          <a:xfrm>
            <a:off x="3276720" y="828720"/>
            <a:ext cx="480060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Types of Payment System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24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sh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ecking Transfe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redit Car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ored Valu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ccumulating Balanc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DA989EDD-A109-4940-A8EA-29052065455F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63928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E-commerce Payment System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redit cards are dominant form of online payment, accounting for around 60% of online payments in 2008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5880" indent="-3358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ther e-commerce payment syste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gital walle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gital cash. Deposit money or  credit card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nline stored value payment systems. PayPal, Smartcards (contact and contacless)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gital accumulating balance system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gital checking: PayByCheck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8905D0F7-3021-4EDD-925C-0F6C7D38AD96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Digital Wallet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eks to emulate the functionality of traditional walle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st important functions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uthenticate consumer through use of digital certificates or other encryption method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ore and transfer valu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cure payment process from consumer to mercha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arly efforts to popularize have faile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west effort: Google Checkou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B16F22EB-3EE9-476A-A5B9-846C932A8401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Online Stored Value System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ermit consumers to make instant, online payments to merchants and other individua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ased on value stored in a consumer’s bank, checking, or credit card accoun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yPal most successful system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mart card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tact smart cards: Require physical read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ndex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tactless smart cards: Use RFI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ZPas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ctopus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78B4638E-A1B6-4D39-81CC-CD0901BE19CA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02944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Digital Accumulating Balance Payment System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lows users to make micropayments and purchases on the Web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rs accumulate a debit balance for which they are billed at the end of the month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alista’s PaymentsPlu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shar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DF004495-46F3-48D0-A797-5FC12A6B14CE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86788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Digital Checking Payment System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tends functionality of existing checking accounts for use as online shopping payment too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ample: PayByCheck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4F0594F1-FCB2-44AD-AF3A-1D0EE9ADA8DE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02944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Wireless Payment Systems</a:t>
            </a:r>
            <a:br>
              <a:rPr sz="3200"/>
            </a:b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of mobile handsets as payment devices well-established in Europe, Japan, South Korea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Japanese mobile payment system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-money (stored value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bile debit card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bile credit card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 as well established yet in U.S, but with growth in Wi-Fi and 3G cellular phone systems, this is beginning to chang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B9960D8F-7CB5-4E86-8105-4A0E7A807A09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02944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Electronic Billing Presentment and Payment (EBPP)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8288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line payment systems for monthly bil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0% of households in 2008 used some EBPP; expected to grow to 75% by 2012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wo competing EBPP business models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iller-direct: Dominant mod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olidator: Third party aggregates consumer’s bil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models are supported by EBPP infrastructure provide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63D10684-374C-45DC-BF74-EE6A8E9BA672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What Is Good E-commerce Security?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o achieve highest degree of securi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w technolog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rganizational policies and procedur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dustry standards and government law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ther facto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ime value of mone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st of security vs. potential los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curity often breaks at weakest link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0FD46394-DF7E-49D4-A250-A17704ACBFCD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8153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The E-commerce Security Environment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142640"/>
            <a:ext cx="7443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4, Page 267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05AE1289-45AA-47E9-B041-FC51D144C8DA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EC-5 - Fig-5"/>
          <p:cNvPicPr/>
          <p:nvPr/>
        </p:nvPicPr>
        <p:blipFill>
          <a:blip r:embed="rId1"/>
          <a:stretch/>
        </p:blipFill>
        <p:spPr>
          <a:xfrm>
            <a:off x="1028880" y="1828800"/>
            <a:ext cx="7086600" cy="42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949"/>
                </a:solidFill>
                <a:latin typeface="Georgia"/>
              </a:rPr>
              <a:t>Customer and Merchant Perspectives on the Different Dimensions of E-commerce Security</a:t>
            </a:r>
            <a:endParaRPr b="1" lang="en-US" sz="24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523880"/>
            <a:ext cx="7443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 5.2, Page 268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5ADE8D0D-3A09-498B-B684-97F330FDF849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1685880" y="1866960"/>
            <a:ext cx="5781600" cy="46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02944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The Tension Between Security and Other Value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urity vs. ease of use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29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more security measures added, the more difficult a site is to use, and the slower it becom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urity vs. desire of individuals to act anonymousl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se of technology by criminals to plan crimes or threaten nation-st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585B5425-CC13-4EAA-8B01-B838F035BF84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91540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Security Threats in the E-commerce Environment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24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ree key points of vulnerability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24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24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24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munications pipelin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B6B785D3-4F12-4B70-81A1-EE4982FF2A11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4:57:27Z</dcterms:created>
  <dc:creator/>
  <dc:description/>
  <dc:language>en-US</dc:language>
  <cp:lastModifiedBy>Dien Phan</cp:lastModifiedBy>
  <cp:lastPrinted>2002-04-12T18:43:07Z</cp:lastPrinted>
  <dcterms:modified xsi:type="dcterms:W3CDTF">2009-02-06T17:37:10Z</dcterms:modified>
  <cp:revision>282</cp:revision>
  <dc:subject/>
  <dc:title> </dc:title>
</cp:coreProperties>
</file>