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2EC-0C89-4B5F-8D36-3B0FADE4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D52-B668-47E4-8663-10F0A0E4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F65-C85A-4585-B62B-3934FDB3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73A-AFAA-4394-83A2-9BB1B2CC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FD61-75B2-4692-8641-8CB790E2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A680-2DEB-44C9-A4BD-1406BDA8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BC03-41DE-46DB-9239-C8DB4E97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D520-10B1-445A-B7CE-D67358D1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0C01-CF3C-455C-98E7-2EF86A10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8995-17C8-416E-8B91-3C75C051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D6E3-23D7-44DE-AB0B-76D24C20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F13-B96F-41D7-8B9C-4697933B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8F29-5522-4153-A62B-4FC7FD43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0A19-BFF0-4532-8E54-A0A7535B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6C40-617A-483B-B90E-E939151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5408-CC60-489C-AECB-9AD476F7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E929-567F-413C-85EA-C9776EA1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94E-6206-4E40-A293-D3FE393A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D83-38EE-41FB-816A-DC0374E4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A4B-9F6E-4E35-8DA4-44FD340D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B00-E895-4D25-A074-7E46577B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759-3071-4CD4-A46C-8CF1D309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F31-6C30-4CE1-ACC9-583CF7C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3A0-DDC6-48AE-BFC7-A724CA3F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1485-09AE-409F-90B8-34F74DB33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E84A-EEDF-4373-886A-74EF922F5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Overview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 the TCP/IP protocol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ing and troubleshooting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ing, configuring, and troubleshooting NW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ing and configuring network binding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8C6-2DAC-4D69-8B6D-C158467214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44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utomatic Private IP Addressing Process for Clients with a Valid Lease at Boot Time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client tries to renew its lease with the DHCP ser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the DHCP server is not available, the client pings the default gate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the default gateway replies, the client continues to use the l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default gateway does not reply, the client uses Automatic Private IP Addressin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5E9-7239-43A6-9CCF-A394CEA855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Specifying an Alternate TCP/IP Configur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a DHCP server is not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You can use an alternate TCP/IP configuration when a computer is used on more than one network and one of the networks does not have a DHCP server and does not use Automatic Private IP Addr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you want to disable gateway Automatic Private IP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utomatic Private IP Addressing is enabled by defa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first TCP/IP configuration fails, Microsoft Windows XP Professional uses the second TCP/IP configuration instead of using Automatic Private IP Addres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91D-9684-4412-A2D1-54866FDC8D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f04al12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96080" cy="4376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CP/IP Tool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86C-6256-4C06-8476-A0B2E81CF3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esting a TCP/IP Configur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f04al12" descr=""/>
          <p:cNvPicPr/>
          <p:nvPr/>
        </p:nvPicPr>
        <p:blipFill>
          <a:blip r:embed="rId1"/>
          <a:stretch/>
        </p:blipFill>
        <p:spPr>
          <a:xfrm>
            <a:off x="1219320" y="1860480"/>
            <a:ext cx="662940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DEC-B4C0-4316-A230-14028B725B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troduc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s the common name for NWLink IPX/SPX/NetBIOS Compatible Transport protocol (NWLin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 Microsoft’s 32-bit implementation of Novell NetWare’s Internetwork Packet Exchange/Sequenced Packet Exchange (IPX/SPX) protoc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8B1-12E4-4181-82F4-CD6C5BB14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ing NWLink Featur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orts communication with NetWa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orts sockets and NetBIOS over IP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ives NetWare clients access to applications that run on Microsoft Windows 2000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s File and Print Services for NetWare (FPNW) to be installed to give NetWare clients access to file and print resources on Windows 2000 serv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FA2-B6B9-4A85-85A4-26321F13BF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stall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F04al15" descr=""/>
          <p:cNvPicPr/>
          <p:nvPr/>
        </p:nvPicPr>
        <p:blipFill>
          <a:blip r:embed="rId1"/>
          <a:stretch/>
        </p:blipFill>
        <p:spPr>
          <a:xfrm>
            <a:off x="1371600" y="1835280"/>
            <a:ext cx="6324480" cy="47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B7E-7CB5-461A-8B46-259B5B4446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onfigur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F04al16" descr=""/>
          <p:cNvPicPr/>
          <p:nvPr/>
        </p:nvPicPr>
        <p:blipFill>
          <a:blip r:embed="rId1"/>
          <a:stretch/>
        </p:blipFill>
        <p:spPr>
          <a:xfrm>
            <a:off x="2835360" y="1905120"/>
            <a:ext cx="3663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420-A959-4702-8E07-C99346325B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roubleshooting NetWare Connectivity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pxroute confi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pxroute rip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Network Moni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oubleshooting common NWLink configur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NWLink and Client Services for NetWare are inst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Client Services for NetWare is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the Frame Type is set to AutoDetect on the cli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the Installed Network Number and Frame Type on the client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22E-E5B8-44CE-A3E4-9494635EA8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troduction to Network Binding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f04al18" descr=""/>
          <p:cNvPicPr/>
          <p:nvPr/>
        </p:nvPicPr>
        <p:blipFill>
          <a:blip r:embed="rId1"/>
          <a:stretch/>
        </p:blipFill>
        <p:spPr>
          <a:xfrm>
            <a:off x="1219320" y="1868400"/>
            <a:ext cx="6629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E63-AADB-404B-823B-009489708B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Advantages of Using TCP/IP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routable networking system supported by most opera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technology for connecting dissimila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robust, scalable, cross-platform client/server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of accessing Internet resour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BF4-F946-4889-B37B-61FA537AF0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onfiguring Network Binding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f04al19" descr=""/>
          <p:cNvPicPr/>
          <p:nvPr/>
        </p:nvPicPr>
        <p:blipFill>
          <a:blip r:embed="rId1"/>
          <a:stretch/>
        </p:blipFill>
        <p:spPr>
          <a:xfrm>
            <a:off x="2387520" y="1828800"/>
            <a:ext cx="4251240" cy="47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068-A8FA-42A2-91BC-F383D22833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Summary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Microsoft’s implementation of TCP/IP provides a robust, scalable, cross-platform client/server framework that is supported by most large network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TCP/IP suite of protocols maps to a four-layer conceptual model: network interface, Internet, transport, and application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four Internet layer protocols—IP, ARP, ICMP, and IGMP—encapsulate packets into Internet datagrams and run all the necessary routing algorithm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two transport layer protocols—TCP and UDP—provide communication sessions between host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CP/IP provides the Winsock and NetBT interfaces for network applications to use the services of the TCP/IP protocol stack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Each TCP/IP host has a logical IP address that identifies a computer’s location on the network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206-7356-42FE-B656-B5BC75C299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Summary (Cont.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icrosoft’s implementation of TCP/IP enables a TCP/IP hos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Use a static IP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btain an IP address automatically from a DHCP ser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Use Automatic Private IP Addr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NWLink provides NetWare clients with access to applications designed for Windows 2000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 allow a client running Windows XP Professional to access a NetWare server, you must install NWLink and Client Services for NetWare on the cl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nding allows all bound components to share the services they provid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38B-21D8-43F7-8C5C-0A0CD2A413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TCP/IP Suite of Protocols Maps to a Four-Layer Conceptual Mode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f04al02" descr=""/>
          <p:cNvPicPr/>
          <p:nvPr/>
        </p:nvPicPr>
        <p:blipFill>
          <a:blip r:embed="rId1"/>
          <a:stretch/>
        </p:blipFill>
        <p:spPr>
          <a:xfrm>
            <a:off x="380880" y="2552760"/>
            <a:ext cx="845820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568-A643-4322-93E2-E1A39B3424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ing IP Address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dentifies each Transmission Control Protocol/Internet Protocol (TCP/IP)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nsists of a network ID and a host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s of a logical 32-bit number (four 8-bit octet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8B2-D114-47A3-B081-645CEA241B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Addresses Supported by Microsof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A addresses: 1.0.0.0 through 126.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26 networks and 16,777,214 hosts p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B addresses: 128.0.0.0 through 191.255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6,384 networks and 65,534 hosts p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C addresses: 192.0.0.0 through 223.255.255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,097,152 networks and 254 hosts per net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5B2-6CF8-4459-8774-ED9B88C553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sing a Static IP Addres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F04al05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183200" cy="47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DEE-36DE-4908-BC55-C7A66A5E50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btaining an IP Address Automaticall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f04al06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3116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4F4-A4BD-4262-A575-F5E5B8AD31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sing Automatic Private IP Address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utomatically configures Internet Protocol (IP)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out using static IP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out installing the Dynamic Host Configuration Protocol (DHCP)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ovides the ability to create a functioning single-subnet network by de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es not require a default gate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35B-FB21-43D2-A920-6B569F1D3A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utomatic Private IP Addressing Proces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f04al08" descr=""/>
          <p:cNvPicPr/>
          <p:nvPr/>
        </p:nvPicPr>
        <p:blipFill>
          <a:blip r:embed="rId1"/>
          <a:stretch/>
        </p:blipFill>
        <p:spPr>
          <a:xfrm>
            <a:off x="2894040" y="1841400"/>
            <a:ext cx="388764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E43-4299-4052-A189-D895B474FA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