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5BDC-3F8A-41C7-951F-C17BD3A41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4409-7049-4FB4-B571-E470E422A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6901-310E-470D-AB3C-0B0BE58DE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3294-A21F-4709-8173-E3D655E7F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52B49-DD5C-44D3-B5FE-DAD06042F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2192F-17B2-4937-9AF5-E99048EC9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F3492-D363-4C5F-905C-ADA953AE4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174FC-37CA-4C96-93D3-B799C3F55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EF757-9440-449C-95C3-55D639B73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EEA43-31A7-43AC-9205-1E60258F6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AC2A8-FA01-426A-B8FC-86689513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7FEC-D370-442B-B0E6-10D2B7F6E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AC93D-8015-4FA7-94B0-CD82916E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95EBD-C77E-4872-B875-1645010E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EF12A-F6D1-4D54-8387-4AC94D18A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861C0-2A1E-438F-95AD-E20BCCC09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C78D6-F828-4C56-960C-182A7F358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9B47-47E3-4DC3-9E5D-DF5E1C4F8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FDFC-21B9-4965-BEF6-552540A91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A495-CC8A-43EE-ACDD-02CF5E7B6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04DC-36B3-45EE-92D2-BE947A05E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77E2-5D84-4330-81F0-A53CC187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C3D5-E408-4A7D-B708-7F8363C4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BF82-D638-468E-ACCA-61720F0F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37A08-51BB-49B9-846F-AA6412E4378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04C24-215B-4B4A-B747-ACDB93C89E9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Chapter Overview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ing the TCP/IP protocol su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ing and troubleshooting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ing, configuring, and troubleshooting NW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derstanding and configuring network binding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F206-9BFC-4CF6-BCE7-52F6931E255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744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The Automatic Private IP Addressing Process for Clients with a Valid Lease at Boot Time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The client tries to renew its lease with the DHCP serv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If the DHCP server is not available, the client pings the default gatewa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f the default gateway replies, the client continues to use the leas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the default gateway does not reply, the client uses Automatic Private IP Addressing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8E2F-9844-43DF-A247-5AC91315A74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Specifying an Alternate TCP/IP Configuration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1979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f a DHCP server is not fou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You can use an alternate TCP/IP configuration when a computer is used on more than one network and one of the networks does not have a DHCP server and does not use Automatic Private IP Addr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f you want to disable gateway Automatic Private IP Addr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Automatic Private IP Addressing is enabled by defaul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If the first TCP/IP configuration fails, Microsoft Windows XP Professional uses the second TCP/IP configuration instead of using Automatic Private IP Address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6BB0-7727-4B3A-B683-699C7D75A91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f04al12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7696080" cy="43765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TCP/IP Tools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B764-3A50-45E6-AAC8-E36C52B57B1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Testing a TCP/IP Configuration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3" name="f04al12" descr=""/>
          <p:cNvPicPr/>
          <p:nvPr/>
        </p:nvPicPr>
        <p:blipFill>
          <a:blip r:embed="rId1"/>
          <a:stretch/>
        </p:blipFill>
        <p:spPr>
          <a:xfrm>
            <a:off x="1219320" y="1860480"/>
            <a:ext cx="6629400" cy="470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BA73-0FF3-4D5C-959C-E36A526AFAC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Introducing NWLink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Is the common name for NWLink IPX/SPX/NetBIOS Compatible Transport protocol (NWLin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 Microsoft’s 32-bit implementation of Novell NetWare’s Internetwork Packet Exchange/Sequenced Packet Exchange (IPX/SPX) protoco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0B9A-111D-411C-ADAC-865C7F4BA81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Understanding NWLink Featur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Supports communication with NetWa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Supports sockets and NetBIOS over IP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Gives NetWare clients access to applications that run on Microsoft Windows 2000 Serv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s File and Print Services for NetWare (FPNW) to be installed to give NetWare clients access to file and print resources on Windows 2000 serv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FEC8-F9A9-4749-9A83-64AF42EF93E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Installing NWLink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9" name="F04al15" descr=""/>
          <p:cNvPicPr/>
          <p:nvPr/>
        </p:nvPicPr>
        <p:blipFill>
          <a:blip r:embed="rId1"/>
          <a:stretch/>
        </p:blipFill>
        <p:spPr>
          <a:xfrm>
            <a:off x="1371600" y="1835280"/>
            <a:ext cx="6324480" cy="471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A227-AA90-4007-9775-E37CBC88801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Configuring NWLink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" name="F04al16" descr=""/>
          <p:cNvPicPr/>
          <p:nvPr/>
        </p:nvPicPr>
        <p:blipFill>
          <a:blip r:embed="rId1"/>
          <a:stretch/>
        </p:blipFill>
        <p:spPr>
          <a:xfrm>
            <a:off x="2835360" y="1905120"/>
            <a:ext cx="366372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C073-2A37-4531-972E-1FA0DE7F94E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Troubleshooting NetWare Connectivity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To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Ipxroute confi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Ipxroute ripou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Network Monit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Troubleshooting common NWLink configuration probl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Verify that NWLink and Client Services for NetWare are install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Verify that Client Services for NetWare is runn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Verify that the Frame Type is set to AutoDetect on the cli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Verify the Installed Network Number and Frame Type on the client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8399-7834-4E23-BEC7-CD4D7B6CC32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Introduction to Network Binding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5" name="f04al18" descr=""/>
          <p:cNvPicPr/>
          <p:nvPr/>
        </p:nvPicPr>
        <p:blipFill>
          <a:blip r:embed="rId1"/>
          <a:stretch/>
        </p:blipFill>
        <p:spPr>
          <a:xfrm>
            <a:off x="1219320" y="1868400"/>
            <a:ext cx="6629400" cy="468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B243-E283-461D-87EB-B6B4056290C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Advantages of Using TCP/IP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A routable networking system supported by most operating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The technology for connecting dissimila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A robust, scalable, cross-platform client/server frame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method of accessing Internet resour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5D95-227B-4528-9FAA-CFA1465EAD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Configuring Network Binding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7" name="f04al19" descr=""/>
          <p:cNvPicPr/>
          <p:nvPr/>
        </p:nvPicPr>
        <p:blipFill>
          <a:blip r:embed="rId1"/>
          <a:stretch/>
        </p:blipFill>
        <p:spPr>
          <a:xfrm>
            <a:off x="2387520" y="1828800"/>
            <a:ext cx="4251240" cy="478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E75D-C2BA-4493-AB21-303DC428FEF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Chapter Summary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1763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  <a:ea typeface="Tahoma"/>
              </a:rPr>
              <a:t>Microsoft’s implementation of TCP/IP provides a robust, scalable, cross-platform client/server framework that is supported by most large networks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  <a:ea typeface="Tahoma"/>
              </a:rPr>
              <a:t>The TCP/IP suite of protocols maps to a four-layer conceptual model: network interface, Internet, transport, and application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  <a:ea typeface="Tahoma"/>
              </a:rPr>
              <a:t>The four Internet layer protocols—IP, ARP, ICMP, and IGMP—encapsulate packets into Internet datagrams and run all the necessary routing algorithms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  <a:ea typeface="Tahoma"/>
              </a:rPr>
              <a:t>The two transport layer protocols—TCP and UDP—provide communication sessions between hosts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  <a:ea typeface="Tahoma"/>
              </a:rPr>
              <a:t>TCP/IP provides the Winsock and NetBT interfaces for network applications to use the services of the TCP/IP protocol stack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  <a:ea typeface="Tahoma"/>
              </a:rPr>
              <a:t>Each TCP/IP host has a logical IP address that identifies a computer’s location on the network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88C2-5C01-4B71-B5E5-7D69A1A0A63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Chapter Summary (Cont.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182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Microsoft’s implementation of TCP/IP enables a TCP/IP host 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Use a static IP addres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Obtain an IP address automatically from a DHCP serv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Use Automatic Private IP Addr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NWLink provides NetWare clients with access to applications designed for Windows 2000 Serv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To allow a client running Windows XP Professional to access a NetWare server, you must install NWLink and Client Services for NetWare on the cli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inding allows all bound components to share the services they provide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4687-97CB-4466-9351-C06727B701F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The TCP/IP Suite of Protocols Maps to a Four-Layer Conceptual Model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3" name="f04al02" descr=""/>
          <p:cNvPicPr/>
          <p:nvPr/>
        </p:nvPicPr>
        <p:blipFill>
          <a:blip r:embed="rId1"/>
          <a:stretch/>
        </p:blipFill>
        <p:spPr>
          <a:xfrm>
            <a:off x="380880" y="2552760"/>
            <a:ext cx="8458200" cy="3390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481D-8E4D-40D8-B64C-A2B2474A11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Understanding IP Address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Identifies each Transmission Control Protocol/Internet Protocol (TCP/IP)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Consists of a network ID and a host 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ists of a logical 32-bit number (four 8-bit octets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1928-8A6C-4AA8-8395-49D818814C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Addresses Supported by Microsoft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Class A addresses: 1.0.0.0 through 126.0.0.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126 networks and 16,777,214 hosts per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Class B addresses: 128.0.0.0 through 191.255.0.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16,384 networks and 65,534 hosts per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Class C addresses: 192.0.0.0 through 223.255.255.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2,097,152 networks and 254 hosts per networ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D123-6774-462B-9684-A8D1FFB3BCE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Using a Static IP Address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9" name="F04al05" descr=""/>
          <p:cNvPicPr/>
          <p:nvPr/>
        </p:nvPicPr>
        <p:blipFill>
          <a:blip r:embed="rId1"/>
          <a:stretch/>
        </p:blipFill>
        <p:spPr>
          <a:xfrm>
            <a:off x="2666880" y="1828800"/>
            <a:ext cx="4183200" cy="4711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B62F-5F54-4E9B-9CF4-97F336C4696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Obtaining an IP Address Automatically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f04al06" descr=""/>
          <p:cNvPicPr/>
          <p:nvPr/>
        </p:nvPicPr>
        <p:blipFill>
          <a:blip r:embed="rId1"/>
          <a:stretch/>
        </p:blipFill>
        <p:spPr>
          <a:xfrm>
            <a:off x="2895480" y="1828800"/>
            <a:ext cx="331164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45C5-3448-4536-816A-1890F9593FD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Using Automatic Private IP Addressing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Automatically configures Internet Protocol (IP)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Without using static IP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Without installing the Dynamic Host Configuration Protocol (DHCP)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Provides the ability to create a functioning single-subnet network by defau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oes not require a default gate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0891-C452-4C2D-B767-666CC93ACF2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The Automatic Private IP Addressing Proces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5" name="f04al08" descr=""/>
          <p:cNvPicPr/>
          <p:nvPr/>
        </p:nvPicPr>
        <p:blipFill>
          <a:blip r:embed="rId1"/>
          <a:stretch/>
        </p:blipFill>
        <p:spPr>
          <a:xfrm>
            <a:off x="2894040" y="1841400"/>
            <a:ext cx="3887640" cy="4724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57B2-F030-4829-B7D5-FE6D5EA8CE7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