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E9A-9399-4226-AE14-4414AEC8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94920" y="423936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99D-C0B3-4DB3-857C-BFAAE281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624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C53-647B-4804-B893-B9B5B27E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108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8724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9492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108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8724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826-62CA-4EA1-9E08-09550E3B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DD3C-31AC-4394-9201-88BD8843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7245-1409-4795-AA5B-5B6F5B07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D3F0-97E1-4449-A594-7B7FB49F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F669-1CD6-45F2-A16B-AC4A112D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B1F1-CAAD-44CC-800B-04158C56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63240" y="457200"/>
            <a:ext cx="71182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AB38-C874-4855-9E9D-0FE2DBA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C836-7C75-482B-84A9-86CB6CB2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048-B911-41A6-8EA4-6E52D604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624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DEE1-3926-47CC-A7E9-A29997F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71E9-716C-44E4-81A0-010AB7A9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94920" y="423936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E66F-120B-4629-9E87-8CFC6488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624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F35F-7833-4254-828D-39DF7952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9108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87240" y="220932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9492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9108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87240" y="423936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A353-8A0D-44C8-89B7-79578E0E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213-C32A-4529-B565-B6BE4565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06A-B1DA-4FA5-91E6-293F69F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711-B6DD-4A4D-906F-31E5FF40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63240" y="457200"/>
            <a:ext cx="71182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ABF-1A85-4A71-9A36-2DEF5E5D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012-0304-49D0-8D6D-BC1D3D43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6240" y="423936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702-5610-4417-AF7C-35D4F951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20932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23936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C6A-7B40-41DF-93F0-98CAC528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5000"/>
              </a:lnSpc>
              <a:spcAft>
                <a:spcPts val="799"/>
              </a:spcAft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5000"/>
              </a:lnSpc>
              <a:spcAft>
                <a:spcPts val="799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5000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5000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00AD-C09D-4476-88E2-76AB74AC3265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6D39C15F-C3BF-471B-BEC2-A43752AD0251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0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361960" y="632448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A78-4909-4B23-8448-0DF660E09D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20EC-A673-483E-A48B-D5E74FEF845B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</a:t>
            </a:r>
            <a:fld id="{E1F4EA3B-E464-4AA1-973C-8812925D967D}" type="datetime10">
              <a:rPr b="0" lang="en-US" sz="1400" spc="-1" strike="noStrike">
                <a:solidFill>
                  <a:srgbClr val="1c1c1c"/>
                </a:solidFill>
                <a:latin typeface="Tahoma"/>
              </a:rPr>
              <a:t>0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018A-978C-4B2A-BF69-45D490ACC5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the TCP/IP Protocol Su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ustry stand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s enterprise networking and conn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5C9-6A52-4F7F-9232-CBDCB0D7EB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TCP/IP Ut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F07tk05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3657600" cy="263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413-AEC6-4525-B0F9-DAB77605D5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Ipconf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ipconfig /all to verify the TCP/IP configuration parameters on a hos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ipconfig /all | more to prevent the ipconfig output from scrolling off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7AD-7555-40AB-8961-C9DB6A47CC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1, Understanding Ipconfig /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configuration is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config displays the IP address and subnet ma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config displays the default gateway if it is assig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1EF-3574-4E65-BF0C-0D402090D5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2, Understanding Ipconfig /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duplicate IP address ex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config indicates IP address is configu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net mask is 0.0.0.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054-1305-40D1-B1CA-E8E9135805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3, Understanding Ipconfig /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erver running the DHCP Service on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address provided by Automatic Private IP Addr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address is 169.254.0.0 through 169.254.255.25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1C1-3959-453D-B518-FED3FD84D0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o test conn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o determine if a host is available and 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218-8BD4-4DAD-BE96-22A9765008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Ipconfig and P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F07tk06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3632040" cy="265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D84-EA58-4C83-A45D-050906F7FE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NW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WLink IPX/SPX/NetBIOS-compatible transpor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’s implementation of Novell’s NetWare IPX/SPX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400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ly used whe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s running Microsoft operating systems access resources on NetWare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s running NetWare access resources on computers running Microsoft operating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112-5495-4C2A-9C09-221F7AC57F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derstanding NWLink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communications with NetWare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sockets and NetBIOS over I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NetWare clients with access to Windows 2000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BA6-1B2F-436C-9456-EBE9253213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ing NW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" name="F07TK07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4635360" cy="33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52B-111D-4536-9E66-AE57951DE7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600" y="990720"/>
            <a:ext cx="742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tages of TCP/IP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a Microsoft Windows 2000 Configu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742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a routable networking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s dissimila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a robust, scaleable, cross-platform client/server fra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Windows Sockets (Winso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access to Internet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7080" y="1523880"/>
            <a:ext cx="8542080" cy="1052280"/>
            <a:chOff x="127080" y="1523880"/>
            <a:chExt cx="8542080" cy="1052280"/>
          </a:xfrm>
        </p:grpSpPr>
        <p:sp>
          <p:nvSpPr>
            <p:cNvPr id="103" name=""/>
            <p:cNvSpPr/>
            <p:nvPr/>
          </p:nvSpPr>
          <p:spPr>
            <a:xfrm>
              <a:off x="417600" y="1631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0280" y="1631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440" y="2054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11160" y="2054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080" y="1981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1523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2800" y="2314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1564-A469-4DE8-88B4-3656FF49E4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B33-FD72-46F4-9E5A-77F4C45EF8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NW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network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983-FA07-4180-A12A-65BBEE341D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NWLink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default, Windows 2000 detects a frame type and a network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 2000 provides a generic network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network adapter card bound to NWLink in a computer requires a frame type and a network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C47-96B8-4B1F-A24C-DDAEDAA322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me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rame type defines the way that the network adapter card formats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WLink frame type should match the frame type on the NetWare serv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manually configure the frame typ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C7F-A434-4C3F-90D0-3933AE92FF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ologies and Fram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ernet supports Ethernet II, 802.3, 802.2, and SN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ken Ring topology supports 802.5 and SN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DDI supports 802.2 and SNA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758-A972-40FD-937E-D74B1C6B7D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 Num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frame type configured on a network adapter ca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a network numb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etwork number must be unique for each network seg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s on a segment using the same frame type must use the same network number to communicate with each oth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Registry Editor to manually specify a network numb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79C-B986-4BF1-BD6E-1A14FFEC99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al Network Num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quely identifies a computer on the network for internal ro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ht-digit hexadecimal number that is set to 00000000 by defa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B61-4CFC-438B-8603-6C9A8D9321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nually Assign an Internal Network Number 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PNW is installed and there are multiple frame types on a single adap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PNW is installed and NWLink is bound to multiple adapters in the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lication is using the NetWare Service Advertising Protocol (SAP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3EC-2756-4547-BA05-84FDC69CF1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NetBE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for LANs with 20 to 200 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, fast, and effici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rou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C4A-9177-43E0-86AB-0DBCD74EA1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BEUI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ion-oriented and connectionless communication between 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configuration and self-t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prot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memory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CDF-1853-4A77-95E1-9AC78EF913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BEUI Limi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departmental-sized 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connect computers running Windows 2000 and NetBEUI by using brid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ies on broadcasts for many of its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921-E173-475E-B87B-39017C6D6F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ur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F07tk01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422928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373-1361-487E-8C06-3BBF44449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F07tk09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4197240" cy="296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C54-C19A-475D-826F-B7B02D549A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eTalk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computers running Windows 2000 Server and Apple Macintosh clients to share files and prin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mputer running Windows 2000 Services for Macinto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available on the networ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9B6-97C9-4FE1-AF29-6EEA61E81A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 Monitor Driver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s and displays statistics about activity detected by the network ca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ew these statistics on a computer running Network Monitor Agent Servi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Microsoft Systems Management Server and Network Monitor to collect statistics from computers running Network Monitor Ag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FC3-0689-4CF2-9D37-833D5DF704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Network B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F07tk10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3879720" cy="27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06B-819C-49C6-A08E-58C384F69C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bining Network B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select which protocols are bound to the network adapter c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dding network software, Windows 2000 automatically binds all dependent network components according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river Interface Specification (NDIS) 5 provides the local security database that Windows 2000 uses to validate the logon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F8B-BD8D-4B40-9D64-9D2D270A4A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Network B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Network And Dial-Up Connections window, click Advanced, and then click Advanced Settings to configure network bind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n experienced network administrator who is familiar with the requirements of the network software should attempt to change binding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E0E-2CD2-4BF7-BB5E-59190E46B6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ifying Binding Or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specify binding order to optimize network perform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specify the binding order, in the Network And Dial-Up Connections window, click Advanced, and then click Advanced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6CA-56F1-4F9A-8CF1-8781393831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TCP/IP to Use a Static Addr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default, client computers running Microsof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 2000, Microsoft Windows 98, or Microsoft Windows 95 obtain TCP/IP configuration information automatica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mputers should always be assigned a static IP address, for example the computer running the DHCP Servi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BCA-58DB-4A2D-BCD2-A7876C0B25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ons Used in Configuring a Static TCP/IP Addr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F07TK02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3586320" cy="39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463-A45B-494E-9C68-76B2534457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3240" y="9144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ing TCP/IP to Obtain an IP Address Automatical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27080" y="1447920"/>
            <a:ext cx="8542080" cy="1052280"/>
            <a:chOff x="127080" y="1447920"/>
            <a:chExt cx="8542080" cy="1052280"/>
          </a:xfrm>
        </p:grpSpPr>
        <p:sp>
          <p:nvSpPr>
            <p:cNvPr id="119" name=""/>
            <p:cNvSpPr/>
            <p:nvPr/>
          </p:nvSpPr>
          <p:spPr>
            <a:xfrm>
              <a:off x="417600" y="155592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280" y="15559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440" y="197820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11160" y="19782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7080" y="190512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14479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2800" y="223848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F07tk0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2063880" cy="291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637E-EC4F-401A-ACDA-018EEC11D07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fld id="{046A6020-A62A-4905-AE2A-8068F5805EE3}" type="datetime10">
              <a:rPr b="0" lang="en-US" sz="1400" spc="-1" strike="noStrike">
                <a:solidFill>
                  <a:srgbClr val="000000"/>
                </a:solidFill>
                <a:latin typeface="Tahoma"/>
              </a:rPr>
              <a:t>0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632448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FC93-D949-4B59-8FF0-FB1DAFC822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EB6-3CE0-46E6-ACF4-B4CA5F2C7A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Automatic Private IP Addr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f dynamic IP address assignment for LAN adap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400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s configuration of IP addresses with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4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static IP address 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Aft>
                <a:spcPts val="1001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ing the DHCP Servi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e network LAN adapter to Obtain An IP Address Automa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A7F-A98D-4058-8A44-2A97FDE49E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ps in Automatic Private IP Addr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F07tk04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2444760" cy="297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176-BD09-44CC-836B-6AAA397AAF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3240" y="457200"/>
            <a:ext cx="711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bling Automatic Private IP Addr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d by defa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the IPAutoconfigurationEnabled value to the HKEY_LOCAL_MACHINE\SYSTEM\CurrentControlSet\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s\Tcpip\Parameters\Interfaces\Adapter subk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Aft>
                <a:spcPts val="799"/>
              </a:spcAft>
              <a:buClr>
                <a:srgbClr val="3333cc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IPAutoconfigurationEnabled value to 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1CC-13E9-4132-B0A2-1E26CF3CAE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20:59:18Z</dcterms:created>
  <dc:creator>Microsoft Corporation</dc:creator>
  <dc:description/>
  <dc:language>en-US</dc:language>
  <cp:lastModifiedBy>c177538-a</cp:lastModifiedBy>
  <dcterms:modified xsi:type="dcterms:W3CDTF">2000-06-26T15:01:32Z</dcterms:modified>
  <cp:revision>41</cp:revision>
  <dc:subject/>
  <dc:title>Reliability and Performance</dc:title>
</cp:coreProperties>
</file>