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F89-FA5B-464D-86EB-A5F5F5F2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687-5436-4CE9-8FC5-B53DD18E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AD0-6D62-40EB-812E-F559B46B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807-6F8A-4059-88A4-4760F1ED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6F1-FDA9-4C79-87E8-0D57B86C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5D6-1ADB-49C5-B075-D8211501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AFE-769F-458F-BED1-4529691E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E8F-FC4C-48F1-A341-1D78FCEF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824-5E9F-4A75-948D-BEB00EEC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D24-3139-4F83-8CE6-AB010698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F4E-C263-4F09-8519-DDDBEE89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F7D-F897-4281-B8ED-28403526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4C47-6C90-4FF4-A711-9DA7B988DA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3480" y="333360"/>
            <a:ext cx="889308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.  Spread  Footings,  Combined  Footings,  and Strip Footings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se types of shallow foundations are probably the most common types of building foundations. Examples of these types of footings are shown in Fig. 6.4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2.  Mat Foundation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amples of mat foundations are shown in Fig. 6.41. Based on economic considerations, mat foundations are constructed for the following reason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)  Large Individual Footing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 mat foundation is often constructed  when the sum of individual footing areas exceeds about one-half of the total foundation are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)  Cavities or Compressible Lense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 mat foundation can be used when the subsurface exploration indicates that there will be unequal settlement caused by small cavities or compressible lenses below the foundation. A mat foun- dation would tend to span over the small cavities or weak lenses and create a more uniform settlement condi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)  Shallow Settlement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 mat foundation can be recommended when shallow settlements predominate and the mat foundation would minimize differential settlemen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)  Unequal Distribution of Load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or some structures, there can be a large difference in building loads acting on different areas of the foundation. Con- ventional spread footings could be subjected to excessive differential settle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ment, but a mat foundation would tend to distribute the unequal build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oads and reduce the differential settlemen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)  Hydrostatic Uplift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When the foundation will be subjected to hydrosta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uplift due to a high groundwater table, a mat foundation could be used 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resist the uplift forc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619280" y="4076640"/>
            <a:ext cx="4608360" cy="2737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473880" y="3406680"/>
            <a:ext cx="2670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IGURE 6.40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amples of shallow foundations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a)combined footing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com- bined trapezoidal footing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cantilever or strap footing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octagonal footing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eccentric loaded footing with resultant coincident with area so soil pressure is uni- form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781200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4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5:17:28Z</dcterms:created>
  <dc:creator>Administrator</dc:creator>
  <dc:description/>
  <dc:language>en-US</dc:language>
  <cp:lastModifiedBy>ds0929</cp:lastModifiedBy>
  <dcterms:modified xsi:type="dcterms:W3CDTF">2013-06-24T13:45:51Z</dcterms:modified>
  <cp:revision>6</cp:revision>
  <dc:subject/>
  <dc:title>PowerPoint Presentation</dc:title>
</cp:coreProperties>
</file>