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981-9591-4A17-9495-FBD6720F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6AB-FB61-4D7A-B964-1BDE15E9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28D-82D5-4E32-AC90-F59C2AC1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5AB-05EC-40E5-B011-B5D074B6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B4A-82E9-4B3D-B736-863A87C1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68E-A701-40A6-8DD8-9A30EBDA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CF12-3C57-4AEE-BE12-E8A76A1A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D14-3139-477E-B5A3-3F0D83C4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48F-BE6C-4DDC-8148-A3167BA3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AC2-B54B-4F3D-BC31-E68D5F96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BF4-E267-470C-9D53-CC866F95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18A-48F8-40AD-93DE-5471E5A9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E70B-C18C-4891-905F-31EC0616B9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68360" y="189000"/>
            <a:ext cx="77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Calibri"/>
              </a:rPr>
              <a:t>Truss Applications.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ross sections through a number of buildings having ro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russes of the general type just discussed are shown diagrammatically in Fig. 7.1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ross section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ight be that of a storage building or a light industrial building.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ink truss provides a substantial roof slope. Roofs of this type are often desig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266840" y="1700280"/>
            <a:ext cx="3809880" cy="4824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5076720" y="24591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7.12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ome examples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tructures with truss roof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18_U Kyaw Naing.mp3" descr=""/>
          <p:cNvPicPr/>
          <p:nvPr/>
        </p:nvPicPr>
        <p:blipFill>
          <a:blip r:embed="rId2"/>
          <a:stretch/>
        </p:blipFill>
        <p:spPr>
          <a:xfrm>
            <a:off x="7093080" y="465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2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5:44:02Z</dcterms:created>
  <dc:creator>Administrator</dc:creator>
  <dc:description/>
  <dc:language>en-US</dc:language>
  <cp:lastModifiedBy>ds0929</cp:lastModifiedBy>
  <dcterms:modified xsi:type="dcterms:W3CDTF">2013-06-24T13:48:46Z</dcterms:modified>
  <cp:revision>4</cp:revision>
  <dc:subject/>
  <dc:title>PowerPoint Presentation</dc:title>
</cp:coreProperties>
</file>