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F60-0D3F-4E02-977D-74C48F11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A6A-F3B5-4A99-ADE8-12508AD8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659-A828-4993-A94F-60ADDF69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772-8C3C-44AE-9730-013CBDD6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6F2-260B-4BEE-93AA-E72FD6C4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14C-DCDF-465E-9D7C-36B30CB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9D3-C747-4532-A544-B0662F83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56C-6FFE-4A55-805C-F9DA8035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1B2-DEDC-428C-B34B-7993DE88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579-1FB5-4E86-BEC3-DBD2F7BB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ED1-231E-4883-981B-B4800040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724-5BDD-4DA0-B818-16438E7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2BB8-88FF-4E5E-A2F1-168EB734D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47628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y roof systems are distinctive as compared with the floor types; for exampl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corrugated sheet-metal roofing commonly employed on many types of 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mill buildings. The sheets rest on small beams, channels, or joists, called purlin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ich in turn are supported by trusses. Similar members on the sidewalls are ca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i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600360" cy="16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5057640" y="2276640"/>
            <a:ext cx="3124440" cy="1657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638280" y="4005360"/>
            <a:ext cx="364644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4716360" y="4365720"/>
            <a:ext cx="3600720" cy="1439640"/>
          </a:xfrm>
          <a:prstGeom prst="rect">
            <a:avLst/>
          </a:prstGeom>
          <a:ln w="0">
            <a:noFill/>
          </a:ln>
        </p:spPr>
      </p:pic>
      <p:pic>
        <p:nvPicPr>
          <p:cNvPr id="46" name="001_A_023_U Kyaw Naing.mp3" descr=""/>
          <p:cNvPicPr/>
          <p:nvPr/>
        </p:nvPicPr>
        <p:blipFill>
          <a:blip r:embed="rId5"/>
          <a:stretch/>
        </p:blipFill>
        <p:spPr>
          <a:xfrm>
            <a:off x="766764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1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6:00:29Z</dcterms:created>
  <dc:creator>Administrator</dc:creator>
  <dc:description/>
  <dc:language>en-US</dc:language>
  <cp:lastModifiedBy>ds0929</cp:lastModifiedBy>
  <dcterms:modified xsi:type="dcterms:W3CDTF">2013-06-24T13:50:09Z</dcterms:modified>
  <cp:revision>3</cp:revision>
  <dc:subject/>
  <dc:title>PowerPoint Presentation</dc:title>
</cp:coreProperties>
</file>