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8EC-E426-4744-B1CA-E2E32E17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1A8-12CA-46FE-B8C3-791D8767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6A9-00C8-4D85-8C80-10D22AF3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895-64FF-4B82-B791-861D4F6A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0FB-6792-4F3D-B28B-15DEA43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4929-F282-4CE6-860F-F12DE83D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94D-C1C6-46D7-A4D6-586FAB68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A0B-DABE-4B1E-A40B-4CB76E05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48C-508C-4F30-B637-6F5C6083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5BE-769D-4127-94EC-DC4851C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656-5595-4D5E-B4F0-782F94B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F00-1B00-43A5-8141-C3D17B72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9805-FF31-4584-9723-E21845D84D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8000" y="490680"/>
            <a:ext cx="6048360" cy="5962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6009840" y="2773440"/>
            <a:ext cx="30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46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mmon types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of trus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6_U Kyaw Naing.mp3" descr=""/>
          <p:cNvPicPr/>
          <p:nvPr/>
        </p:nvPicPr>
        <p:blipFill>
          <a:blip r:embed="rId2"/>
          <a:stretch/>
        </p:blipFill>
        <p:spPr>
          <a:xfrm>
            <a:off x="7451640" y="4365720"/>
            <a:ext cx="266760" cy="2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86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4:46:19Z</dcterms:created>
  <dc:creator>Administrator</dc:creator>
  <dc:description/>
  <dc:language>en-US</dc:language>
  <cp:lastModifiedBy>ds0929</cp:lastModifiedBy>
  <dcterms:modified xsi:type="dcterms:W3CDTF">2013-06-24T13:43:46Z</dcterms:modified>
  <cp:revision>3</cp:revision>
  <dc:subject/>
  <dc:title>PowerPoint Presentation</dc:title>
</cp:coreProperties>
</file>