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7FFAD-8493-4B55-A59D-75B53F056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39670-EEFC-44DF-821C-1DFA70746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D6635-05EE-4472-98D9-87946E664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57DBB-F923-4501-8CDF-253C647B3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AD4E9-F7E5-41F7-87AD-8665A0A24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19255-2E9F-44A7-8062-05E2213D2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3A1E-A465-4D8D-AEEF-4EF18E576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0ADDC-33B5-41C5-B0E9-2581F07AA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A0BF3-1B71-4C1B-B3DC-5D6FB01B2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97CF7-1D2C-4B2F-8019-B1C4A3FC5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59B2A-4F44-4962-8BB0-F366BF143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EC5BF-482C-4F49-ABD1-7C68C5514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2760-FC10-4D8B-BA35-DA82AC2B63FD}"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657360" y="0"/>
            <a:ext cx="7993080" cy="28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7.3.5   Weld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Welding is used to fasten together components of a built-up member, such as a plate girder, and to make connections between members. This technique, which uses fusion is a controlled atmosphere, requires more highly skilled labor than does bolting. However, because of cost advantages, welding is widely used in steel construction, especially in fabricating shops where conditions are more favorable to closely controlled procedures. When field welding is specified, the availability of skilled welders and inspection technicians and the use of more stringent quality- control criteria should be consider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Calibri"/>
            </a:endParaRPr>
          </a:p>
        </p:txBody>
      </p:sp>
      <p:pic>
        <p:nvPicPr>
          <p:cNvPr id="42" name="Picture 4" descr=""/>
          <p:cNvPicPr/>
          <p:nvPr/>
        </p:nvPicPr>
        <p:blipFill>
          <a:blip r:embed="rId1"/>
          <a:stretch/>
        </p:blipFill>
        <p:spPr>
          <a:xfrm>
            <a:off x="1547640" y="2565360"/>
            <a:ext cx="3600720" cy="4200480"/>
          </a:xfrm>
          <a:prstGeom prst="rect">
            <a:avLst/>
          </a:prstGeom>
          <a:ln w="0">
            <a:noFill/>
          </a:ln>
        </p:spPr>
      </p:pic>
      <p:sp>
        <p:nvSpPr>
          <p:cNvPr id="43" name="Rectangle 5"/>
          <p:cNvSpPr/>
          <p:nvPr/>
        </p:nvSpPr>
        <p:spPr>
          <a:xfrm>
            <a:off x="5867280" y="2852640"/>
            <a:ext cx="2286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FIGURE 7.3    </a:t>
            </a:r>
            <a:r>
              <a:rPr b="0" lang="en-AU" sz="1400" spc="-1" strike="noStrike">
                <a:solidFill>
                  <a:srgbClr val="000000"/>
                </a:solidFill>
                <a:latin typeface="Calibri"/>
              </a:rPr>
              <a:t>Effective throats of  fillet and groove welds.</a:t>
            </a:r>
            <a:endParaRPr b="0" lang="en-US" sz="1400" spc="-1" strike="noStrike">
              <a:solidFill>
                <a:srgbClr val="000000"/>
              </a:solidFill>
              <a:latin typeface="Calibri"/>
            </a:endParaRPr>
          </a:p>
        </p:txBody>
      </p:sp>
      <p:pic>
        <p:nvPicPr>
          <p:cNvPr id="44" name="001_A_017_U Kyaw Naing.mp3" descr=""/>
          <p:cNvPicPr/>
          <p:nvPr/>
        </p:nvPicPr>
        <p:blipFill>
          <a:blip r:embed="rId2"/>
          <a:stretch/>
        </p:blipFill>
        <p:spPr>
          <a:xfrm>
            <a:off x="7812000" y="5229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673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05:39:54Z</dcterms:created>
  <dc:creator>Administrator</dc:creator>
  <dc:description/>
  <dc:language>en-US</dc:language>
  <cp:lastModifiedBy>ds0929</cp:lastModifiedBy>
  <dcterms:modified xsi:type="dcterms:W3CDTF">2013-06-24T13:47:37Z</dcterms:modified>
  <cp:revision>3</cp:revision>
  <dc:subject/>
  <dc:title>PowerPoint Presentation</dc:title>
</cp:coreProperties>
</file>