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36E-F885-41F8-9F9E-854557D9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134-8C45-4C04-901C-7EF7328D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F04-671B-4505-B709-016BEAEB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AB9-80F9-4C94-916F-4C65013E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C1F-C0F3-4318-AEEC-D7E2246B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0A9-2944-4D65-9F8B-8C6CC482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F62-DC98-4F02-8FB0-7A97CF6B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113-1E85-4D46-8F13-B01A472A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9BE-ED86-4DC2-8766-64A3C813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5A9-F7E5-4E73-A908-DC610DAB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1AB-B5C3-461F-9458-298E760A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D9D6-C39F-488F-BCA5-2450EFA1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2135-D4AA-4680-B98B-866BA43AA9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539640" y="333360"/>
            <a:ext cx="849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5.5.2 Re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s an example of the application of the equations of equilibrium (Art. 5.2.1) to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etermination of the reactions of a statically determinate beam, we shall compu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5.17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eam with overhangs loaded with both uniform and concentrated loa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reactions of the 60-ft-long beam with overhangs in Fig. 5.17. This beam carries a uniform load of 200 lb / lin ft over its entire length and several concentr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oads. The supports are 36 ft apar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o find reaction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1, we take moments about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2 and equate the sum of the mo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o zero (clockwise rotation is considered positive, counterclockwise, negative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258920" y="2917800"/>
            <a:ext cx="4968720" cy="2168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539640" y="50864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-2000 X 48 + 36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1  - 4000 X 30 - 6000 X 18 + 3000 X 12-200 X 60 X 18 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1  = 14,000 l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04_U Kyaw Naing.mp3" descr=""/>
          <p:cNvPicPr/>
          <p:nvPr/>
        </p:nvPicPr>
        <p:blipFill>
          <a:blip r:embed="rId2"/>
          <a:stretch/>
        </p:blipFill>
        <p:spPr>
          <a:xfrm>
            <a:off x="8101080" y="5300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782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4:31:14Z</dcterms:created>
  <dc:creator>Administrator</dc:creator>
  <dc:description/>
  <dc:language>en-US</dc:language>
  <cp:lastModifiedBy>ds0929</cp:lastModifiedBy>
  <dcterms:modified xsi:type="dcterms:W3CDTF">2013-06-24T13:42:54Z</dcterms:modified>
  <cp:revision>4</cp:revision>
  <dc:subject/>
  <dc:title>PowerPoint Presentation</dc:title>
</cp:coreProperties>
</file>