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194-1941-4DAD-A843-CE1BD04C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9FF-9CB2-48B6-8DE2-D520D256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0EB-FB94-48E8-84FD-876813A5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FB3-6F86-4595-8095-CDC67361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427-C831-4022-93F7-C6995495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205-AA83-4617-891F-06B7C5A9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6FB-50B5-463D-AC5A-7A21D775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CA7-BB6C-4E04-A5A9-BD23EAE2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F86-2E3B-410F-ACA6-03B9FFCE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D0A-6875-4375-B5B1-2983B2A1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742-12D8-4AEF-9F2D-FC85638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D8F-8621-4CFC-82DD-6E38254D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CC0F-B90E-4CB6-B157-AA675DF11E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184720" cy="6048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5292720" y="220500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6.5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ample of a Boring log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eproduced from NAVFAC DM-7.1, 1982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9_U Kyaw Naing.mp3" descr=""/>
          <p:cNvPicPr/>
          <p:nvPr/>
        </p:nvPicPr>
        <p:blipFill>
          <a:blip r:embed="rId2"/>
          <a:stretch/>
        </p:blipFill>
        <p:spPr>
          <a:xfrm>
            <a:off x="759636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4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226280" y="907920"/>
            <a:ext cx="1565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FIGURE 6.6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ubsoil profile.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From J. Lowe and P. F. Zaccheo, ‘‘Subsurface Explorations and Sampling,’’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ch. 1 of ‘‘Foundation Engineering Handbook,’’ ed. H. F. Winterkorn and H.-Y. Fang, Van Nostrand Reinho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Co., New York.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66978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5:03:52Z</dcterms:created>
  <dc:creator>Administrator</dc:creator>
  <dc:description/>
  <dc:language>en-US</dc:language>
  <cp:lastModifiedBy>ds0929</cp:lastModifiedBy>
  <dcterms:modified xsi:type="dcterms:W3CDTF">2013-06-24T13:44:49Z</dcterms:modified>
  <cp:revision>4</cp:revision>
  <dc:subject/>
  <dc:title>PowerPoint Presentation</dc:title>
</cp:coreProperties>
</file>