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C69-6AD2-4615-8648-65C59BA8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F13-5A05-4F2B-ADC2-F10318A7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051-2F05-4FCA-B5F3-538D8CFB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029-B873-402E-9BCE-DCFA47CF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ED4-3809-49DA-B18F-F19BC629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E8C-EBCB-4574-87E1-1EA1CA5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F6F-2FA0-4425-A523-ECEA6E69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7DF-3FDF-45DD-8640-2BC00C1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3A0-4CF2-4479-A2FA-452C5317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269-FD70-48EA-A800-5CF5B120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10E-0562-4A23-8195-D442FCCB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084-9DAE-48D9-9B0D-7816BCA7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8B4C-77E0-40AF-ABAD-7A33C0C07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333360"/>
          <a:ext cx="8064360" cy="3530520"/>
        </p:xfrm>
        <a:graphic>
          <a:graphicData uri="http://schemas.openxmlformats.org/drawingml/2006/table">
            <a:tbl>
              <a:tblPr/>
              <a:tblGrid>
                <a:gridCol w="949320"/>
                <a:gridCol w="1434960"/>
                <a:gridCol w="1436760"/>
                <a:gridCol w="1435320"/>
                <a:gridCol w="1434960"/>
                <a:gridCol w="1373040"/>
              </a:tblGrid>
              <a:tr h="50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e ty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rete filled steel pipe pi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site pi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st concr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including prestresse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2120" algn="ctr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t in place (thin shell driven with mandrel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28520" algn="ctr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er placed pressure-injected concrete (grout) pi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3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advant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initial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076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lacement for closed- end p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attain good joint between two materia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handle unless prestress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initial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able displac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tressed difficult to spl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icult to splice after concre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riving not recommend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 shell vulnerable during dri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able displac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ce on workmanshi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suitable in compressible soi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8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vantag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control during 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splacement for open-end instal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-end pipe best against obstruc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oad capaciti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 to spl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able length can be provided at comparatively low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load capac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076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osion resistance can be attain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076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 driving possib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econom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076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ed sections provide higher bearing resistance in granular stratu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dom from noise and vib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nom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skin fri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58760" indent="-108000">
                        <a:lnSpc>
                          <a:spcPts val="9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pli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6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high bending resistance where unsupported length is loaded lateral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eakest of any material used shall govern allowable stresses and capac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 piles in particular are suited for bending resista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5876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suited for medium- load friction piles in granular material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ed meth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13"/>
          <p:cNvSpPr/>
          <p:nvPr/>
        </p:nvSpPr>
        <p:spPr>
          <a:xfrm>
            <a:off x="250920" y="5211360"/>
            <a:ext cx="898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Arial"/>
                <a:ea typeface="Calibri"/>
              </a:rPr>
              <a:t>TABLE 6.15   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Typical Pile Characteristics and Uses (</a:t>
            </a:r>
            <a:r>
              <a:rPr b="0" i="1" lang="en-A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tinued</a:t>
            </a:r>
            <a:r>
              <a:rPr b="0" lang="en-A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3905280"/>
          <a:ext cx="8064360" cy="1224000"/>
        </p:xfrm>
        <a:graphic>
          <a:graphicData uri="http://schemas.openxmlformats.org/drawingml/2006/table">
            <a:tbl>
              <a:tblPr/>
              <a:tblGrid>
                <a:gridCol w="987480"/>
                <a:gridCol w="1608120"/>
                <a:gridCol w="1496880"/>
                <a:gridCol w="1576440"/>
                <a:gridCol w="1030320"/>
                <a:gridCol w="1365120"/>
              </a:tblGrid>
              <a:tr h="1224000">
                <a:tc>
                  <a:txBody>
                    <a:bodyPr lIns="0" rIns="0" tIns="0" bIns="0" anchor="t">
                      <a:noAutofit/>
                    </a:bodyPr>
                    <a:p>
                      <a:pPr marL="108000" indent="-108000">
                        <a:lnSpc>
                          <a:spcPts val="95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illust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598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748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1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998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598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7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25" descr=""/>
          <p:cNvPicPr/>
          <p:nvPr/>
        </p:nvPicPr>
        <p:blipFill>
          <a:blip r:embed="rId1"/>
          <a:stretch/>
        </p:blipFill>
        <p:spPr>
          <a:xfrm>
            <a:off x="1692360" y="399888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6" descr=""/>
          <p:cNvPicPr/>
          <p:nvPr/>
        </p:nvPicPr>
        <p:blipFill>
          <a:blip r:embed="rId2"/>
          <a:stretch/>
        </p:blipFill>
        <p:spPr>
          <a:xfrm>
            <a:off x="3059280" y="3983040"/>
            <a:ext cx="847440" cy="93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7" descr=""/>
          <p:cNvPicPr/>
          <p:nvPr/>
        </p:nvPicPr>
        <p:blipFill>
          <a:blip r:embed="rId3"/>
          <a:stretch/>
        </p:blipFill>
        <p:spPr>
          <a:xfrm>
            <a:off x="4500720" y="3998880"/>
            <a:ext cx="895320" cy="1019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8" descr=""/>
          <p:cNvPicPr/>
          <p:nvPr/>
        </p:nvPicPr>
        <p:blipFill>
          <a:blip r:embed="rId4"/>
          <a:stretch/>
        </p:blipFill>
        <p:spPr>
          <a:xfrm>
            <a:off x="5940360" y="3983040"/>
            <a:ext cx="924120" cy="93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"/>
          <p:cNvPicPr/>
          <p:nvPr/>
        </p:nvPicPr>
        <p:blipFill>
          <a:blip r:embed="rId5"/>
          <a:stretch/>
        </p:blipFill>
        <p:spPr>
          <a:xfrm>
            <a:off x="7294680" y="4075200"/>
            <a:ext cx="838080" cy="866520"/>
          </a:xfrm>
          <a:prstGeom prst="rect">
            <a:avLst/>
          </a:prstGeom>
          <a:ln w="0">
            <a:noFill/>
          </a:ln>
        </p:spPr>
      </p:pic>
      <p:pic>
        <p:nvPicPr>
          <p:cNvPr id="49" name="001_A_014_U Kyaw Naing.mp3" descr=""/>
          <p:cNvPicPr/>
          <p:nvPr/>
        </p:nvPicPr>
        <p:blipFill>
          <a:blip r:embed="rId6"/>
          <a:stretch/>
        </p:blipFill>
        <p:spPr>
          <a:xfrm>
            <a:off x="752472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67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23:30Z</dcterms:created>
  <dc:creator>Administrator</dc:creator>
  <dc:description/>
  <dc:language>en-US</dc:language>
  <cp:lastModifiedBy>ds0929</cp:lastModifiedBy>
  <dcterms:modified xsi:type="dcterms:W3CDTF">2013-06-24T13:46:35Z</dcterms:modified>
  <cp:revision>4</cp:revision>
  <dc:subject/>
  <dc:title>PowerPoint Presentation</dc:title>
</cp:coreProperties>
</file>