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D73-D693-407F-86C7-9102767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CB3-2624-47E2-8700-C873059B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488-C4BA-43C5-97D9-98A7E17F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489-8DFF-4D4A-BD26-C92C901E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481-251E-4B71-BB02-8BEBFEAE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6B4-4100-4D1E-8320-D0B50EE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5D0-1816-490D-B819-A0E1756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567-E92B-4493-95AD-EF34AF32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FD1-EB4D-47E1-8D59-08F81B6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B3A-1F8A-41CF-93BA-9D3F51F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F3A-2D2B-4BDF-8FD2-3EDD257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4DD-2453-4E25-9CDE-DD45AC79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008-C7AE-4852-9210-3885DF98E8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404640"/>
            <a:ext cx="82803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ternal loads on a structure may be classified in several different ways. In 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lassification, they may be considered as static or dynami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Static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ces that are applied slowly and then remain nearly consta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ne example is the weight, or dead load, of a floor or roof syste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Dynamic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vary with time. They include repeated and impact loa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Repeated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ces that are applied a number of times, causing a vari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n the magnitude, and sometimes also in the sense, of the internal forces. A g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ample is an off-balance mot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Impact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ces that require a structure or its components to absor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nergy in a short interval of time. An example is the dropping of a heavy 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n a floor slab, or the shock wave from an explosion striking the walls and roof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build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ternal forces may also be classified as distributed and concentra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Uniformly distributed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ces that are, or for practical purposes m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e considered, constant over a surface area of the supporting member. Dead 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f a rolled-steel I beam is a good examp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Concentrated load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ces that have such a small contact area as to b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negligible compared with the entire surface area of the supporting member. A be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pported on a girder, for example, may be considered, for all practical purpos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 concentrated load on the gird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other common classification for external forces labels them axial, eccentric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torsion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axial loa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s a force whose resultant passes through the centroid of a se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under consideration and is perpendicular to the plane of the sec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eccentric loa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s a force perpendicular to the plane of the section und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sideration but not passing through the centroid of the section, thus bending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upporting member (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1_U Kyaw Naing.mp3" descr=""/>
          <p:cNvPicPr/>
          <p:nvPr/>
        </p:nvPicPr>
        <p:blipFill>
          <a:blip r:embed="rId1"/>
          <a:stretch/>
        </p:blipFill>
        <p:spPr>
          <a:xfrm>
            <a:off x="802800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5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900000" y="18900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orsional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forces that are offset from the shear center of the s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nder consideration and are inclined to or in the plane of the section, thus twisting the supporting member (see Arts. 5.4.2 and 5.5.19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lso, building codes classify loads in accordance with the nature of the sour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ead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clude materials, equipment, constructions, or other elements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ight supported in, on, or by a building, including its own weight, that are intended to remain permanently in pl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Live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clude all occupants, materials, equipment, constructions, or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lements of weight supported in, on, or by a building and that will or are likely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 moved or relocated during the expected life of the bui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Impact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a fraction of the live loads used to account for ad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esses and deflections resulting from movement of the live loa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ind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maximum forces that may be applied to a building by wind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mean recurrence interval, or a set of forces that will produce equivalent stres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now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maximum forces that may be applied by snow accumulation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mean recurrence interv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eismic load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forces that produce maximum stresses or deformations in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 during an earthquak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3:43:46Z</dcterms:created>
  <dc:creator>Administrator</dc:creator>
  <dc:description/>
  <dc:language>en-US</dc:language>
  <cp:lastModifiedBy>ds0929</cp:lastModifiedBy>
  <dcterms:modified xsi:type="dcterms:W3CDTF">2013-06-24T13:41:36Z</dcterms:modified>
  <cp:revision>5</cp:revision>
  <dc:subject/>
  <dc:title>PowerPoint Presentation</dc:title>
</cp:coreProperties>
</file>