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F75F-D5AC-4A28-8F5A-42EA5DFC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CC36-27AE-41D0-85BE-DF903999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AF73-BDA9-4C8C-AA68-DF48C4DC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093E-F5E2-46BD-B14E-5F9A7F76B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478A-E42F-433B-948B-35F7C989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930D-51B3-41CB-801C-6AA2CDFD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E183-E9DE-4A19-BCE7-9C60B2D9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94CE-FBBB-4138-8D35-EB131431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A383-233A-4D6E-81E1-54E0922E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BE39-172E-46F0-9115-5A513E18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0FD1-8823-40C7-8604-FFBEA2F7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38BF-3D76-4A0E-B04A-94A287CF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A69B-AB9B-43AA-BEBA-B85E33DA7D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187280" y="223920"/>
            <a:ext cx="5472360" cy="59767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3564000" y="6021360"/>
            <a:ext cx="4572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FIGURE 7.31  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Allowable bending stresses for sections not qualifying as compac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01_A_024_U Kyaw Naing.mp3" descr=""/>
          <p:cNvPicPr/>
          <p:nvPr/>
        </p:nvPicPr>
        <p:blipFill>
          <a:blip r:embed="rId2"/>
          <a:stretch/>
        </p:blipFill>
        <p:spPr>
          <a:xfrm>
            <a:off x="7667640" y="458136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52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06:06:11Z</dcterms:created>
  <dc:creator>Administrator</dc:creator>
  <dc:description/>
  <dc:language>en-US</dc:language>
  <cp:lastModifiedBy>ds0929</cp:lastModifiedBy>
  <dcterms:modified xsi:type="dcterms:W3CDTF">2013-06-24T13:50:46Z</dcterms:modified>
  <cp:revision>3</cp:revision>
  <dc:subject/>
  <dc:title>PowerPoint Presentation</dc:title>
</cp:coreProperties>
</file>