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220D-6F66-457D-90B0-ACDC8F2B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F6FB-D9C0-4A31-BF8E-749DA285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5AB-90D1-486B-92B9-3598DA73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D19-B4CF-4FDA-B493-1AC2D5F1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61C-5C76-477D-ACB3-F3EAB965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F502-1D21-4669-A978-EB408262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AC0-57A1-40F6-A144-E6BEAE6D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BEC2-09E9-4A78-845B-AEBBEBC5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8DF-48FA-4D04-AC83-E53450BD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786-241A-4141-94DB-FED28485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984E-ADBC-4B5A-8270-9EDA3486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C775-3F54-4EB5-9CB9-E6AD96AD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ECFA-816B-41D9-92F0-82E3C736B4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50920" y="260280"/>
            <a:ext cx="849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Calibri"/>
              </a:rPr>
              <a:t>6.6 BEARING CAPACITY ANALY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 bearing capacity failure is defined as a foundation failure that occurs when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hear stresses in the soil exceed the shear strength of the soil. Bearing capa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ailures of foundations can be grouped into three categories (A. B. Vesic´, ‘‘Bea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apacity of Deep Foundations in Sand,’’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Highway Research Record,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no. 39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1. General Shear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Fig. 6.24). As shown in Fig. 6.24, a general shear failure invol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otal rupture of the underlying soil. There is a continuous shear fail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f the soil (solid lines) from below the footing to the ground surface. When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oad is plotted versus settlement of the footing, there is a distinct load at whi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foundation fails (solid circle), and this is designated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ult. The value of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u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divided by the width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and length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of the footing is considered to be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‘‘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ultimate bearing capacity’’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ult) of the footing. The ultimate bearing capa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as been defined as the bearing stress that causes a sudden catastrophic fail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f the foundation. Note in Fig. 6.24 that a general shear failure ruptures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ushes up the soil on both sides of the footing. For actual failures it the fiel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soil is often pushed up on only one side of the footing with subsequ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ilting of the structure. A general shear failure occurs for soils that are in a de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r hard st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2. Punching Shear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Fig. 6.25). As shown in Fig. 6.25, a punching shear fail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does not develop the distinct shear surfaces associated with a general sh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ailure. For punching shear, the soil outside the loaded area remains relative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uninvolved and there is minimal movement of soil on both sides of the foot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10_U Kyaw Naing.mp3" descr=""/>
          <p:cNvPicPr/>
          <p:nvPr/>
        </p:nvPicPr>
        <p:blipFill>
          <a:blip r:embed="rId1"/>
          <a:stretch/>
        </p:blipFill>
        <p:spPr>
          <a:xfrm>
            <a:off x="8172360" y="5300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7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1162080" y="333360"/>
            <a:ext cx="5421240" cy="44658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971640" y="494172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6.24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eneral shear foundation failure for soil in a dense or hard state.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dapted from A. B. Vesic´, ‘‘Bearing Capacity of Deep Foundations in Sand,’’ High- way Research Record, no. 39.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5:08:36Z</dcterms:created>
  <dc:creator>Administrator</dc:creator>
  <dc:description/>
  <dc:language>en-US</dc:language>
  <cp:lastModifiedBy>ds0929</cp:lastModifiedBy>
  <dcterms:modified xsi:type="dcterms:W3CDTF">2013-06-24T13:45:09Z</dcterms:modified>
  <cp:revision>4</cp:revision>
  <dc:subject/>
  <dc:title>PowerPoint Presentation</dc:title>
</cp:coreProperties>
</file>