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4A2-F61D-44F0-AF83-F9B54399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641-5DD4-40F6-BA1E-BE6D3451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720-5735-4EDE-9FFA-EE4F4E54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94D-D473-4E0A-A5BA-1945C15B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60F7-5E46-4F39-BCEE-185D59CA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A6C-2CBF-4EDB-96BC-70929641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3CA-0AC8-403D-8353-5D60A84F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220-5980-49C0-B596-66BDA789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6094-51AC-4642-9191-385B06AA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6A2-AD27-4A66-9D5A-23EDE9D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D9F-8039-43F7-950F-5A0330A3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225-D61F-4418-931C-718D225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CAF8-28B0-45A7-8F73-0C6D6099A6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87440" y="476280"/>
            <a:ext cx="5430960" cy="4236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684360" y="5084640"/>
            <a:ext cx="683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6.41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s of mat foundations: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Flat plate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plate thickened under columns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beam-and-slab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plate with pedestals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basement walls as part of mat.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From J. E. Bowles, ‘‘Foundation Analysis and Design,’’ 2d ed., Mc- Graw-Hill Publishing Co.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3_U Kyaw Naing.mp3" descr=""/>
          <p:cNvPicPr/>
          <p:nvPr/>
        </p:nvPicPr>
        <p:blipFill>
          <a:blip r:embed="rId2"/>
          <a:stretch/>
        </p:blipFill>
        <p:spPr>
          <a:xfrm>
            <a:off x="774072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2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21:14Z</dcterms:created>
  <dc:creator>Administrator</dc:creator>
  <dc:description/>
  <dc:language>en-US</dc:language>
  <cp:lastModifiedBy>ds0929</cp:lastModifiedBy>
  <dcterms:modified xsi:type="dcterms:W3CDTF">2013-06-24T13:46:12Z</dcterms:modified>
  <cp:revision>4</cp:revision>
  <dc:subject/>
  <dc:title>PowerPoint Presentation</dc:title>
</cp:coreProperties>
</file>