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382-4A17-41FA-9081-B88CF6DC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C3C-EF82-40FD-9B9A-E308FAB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4D7-5FDB-434A-9183-E537DEEB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4FA-5388-49E3-A27D-7E1D00BF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D55-56A0-4D4D-ADB2-51A489E3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E6D-0334-4FC0-A2B1-7C32CD0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163-41DF-4B21-B7E3-6594E9EF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961-5FEF-45F3-8AFB-BBA5A8A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34E-FB0B-4F1C-904E-05F92F9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55E-BB49-464C-998B-830F571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E04-3AE5-4C56-8FE2-C7F3CD33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CCC-5EA6-432F-AF4B-7DFD467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987-F778-4978-A132-B52E2AE50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720072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971640" y="5157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7.20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ced bays in a one-story building transmit wind loads to the grou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0_U Kyaw Naing.mp3" descr=""/>
          <p:cNvPicPr/>
          <p:nvPr/>
        </p:nvPicPr>
        <p:blipFill>
          <a:blip r:embed="rId2"/>
          <a:stretch/>
        </p:blipFill>
        <p:spPr>
          <a:xfrm>
            <a:off x="788508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50:01Z</dcterms:created>
  <dc:creator>Administrator</dc:creator>
  <dc:description/>
  <dc:language>en-US</dc:language>
  <cp:lastModifiedBy>ds0929</cp:lastModifiedBy>
  <dcterms:modified xsi:type="dcterms:W3CDTF">2013-06-24T13:49:25Z</dcterms:modified>
  <cp:revision>4</cp:revision>
  <dc:subject/>
  <dc:title>PowerPoint Presentation</dc:title>
</cp:coreProperties>
</file>