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861C3-9380-487E-9EF3-0FD3EE341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A851-BE2A-4875-85C8-7DE2DC94B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4D4D5-5FAA-468B-9328-19AD95F56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804EC-5844-4077-B461-A7202A8B2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07193-E4D2-47AF-B8EE-BB191A27B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90152-8CCB-468F-BEC0-7D4E32D54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7CA5C-7421-47BB-BECD-60BAECF98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3BCB-3C4A-4BA9-8067-950827F40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FB19E-A50D-4FA8-AD72-B4CF6333F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C74F-0DC9-47BE-AB3A-38D705955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A2E0E-C757-491A-8816-CF8207925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9BC8-8BDA-46FF-B760-86BFCE956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8E7B-9C08-4DD9-A855-CF0B63856E75}"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539640" y="115920"/>
            <a:ext cx="78487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Calibri"/>
              </a:rPr>
              <a:t>7.3   FASTENER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wo basic types of fasteners are typically used in construction, bolts and welds. Both are used in the fabricating shop and on the job site in connections joining individual members. Welds are also used to fasten together components of built-up members.  Bolts,  however,  are  more  commonly  used  for  field connections,  and welds, for shop work. Rivets, which were once widely used for main connections, both shop and field, are essentially obsole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Many variables affect selection of fasteners. Included among these are economy of fabrication and erection, availability of equipment, inspection criteria, labor sup- ply, and such design considerations as fatigue, size and type of connections, con- tinuity of framing, reuse, and maintenance. It is not uncommon for steel framing to be connected with such combinations as shop welds and field bolts or to be all- welded. It is usual to use field welds for column splices with bolted connections elsewhere. The variables affecting decisions on use of fasteners should be explored with engineers representing the fabricator and the erector.</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1425600" y="3573360"/>
            <a:ext cx="4659120" cy="3168720"/>
          </a:xfrm>
          <a:prstGeom prst="rect">
            <a:avLst/>
          </a:prstGeom>
          <a:ln w="0">
            <a:noFill/>
          </a:ln>
        </p:spPr>
      </p:pic>
      <p:pic>
        <p:nvPicPr>
          <p:cNvPr id="43" name="001_A_016_U Kyaw Naing.mp3" descr=""/>
          <p:cNvPicPr/>
          <p:nvPr/>
        </p:nvPicPr>
        <p:blipFill>
          <a:blip r:embed="rId2"/>
          <a:stretch/>
        </p:blipFill>
        <p:spPr>
          <a:xfrm>
            <a:off x="7667640" y="5013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830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5:37:44Z</dcterms:created>
  <dc:creator>Administrator</dc:creator>
  <dc:description/>
  <dc:language>en-US</dc:language>
  <cp:lastModifiedBy>ds0929</cp:lastModifiedBy>
  <dcterms:modified xsi:type="dcterms:W3CDTF">2013-06-24T13:47:15Z</dcterms:modified>
  <cp:revision>4</cp:revision>
  <dc:subject/>
  <dc:title>PowerPoint Presentation</dc:title>
</cp:coreProperties>
</file>