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AD940-F025-40E7-ACBF-C6040D564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8C77F-9E67-4DE2-BB8E-E5B36007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BCB32-D68E-4756-B4B9-0AB82AD0D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4734C-9E1D-4C9C-8C98-FECB4E7B3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3C4EF-DAB8-4EE7-81DB-8D43BEC2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3F5E-1DCA-448F-8972-433164AEE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318B-773A-47CB-8835-CA8C7888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3FE69-B367-45FF-B59D-EA44409E7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F78E-2E21-4054-8F2D-B873AA0EB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18AA9-6547-447C-A3E7-253C380E2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A6665-379F-4A24-B03D-4603C7D2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6BF4-5DEC-45F4-BA2E-AFF1EE44A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0E30-8BAF-4A0C-A30C-1CE19B5CDBC0}"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24000" y="76500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6.1.3 Foundation Enginee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a:t>
            </a:r>
            <a:r>
              <a:rPr b="1" lang="en-AU" sz="1800" spc="-1" strike="noStrike">
                <a:solidFill>
                  <a:srgbClr val="000000"/>
                </a:solidFill>
                <a:latin typeface="Calibri"/>
              </a:rPr>
              <a:t>foundation </a:t>
            </a:r>
            <a:r>
              <a:rPr b="0" lang="en-AU" sz="1800" spc="-1" strike="noStrike">
                <a:solidFill>
                  <a:srgbClr val="000000"/>
                </a:solidFill>
                <a:latin typeface="Calibri"/>
              </a:rPr>
              <a:t>is defined as that part of the structure that supports the weight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tructure and transmits the load to underlying soil or rock.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undation engineering applies the knowledge of soil mechanics, rock mechanics, geology, and structural engineering to the design and construction of foundations for buildings and other structures. The most basic aspect of foundation engineering deals with the selection of the type of foundation, such as using a shallow or deep foundation syste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nother important aspect of foundation engineering involves the develop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f design parameters, such as the bearing capacity of the foundation. Found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gineering could also include the actual foundation design, such as determi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ype and spacing of steel reinforcement in concrete footings. As indicated in Table 6.2, foundations are commonly divided into two categories: shallow and deep foundations.</a:t>
            </a:r>
            <a:endParaRPr b="0" lang="en-US" sz="1800" spc="-1" strike="noStrike">
              <a:solidFill>
                <a:srgbClr val="000000"/>
              </a:solidFill>
              <a:latin typeface="Calibri"/>
            </a:endParaRPr>
          </a:p>
        </p:txBody>
      </p:sp>
      <p:pic>
        <p:nvPicPr>
          <p:cNvPr id="42" name="001_A_007_U Kyaw Naing.mp3" descr=""/>
          <p:cNvPicPr/>
          <p:nvPr/>
        </p:nvPicPr>
        <p:blipFill>
          <a:blip r:embed="rId1"/>
          <a:stretch/>
        </p:blipFill>
        <p:spPr>
          <a:xfrm>
            <a:off x="752472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9984"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4:56:59Z</dcterms:created>
  <dc:creator>Administrator</dc:creator>
  <dc:description/>
  <dc:language>en-US</dc:language>
  <cp:lastModifiedBy>ds0929</cp:lastModifiedBy>
  <dcterms:modified xsi:type="dcterms:W3CDTF">2013-06-24T13:44:08Z</dcterms:modified>
  <cp:revision>4</cp:revision>
  <dc:subject/>
  <dc:title>PowerPoint Presentation</dc:title>
</cp:coreProperties>
</file>