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37629-BA96-4CB3-87D5-213E3DFA8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5C6DC-6967-4F1C-881B-10FAD0A0A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57072-D4BC-4F3B-9E44-C3D488773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6E3E0-ECE1-456D-AE14-49C369542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42D3D-690C-4375-984B-976BA2AC6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19D1D-91CB-420D-A3B7-D402BBD36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00538-6030-406A-A6FD-DF14B84CE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1BB26-26AE-432E-96A8-6272DE3D7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F41EC-FD8E-4B2C-969A-43A7F718A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CF49D-D3BD-470C-BD30-006B8FE85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CCC8B-0B83-4FD7-818A-11D87D756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DA27-9EF5-487A-8118-6B9BFA4A7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457E-2422-42A7-8C6D-7FAD76867363}"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250920" y="0"/>
            <a:ext cx="87850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5.5.4 Shear Diagram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unbalanced external vertical force at a section is called the shear. It is equal to the algebraic sum of the forces that lie on either side of the section. Upward acting forces on the left of the section are considered positive, downward forces negative; signs are reversed for forces on the right. A diagram in which the shear at every point along the length of a beam is plotted as an ordinate is called a shear diagram. The shear diagram for the beam in Fig. 5.17 is shown in Fig. 5.19</a:t>
            </a:r>
            <a:r>
              <a:rPr b="0" i="1" lang="en-AU" sz="1400" spc="-1" strike="noStrike">
                <a:solidFill>
                  <a:srgbClr val="000000"/>
                </a:solidFill>
                <a:latin typeface="Calibri"/>
              </a:rPr>
              <a:t>b</a:t>
            </a:r>
            <a:r>
              <a:rPr b="0" lang="en-AU"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diagram was plotted starting from the left end. The 2000-lb load was plotted downward to a convenient scale. Then, the shear at the next concentrated load—the left support—was determined. This equals _2000 _ 200 _ 1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or _4400 lb. In passing from must to the left of the support to a point just to the right, however, the shear changes by the magnitude of the reaction. Hence, on the right-hand side of the left support the shear is _4400 _ 14,000, or 9600 lb. At the next concentrated load, the shear is 9600 _ 200 _ 6, or 8400 lb. In passing the 4000-lb load, however, the shear changes to 8400 _ 4000, or 4400 lb. Proceeding in this manner to the right end of the beam, we terminate with a shear of 3000 lb, equal to the load on the free end the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should be noted that the shear diagram for a uniform load is a straight line sloping downward to the right (see Fig. 5.21). Therefore, the shear diagram was completed by connecting the plotted points with straight lines.</a:t>
            </a:r>
            <a:endParaRPr b="0" lang="en-US" sz="1400" spc="-1" strike="noStrike">
              <a:solidFill>
                <a:srgbClr val="000000"/>
              </a:solidFill>
              <a:latin typeface="Calibri"/>
            </a:endParaRPr>
          </a:p>
        </p:txBody>
      </p:sp>
      <p:pic>
        <p:nvPicPr>
          <p:cNvPr id="42" name="Picture 2" descr=""/>
          <p:cNvPicPr/>
          <p:nvPr/>
        </p:nvPicPr>
        <p:blipFill>
          <a:blip r:embed="rId1"/>
          <a:stretch/>
        </p:blipFill>
        <p:spPr>
          <a:xfrm>
            <a:off x="1692360" y="3736800"/>
            <a:ext cx="2182680" cy="3092760"/>
          </a:xfrm>
          <a:prstGeom prst="rect">
            <a:avLst/>
          </a:prstGeom>
          <a:ln w="0">
            <a:noFill/>
          </a:ln>
        </p:spPr>
      </p:pic>
      <p:sp>
        <p:nvSpPr>
          <p:cNvPr id="43" name="Rectangle 4"/>
          <p:cNvSpPr/>
          <p:nvPr/>
        </p:nvSpPr>
        <p:spPr>
          <a:xfrm>
            <a:off x="3780000" y="4618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5.19 </a:t>
            </a:r>
            <a:r>
              <a:rPr b="0" lang="en-AU" sz="1800" spc="-1" strike="noStrike">
                <a:solidFill>
                  <a:srgbClr val="000000"/>
                </a:solidFill>
                <a:latin typeface="Calibri"/>
              </a:rPr>
              <a:t>.Shear diagram for the bea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ith loads shown in Fig. 5.17.</a:t>
            </a:r>
            <a:endParaRPr b="0" lang="en-US" sz="1800" spc="-1" strike="noStrike">
              <a:solidFill>
                <a:srgbClr val="000000"/>
              </a:solidFill>
              <a:latin typeface="Calibri"/>
            </a:endParaRPr>
          </a:p>
        </p:txBody>
      </p:sp>
      <p:pic>
        <p:nvPicPr>
          <p:cNvPr id="44" name="001_A_005_U Kyaw Naing.mp3" descr=""/>
          <p:cNvPicPr/>
          <p:nvPr/>
        </p:nvPicPr>
        <p:blipFill>
          <a:blip r:embed="rId2"/>
          <a:stretch/>
        </p:blipFill>
        <p:spPr>
          <a:xfrm>
            <a:off x="788508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161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04:37:16Z</dcterms:created>
  <dc:creator>Administrator</dc:creator>
  <dc:description/>
  <dc:language>en-US</dc:language>
  <cp:lastModifiedBy>ds0929</cp:lastModifiedBy>
  <dcterms:modified xsi:type="dcterms:W3CDTF">2013-06-24T13:43:18Z</dcterms:modified>
  <cp:revision>3</cp:revision>
  <dc:subject/>
  <dc:title>PowerPoint Presentation</dc:title>
</cp:coreProperties>
</file>