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5DDC-DCE2-4BD0-AFBA-D14466170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6B04-534D-4ED4-95B7-546F7621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034B-BF62-4C0A-9CF1-790D239EC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1F4D-EB79-465D-A21E-77CFA213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21D8-993E-437F-B74C-7F981BA5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B7CD-053F-45AD-97D0-86E39577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9B1C-9AE9-4D1C-9557-633A9A63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2DEA-01F8-4400-9941-F2B09FEA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9F6D-8F05-4C5D-B1D7-186A3544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1B24-C4C3-43E5-A3D3-81DDAD77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C6F5-B76D-4136-8998-F4631114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214E-9EDF-46AE-A542-EB83F6E0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1CD5-487B-479D-B8F5-ECDF57077D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900000" y="620640"/>
            <a:ext cx="698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+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Lr 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(2)  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+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W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/ 1.4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(3)  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W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/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W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/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/ 1.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(6) 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0.9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/ 1.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= dead 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= live loads due to intended use of occupancy, including part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Lr 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= roof live loa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= snow loa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R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= rain loa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W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= wind loa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= seismic loa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001_A_002_U Kyaw Naing.mp3" descr=""/>
          <p:cNvPicPr/>
          <p:nvPr/>
        </p:nvPicPr>
        <p:blipFill>
          <a:blip r:embed="rId1"/>
          <a:stretch/>
        </p:blipFill>
        <p:spPr>
          <a:xfrm>
            <a:off x="7667640" y="5805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932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03:47:33Z</dcterms:created>
  <dc:creator>Administrator</dc:creator>
  <dc:description/>
  <dc:language>en-US</dc:language>
  <cp:lastModifiedBy>ds0929</cp:lastModifiedBy>
  <dcterms:modified xsi:type="dcterms:W3CDTF">2013-06-24T13:42:11Z</dcterms:modified>
  <cp:revision>5</cp:revision>
  <dc:subject/>
  <dc:title>PowerPoint Presentation</dc:title>
</cp:coreProperties>
</file>