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07C-57B2-4CD2-B52A-11F9E579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D39-52CA-4524-91A8-11313BE7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C06-3485-4FFA-9E6D-1AC363CF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D04-C495-438F-A98D-748CD0F3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25C-9824-49DA-8679-38A59B0A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BD9-8D74-4329-989E-E9AE17B7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973B-CA10-41F3-A629-BD705B83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BBD1-49E7-4477-B2B7-0030A978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56D3-686F-4046-9F3E-76174FC7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670C-3014-4FAB-9DCB-085A1E64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9ED-7797-404D-8E73-BA4F39A1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8972-26CD-4FCB-9D90-0DB7D487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2823-C724-474F-B7E5-6195B2D35D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706400" y="0"/>
            <a:ext cx="48816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47_U Kyaw Naing.mp3" descr=""/>
          <p:cNvPicPr/>
          <p:nvPr/>
        </p:nvPicPr>
        <p:blipFill>
          <a:blip r:embed="rId2"/>
          <a:stretch/>
        </p:blipFill>
        <p:spPr>
          <a:xfrm>
            <a:off x="8028000" y="386064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3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01:40Z</dcterms:created>
  <dc:creator>ukyawnaing</dc:creator>
  <dc:description/>
  <dc:language>en-US</dc:language>
  <cp:lastModifiedBy>ds0929</cp:lastModifiedBy>
  <dcterms:modified xsi:type="dcterms:W3CDTF">2013-06-26T14:02:45Z</dcterms:modified>
  <cp:revision>2</cp:revision>
  <dc:subject/>
  <dc:title>Slide 1</dc:title>
</cp:coreProperties>
</file>