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28B-6A0F-4815-9784-56FEB4E5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971-946A-4448-BD6C-64BFA162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A37-D310-4E5E-AF52-0A82C1BD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E93-856D-440B-AF75-07B76D4F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443-D198-49FE-BFA2-C44EF78A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D33-2581-481D-8FF4-40CAA478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321-508F-4427-A7C7-6C343201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470-1158-4317-A6F6-6647FB47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F2D-D800-4C22-8C80-98F1578F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1EE-F03F-4863-A2FD-7B27A248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A73-4419-43B7-B83B-8894BA28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B15-9C0F-4E74-93E1-00B5876D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1BE-ACB8-4825-ABC5-2E5AE744C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828720"/>
            <a:ext cx="9128160" cy="46879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4_U Kyaw Naing.mp3" descr=""/>
          <p:cNvPicPr/>
          <p:nvPr/>
        </p:nvPicPr>
        <p:blipFill>
          <a:blip r:embed="rId2"/>
          <a:stretch/>
        </p:blipFill>
        <p:spPr>
          <a:xfrm>
            <a:off x="781200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2:53Z</dcterms:created>
  <dc:creator>ukyawnaing</dc:creator>
  <dc:description/>
  <dc:language>en-US</dc:language>
  <cp:lastModifiedBy>ds0929</cp:lastModifiedBy>
  <dcterms:modified xsi:type="dcterms:W3CDTF">2013-06-26T13:45:55Z</dcterms:modified>
  <cp:revision>2</cp:revision>
  <dc:subject/>
  <dc:title>Slide 1</dc:title>
</cp:coreProperties>
</file>