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B86-9593-41EC-BD7F-4B1CBC40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BCD-77D1-482D-9FE3-24C5B850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994-EC98-4ACF-A0D2-B4A64F47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CF4-AE41-43FA-A543-18EF2151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B95-8AF4-4E7A-95B8-A64CF25D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86B-92D8-4A7D-B6B2-F304D2D1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0E4-0343-4FC5-A14B-05BE171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7F2-4CCB-442A-BB3A-772F7457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FDA-5B7E-48AC-9721-97D4DB4F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4D2-BB22-426A-B9F8-DF28CD9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67D-D082-4A29-A897-61056FE1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51C-2475-4422-BFEC-475C56A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9C2D-E706-4C08-BB69-356995D10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73120" y="620640"/>
            <a:ext cx="7997760" cy="5616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817236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1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4:56Z</dcterms:created>
  <dc:creator>ukyawnaing</dc:creator>
  <dc:description/>
  <dc:language>en-US</dc:language>
  <cp:lastModifiedBy>ds0929</cp:lastModifiedBy>
  <dcterms:modified xsi:type="dcterms:W3CDTF">2013-06-26T13:35:24Z</dcterms:modified>
  <cp:revision>2</cp:revision>
  <dc:subject/>
  <dc:title>Slide 1</dc:title>
</cp:coreProperties>
</file>