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9C8-1F97-4355-9361-CE621235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E97-087E-4C60-823B-C04F5F58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913-CAD0-41FF-9DE4-DE19EEC6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2B4-764F-4752-917E-7DB4A5C4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AAF-6EF0-4001-9209-A9FE2800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461-9F62-49A6-89A2-33946F17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DC6-C9F9-431E-BEDE-53915093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FEE-0DF0-43F5-B12E-A914AF09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636-E25C-41B2-A7BD-F30A0040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08F-B52E-4876-B7EC-43F136C6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9BE-9FB5-49F5-A9B0-0B893D91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E59-E30E-4A12-9697-2FF22992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20E8-6D1A-40A1-A7D8-F67F9313E4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299880"/>
            <a:ext cx="9155160" cy="59374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7_U Kyaw Naing.mp3" descr=""/>
          <p:cNvPicPr/>
          <p:nvPr/>
        </p:nvPicPr>
        <p:blipFill>
          <a:blip r:embed="rId2"/>
          <a:stretch/>
        </p:blipFill>
        <p:spPr>
          <a:xfrm>
            <a:off x="370836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7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3:23Z</dcterms:created>
  <dc:creator>ukyawnaing</dc:creator>
  <dc:description/>
  <dc:language>en-US</dc:language>
  <cp:lastModifiedBy>ds0929</cp:lastModifiedBy>
  <dcterms:modified xsi:type="dcterms:W3CDTF">2013-06-26T13:56:16Z</dcterms:modified>
  <cp:revision>2</cp:revision>
  <dc:subject/>
  <dc:title>Slide 1</dc:title>
</cp:coreProperties>
</file>