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F2D-7976-4713-9A46-93B87C6B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C53-85F8-4B22-BEB0-9C51CA5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F0E-0508-4C82-831E-B043252B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F8E-0021-4468-97C3-1F29C454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ECE-88F5-47D1-A398-C673CEC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BEB-D87B-40A5-8F0D-455745B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6C1-7AF4-4A01-9A7E-481FAB0B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FA5-B367-4578-85F0-B57AE57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16B-7712-442D-B6E6-44460D23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78A-9AB2-4963-8EBB-E2647D2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79F-957A-49A8-82F2-5BA5B21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EA2-0DD3-4101-BA2B-CEA50C8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F9E-4607-44BC-B1EB-E15D5849E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-31680"/>
            <a:ext cx="5731200" cy="69213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7_U Kyaw Naing.mp3" descr=""/>
          <p:cNvPicPr/>
          <p:nvPr/>
        </p:nvPicPr>
        <p:blipFill>
          <a:blip r:embed="rId2"/>
          <a:stretch/>
        </p:blipFill>
        <p:spPr>
          <a:xfrm>
            <a:off x="802800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4:28Z</dcterms:created>
  <dc:creator>ukyawnaing</dc:creator>
  <dc:description/>
  <dc:language>en-US</dc:language>
  <cp:lastModifiedBy>ds0929</cp:lastModifiedBy>
  <dcterms:modified xsi:type="dcterms:W3CDTF">2013-06-26T13:47:16Z</dcterms:modified>
  <cp:revision>2</cp:revision>
  <dc:subject/>
  <dc:title>Slide 1</dc:title>
</cp:coreProperties>
</file>