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60D-D64A-49F0-A76D-7A3C5F2F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EBC-571A-422A-AD92-D15D433B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FDC-91C4-4694-B6B2-8E6F8232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1F9-7B1B-431F-A0C5-D1C826BF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947-1426-40C0-A696-12EE4F7F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696-8F78-4A42-A791-7121B344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65F-5F04-4240-9CC1-DC1F1BB1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3B0-F7FC-4583-AF3D-DB851346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E81-16FD-4CD5-8C84-76A1E139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C3E-9EDE-4790-9FD2-09549BD6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CBC-98D6-4894-8960-0E2EED5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35B-E1DA-43D5-AADC-2507937F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86CD-3251-4CA2-9DE0-D6BEAC3D8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619280" y="-4680"/>
            <a:ext cx="5900760" cy="68626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4_U Kyaw Naing.mp3" descr=""/>
          <p:cNvPicPr/>
          <p:nvPr/>
        </p:nvPicPr>
        <p:blipFill>
          <a:blip r:embed="rId2"/>
          <a:stretch/>
        </p:blipFill>
        <p:spPr>
          <a:xfrm>
            <a:off x="8101080" y="486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82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4867200" cy="3448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348000" y="3236760"/>
            <a:ext cx="4680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5124600" cy="409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3564000" y="4657680"/>
            <a:ext cx="4314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58920" y="304920"/>
            <a:ext cx="676908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31:56Z</dcterms:created>
  <dc:creator>ukyawnaing</dc:creator>
  <dc:description/>
  <dc:language>en-US</dc:language>
  <cp:lastModifiedBy>ds0929</cp:lastModifiedBy>
  <dcterms:modified xsi:type="dcterms:W3CDTF">2013-06-26T13:59:16Z</dcterms:modified>
  <cp:revision>3</cp:revision>
  <dc:subject/>
  <dc:title>Slide 1</dc:title>
</cp:coreProperties>
</file>