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E48-8C70-4D11-813C-3E9B543B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AC3-F05E-480B-B01B-7A0F5F3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218-B318-495E-BA3F-D529C4E7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444-DE1A-418B-B4FB-117E4214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28F-226B-4571-B4CE-CDE3032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703-911F-48E9-A893-4C80879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BFC-251F-4B3E-9A73-9E72F0DC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DE7-53F1-43A2-9C46-BADE0B4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9CE-F79D-4870-978E-052815A0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AA6-F15F-4902-BD36-A3F4316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63F-34A5-4A79-9480-95D6158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027-1D7C-42CC-A4AA-E67FE9E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DF3-C848-4D7A-95E6-7CDEF9652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68360" y="-171360"/>
            <a:ext cx="4886280" cy="394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780000" y="4029120"/>
            <a:ext cx="4438440" cy="2828880"/>
          </a:xfrm>
          <a:prstGeom prst="rect">
            <a:avLst/>
          </a:prstGeom>
          <a:ln w="0">
            <a:noFill/>
          </a:ln>
        </p:spPr>
      </p:pic>
      <p:pic>
        <p:nvPicPr>
          <p:cNvPr id="43" name="001_A_033_U Kyaw Naing.mp3" descr=""/>
          <p:cNvPicPr/>
          <p:nvPr/>
        </p:nvPicPr>
        <p:blipFill>
          <a:blip r:embed="rId3"/>
          <a:stretch/>
        </p:blipFill>
        <p:spPr>
          <a:xfrm>
            <a:off x="183528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0:19Z</dcterms:created>
  <dc:creator>ukyawnaing</dc:creator>
  <dc:description/>
  <dc:language>en-US</dc:language>
  <cp:lastModifiedBy>ds0929</cp:lastModifiedBy>
  <dcterms:modified xsi:type="dcterms:W3CDTF">2013-06-26T13:50:15Z</dcterms:modified>
  <cp:revision>2</cp:revision>
  <dc:subject/>
  <dc:title>Slide 1</dc:title>
</cp:coreProperties>
</file>