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F11-7A20-4694-AB0D-6E652A90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0CB-10BB-4750-9CF0-87C3DBA9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1E4-232B-47C6-84C3-6C90D6C8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C20-A69D-4108-A0CA-F98143F4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60B-CE98-4712-917C-451D5963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91F-55CE-4B23-9425-E7E65862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C74-6881-409D-BCB7-8C5F3467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0AF-1EDE-4818-B5E0-062101FC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420-E25D-47D9-AE00-C8FA8B00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E10-870B-4F8E-95BA-249D794F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31E-FA41-40DC-8404-83267105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F39-476D-4B0A-8F55-8BD2666F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450C-15B1-4A9E-9A72-5912998A80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9680" cy="688644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8_U Kyaw Naing.mp3" descr=""/>
          <p:cNvPicPr/>
          <p:nvPr/>
        </p:nvPicPr>
        <p:blipFill>
          <a:blip r:embed="rId2"/>
          <a:stretch/>
        </p:blipFill>
        <p:spPr>
          <a:xfrm>
            <a:off x="8459640" y="486900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02:47Z</dcterms:created>
  <dc:creator>ukyawnaing</dc:creator>
  <dc:description/>
  <dc:language>en-US</dc:language>
  <cp:lastModifiedBy>ds0929</cp:lastModifiedBy>
  <dcterms:modified xsi:type="dcterms:W3CDTF">2013-06-26T14:04:49Z</dcterms:modified>
  <cp:revision>2</cp:revision>
  <dc:subject/>
  <dc:title>Slide 1</dc:title>
</cp:coreProperties>
</file>