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CF3-4220-4670-8338-E88A03C6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D6F-E558-45C2-AB86-BD9A7A6A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B92-3DDE-4189-A5A4-9956D229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FE87-F17F-40AD-B70D-FFF3B450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93D-7456-439E-BA67-9DBDB3CC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7B2-6107-4D2C-976D-0012609B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751-105D-42A2-92E2-ACD43DDE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5BB2-A373-4B3A-B6F9-50BE0B4A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C54-761F-4489-816D-C6AE17B4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C17-8E21-4CA7-8487-46770CCD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76E-4AB0-4CB9-8701-BA814C66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C6E-1D39-4968-88E4-F76D41DB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B7A2-996F-4685-95C1-B59036C79D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905040"/>
            <a:ext cx="8901000" cy="43956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7_U Kyaw Naing.mp3" descr=""/>
          <p:cNvPicPr/>
          <p:nvPr/>
        </p:nvPicPr>
        <p:blipFill>
          <a:blip r:embed="rId2"/>
          <a:stretch/>
        </p:blipFill>
        <p:spPr>
          <a:xfrm>
            <a:off x="766764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9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48:19Z</dcterms:created>
  <dc:creator>ukyawnaing</dc:creator>
  <dc:description/>
  <dc:language>en-US</dc:language>
  <cp:lastModifiedBy>ds0929</cp:lastModifiedBy>
  <dcterms:modified xsi:type="dcterms:W3CDTF">2013-06-26T13:37:49Z</dcterms:modified>
  <cp:revision>2</cp:revision>
  <dc:subject/>
  <dc:title>Slide 1</dc:title>
</cp:coreProperties>
</file>