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7C3-2563-4782-A364-5D082928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22E-51A0-4350-AF6B-E9FDCC9D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2BE-6AD7-4F8B-89CC-EF5FAF94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7EE-EB13-4117-A126-8D4C846A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126-871F-45CC-A9DE-BCAD2EA7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969-20A0-455F-B036-609A122B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670-A2A8-4F02-876C-CC9DDB34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459-E431-44BC-970B-58A38F8B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DAC-2E7E-44F9-AD23-4A0EF32F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C1C-793B-4ED5-AE14-629E9A8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627-98B8-4AE7-A2CC-894DA39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38A-97A1-40B0-A413-3720383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D32F-C43D-4117-BF58-10AF4F7978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162160" y="0"/>
            <a:ext cx="3705120" cy="67168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5_U Kyaw Naing.mp3" descr=""/>
          <p:cNvPicPr/>
          <p:nvPr/>
        </p:nvPicPr>
        <p:blipFill>
          <a:blip r:embed="rId2"/>
          <a:stretch/>
        </p:blipFill>
        <p:spPr>
          <a:xfrm>
            <a:off x="766764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9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1:45Z</dcterms:created>
  <dc:creator>ukyawnaing</dc:creator>
  <dc:description/>
  <dc:language>en-US</dc:language>
  <cp:lastModifiedBy>ds0929</cp:lastModifiedBy>
  <dcterms:modified xsi:type="dcterms:W3CDTF">2013-06-26T13:55:17Z</dcterms:modified>
  <cp:revision>2</cp:revision>
  <dc:subject/>
  <dc:title>Slide 1</dc:title>
</cp:coreProperties>
</file>