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483-7EDC-4D94-B31D-252DE4FC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341-1DCD-4010-BDBA-1E294FE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6FD-9B9B-4CF8-84FE-9CFB6B69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F65-69BA-473F-8982-E493A6C5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667-F372-48A4-9596-A837A7A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1AF-CDA2-444B-97BC-A2CCB647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FC1-583E-428B-ABD6-BE390759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7FB-FCDA-417D-8A46-0B62443D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9E2-97D2-48CD-A0D2-A099B946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D69-6721-4151-8A69-12C5F62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687-81EB-4E1E-9401-1B3C222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0A2-B594-4D6E-B260-386BE11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2601-1705-483C-93EA-CF797DBAF9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058160" cy="6480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752472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1:07Z</dcterms:created>
  <dc:creator>ukyawnaing</dc:creator>
  <dc:description/>
  <dc:language>en-US</dc:language>
  <cp:lastModifiedBy>ds0929</cp:lastModifiedBy>
  <dcterms:modified xsi:type="dcterms:W3CDTF">2013-06-26T13:39:03Z</dcterms:modified>
  <cp:revision>2</cp:revision>
  <dc:subject/>
  <dc:title>Slide 1</dc:title>
</cp:coreProperties>
</file>