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80D-A09F-40A7-8008-1D5FC182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496-CF66-44AA-B737-7569838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886-3FF6-447F-84AB-E3108F9E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E1A-C022-4A10-A472-19E4F295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501-51E2-4188-91AB-FD4E20A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025-8E20-46A0-A1D3-9E1A5446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02F-9B4E-406F-9F98-6FE403F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E6F-F134-4D99-BFCA-32435DF6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A05-B123-4EBB-9310-40454AD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E99-E907-4361-8C77-8E43FB8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3CF-E32E-4ABE-A2B4-168E9FA3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036-A790-4947-AEDD-3D92583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86D-86FB-469D-8DFC-CC15913BF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6624720" cy="6669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8_U Kyaw Naing.mp3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3:43Z</dcterms:created>
  <dc:creator>ukyawnaing</dc:creator>
  <dc:description/>
  <dc:language>en-US</dc:language>
  <cp:lastModifiedBy>ds0929</cp:lastModifiedBy>
  <dcterms:modified xsi:type="dcterms:W3CDTF">2013-06-26T14:10:04Z</dcterms:modified>
  <cp:revision>2</cp:revision>
  <dc:subject/>
  <dc:title>Slide 1</dc:title>
</cp:coreProperties>
</file>