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F943-760D-4838-A603-D9A80BD0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4DEA-C049-489B-A1E5-A134FB87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5302-0F3D-4429-922C-FBF7B52A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0D34-AABB-4EFF-9457-66F12FCA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6067-28A0-4A0B-B384-75F2D7C3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35DF-6C57-4846-9AE2-6A612BF0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4D7E-E1B4-49C1-9927-6B0D1DC5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F657-7D13-43B7-BD8E-4D0CE582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2DB4-8DD2-4BDB-869E-0AA19F13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FD45-1C11-46AC-9BE6-7790E4C5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4EFB-9FBE-4D87-B3B9-377719C2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B6D-28C1-4451-A260-76731F11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A09C-8D86-4FE1-9AD4-A78BD241CC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4772160" cy="1162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332000" y="1704960"/>
            <a:ext cx="5048280" cy="5153040"/>
          </a:xfrm>
          <a:prstGeom prst="rect">
            <a:avLst/>
          </a:prstGeom>
          <a:ln w="0">
            <a:noFill/>
          </a:ln>
        </p:spPr>
      </p:pic>
      <p:pic>
        <p:nvPicPr>
          <p:cNvPr id="43" name="001_A_045_U Kyaw Naing.mp3" descr=""/>
          <p:cNvPicPr/>
          <p:nvPr/>
        </p:nvPicPr>
        <p:blipFill>
          <a:blip r:embed="rId3"/>
          <a:stretch/>
        </p:blipFill>
        <p:spPr>
          <a:xfrm>
            <a:off x="7596360" y="479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697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36:22Z</dcterms:created>
  <dc:creator>ukyawnaing</dc:creator>
  <dc:description/>
  <dc:language>en-US</dc:language>
  <cp:lastModifiedBy>ds0929</cp:lastModifiedBy>
  <dcterms:modified xsi:type="dcterms:W3CDTF">2013-06-26T13:59:40Z</dcterms:modified>
  <cp:revision>2</cp:revision>
  <dc:subject/>
  <dc:title>Slide 1</dc:title>
</cp:coreProperties>
</file>