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6B77-C032-41EA-8B64-6271EA0A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47B6-BA8D-4B8A-8437-65527C0A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44B-A756-461C-AACF-CFA82489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F070-FBC2-4587-BDE0-B10AAF4A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948E-88F5-4450-83A0-2A23B6E0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B36-46B1-49F0-BFEB-8F2AB193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E0B-7ABC-4BBC-916C-8DBB0AA7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A3A9-ABA0-40D1-80AB-DCA2D9D6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A34-4A49-4843-82EF-A11DA051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70D-B791-4A57-816D-64F8FAFD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5B0F-DF35-419B-98CE-836065D8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D1AB-E010-4A0E-A5DB-04DDE896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E3F1-E030-4401-AC53-922DE2C52E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43080" y="361800"/>
            <a:ext cx="8458200" cy="61344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2_U Kyaw Naing.mp3" descr=""/>
          <p:cNvPicPr/>
          <p:nvPr/>
        </p:nvPicPr>
        <p:blipFill>
          <a:blip r:embed="rId2"/>
          <a:stretch/>
        </p:blipFill>
        <p:spPr>
          <a:xfrm>
            <a:off x="7740720" y="4221000"/>
            <a:ext cx="193680" cy="1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9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1:58Z</dcterms:created>
  <dc:creator>ukyawnaing</dc:creator>
  <dc:description/>
  <dc:language>en-US</dc:language>
  <cp:lastModifiedBy>ds0929</cp:lastModifiedBy>
  <dcterms:modified xsi:type="dcterms:W3CDTF">2013-06-26T13:44:56Z</dcterms:modified>
  <cp:revision>2</cp:revision>
  <dc:subject/>
  <dc:title>Slide 1</dc:title>
</cp:coreProperties>
</file>