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2B36-2BCA-4DF3-A8F6-B323A02A1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47DD-B53B-4958-9823-3169D52B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9D0A-60B5-4488-A7B9-904D79F24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9B96-C2F7-43DD-A000-6AF36A4F7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B692-D4B2-4C19-A9EA-AB49C66B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2B59-80C5-41E9-8C2A-63A63DBE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12CF-D4D8-4170-954F-62F78D63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819C-F5A8-43DC-AF80-92B71BD8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B63B-5528-486B-919D-8F9C23B6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E5CF-59F8-41E7-BA2E-AB585C7A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90FC-6F0B-4AA2-9B56-AFB39165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3711-2528-46F1-905A-F8635785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BC31-1B5B-45FE-8197-77D33C93CA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31920" y="692280"/>
            <a:ext cx="8480160" cy="547344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5_U Kyaw Naing.mp3" descr=""/>
          <p:cNvPicPr/>
          <p:nvPr/>
        </p:nvPicPr>
        <p:blipFill>
          <a:blip r:embed="rId2"/>
          <a:stretch/>
        </p:blipFill>
        <p:spPr>
          <a:xfrm>
            <a:off x="7885080" y="5661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11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56:47Z</dcterms:created>
  <dc:creator>ukyawnaing</dc:creator>
  <dc:description/>
  <dc:language>en-US</dc:language>
  <cp:lastModifiedBy>ds0929</cp:lastModifiedBy>
  <dcterms:modified xsi:type="dcterms:W3CDTF">2013-06-26T13:41:45Z</dcterms:modified>
  <cp:revision>2</cp:revision>
  <dc:subject/>
  <dc:title>Slide 1</dc:title>
</cp:coreProperties>
</file>