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61C-087F-41C7-ADDE-EF06BC0C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B9A-A662-4D85-959B-8838650F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E9C-C593-434F-A197-30064273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5DE-F44E-4209-A39E-D8519428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586-2FAB-479E-BB58-58B3E4ED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67A-DDCA-435D-B001-060AB5AA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FAB-DB5D-437D-B92C-21965812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BEF-71AE-441A-AE8A-207F3A3B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D7D-A3BF-4449-9630-3E02EF57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F88-229F-4B40-B195-7B7FCF6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F78-AA01-4855-A4C5-8535F34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718-5E4B-47AC-BBBB-402BF82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612-D6EC-44F7-ABAA-DBF4C69DF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7740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2:49Z</dcterms:created>
  <dc:creator>ukyawnaing</dc:creator>
  <dc:description/>
  <dc:language>en-US</dc:language>
  <cp:lastModifiedBy>ds0929</cp:lastModifiedBy>
  <dcterms:modified xsi:type="dcterms:W3CDTF">2013-06-26T13:34:41Z</dcterms:modified>
  <cp:revision>2</cp:revision>
  <dc:subject/>
  <dc:title>Slide 1</dc:title>
</cp:coreProperties>
</file>