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E6C-B32F-411B-921F-4A7E98AA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3B7-8EAA-4A63-9AE1-9FAE9E99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D74-45CD-49FF-A5C8-BB1CC22A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C39-9572-487B-B367-FAAE989D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537-6C70-4548-A580-DC60EA53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C50-314C-4E8B-A353-3ECB9537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E02-155D-4628-A6FF-8EC63F4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AE4-C1ED-403A-B66A-22A52BE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B30-3B94-4439-A3DD-64003F26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D88-B1D0-4A77-83B2-1B6AD05E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5B6-6CF7-4E20-B6C0-9A5FB67D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9C6-8411-4477-97D9-ABC62BA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2042-65A7-472D-A04E-7875BDD5FB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10880" cy="6943680"/>
          </a:xfrm>
          <a:prstGeom prst="rect">
            <a:avLst/>
          </a:prstGeom>
          <a:ln w="0">
            <a:noFill/>
          </a:ln>
        </p:spPr>
      </p:pic>
      <p:pic>
        <p:nvPicPr>
          <p:cNvPr id="44" name="001_A_053_U Kyaw Naing.mp3" descr=""/>
          <p:cNvPicPr/>
          <p:nvPr/>
        </p:nvPicPr>
        <p:blipFill>
          <a:blip r:embed="rId2"/>
          <a:stretch/>
        </p:blipFill>
        <p:spPr>
          <a:xfrm>
            <a:off x="8899560" y="51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5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0:56Z</dcterms:created>
  <dc:creator>ukyawnaing</dc:creator>
  <dc:description/>
  <dc:language>en-US</dc:language>
  <cp:lastModifiedBy>ds0929</cp:lastModifiedBy>
  <dcterms:modified xsi:type="dcterms:W3CDTF">2013-06-26T14:08:04Z</dcterms:modified>
  <cp:revision>2</cp:revision>
  <dc:subject/>
  <dc:title>Slide 1</dc:title>
</cp:coreProperties>
</file>