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592-0D77-4FAE-A64A-8EE1CFE6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D50-145C-479E-9BF4-F1AC91EE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A9-E0D4-46D4-ABA3-D57ACC4D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5E2-37BB-4588-AD51-0A2D9DB0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312-E9B4-4B76-9ECE-BC160C0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098-006E-4BFE-AE1B-67F747C9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2A9-1D80-4CBD-A1EA-DF31D84B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D40-4D04-4B81-A117-A7D1F72B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A29-66AF-46CD-9344-004DA66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BE1-5B11-4A48-83A6-E090A47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4D9-88AC-40D3-B033-EF74F82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E3A-F886-4849-9C7C-C0C5615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1C4A-200D-4B8D-B5DA-833A715C29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06400" y="266760"/>
            <a:ext cx="6034320" cy="65912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9_U Kyaw Naing.mp3" descr=""/>
          <p:cNvPicPr/>
          <p:nvPr/>
        </p:nvPicPr>
        <p:blipFill>
          <a:blip r:embed="rId2"/>
          <a:stretch/>
        </p:blipFill>
        <p:spPr>
          <a:xfrm>
            <a:off x="817236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4:31Z</dcterms:created>
  <dc:creator>ukyawnaing</dc:creator>
  <dc:description/>
  <dc:language>en-US</dc:language>
  <cp:lastModifiedBy>ds0929</cp:lastModifiedBy>
  <dcterms:modified xsi:type="dcterms:W3CDTF">2013-06-26T14:10:27Z</dcterms:modified>
  <cp:revision>2</cp:revision>
  <dc:subject/>
  <dc:title>Slide 1</dc:title>
</cp:coreProperties>
</file>