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7A9-93D9-440F-A391-26FEF055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DBC-6015-4EA1-9191-BECD490D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AA6-5D81-43A6-8E82-B34987B6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251-F1FF-4BB4-81C7-C344B851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388-AF06-403F-BDB1-76EC4BD7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2BB-4453-4B23-886E-CF3F031F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0EC-5544-440F-ADDD-D7546FA2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9B6-21DD-4425-8A25-BF86A45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AD0-3230-4ED9-90E5-8F2A64C4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164-2876-446D-A0ED-6DD31D2D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FC9-87C5-4BD9-BAA0-59D0D7D5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C5C-7B27-4AD8-AD0D-4E4CCCC0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D0D-1D07-4F54-9C83-B512396F03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66760" y="0"/>
            <a:ext cx="4459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1_U Kyaw Naing.mp3" descr=""/>
          <p:cNvPicPr/>
          <p:nvPr/>
        </p:nvPicPr>
        <p:blipFill>
          <a:blip r:embed="rId2"/>
          <a:stretch/>
        </p:blipFill>
        <p:spPr>
          <a:xfrm>
            <a:off x="7524720" y="42210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8:55Z</dcterms:created>
  <dc:creator>ukyawnaing</dc:creator>
  <dc:description/>
  <dc:language>en-US</dc:language>
  <cp:lastModifiedBy>ds0929</cp:lastModifiedBy>
  <dcterms:modified xsi:type="dcterms:W3CDTF">2013-06-26T13:49:18Z</dcterms:modified>
  <cp:revision>8</cp:revision>
  <dc:subject/>
  <dc:title>Slide 1</dc:title>
</cp:coreProperties>
</file>