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A1F-0A9E-422C-9DAF-106782CB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9990-373B-4FFF-8DF3-7E56F080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F5D-2D97-469B-80DB-7BFF5420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622-7888-4930-B07D-536E484C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AD7-8656-4040-AF8D-546E7D7B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E84-2F1F-4CB2-A859-AE190FF6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507-B127-48FE-96B3-6342AC8F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158-E588-4CE4-AC53-456EA3B8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9E2-46DF-47B8-93D4-633900B3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5A4-6F4C-4C29-B920-31A7DDB6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77B-71B1-4E1D-8B13-873D6845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B66-9962-481F-81FC-01D89964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68BF-339F-408C-967A-6B79E5BD33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81120" y="0"/>
            <a:ext cx="5043240" cy="665964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5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9:50Z</dcterms:created>
  <dc:creator>ukyawnaing</dc:creator>
  <dc:description/>
  <dc:language>en-US</dc:language>
  <cp:lastModifiedBy>ds0929</cp:lastModifiedBy>
  <dcterms:modified xsi:type="dcterms:W3CDTF">2013-06-26T13:42:56Z</dcterms:modified>
  <cp:revision>2</cp:revision>
  <dc:subject/>
  <dc:title>Slide 1</dc:title>
</cp:coreProperties>
</file>