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119-B55B-4BF1-9BC7-CCEF272C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C7D-4766-4B61-9B47-6E5764BD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C39-25D0-43AD-A8B2-B68F8A79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528-18AE-4662-90FC-1892054D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7DE-0059-44A1-9280-983125E6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87D-A5D0-422E-BCF7-44CD742B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9242-94F4-4361-A846-1F5748F3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040-B893-4DDB-A7C6-C8F14C3A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FFB-17ED-4DA4-ADCC-A2C0BA3B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B22-C407-47EE-B97E-0BF2B753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BD7-C830-42C0-8796-14396C64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DD7-6E39-4512-B804-986E3F9E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9256-A597-4DBA-998C-5F59150C5C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28640" y="223920"/>
            <a:ext cx="7686720" cy="6410160"/>
          </a:xfrm>
          <a:prstGeom prst="rect">
            <a:avLst/>
          </a:prstGeom>
          <a:ln w="0">
            <a:noFill/>
          </a:ln>
        </p:spPr>
      </p:pic>
      <p:pic>
        <p:nvPicPr>
          <p:cNvPr id="44" name="001_A_056_U Kyaw Naing.mp3" descr=""/>
          <p:cNvPicPr/>
          <p:nvPr/>
        </p:nvPicPr>
        <p:blipFill>
          <a:blip r:embed="rId2"/>
          <a:stretch/>
        </p:blipFill>
        <p:spPr>
          <a:xfrm>
            <a:off x="8172360" y="443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91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2:21Z</dcterms:created>
  <dc:creator>ukyawnaing</dc:creator>
  <dc:description/>
  <dc:language>en-US</dc:language>
  <cp:lastModifiedBy>ds0929</cp:lastModifiedBy>
  <dcterms:modified xsi:type="dcterms:W3CDTF">2013-06-26T14:09:17Z</dcterms:modified>
  <cp:revision>2</cp:revision>
  <dc:subject/>
  <dc:title>Slide 1</dc:title>
</cp:coreProperties>
</file>