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CF4-F85F-4F10-A31D-326E2D12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97D6-BBDD-4E00-A3CD-0E47A679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683-3DE1-4CB1-86D7-4FD856EE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F98-3CBD-4F1B-9D8E-E0AAA257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9E3-3C92-4532-8933-70DB0E50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B44-170C-4C9F-9BEC-750084A3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E3AB-AC07-4238-A6E8-68A6FE60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E11-85EA-481A-9E30-E2390CC1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26C-A578-42CD-84F1-9FB9DA9D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218-DA12-4344-B03A-FC4AADBF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5D4-E6BC-412D-ADAA-44475F60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3D4-D39D-486C-87D4-5126C09C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45EF-FEBD-4DA1-8F30-63D4BD5EA2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4619520" cy="924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1763640" y="1125360"/>
            <a:ext cx="4800600" cy="1266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1763640" y="2205000"/>
            <a:ext cx="5133960" cy="44388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39_U Kyaw Naing.mp3" descr=""/>
          <p:cNvPicPr/>
          <p:nvPr/>
        </p:nvPicPr>
        <p:blipFill>
          <a:blip r:embed="rId4"/>
          <a:stretch/>
        </p:blipFill>
        <p:spPr>
          <a:xfrm>
            <a:off x="7956720" y="4869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28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15:42Z</dcterms:created>
  <dc:creator>ukyawnaing</dc:creator>
  <dc:description/>
  <dc:language>en-US</dc:language>
  <cp:lastModifiedBy>ds0929</cp:lastModifiedBy>
  <dcterms:modified xsi:type="dcterms:W3CDTF">2013-06-26T13:57:05Z</dcterms:modified>
  <cp:revision>2</cp:revision>
  <dc:subject/>
  <dc:title>Slide 1</dc:title>
</cp:coreProperties>
</file>