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6FF0-3B3F-4F9A-A7CA-59982A7BC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9158-E62D-4D34-85B8-35AA62FE4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E08D-F0FD-42A3-BFB1-9E455AE69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2874-84E0-40FD-A558-28162BD5E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FD73-5C42-4E8F-A9A4-A20AB2713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CE5D-20BF-4550-AE59-62E7CE254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20E9-068F-4F84-927E-B458AB46C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563C-A7B1-4297-9950-13E6DCF52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FC0D-8A3A-4AD9-9375-82EC0C897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05FF-D13F-4D1E-BE33-FEA6A5C5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9B09-7956-4461-9C59-E606ACB1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D22D-848A-4D54-B572-C4D6BCF3B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CCF12-C15E-43F5-A4B5-7727923B5BE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1258920" y="0"/>
            <a:ext cx="6626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08_U Kyaw Naing.mp3" descr=""/>
          <p:cNvPicPr/>
          <p:nvPr/>
        </p:nvPicPr>
        <p:blipFill>
          <a:blip r:embed="rId2"/>
          <a:stretch/>
        </p:blipFill>
        <p:spPr>
          <a:xfrm>
            <a:off x="7885080" y="472428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2768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3:48:49Z</dcterms:created>
  <dc:creator>ukyawnaing</dc:creator>
  <dc:description/>
  <dc:language>en-US</dc:language>
  <cp:lastModifiedBy>ds0929</cp:lastModifiedBy>
  <dcterms:modified xsi:type="dcterms:W3CDTF">2013-06-26T13:38:13Z</dcterms:modified>
  <cp:revision>2</cp:revision>
  <dc:subject/>
  <dc:title>Slide 1</dc:title>
</cp:coreProperties>
</file>