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EFC-85B5-4431-A354-7CE5BE4E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6B2-6C83-4BF1-B8FE-980BA27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A17-E0F3-44FF-8BD8-F43A8F5E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91E-27CA-4EA5-8FFA-9C65F33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03E-873E-4B80-93EC-50C08EF4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4FE-9C0C-4011-884F-C312078C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F6D-6AAA-4BBF-82F5-64027DBB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240-0770-4DD9-8BFB-B378CF6F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8BA-B3A3-412C-9A2A-DF15AA4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844-E2CD-4A96-9C93-BFEC380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332-3CD5-4A52-A19C-211A57E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89D-0ECB-4D45-B6EA-A5F59DC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8A1-1853-46FE-A4D9-0A4E2DE196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76360"/>
            <a:ext cx="9074160" cy="47973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687564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2:14Z</dcterms:created>
  <dc:creator>ukyawnaing</dc:creator>
  <dc:description/>
  <dc:language>en-US</dc:language>
  <cp:lastModifiedBy>ds0929</cp:lastModifiedBy>
  <dcterms:modified xsi:type="dcterms:W3CDTF">2013-06-26T13:39:29Z</dcterms:modified>
  <cp:revision>3</cp:revision>
  <dc:subject/>
  <dc:title>Slide 1</dc:title>
</cp:coreProperties>
</file>