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85E-B299-43E5-8412-DBB4B28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68D-FBFF-485C-8AF6-868CFF43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040-8D5F-4869-BEAE-0AD283D6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023-7068-4B23-84B1-2D64411E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A9F-A5F0-4788-B5F6-0E19AC1F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941-F4DA-4467-92AD-65A43528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121-2E07-468E-83A4-6981CF0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64F-700F-42F5-A4DA-A26844D3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7CD-8C92-49FF-81FB-4803EEA6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9FA-0A36-4087-96A9-35E4632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DCD-3B9C-4C40-A451-4C56F10B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4A6-61F6-4F7D-8B0C-EFBBE62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3467-423D-47BF-84D4-9418881475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501948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340000" y="3429000"/>
            <a:ext cx="4933800" cy="3089160"/>
          </a:xfrm>
          <a:prstGeom prst="rect">
            <a:avLst/>
          </a:prstGeom>
          <a:ln w="0">
            <a:noFill/>
          </a:ln>
        </p:spPr>
      </p:pic>
      <p:pic>
        <p:nvPicPr>
          <p:cNvPr id="43" name="001_A_042_U Kyaw Naing.mp3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27:10Z</dcterms:created>
  <dc:creator>ukyawnaing</dc:creator>
  <dc:description/>
  <dc:language>en-US</dc:language>
  <cp:lastModifiedBy>ds0929</cp:lastModifiedBy>
  <dcterms:modified xsi:type="dcterms:W3CDTF">2013-06-26T13:58:28Z</dcterms:modified>
  <cp:revision>2</cp:revision>
  <dc:subject/>
  <dc:title>Slide 1</dc:title>
</cp:coreProperties>
</file>