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57B5-1DD0-4AC8-BF06-A44507477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451B-F24D-47D0-A8B4-1F79E0CC6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E783-7206-4579-A91F-0B7DE9DAE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A192-30CD-4BC8-8B48-07419D946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8D8D-BB0C-4E25-B369-300AE20B1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346C-0BAA-4C51-A2BF-801841437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C6EE-4B82-4BA3-ADB2-3F4A5EBB0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52C1-ABAB-44E0-B996-E56CDD88D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9830-B7D3-4C81-BCC1-671CC1A43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FF22-983A-4221-8BD7-614A7A78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4CDB-0119-43DE-8B36-18480A4E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37A9-CAA5-47A5-A41C-85DC19E7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E612B-CAC0-4AFF-99C2-3982BC2CFA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403280" y="-316080"/>
            <a:ext cx="5162760" cy="4867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2627280" y="4653000"/>
            <a:ext cx="3981600" cy="2019240"/>
          </a:xfrm>
          <a:prstGeom prst="rect">
            <a:avLst/>
          </a:prstGeom>
          <a:ln w="0">
            <a:noFill/>
          </a:ln>
        </p:spPr>
      </p:pic>
      <p:pic>
        <p:nvPicPr>
          <p:cNvPr id="43" name="001_A_004_U Kyaw Naing.mp3" descr=""/>
          <p:cNvPicPr/>
          <p:nvPr/>
        </p:nvPicPr>
        <p:blipFill>
          <a:blip r:embed="rId3"/>
          <a:stretch/>
        </p:blipFill>
        <p:spPr>
          <a:xfrm>
            <a:off x="7812000" y="3933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0176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3:45:43Z</dcterms:created>
  <dc:creator>ukyawnaing</dc:creator>
  <dc:description/>
  <dc:language>en-US</dc:language>
  <cp:lastModifiedBy>ds0929</cp:lastModifiedBy>
  <dcterms:modified xsi:type="dcterms:W3CDTF">2013-06-26T13:35:52Z</dcterms:modified>
  <cp:revision>2</cp:revision>
  <dc:subject/>
  <dc:title>Slide 1</dc:title>
</cp:coreProperties>
</file>