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A8D-6324-4348-ADDA-356C95C1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240-EB85-4306-BDEF-AA40BA4B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2C3-72AE-4CCB-8612-C5CAC7F9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B5F-8D22-4EA1-AC0F-7DA3BDDF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18E-8FC5-4D3D-A8DA-595D4C69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F3F-8B5D-4DB1-8D8F-A74CA453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D1F-5E78-4649-8CBE-DA17A536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DDD-0A33-43DE-9620-870FCBE1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B64-0C53-48D1-B0F0-607400C7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06C-3B00-4540-B466-5FB712F9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A2E-EA1D-4905-AF51-C7155BC1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4AA-75E8-4879-BD1F-DF2C782F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B825-75AA-462E-869B-A60928D3A2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6720" y="907920"/>
            <a:ext cx="8747280" cy="438336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1_U Kyaw Naing.mp3" descr=""/>
          <p:cNvPicPr/>
          <p:nvPr/>
        </p:nvPicPr>
        <p:blipFill>
          <a:blip r:embed="rId2"/>
          <a:stretch/>
        </p:blipFill>
        <p:spPr>
          <a:xfrm>
            <a:off x="7667640" y="4724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1:43Z</dcterms:created>
  <dc:creator>ukyawnaing</dc:creator>
  <dc:description/>
  <dc:language>en-US</dc:language>
  <cp:lastModifiedBy>ds0929</cp:lastModifiedBy>
  <dcterms:modified xsi:type="dcterms:W3CDTF">2013-06-26T13:44:25Z</dcterms:modified>
  <cp:revision>2</cp:revision>
  <dc:subject/>
  <dc:title>Slide 1</dc:title>
</cp:coreProperties>
</file>