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3D0D-9D9C-4BFF-9D53-CC7ECA357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750C-471C-478E-92E4-945F89C3A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E756-9276-4CD2-B898-E700931E5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3900-69D6-4794-A25D-6ED98DCA0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86E9-9106-4A5F-9EBF-CA359852B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5452-1C66-45C7-A8D2-1A8EE2D97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02F8-3B2E-49DA-BE32-E0F60359D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61FE-BDB0-45B2-8059-A6871F26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A1D2-E6C3-4280-A640-04AC8DA4F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7E88-0EBB-4CA1-B3EE-644E485C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0BCE-E530-4C79-AF38-2F8CFA6D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6B58-9BD0-4A4D-820D-537EE3E6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ED35-5656-4893-B719-986FB63CA6E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690480" y="281160"/>
            <a:ext cx="7763040" cy="6295680"/>
          </a:xfrm>
          <a:prstGeom prst="rect">
            <a:avLst/>
          </a:prstGeom>
          <a:ln w="0">
            <a:noFill/>
          </a:ln>
        </p:spPr>
      </p:pic>
      <p:pic>
        <p:nvPicPr>
          <p:cNvPr id="42" name="001_A_051_U Kyaw Naing.mp3" descr=""/>
          <p:cNvPicPr/>
          <p:nvPr/>
        </p:nvPicPr>
        <p:blipFill>
          <a:blip r:embed="rId2"/>
          <a:stretch/>
        </p:blipFill>
        <p:spPr>
          <a:xfrm>
            <a:off x="8172360" y="53006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324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5:09:03Z</dcterms:created>
  <dc:creator>ukyawnaing</dc:creator>
  <dc:description/>
  <dc:language>en-US</dc:language>
  <cp:lastModifiedBy>ds0929</cp:lastModifiedBy>
  <dcterms:modified xsi:type="dcterms:W3CDTF">2013-06-26T14:06:41Z</dcterms:modified>
  <cp:revision>2</cp:revision>
  <dc:subject/>
  <dc:title>Slide 1</dc:title>
</cp:coreProperties>
</file>