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31D6-A051-4CBC-9B23-CAA5E841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B558-6669-47A8-9E89-657D1652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8854-6DA0-4948-96F6-22C85BA9C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B2DB-6B02-4B8A-8AC3-007AFE057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29D2-C6C6-4A4D-95CC-65F55DE0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572E-3ED0-4D19-8357-F0239CCF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6D73-B050-4A83-977E-AA9159B9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ACB5-1F16-45EC-A2BA-4148F31E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6F4C-980D-4F90-BA84-368659AD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DA7B-1FA0-4E54-A6D5-B389D060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FFDA-A84F-4E43-9196-B04D3684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C049-8AAD-4756-82A5-829B0325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3594-E803-4E3F-ADC9-92D1CBDFB7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614520"/>
            <a:ext cx="9220320" cy="562896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3_U Kyaw Naing.mp3" descr=""/>
          <p:cNvPicPr/>
          <p:nvPr/>
        </p:nvPicPr>
        <p:blipFill>
          <a:blip r:embed="rId2"/>
          <a:stretch/>
        </p:blipFill>
        <p:spPr>
          <a:xfrm>
            <a:off x="709308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69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334440" cy="816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55:28Z</dcterms:created>
  <dc:creator>ukyawnaing</dc:creator>
  <dc:description/>
  <dc:language>en-US</dc:language>
  <cp:lastModifiedBy>ds0929</cp:lastModifiedBy>
  <dcterms:modified xsi:type="dcterms:W3CDTF">2013-06-26T13:40:40Z</dcterms:modified>
  <cp:revision>2</cp:revision>
  <dc:subject/>
  <dc:title>Slide 1</dc:title>
</cp:coreProperties>
</file>