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2035-DBFA-4835-A6C1-BFA3ECD81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7031-E024-4EC3-9B4D-2C8F48DD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26F0-B573-48A3-8933-4A4D5DB71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BB34-6992-4470-B8B0-08B34B69A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642D-29FB-493E-9645-17240C07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C4E3-5258-436C-8391-4ADD6AE1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E052-BEE9-4958-88DC-77399FAD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237E-C902-4F2E-AA84-2CE1D805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4318-3426-4FB3-8EA8-9020CBE4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7278-8E07-459E-9C5B-5E0737DA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4FA2-3E8F-4BCB-957F-353163B2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BF21-CB94-4F81-99FD-331D2A91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3029-9D67-4AEA-BC57-3B9937AB6E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539640" y="0"/>
            <a:ext cx="80647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9_U Kyaw Naing.mp3" descr=""/>
          <p:cNvPicPr/>
          <p:nvPr/>
        </p:nvPicPr>
        <p:blipFill>
          <a:blip r:embed="rId2"/>
          <a:stretch/>
        </p:blipFill>
        <p:spPr>
          <a:xfrm>
            <a:off x="8028000" y="5877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8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06:00Z</dcterms:created>
  <dc:creator>ukyawnaing</dc:creator>
  <dc:description/>
  <dc:language>en-US</dc:language>
  <cp:lastModifiedBy>ds0929</cp:lastModifiedBy>
  <dcterms:modified xsi:type="dcterms:W3CDTF">2013-06-26T13:48:27Z</dcterms:modified>
  <cp:revision>2</cp:revision>
  <dc:subject/>
  <dc:title>Slide 1</dc:title>
</cp:coreProperties>
</file>