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F29-ECA8-47AE-BCA8-2B6DAC90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5B7-B91A-4604-81CD-9C78BF08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F18-A5F2-4ECE-B0AD-9C340289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085-BA5B-4643-B25A-18D6D14A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D62-52CD-4B15-82CA-124C02F4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3CD-A4F0-4404-899B-CDB552E6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226-6B69-4DC0-9C40-2EE34FDE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104-1E75-4C4B-B9A0-1C3C7FB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BFA-A02C-48BC-9F47-99646FB5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AB4-6B50-4049-B9F5-3F7FC836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D59-F00A-4F2E-A7E8-ABFD5C7A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5CE-7080-4F7D-81A2-43632838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269-5D6F-4381-8123-6B83BD51F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257480"/>
            <a:ext cx="8748720" cy="38350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0_U Kyaw Naing.mp3" descr=""/>
          <p:cNvPicPr/>
          <p:nvPr/>
        </p:nvPicPr>
        <p:blipFill>
          <a:blip r:embed="rId2"/>
          <a:stretch/>
        </p:blipFill>
        <p:spPr>
          <a:xfrm>
            <a:off x="255600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6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512424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48988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8675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852480"/>
            <a:ext cx="89820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835280" y="160200"/>
            <a:ext cx="49514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7848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033640" y="0"/>
            <a:ext cx="477036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8:29Z</dcterms:created>
  <dc:creator>ukyawnaing</dc:creator>
  <dc:description/>
  <dc:language>en-US</dc:language>
  <cp:lastModifiedBy>ds0929</cp:lastModifiedBy>
  <dcterms:modified xsi:type="dcterms:W3CDTF">2013-06-26T13:57:28Z</dcterms:modified>
  <cp:revision>2</cp:revision>
  <dc:subject/>
  <dc:title>Slide 1</dc:title>
</cp:coreProperties>
</file>