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9670-E72C-48A3-969B-06B41F4F4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ACFD-7F66-445A-9677-DEF371406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34E3-3A95-46AD-9395-60F87F368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D68C-CB48-4FE6-931E-BD681B519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B856-8937-4909-A541-F54064D4D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AD12-8088-44BC-B19D-A5B49831A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2AC2-1B1A-4C1B-B950-57EC5F417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96D8-B1A7-42DB-9151-B9D6A8E50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0133-1639-422B-A714-66FC39B9C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D903-DB95-45E2-B7C7-019238710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B87D-CF28-4AE3-8055-C8CBB459D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60F0-1F23-4E51-9741-5EB893A80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06CEB-EADC-4FEF-A883-2073FDE0248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196920" y="692280"/>
            <a:ext cx="8864640" cy="5545080"/>
          </a:xfrm>
          <a:prstGeom prst="rect">
            <a:avLst/>
          </a:prstGeom>
          <a:ln w="0">
            <a:noFill/>
          </a:ln>
        </p:spPr>
      </p:pic>
      <p:pic>
        <p:nvPicPr>
          <p:cNvPr id="44" name="001_A_002_U Kyaw Naing.mp3" descr=""/>
          <p:cNvPicPr/>
          <p:nvPr/>
        </p:nvPicPr>
        <p:blipFill>
          <a:blip r:embed="rId2"/>
          <a:stretch/>
        </p:blipFill>
        <p:spPr>
          <a:xfrm>
            <a:off x="8459640" y="4076640"/>
            <a:ext cx="24480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0176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3:44:10Z</dcterms:created>
  <dc:creator>ukyawnaing</dc:creator>
  <dc:description/>
  <dc:language>en-US</dc:language>
  <cp:lastModifiedBy>ds0929</cp:lastModifiedBy>
  <dcterms:modified xsi:type="dcterms:W3CDTF">2013-06-26T13:35:02Z</dcterms:modified>
  <cp:revision>2</cp:revision>
  <dc:subject/>
  <dc:title>Slide 1</dc:title>
</cp:coreProperties>
</file>