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3ECC-D8B3-445B-A818-AD20F9791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131E-38F8-49DF-8718-4B945A3D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B963-CA41-4CBA-95C8-5665C9001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1F2B-0A9C-4AFB-9ACC-9CE3FEBC0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EBDE-676B-4D89-A8C1-EFE0A95D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3034-8A95-4560-82AD-E16DA521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11F6-53A3-44B9-A72F-0A2037C8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17B0-DBFB-4903-B0DC-F1CAF75A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6849-CCF5-44BC-A597-10A1B39A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018B-E4A5-4F9D-910F-DE1FAA64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7FF2-9F7E-4A79-9AA2-B67A98F9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E38A-1474-4484-8D8E-6047C32F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F0B3-F056-4C74-BE02-F2FC0F87C0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2355840" y="0"/>
            <a:ext cx="3584520" cy="659772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5_U Kyaw Naing.mp3" descr=""/>
          <p:cNvPicPr/>
          <p:nvPr/>
        </p:nvPicPr>
        <p:blipFill>
          <a:blip r:embed="rId2"/>
          <a:stretch/>
        </p:blipFill>
        <p:spPr>
          <a:xfrm>
            <a:off x="7667640" y="4005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0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46:33Z</dcterms:created>
  <dc:creator>ukyawnaing</dc:creator>
  <dc:description/>
  <dc:language>en-US</dc:language>
  <cp:lastModifiedBy>ds0929</cp:lastModifiedBy>
  <dcterms:modified xsi:type="dcterms:W3CDTF">2013-06-26T13:36:19Z</dcterms:modified>
  <cp:revision>2</cp:revision>
  <dc:subject/>
  <dc:title>Slide 1</dc:title>
</cp:coreProperties>
</file>