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B02-5F6A-47AB-86DF-2BFBA1D6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FF0-916B-4EC1-97ED-CBE728D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04A-1111-444C-801A-AA4E2645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B6F-4F80-4F2F-8C04-F585FF8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32B-6D56-42DB-A5CD-FFC2A75F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C0C-E2D3-4B7A-959F-B4D1EA75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B04-1364-428F-A714-12E0B47F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E37-5A60-4D89-AE50-6625BB9D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001-D906-4239-9B7D-B873E39D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F04-3704-4E7E-8C84-6DAE028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99F-7CAC-45DC-94D1-E6A0F5C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319-2244-4382-8388-4B95213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5774-ACBA-4655-8EE4-0ED638E155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80960"/>
            <a:ext cx="9145440" cy="53960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9_U Kyaw Naing.mp3" descr=""/>
          <p:cNvPicPr/>
          <p:nvPr/>
        </p:nvPicPr>
        <p:blipFill>
          <a:blip r:embed="rId2"/>
          <a:stretch/>
        </p:blipFill>
        <p:spPr>
          <a:xfrm>
            <a:off x="709308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0:28Z</dcterms:created>
  <dc:creator>ukyawnaing</dc:creator>
  <dc:description/>
  <dc:language>en-US</dc:language>
  <cp:lastModifiedBy>ds0929</cp:lastModifiedBy>
  <dcterms:modified xsi:type="dcterms:W3CDTF">2013-06-26T13:43:21Z</dcterms:modified>
  <cp:revision>2</cp:revision>
  <dc:subject/>
  <dc:title>Slide 1</dc:title>
</cp:coreProperties>
</file>