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A48-BA87-4E68-AE72-1A75242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90A-3EAC-4AE2-988F-F58D26C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FEF-FC39-4393-9EEA-9EB3C705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528-DA8F-4522-AA34-EE4C3D7D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035-DDE1-4631-8B6B-439E952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7D5-201C-4076-9646-A6CE965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774-95C6-4C80-BC65-889F425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3DC-48E3-4EFD-9F00-C791C4C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C3C-2A4E-4843-8441-CC33DA99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340-7356-42C2-9098-97C5392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691-874E-48A6-9D0F-C68E96E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C58-C674-430E-878E-650EFCC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C34-E200-4241-B5B0-0C4D0EBAC4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95440" y="461880"/>
            <a:ext cx="7953120" cy="59342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759636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1120" y="595440"/>
            <a:ext cx="77817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854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8:47Z</dcterms:created>
  <dc:creator>ukyawnaing</dc:creator>
  <dc:description/>
  <dc:language>en-US</dc:language>
  <cp:lastModifiedBy>ds0929</cp:lastModifiedBy>
  <dcterms:modified xsi:type="dcterms:W3CDTF">2013-06-26T13:42:35Z</dcterms:modified>
  <cp:revision>2</cp:revision>
  <dc:subject/>
  <dc:title>Slide 1</dc:title>
</cp:coreProperties>
</file>