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1410-0915-4548-AF24-1D7C7BF2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397-C1D7-4C66-9B35-97E0B040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D5E-BF63-402B-817E-D58BAE45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F10-D646-40C7-9CF2-B839688B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861-924B-4AF7-89E8-AF00F2B7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28D-4FBD-4AC3-B2E2-D5C40663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B9E-8F48-49FC-8941-813CCE7E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349-41DA-4935-BCAC-AA15D03A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13A-074D-4D7C-850A-DEC6C142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551-7D94-4B34-840C-1044E63D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B20-FECE-4E76-A9F4-0165025D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53E6-38E3-4260-9A1A-B8EF9BCD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3E76-46FD-43E5-B177-DE3F40F9F9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5076720" cy="3000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4248000" y="1700280"/>
            <a:ext cx="4896000" cy="441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0" y="3213000"/>
            <a:ext cx="4427640" cy="2162160"/>
          </a:xfrm>
          <a:prstGeom prst="rect">
            <a:avLst/>
          </a:prstGeom>
          <a:ln w="0">
            <a:noFill/>
          </a:ln>
        </p:spPr>
      </p:pic>
      <p:pic>
        <p:nvPicPr>
          <p:cNvPr id="44" name="001_A_038_U Kyaw Naing.mp3" descr=""/>
          <p:cNvPicPr/>
          <p:nvPr/>
        </p:nvPicPr>
        <p:blipFill>
          <a:blip r:embed="rId4"/>
          <a:stretch/>
        </p:blipFill>
        <p:spPr>
          <a:xfrm>
            <a:off x="313200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18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13:59Z</dcterms:created>
  <dc:creator>ukyawnaing</dc:creator>
  <dc:description/>
  <dc:language>en-US</dc:language>
  <cp:lastModifiedBy>ds0929</cp:lastModifiedBy>
  <dcterms:modified xsi:type="dcterms:W3CDTF">2013-06-26T13:56:39Z</dcterms:modified>
  <cp:revision>3</cp:revision>
  <dc:subject/>
  <dc:title>Slide 1</dc:title>
</cp:coreProperties>
</file>