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BD7-3F4D-4BFB-896B-4A47C906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49F-7194-488C-AFFC-2F9C9C7F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F40-77B4-428D-A7E9-6D0FF112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A90-2CF7-41C9-A415-682911B3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811-81AF-4A93-9F72-B5999418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C5E-CA59-4A08-9E5E-BFEC63E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4E5-2654-43BA-9E55-387A70A3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B25-6F0F-4060-B594-CB089769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5DD-7C5D-45AE-9BA3-95B7FA31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D6E-5FCD-4E42-A803-EFF2E9A1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FA7-B34F-402B-85B5-7FE977A4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1CD-49B7-4F9A-8414-55029793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5681-30D1-4955-8C8D-97085E07D0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706400" y="166680"/>
            <a:ext cx="6178680" cy="6691320"/>
          </a:xfrm>
          <a:prstGeom prst="rect">
            <a:avLst/>
          </a:prstGeom>
          <a:ln w="0">
            <a:noFill/>
          </a:ln>
        </p:spPr>
      </p:pic>
      <p:pic>
        <p:nvPicPr>
          <p:cNvPr id="44" name="001_A_057_U Kyaw Naing.mp3" descr=""/>
          <p:cNvPicPr/>
          <p:nvPr/>
        </p:nvPicPr>
        <p:blipFill>
          <a:blip r:embed="rId2"/>
          <a:stretch/>
        </p:blipFill>
        <p:spPr>
          <a:xfrm>
            <a:off x="702000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2:52Z</dcterms:created>
  <dc:creator>ukyawnaing</dc:creator>
  <dc:description/>
  <dc:language>en-US</dc:language>
  <cp:lastModifiedBy>ds0929</cp:lastModifiedBy>
  <dcterms:modified xsi:type="dcterms:W3CDTF">2013-06-26T14:09:40Z</dcterms:modified>
  <cp:revision>2</cp:revision>
  <dc:subject/>
  <dc:title>Slide 1</dc:title>
</cp:coreProperties>
</file>