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85F-1EFE-4564-8077-4B2BE877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3FD-1A00-4AC3-B140-645253C3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4D3-055D-45C9-8A74-69CA2DE4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3C1-0A68-4E0D-B0D6-7582C74F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3C8-9F57-4414-BC3B-EF37EFA9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0CE-8FA5-4900-AB68-C737193A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1BB-5EF7-4B7C-896B-01152E32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C0F-6E1C-401B-803D-3ADBBE72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7BC-AA35-41AF-ADD5-72339F59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CAB-F56D-449D-9789-9BE1D363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1AE-EAD6-419D-8EA4-E1573E3D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459-9F5A-4F95-871E-C34E17A6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EE3F-928C-41AB-9031-66E43A6BC1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04760"/>
            <a:ext cx="9094680" cy="59882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0_U Kyaw Naing.mp3" descr=""/>
          <p:cNvPicPr/>
          <p:nvPr/>
        </p:nvPicPr>
        <p:blipFill>
          <a:blip r:embed="rId2"/>
          <a:stretch/>
        </p:blipFill>
        <p:spPr>
          <a:xfrm>
            <a:off x="810108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1:08Z</dcterms:created>
  <dc:creator>ukyawnaing</dc:creator>
  <dc:description/>
  <dc:language>en-US</dc:language>
  <cp:lastModifiedBy>ds0929</cp:lastModifiedBy>
  <dcterms:modified xsi:type="dcterms:W3CDTF">2013-06-26T13:43:44Z</dcterms:modified>
  <cp:revision>2</cp:revision>
  <dc:subject/>
  <dc:title>Slide 1</dc:title>
</cp:coreProperties>
</file>