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A02-2302-4CE0-B9E3-BD4F8204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E4A-3FAF-48CB-AAAE-F5A7C7B9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323-E65C-4D79-9DBF-61F09937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93A-5965-4859-BFE0-58835C50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B11-6B14-4FB8-9F6B-33B3DD66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213-F4F8-4E6B-AF54-EA6D64AC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D66-C6B9-49CB-B65A-1A5D0B3A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E35-B757-4B52-8E93-9B294EF4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0EF-B5EE-41E7-86A6-5433AF3D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366-5B77-48C2-9513-F95B256C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D37-28C2-4F29-BB09-0E6A85B7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6DE-9B53-436F-80B0-89CA2D29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F330-84F7-4FCE-AA0E-A993AD1535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28160" cy="4464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6_U Kyaw Naing.mp3" descr=""/>
          <p:cNvPicPr/>
          <p:nvPr/>
        </p:nvPicPr>
        <p:blipFill>
          <a:blip r:embed="rId2"/>
          <a:stretch/>
        </p:blipFill>
        <p:spPr>
          <a:xfrm>
            <a:off x="7667640" y="573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96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3:56Z</dcterms:created>
  <dc:creator>ukyawnaing</dc:creator>
  <dc:description/>
  <dc:language>en-US</dc:language>
  <cp:lastModifiedBy>ds0929</cp:lastModifiedBy>
  <dcterms:modified xsi:type="dcterms:W3CDTF">2013-06-26T13:46:49Z</dcterms:modified>
  <cp:revision>2</cp:revision>
  <dc:subject/>
  <dc:title>Slide 1</dc:title>
</cp:coreProperties>
</file>