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ADF-F617-43AB-830F-0145E16D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ABA-799F-44C2-8307-D50A7676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7DD-DC82-4601-A2C2-31004DDB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4E0-48B7-4FD1-AEDA-07A0EE01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506-C8B5-4E53-903C-F371CE8F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67E-E0DA-47C9-BD30-0AEC7816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94D-B57A-4B7C-8C82-118F54BB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833-7DD0-456C-BEC4-60406DC5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860-C09B-4117-8396-19001DAB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EFB-BC67-4109-888B-D071E948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3A0-1648-4265-946D-E84D71CD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C16-5352-4581-B0BA-8516B9FD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ED6E-BDE7-436D-9D4F-3A4878C5C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85720" y="428760"/>
            <a:ext cx="7972560" cy="60004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9_U Kyaw Naing.mp3" descr=""/>
          <p:cNvPicPr/>
          <p:nvPr/>
        </p:nvPicPr>
        <p:blipFill>
          <a:blip r:embed="rId2"/>
          <a:stretch/>
        </p:blipFill>
        <p:spPr>
          <a:xfrm>
            <a:off x="766764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9:40Z</dcterms:created>
  <dc:creator>ukyawnaing</dc:creator>
  <dc:description/>
  <dc:language>en-US</dc:language>
  <cp:lastModifiedBy>ds0929</cp:lastModifiedBy>
  <dcterms:modified xsi:type="dcterms:W3CDTF">2013-06-26T13:38:39Z</dcterms:modified>
  <cp:revision>2</cp:revision>
  <dc:subject/>
  <dc:title>Slide 1</dc:title>
</cp:coreProperties>
</file>