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8312-2441-49EC-A8A0-AC74B8BA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4FE-F10A-4906-B512-37BD4689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4EA-8CBB-44D7-9901-B267F872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64E-1892-445F-84A9-1E138D06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E97-0531-4386-BE80-48A7FD96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DE7-028D-41B4-A47D-6FC17F32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225-F1F7-4E03-AF57-D99601C9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C38F-0A90-4DA9-9BA3-4CB61422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D9A-AF97-4544-8906-07229F53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BB7-ABFF-4A6A-BA61-9BD9CC2F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2FB-F4D3-4BDD-A540-EB201A23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F6A-E40A-4205-8FC1-0BC82726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EF6B-EF41-4F75-A5B7-D8F02E496F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905040"/>
            <a:ext cx="9085320" cy="468468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5_U Kyaw Naing.mp3" descr=""/>
          <p:cNvPicPr/>
          <p:nvPr/>
        </p:nvPicPr>
        <p:blipFill>
          <a:blip r:embed="rId2"/>
          <a:stretch/>
        </p:blipFill>
        <p:spPr>
          <a:xfrm>
            <a:off x="7524720" y="479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3:26Z</dcterms:created>
  <dc:creator>ukyawnaing</dc:creator>
  <dc:description/>
  <dc:language>en-US</dc:language>
  <cp:lastModifiedBy>ds0929</cp:lastModifiedBy>
  <dcterms:modified xsi:type="dcterms:W3CDTF">2013-06-26T13:46:22Z</dcterms:modified>
  <cp:revision>2</cp:revision>
  <dc:subject/>
  <dc:title>Slide 1</dc:title>
</cp:coreProperties>
</file>