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9FC-DAF5-4938-AE8A-5B1572A0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F77-F981-406E-BD8C-3414868A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E25-59D5-4915-9F63-504F3A3E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7B1-B1C7-4DB0-B70D-BFCDADF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791-DFA9-4227-B21B-CD6476F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27D-CB94-4CCB-83DF-7FD2D0A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2E4-4062-4516-A298-F9481AEF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9EA-6CB1-4C1F-AAD3-C8E9ADCB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68C-862D-456E-92D3-C4AB031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75F-9B56-433C-91FE-E2A6A07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55E-AB9E-48A5-84EC-96B3BAB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C51-5A66-4783-9704-8A17542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5FE-3FA1-4534-9ADC-5E84EB884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44120" cy="8982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4_U Kyaw Naing.mp3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6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1:29Z</dcterms:created>
  <dc:creator>ukyawnaing</dc:creator>
  <dc:description/>
  <dc:language>en-US</dc:language>
  <cp:lastModifiedBy>ds0929</cp:lastModifiedBy>
  <dcterms:modified xsi:type="dcterms:W3CDTF">2013-06-26T14:08:28Z</dcterms:modified>
  <cp:revision>2</cp:revision>
  <dc:subject/>
  <dc:title>Slide 1</dc:title>
</cp:coreProperties>
</file>