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A06-8BEC-4D97-9B9E-29D3ADAA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BA48-AD3D-4ED4-AEC8-B26F0BC5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2A2-DB23-43E0-B465-F50F7501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3A3-F382-444F-A250-6C91A750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254-F077-43F1-8604-89C9CA06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6C6-88A1-45B0-BDAD-BC3C5D3D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72A-25E2-4F4E-B270-2D46D141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C36F-F275-4E44-915A-3F65E763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27C-4CC2-49E4-9838-BC2F5DFD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50A-047E-41B5-8B2B-D76D2365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6E6-77B0-464C-9EE0-AD0AC1C4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844-F01F-4C4C-9CCC-3CF373EC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6797-F993-4581-B59B-F59F7ACA75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648720" cy="776304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2_U Kyaw Naing.mp3" descr=""/>
          <p:cNvPicPr/>
          <p:nvPr/>
        </p:nvPicPr>
        <p:blipFill>
          <a:blip r:embed="rId2"/>
          <a:stretch/>
        </p:blipFill>
        <p:spPr>
          <a:xfrm>
            <a:off x="8899560" y="242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6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9:51Z</dcterms:created>
  <dc:creator>ukyawnaing</dc:creator>
  <dc:description/>
  <dc:language>en-US</dc:language>
  <cp:lastModifiedBy>ds0929</cp:lastModifiedBy>
  <dcterms:modified xsi:type="dcterms:W3CDTF">2013-06-26T13:49:51Z</dcterms:modified>
  <cp:revision>2</cp:revision>
  <dc:subject/>
  <dc:title>Slide 1</dc:title>
</cp:coreProperties>
</file>