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66B-06AC-4F13-8717-6B078CA7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EAE-C0FD-445F-B9C3-2C653FF6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C9E-0E18-4315-A1A4-37AA701A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EE6-4E85-46CD-B894-47F88105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8EE-5785-4DDF-A5BA-0DFCD5AB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0B3-183A-4B31-9516-30683F53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F06-482E-4A2D-B601-70983228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53D-1201-47F3-8A67-9C16633E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EBC-3B4D-4507-BD7E-077716BC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7B8-71E1-4051-AF22-8029ED2D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0A7-DCDB-4FB0-A695-DEDC37A4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580-C522-4784-A31C-1524C576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44A2-4A7D-4CE4-88DA-7B2BBCFDE4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06400" y="0"/>
            <a:ext cx="48103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6_U Kyaw Naing.mp3" descr=""/>
          <p:cNvPicPr/>
          <p:nvPr/>
        </p:nvPicPr>
        <p:blipFill>
          <a:blip r:embed="rId2"/>
          <a:stretch/>
        </p:blipFill>
        <p:spPr>
          <a:xfrm>
            <a:off x="7956720" y="465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7:27Z</dcterms:created>
  <dc:creator>ukyawnaing</dc:creator>
  <dc:description/>
  <dc:language>en-US</dc:language>
  <cp:lastModifiedBy>ds0929</cp:lastModifiedBy>
  <dcterms:modified xsi:type="dcterms:W3CDTF">2013-06-26T13:42:13Z</dcterms:modified>
  <cp:revision>2</cp:revision>
  <dc:subject/>
  <dc:title>Slide 1</dc:title>
</cp:coreProperties>
</file>