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36A-AF0A-4E6A-A539-1E53B099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262-D371-49B9-9075-1AC541F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9B5-5235-4519-BF64-0A6B6CC7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FD5-4FA4-425B-AAFF-72973F5E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401-461B-4230-B22F-5C6ADD3D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598-354A-4B14-A1B7-72F1B91A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1ED-9BC9-4EFB-95C9-5DE20463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752-A188-46AF-8637-8FD148A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D77-EC1F-425E-9132-F204B5C5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6F6-7D52-431F-876C-E3F1449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FFA-1E6B-43C4-BDAC-151A3F1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DF6-F49D-4151-80CD-EEC2430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EC2C-AAF9-462C-B700-228D6D9C09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781200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7:29Z</dcterms:created>
  <dc:creator>ukyawnaing</dc:creator>
  <dc:description/>
  <dc:language>en-US</dc:language>
  <cp:lastModifiedBy>ds0929</cp:lastModifiedBy>
  <dcterms:modified xsi:type="dcterms:W3CDTF">2013-06-26T13:37:11Z</dcterms:modified>
  <cp:revision>2</cp:revision>
  <dc:subject/>
  <dc:title>Slide 1</dc:title>
</cp:coreProperties>
</file>