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C48-A9F9-48BA-B080-338B477F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F35-94A1-43E2-90DA-7B88460F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A8F0-F2B7-4EBC-9973-C817D85C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9165-B126-47C2-ABE6-1D911021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3E8-8D5A-41C6-BA16-06B52CD1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E806-C741-4071-BE56-97D454B4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A96E-7BC8-4A16-A497-2BD1EF9B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DF37-CBA8-47DA-86E3-BE692BB5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8DE9-F117-43FD-8D34-8639FA78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799-CAB3-4A73-99E0-903D4CA0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5B6-1BD8-4E54-9CD5-03BDF4E5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3FE3-A4DC-4BC2-95D1-16FDE708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F9D8-F78A-4281-AD7F-6656FDA683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403280" y="14400"/>
            <a:ext cx="6193080" cy="6675480"/>
          </a:xfrm>
          <a:prstGeom prst="rect">
            <a:avLst/>
          </a:prstGeom>
          <a:ln w="0">
            <a:noFill/>
          </a:ln>
        </p:spPr>
      </p:pic>
      <p:pic>
        <p:nvPicPr>
          <p:cNvPr id="42" name="001_A_041_U Kyaw Naing.mp3" descr=""/>
          <p:cNvPicPr/>
          <p:nvPr/>
        </p:nvPicPr>
        <p:blipFill>
          <a:blip r:embed="rId2"/>
          <a:stretch/>
        </p:blipFill>
        <p:spPr>
          <a:xfrm>
            <a:off x="7740720" y="494172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3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26:40Z</dcterms:created>
  <dc:creator>ukyawnaing</dc:creator>
  <dc:description/>
  <dc:language>en-US</dc:language>
  <cp:lastModifiedBy>ds0929</cp:lastModifiedBy>
  <dcterms:modified xsi:type="dcterms:W3CDTF">2013-06-26T13:57:59Z</dcterms:modified>
  <cp:revision>2</cp:revision>
  <dc:subject/>
  <dc:title>Slide 1</dc:title>
</cp:coreProperties>
</file>