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CCC-6EC8-4FDF-A128-6C5EF22A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A8D-B9F3-43A1-A60C-D397B867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F36-2F80-4CA7-A97E-8C885F7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9F7-908D-46C4-B7DA-762523E1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59C-B2E7-44F3-BF6B-2B61E536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4F7-EAD0-442F-953C-8CB90FA8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CD8-63B6-405A-9BE7-E4676E5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E47-0EA1-499E-AA8F-DE9176F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0B2-E063-4913-92ED-51EF8529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68C-8C2F-4B76-95D2-95B5954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C62-05A7-49AB-ABF4-15D4FBA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6DA-CD8F-40A2-BCFC-BB60909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1E4-65C2-4273-97CF-AF2922C1C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3840" y="1071720"/>
            <a:ext cx="8896320" cy="47145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752472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6:10Z</dcterms:created>
  <dc:creator>ukyawnaing</dc:creator>
  <dc:description/>
  <dc:language>en-US</dc:language>
  <cp:lastModifiedBy>ds0929</cp:lastModifiedBy>
  <dcterms:modified xsi:type="dcterms:W3CDTF">2013-06-26T13:41:18Z</dcterms:modified>
  <cp:revision>2</cp:revision>
  <dc:subject/>
  <dc:title>Slide 1</dc:title>
</cp:coreProperties>
</file>