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4C1-AFC2-448F-9034-B9BF3A71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9C5-EF42-4FCD-973D-C1538C3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B31-147A-43A4-84BD-F2198E50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AEA-B6F2-4B0F-9BFE-00FFAD20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E96-7A06-4D78-80FB-92CB74A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2B2-28D0-406D-962B-35448959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D42-B4E8-4D58-8E9A-A85007E2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41F-C96F-4CB9-AB48-2B23C05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993-3782-48AE-878C-8BF8A462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13-6ED6-4287-91A6-B8ABF3C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A04-03BF-470E-80F2-3126AD7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CBB-9896-40AB-9187-9806560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B451-E247-4481-AF56-E28EB5F9E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09680" y="171360"/>
            <a:ext cx="8324640" cy="651528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5_U Kyaw Naing.mp3" descr=""/>
          <p:cNvPicPr/>
          <p:nvPr/>
        </p:nvPicPr>
        <p:blipFill>
          <a:blip r:embed="rId2"/>
          <a:stretch/>
        </p:blipFill>
        <p:spPr>
          <a:xfrm>
            <a:off x="8459640" y="5373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1:58Z</dcterms:created>
  <dc:creator>ukyawnaing</dc:creator>
  <dc:description/>
  <dc:language>en-US</dc:language>
  <cp:lastModifiedBy>ds0929</cp:lastModifiedBy>
  <dcterms:modified xsi:type="dcterms:W3CDTF">2013-06-26T14:08:53Z</dcterms:modified>
  <cp:revision>2</cp:revision>
  <dc:subject/>
  <dc:title>Slide 1</dc:title>
</cp:coreProperties>
</file>