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A0E-84EF-46EE-9601-B90215A9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029-1757-40CA-88CA-09ECA80C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45E-1182-4181-84B8-3C1F4DF1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978-C2DB-407B-B6D0-11F2C4D4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DC4-7E8C-4529-9D39-5E2B4A10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654-08AA-4475-A03A-8350E043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3C8-26BC-4112-BF0E-06EF7A5B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D12-8D31-4DED-96D9-C1C0B369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F64-1D52-4923-B963-849691E0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285-859B-46EF-B925-7274B0C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6B9-ED58-4FF1-9BB6-41BF211F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F82-84F7-4210-B4B3-F5DDECB7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5E38-F087-465F-B824-335ACD692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5280" y="723960"/>
            <a:ext cx="8353440" cy="54100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50_U Kyaw Naing.mp3" descr=""/>
          <p:cNvPicPr/>
          <p:nvPr/>
        </p:nvPicPr>
        <p:blipFill>
          <a:blip r:embed="rId2"/>
          <a:stretch/>
        </p:blipFill>
        <p:spPr>
          <a:xfrm>
            <a:off x="8028000" y="45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8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4456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9647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204920"/>
            <a:ext cx="9191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3760" y="1162080"/>
            <a:ext cx="9096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4:29Z</dcterms:created>
  <dc:creator>ukyawnaing</dc:creator>
  <dc:description/>
  <dc:language>en-US</dc:language>
  <cp:lastModifiedBy>ds0929</cp:lastModifiedBy>
  <dcterms:modified xsi:type="dcterms:W3CDTF">2013-06-26T14:06:16Z</dcterms:modified>
  <cp:revision>4</cp:revision>
  <dc:subject/>
  <dc:title>Slide 1</dc:title>
</cp:coreProperties>
</file>