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8D6-BC58-4138-BD6D-25701AB0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F23-1801-43CA-A941-5204E358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31C-D35B-47BA-A8DA-FC8BB365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CEE-2FCD-4272-9D86-5CFCD522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F2D-814A-41E7-967F-96FEA6A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5DD-A0AF-4F12-A859-5CE3443D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C01-88DA-4ED1-A01B-CBC1ABD1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99A-8111-449A-86E2-221360F5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538-DA77-4D64-BDC2-E289705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EB2-15C7-4700-A879-F83901A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D1D-47E1-4589-9048-F5C8FDF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377-1F6D-458D-BB3F-51B5FFA6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B5F1-753E-4525-90AE-DE078CE21C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26320" cy="4968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3_U Kyaw Naing.mp3" descr=""/>
          <p:cNvPicPr/>
          <p:nvPr/>
        </p:nvPicPr>
        <p:blipFill>
          <a:blip r:embed="rId2"/>
          <a:stretch/>
        </p:blipFill>
        <p:spPr>
          <a:xfrm>
            <a:off x="781200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28:03Z</dcterms:created>
  <dc:creator>ukyawnaing</dc:creator>
  <dc:description/>
  <dc:language>en-US</dc:language>
  <cp:lastModifiedBy>ds0929</cp:lastModifiedBy>
  <dcterms:modified xsi:type="dcterms:W3CDTF">2013-06-26T13:58:54Z</dcterms:modified>
  <cp:revision>2</cp:revision>
  <dc:subject/>
  <dc:title>Slide 1</dc:title>
</cp:coreProperties>
</file>