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689-0A39-423F-B010-96820E3C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89E-074B-448D-A226-7936EFC1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FA5-3294-4EE7-8773-3EC661A1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C2E-83B1-46DB-AC6C-E369E2E7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3D7-AF9F-4BDE-A016-DEF46772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108-92D7-4972-9BD2-D11432FF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C2E-ED80-4FBF-A1F7-1CBB625A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DF8-9527-4DAB-9452-D01D3860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CF5-A5AC-4C9C-87C2-76938572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AD7-3ED4-41BA-BEFC-457F945E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91B-77CF-467B-B203-D81304E5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7CA-3B76-4B60-9F3C-331A8C77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F901-196D-476D-9455-D829E48F4D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76360" y="1238400"/>
            <a:ext cx="7991280" cy="43812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6_U Kyaw Naing.mp3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95440" y="114480"/>
            <a:ext cx="7953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2:41Z</dcterms:created>
  <dc:creator>ukyawnaing</dc:creator>
  <dc:description/>
  <dc:language>en-US</dc:language>
  <cp:lastModifiedBy>ds0929</cp:lastModifiedBy>
  <dcterms:modified xsi:type="dcterms:W3CDTF">2013-06-26T13:55:53Z</dcterms:modified>
  <cp:revision>2</cp:revision>
  <dc:subject/>
  <dc:title>Slide 1</dc:title>
</cp:coreProperties>
</file>