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183-E621-4AE2-AF6F-B0A8150D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DC8-893A-4D80-99B3-B9999256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B0A-E006-4198-AE32-4E195C88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621-7FB6-491D-839B-3F23BABF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782-37AE-4AE0-A290-AF04638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FF5-934F-4525-8423-E7C2ACC1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144-D262-493D-A9A0-14591F45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DE4-8834-407A-8901-FB4ECD1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AB5-26EA-4579-87EF-1B749015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44E-4813-40FE-9DB1-E65465DB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0AE-932C-4935-BED7-C9C8B0B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46C-16F4-4321-AD31-0E7FBE5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03E-3552-428B-9FFE-0BA3663D5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34800" y="260280"/>
            <a:ext cx="8809200" cy="58546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9_U Kyaw Naing.mp3" descr=""/>
          <p:cNvPicPr/>
          <p:nvPr/>
        </p:nvPicPr>
        <p:blipFill>
          <a:blip r:embed="rId2"/>
          <a:stretch/>
        </p:blipFill>
        <p:spPr>
          <a:xfrm>
            <a:off x="810108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0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3:18Z</dcterms:created>
  <dc:creator>ukyawnaing</dc:creator>
  <dc:description/>
  <dc:language>en-US</dc:language>
  <cp:lastModifiedBy>ds0929</cp:lastModifiedBy>
  <dcterms:modified xsi:type="dcterms:W3CDTF">2013-06-26T14:05:50Z</dcterms:modified>
  <cp:revision>3</cp:revision>
  <dc:subject/>
  <dc:title>Slide 1</dc:title>
</cp:coreProperties>
</file>