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749-1AC0-40FC-808B-C844BBA8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09A-8AEA-4E3A-910A-FB0D8DC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C87-150E-46C2-8840-AD55B1C9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8C-9F0F-43D6-88D7-7E1D3816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C45-9342-4EC3-85AB-66C84D3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95D-29A5-4C73-81D6-FBC4768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72-9BBF-4B2E-8F05-26385842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B52-2E9D-4601-A8EB-EDCAEC4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B8C-19BD-497A-8161-F9B561C5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79E-E349-4829-A262-0B73844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0FC-54D6-4479-BB99-B98DC57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02B-9EAC-4784-9D17-A3F0AE8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9D6-994A-47E5-AF0C-9365523D42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76360" y="0"/>
            <a:ext cx="51832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61_U Kyaw Naing.mp3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6:19Z</dcterms:created>
  <dc:creator>ukyawnaing</dc:creator>
  <dc:description/>
  <dc:language>en-US</dc:language>
  <cp:lastModifiedBy>ds0929</cp:lastModifiedBy>
  <dcterms:modified xsi:type="dcterms:W3CDTF">2013-06-26T14:11:18Z</dcterms:modified>
  <cp:revision>2</cp:revision>
  <dc:subject/>
  <dc:title>Slide 1</dc:title>
</cp:coreProperties>
</file>