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7AB4-3DBE-4CF7-A0CF-96368749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3554-C537-40BD-9F65-B56F11EA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48A0-85D7-42B6-A83B-B15C7677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101E-1500-46E1-92FC-1A5D65C2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CFF6-CA4E-4E5C-A63A-3C8B0D24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D5A1-A23F-45C6-8906-6E852AF2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8DC8-EA98-4DE8-B806-0F3305FF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164-6F33-481C-9BDA-78A4361F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1D46-439F-4239-A6A6-2D8CA98C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3B85-1F6E-4A48-95D5-C0DC7E64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0C6-7D73-41C4-B3D4-DB597D8C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07DD-4F43-4C2A-A877-DAAF03BA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FB89-6F17-4364-97CE-46BAAB614F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90440" y="0"/>
            <a:ext cx="7837560" cy="705492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8_U Kyaw Naing.mp3" descr=""/>
          <p:cNvPicPr/>
          <p:nvPr/>
        </p:nvPicPr>
        <p:blipFill>
          <a:blip r:embed="rId2"/>
          <a:stretch/>
        </p:blipFill>
        <p:spPr>
          <a:xfrm>
            <a:off x="7812000" y="479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7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5:14Z</dcterms:created>
  <dc:creator>ukyawnaing</dc:creator>
  <dc:description/>
  <dc:language>en-US</dc:language>
  <cp:lastModifiedBy>ds0929</cp:lastModifiedBy>
  <dcterms:modified xsi:type="dcterms:W3CDTF">2013-06-26T13:47:39Z</dcterms:modified>
  <cp:revision>2</cp:revision>
  <dc:subject/>
  <dc:title>Slide 1</dc:title>
</cp:coreProperties>
</file>