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81D4-6DEC-44E7-B26C-7EFE6D01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E974-150A-4BA3-A3C5-5317505D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215-7013-4D4B-B1FC-9673759B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269D-4A49-40A6-9DF1-210177F8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4FF-47B6-454B-B7CE-A8FAEFDE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701-1448-4C9D-89D2-102CD41A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2A2-7E38-4437-BAFB-907FC179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A5F-578F-4744-8809-48431DDF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0EFD-BCCB-4297-BC53-EDD8C2F7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9F46-8E14-4BEA-ADCC-2750A582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B14-3384-4620-BDFF-4AD0A66A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6E7-1340-42E5-B909-347BBF0D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ACB9-9353-4C23-8DCC-F41562E2CD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706400" y="260280"/>
            <a:ext cx="5169240" cy="6597720"/>
          </a:xfrm>
          <a:prstGeom prst="rect">
            <a:avLst/>
          </a:prstGeom>
          <a:ln w="0">
            <a:noFill/>
          </a:ln>
        </p:spPr>
      </p:pic>
      <p:pic>
        <p:nvPicPr>
          <p:cNvPr id="42" name="001_A_052_U Kyaw Naing.mp3" descr=""/>
          <p:cNvPicPr/>
          <p:nvPr/>
        </p:nvPicPr>
        <p:blipFill>
          <a:blip r:embed="rId2"/>
          <a:stretch/>
        </p:blipFill>
        <p:spPr>
          <a:xfrm>
            <a:off x="8101080" y="5084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3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10:12Z</dcterms:created>
  <dc:creator>ukyawnaing</dc:creator>
  <dc:description/>
  <dc:language>en-US</dc:language>
  <cp:lastModifiedBy>ds0929</cp:lastModifiedBy>
  <dcterms:modified xsi:type="dcterms:W3CDTF">2013-06-26T14:07:13Z</dcterms:modified>
  <cp:revision>2</cp:revision>
  <dc:subject/>
  <dc:title>Slide 1</dc:title>
</cp:coreProperties>
</file>