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505-721B-4F44-A0C5-69ED232A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5D1-5599-450E-AFCC-80439516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88D-32A4-4665-8E72-4605DB0B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A43-74B4-406F-B524-DD0EBA0B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68B-9BC4-43DA-89BD-BC5B9FFD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4C0-11BA-430D-889B-EB52FA47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534-2F55-4339-9DF0-63748F6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8F1-66A3-4708-945E-F8204189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57D-5A1C-4C2F-8F57-050B6642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C84-A6E2-4C36-BE9A-3C71F77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4AE-C90C-46F0-B03F-D7829A5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33F-1B1E-41A4-BA86-7094F29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B52-FAFA-413C-AD37-0A15C47207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02436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098720"/>
            <a:ext cx="5896080" cy="5759280"/>
          </a:xfrm>
          <a:prstGeom prst="rect">
            <a:avLst/>
          </a:prstGeom>
          <a:ln w="0">
            <a:noFill/>
          </a:ln>
        </p:spPr>
      </p:pic>
      <p:pic>
        <p:nvPicPr>
          <p:cNvPr id="43" name="001_A_046_U Kyaw Naing.mp3" descr=""/>
          <p:cNvPicPr/>
          <p:nvPr/>
        </p:nvPicPr>
        <p:blipFill>
          <a:blip r:embed="rId3"/>
          <a:stretch/>
        </p:blipFill>
        <p:spPr>
          <a:xfrm>
            <a:off x="817236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6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8:20Z</dcterms:created>
  <dc:creator>ukyawnaing</dc:creator>
  <dc:description/>
  <dc:language>en-US</dc:language>
  <cp:lastModifiedBy>ds0929</cp:lastModifiedBy>
  <dcterms:modified xsi:type="dcterms:W3CDTF">2013-06-26T14:02:14Z</dcterms:modified>
  <cp:revision>4</cp:revision>
  <dc:subject/>
  <dc:title>Slide 1</dc:title>
</cp:coreProperties>
</file>