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972-6104-4E3B-ABC8-81ACFFA7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DBC-DAE2-4925-AA77-81296D36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616-7C2C-4531-824F-D091EBFC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717-7585-4615-BC11-8B5D4623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B8C-363F-4E15-BFEB-522557C8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FEE-7403-4F26-B047-62C159A4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FE1-7CDD-4445-AAF0-51A3295A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428-3176-41CD-970E-3B272793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C0C-EA81-49E2-8555-312C6FD6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480F-45C7-4E85-AFD0-CA825C5D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FDD-444B-49C0-9000-46C2AA23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5F1-A0D2-4EDD-9F60-49FF2B3C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92F9-0DB4-485E-A12F-9C9DA34884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042920" y="0"/>
            <a:ext cx="6913800" cy="6669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60_U Kyaw Naing.mp3" descr=""/>
          <p:cNvPicPr/>
          <p:nvPr/>
        </p:nvPicPr>
        <p:blipFill>
          <a:blip r:embed="rId2"/>
          <a:stretch/>
        </p:blipFill>
        <p:spPr>
          <a:xfrm>
            <a:off x="8532720" y="5516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5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5:30Z</dcterms:created>
  <dc:creator>ukyawnaing</dc:creator>
  <dc:description/>
  <dc:language>en-US</dc:language>
  <cp:lastModifiedBy>ds0929</cp:lastModifiedBy>
  <dcterms:modified xsi:type="dcterms:W3CDTF">2013-06-26T14:10:52Z</dcterms:modified>
  <cp:revision>2</cp:revision>
  <dc:subject/>
  <dc:title>Slide 1</dc:title>
</cp:coreProperties>
</file>