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FC6-4596-47CF-9657-4BC02D95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032-3876-40CB-83E1-0A1E9B64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CCC-0E21-4D8C-9EE1-0138A666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3E4-1FE1-40B9-815C-6EC8BBA8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AE4-B411-44F1-8427-51F861DC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9AE-80B9-4544-B1A8-47B93B3B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5F2-378E-4D32-ADF7-7FC8F23C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A61-8033-4AD8-AC2C-2724655C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F5E-3F8C-480C-9B58-BB56CE96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154-2DDA-4D9A-A2A0-D5F6C36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EF6-33FF-4AE8-8FA8-2D6D1E12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013-0495-4903-908D-8894C926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FC00-F7ED-45C8-A9D0-EA97AD4B8D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5977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2_U Kyaw Naing.mp3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81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3:37Z</dcterms:created>
  <dc:creator>ukyawnaing</dc:creator>
  <dc:description/>
  <dc:language>en-US</dc:language>
  <cp:lastModifiedBy>ds0929</cp:lastModifiedBy>
  <dcterms:modified xsi:type="dcterms:W3CDTF">2013-06-26T13:40:15Z</dcterms:modified>
  <cp:revision>2</cp:revision>
  <dc:subject/>
  <dc:title>Slide 1</dc:title>
</cp:coreProperties>
</file>