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E7E9-EAC1-42D2-ACC8-71393B61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DB6-368B-484D-A2A1-D0A8ECB3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2467-54E5-4E66-99CA-4D77BA65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6A2-D9F5-4238-981A-0F37DCDA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924-E34D-4BEE-8285-43116B47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353-4729-4A2C-8DA4-85798FBB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B83-8DDA-4281-BE09-DD76E831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472-6929-4D13-8749-A0EAF08D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C15-4B1A-4B5E-A6F0-1DDCF57C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9223-E46B-4BED-B3AC-D603E236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4C45-6FC6-4F95-B5E1-FA0B09FA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1BF0-F19F-4540-B2BC-633705EB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913E-82DD-43A2-88F4-3CDE887AA1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755640" y="0"/>
            <a:ext cx="6492960" cy="3587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611280" y="3573360"/>
            <a:ext cx="6775200" cy="3284640"/>
          </a:xfrm>
          <a:prstGeom prst="rect">
            <a:avLst/>
          </a:prstGeom>
          <a:ln w="0">
            <a:noFill/>
          </a:ln>
        </p:spPr>
      </p:pic>
      <p:pic>
        <p:nvPicPr>
          <p:cNvPr id="43" name="001_A_030_U Kyaw Naing.mp3" descr=""/>
          <p:cNvPicPr/>
          <p:nvPr/>
        </p:nvPicPr>
        <p:blipFill>
          <a:blip r:embed="rId3"/>
          <a:stretch/>
        </p:blipFill>
        <p:spPr>
          <a:xfrm>
            <a:off x="8244000" y="443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08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986120" y="123840"/>
            <a:ext cx="517176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7:29Z</dcterms:created>
  <dc:creator>ukyawnaing</dc:creator>
  <dc:description/>
  <dc:language>en-US</dc:language>
  <cp:lastModifiedBy>ds0929</cp:lastModifiedBy>
  <dcterms:modified xsi:type="dcterms:W3CDTF">2013-06-26T13:48:51Z</dcterms:modified>
  <cp:revision>2</cp:revision>
  <dc:subject/>
  <dc:title>Slide 1</dc:title>
</cp:coreProperties>
</file>