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50F4-3BCC-4C2F-A3EB-625BC659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9BDA-5AB3-402F-81DF-5B2DF0F1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9466-6D93-4ADC-98DA-2D4ACF77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92E8-F8A2-4C9C-932B-39D4D766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3C07-DE20-470D-9440-D188CED3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639A-E184-4C87-A552-C8313810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6303-F293-464F-A8DF-0D6CCB7D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33E-93EC-4FEA-A8F1-7BAA25A7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4D03-438E-4A25-B53B-9A81FC11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F652-76B3-4E65-BD25-DFB63364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5934-6776-4EAF-920C-9D3D8423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153C-A480-462E-86F6-4EFCC32B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EBB7-BA17-4CB0-BD32-DE76630C9D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961920"/>
            <a:ext cx="9070920" cy="448308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3_U Kyaw Naing.mp3" descr=""/>
          <p:cNvPicPr/>
          <p:nvPr/>
        </p:nvPicPr>
        <p:blipFill>
          <a:blip r:embed="rId2"/>
          <a:stretch/>
        </p:blipFill>
        <p:spPr>
          <a:xfrm>
            <a:off x="7956720" y="5661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52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02:28Z</dcterms:created>
  <dc:creator>ukyawnaing</dc:creator>
  <dc:description/>
  <dc:language>en-US</dc:language>
  <cp:lastModifiedBy>ds0929</cp:lastModifiedBy>
  <dcterms:modified xsi:type="dcterms:W3CDTF">2013-06-26T13:45:19Z</dcterms:modified>
  <cp:revision>2</cp:revision>
  <dc:subject/>
  <dc:title>Slide 1</dc:title>
</cp:coreProperties>
</file>