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1CF0-6664-48C9-9810-73036EB38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C138-8A0F-4F3C-829C-D67292FEB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26B2-4550-493F-975D-0AF0318DA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1428-6E0C-4B65-9217-17C73FF45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AA70-3FA1-4DC8-BC5F-6DC0D6903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CBCF-5C78-4B46-BB0B-AAF4E587A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4834-C500-4FC4-831E-DAC5AB400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81B5-DE3E-4535-A94B-E3DC28A19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3FA2-5B71-4EA5-94E2-225499AA6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5E8A-4A56-4C6E-B38F-620624B7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64AE-E94E-4C9F-B53E-E9E80E7B8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8D79-046B-4F05-99F9-52A2864D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4215C-7F28-4A5B-BACF-2421AEE684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979640" y="101520"/>
            <a:ext cx="5329080" cy="6838920"/>
          </a:xfrm>
          <a:prstGeom prst="rect">
            <a:avLst/>
          </a:prstGeom>
          <a:ln w="0">
            <a:noFill/>
          </a:ln>
        </p:spPr>
      </p:pic>
      <p:pic>
        <p:nvPicPr>
          <p:cNvPr id="42" name="001_A_034_U Kyaw Naing.mp3" descr=""/>
          <p:cNvPicPr/>
          <p:nvPr/>
        </p:nvPicPr>
        <p:blipFill>
          <a:blip r:embed="rId2"/>
          <a:stretch/>
        </p:blipFill>
        <p:spPr>
          <a:xfrm>
            <a:off x="8101080" y="47242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131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4:11:09Z</dcterms:created>
  <dc:creator>ukyawnaing</dc:creator>
  <dc:description/>
  <dc:language>en-US</dc:language>
  <cp:lastModifiedBy>ds0929</cp:lastModifiedBy>
  <dcterms:modified xsi:type="dcterms:W3CDTF">2013-06-26T13:50:37Z</dcterms:modified>
  <cp:revision>2</cp:revision>
  <dc:subject/>
  <dc:title>Slide 1</dc:title>
</cp:coreProperties>
</file>